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2EA-78CB-4C11-914D-1A1378D6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AF0-D9F8-4D47-A896-BE919DF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261-FDF9-4429-918B-A9D482B9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F75-93DD-4CF6-89DD-1AA312F2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DC4B-4F8C-4D16-9BBC-8D042F2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A133-7B0E-407D-81BB-C14D620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26AB-1F01-473E-9BE0-6BF617D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F22-30FE-442D-BD39-2E6A1F05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C4C0-4937-4CAC-9F9F-C20E89F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F111-AF83-4D83-BBF6-8C8727F7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3C98-9045-47FA-9196-1808D3BF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C89-D401-4301-B455-E5E9F96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8DEE-2D04-44AD-9125-07FBA32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4DA9-5A48-44D6-81F1-7B4A3C4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BB31-0F86-40E1-8996-9E4513C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A19-027D-4245-A714-7AB6F11E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E7B-A6A6-4E0A-99B0-C2A76D46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836-E8A5-4701-BAE1-E24DD3DD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2AC-1324-4558-B7E3-E0FF6B3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530-CFBA-47AD-8901-7DA154F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939-DD51-489D-9E71-1A17D94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7C3-52E1-4CB7-A38D-5501C94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B0-6926-4D97-8DB3-C363F40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E7E-2A0A-4B0C-A17A-153F26C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8216-6C54-4355-88C8-C45A79BA1F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80DE-952B-4EA7-9C91-F42D35480FF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90544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День </a:t>
            </a: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   народного единства.</a:t>
            </a: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Tahoma"/>
              </a:rPr>
              <a:t>         4 ноябр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748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лю теб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я Росс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ясный свет твоих очей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ум, за подвиги святы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 голос звонкий, как руч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7" descr="Загружается с сайта Т"/>
          <p:cNvPicPr/>
          <p:nvPr/>
        </p:nvPicPr>
        <p:blipFill>
          <a:blip r:embed="rId1"/>
          <a:stretch/>
        </p:blipFill>
        <p:spPr>
          <a:xfrm>
            <a:off x="5867280" y="260280"/>
            <a:ext cx="3024360" cy="353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ство его прошло в городке Балахне на Волге. В зрелые годы Кузьма владел лавкой на нижегородском торгу, под стенами Кремля и был почитаемым горожанином. В 1611 г., в самый разгар Смутного времени, нижегородцы избрали его земским старостой. Минин сразу стал вести с горожанами разговоры о необходимости объединяться, копить средства и силы для освобождения Отече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http://kolibry.astroguru.com/portret/31-073.jpg"/>
          <p:cNvPicPr/>
          <p:nvPr/>
        </p:nvPicPr>
        <p:blipFill>
          <a:blip r:embed="rId1">
            <a:grayscl/>
          </a:blip>
          <a:stretch/>
        </p:blipFill>
        <p:spPr>
          <a:xfrm>
            <a:off x="5580000" y="260280"/>
            <a:ext cx="1368360" cy="130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узьма Минин зовет на борьб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чь Кузьмы Минина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Люди посадские, люди торговые, люди ратные! Поднимать надо весь народ. Не за один свой город, за всю землю русскую. Подымать надо всем миром народное ополчение, деньги собирать, пушки лить, свинец и порох готовить, чтобы идти на Москву всем миром. Не пожалеем ничего, продадим, если надо, дворы наши, отдадим достояние свое для защиты от супостатов родной земл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узьма Мини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Друзья и братья! Рус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тая гибнет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жем, братья, родине свято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ж! Разве в нас сердца окаменел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се ль мы дети матери одно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се ль мы братья от одной купели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15"/>
          <p:cNvPicPr/>
          <p:nvPr/>
        </p:nvPicPr>
        <p:blipFill>
          <a:blip r:embed="rId1"/>
          <a:stretch/>
        </p:blipFill>
        <p:spPr>
          <a:xfrm>
            <a:off x="6804000" y="1052640"/>
            <a:ext cx="1800360" cy="223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олченцы освободили Москву от интервен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мя нижегородского опол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image011"/>
          <p:cNvPicPr/>
          <p:nvPr/>
        </p:nvPicPr>
        <p:blipFill>
          <a:blip r:embed="rId1"/>
          <a:stretch/>
        </p:blipFill>
        <p:spPr>
          <a:xfrm>
            <a:off x="1042920" y="3068640"/>
            <a:ext cx="2514600" cy="237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mage011"/>
          <p:cNvPicPr/>
          <p:nvPr/>
        </p:nvPicPr>
        <p:blipFill>
          <a:blip r:embed="rId2"/>
          <a:stretch/>
        </p:blipFill>
        <p:spPr>
          <a:xfrm>
            <a:off x="1042920" y="3068640"/>
            <a:ext cx="2514600" cy="2371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Защитникам Москвы посвящается"/>
          <p:cNvPicPr/>
          <p:nvPr/>
        </p:nvPicPr>
        <p:blipFill>
          <a:blip r:embed="rId3"/>
          <a:stretch/>
        </p:blipFill>
        <p:spPr>
          <a:xfrm>
            <a:off x="4572000" y="3500280"/>
            <a:ext cx="2952720" cy="25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3887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1616 г. - Минин умер. Погребен он в Нижнем Новгороде, в нижнем этаже Спасо-Преображенского собора, где в его память устроен придел во имя Косьмы и Дамиана, освященный в 1852 г.  Правительство со вниманием относилось ко вдове и сыну Мининым (дальнейшего потомства у него не было)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Место упокоения Кузьмы Минина"/>
          <p:cNvPicPr/>
          <p:nvPr/>
        </p:nvPicPr>
        <p:blipFill>
          <a:blip r:embed="rId1"/>
          <a:stretch/>
        </p:blipFill>
        <p:spPr>
          <a:xfrm>
            <a:off x="539640" y="4365720"/>
            <a:ext cx="1619280" cy="2114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irinarh-ikona"/>
          <p:cNvPicPr/>
          <p:nvPr/>
        </p:nvPicPr>
        <p:blipFill>
          <a:blip r:embed="rId2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rinarh-ikona"/>
          <p:cNvPicPr/>
          <p:nvPr/>
        </p:nvPicPr>
        <p:blipFill>
          <a:blip r:embed="rId3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rinarh-ikona"/>
          <p:cNvPicPr/>
          <p:nvPr/>
        </p:nvPicPr>
        <p:blipFill>
          <a:blip r:embed="rId4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rinarh-ikona"/>
          <p:cNvPicPr/>
          <p:nvPr/>
        </p:nvPicPr>
        <p:blipFill>
          <a:blip r:embed="rId5"/>
          <a:stretch/>
        </p:blipFill>
        <p:spPr>
          <a:xfrm>
            <a:off x="4284720" y="0"/>
            <a:ext cx="4600440" cy="619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кона Казанской Богоматер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cona"/>
          <p:cNvPicPr/>
          <p:nvPr/>
        </p:nvPicPr>
        <p:blipFill>
          <a:blip r:embed="rId1"/>
          <a:stretch/>
        </p:blipFill>
        <p:spPr>
          <a:xfrm>
            <a:off x="2268360" y="1844640"/>
            <a:ext cx="4249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емский собор избрал Михаила Федоровича Романова цар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0"/>
          <p:cNvPicPr/>
          <p:nvPr/>
        </p:nvPicPr>
        <p:blipFill>
          <a:blip r:embed="rId1"/>
          <a:stretch/>
        </p:blipFill>
        <p:spPr>
          <a:xfrm>
            <a:off x="1619280" y="198900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ихаил Романов и символы царской вла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i?id=37503934&amp;tov=5"/>
          <p:cNvPicPr/>
          <p:nvPr/>
        </p:nvPicPr>
        <p:blipFill>
          <a:blip r:embed="rId1"/>
          <a:stretch/>
        </p:blipFill>
        <p:spPr>
          <a:xfrm>
            <a:off x="1332000" y="2133720"/>
            <a:ext cx="3240000" cy="36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ris4"/>
          <p:cNvPicPr/>
          <p:nvPr/>
        </p:nvPicPr>
        <p:blipFill>
          <a:blip r:embed="rId2"/>
          <a:stretch/>
        </p:blipFill>
        <p:spPr>
          <a:xfrm>
            <a:off x="4788000" y="2205000"/>
            <a:ext cx="39592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Сусанин -легендарный герой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icture 3" descr="susanin-0002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244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771640" y="2095560"/>
            <a:ext cx="532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ван Сусанин – крестьянин костромского уезда, с. Домни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ерой освободительной борьбы русского народа, спасший Михаила Федоровича – первого царя России  из династии Романовых. Он отдал свою жизнь в борьбе с польскими захватчи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то русский по сердц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от бодро и смело и радостно гибнет за правое дело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4 - ноября - День народного единства, День славы русского оружия и День возрождения Российской государственност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 Родина, смогу ль забы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вои нелегкие побед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вои немыслимые беды,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быть, как прадеды и де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ли драться и люб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 Родина! Всегда с тоб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вечно жить и вечно помни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 заднем плане болото, в которое завел поляков  Иван Сусанин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64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CRW_2499-01-800x650"/>
          <p:cNvPicPr/>
          <p:nvPr/>
        </p:nvPicPr>
        <p:blipFill>
          <a:blip r:embed="rId1"/>
          <a:stretch/>
        </p:blipFill>
        <p:spPr>
          <a:xfrm>
            <a:off x="971640" y="1989000"/>
            <a:ext cx="7619760" cy="388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404280"/>
            <a:ext cx="75247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и казни, ни смерти я не боюсь, не дрогнув умру за царя и за Рус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mFayustovMV_IvanSusan20FD36"/>
          <p:cNvPicPr/>
          <p:nvPr/>
        </p:nvPicPr>
        <p:blipFill>
          <a:blip r:embed="rId1"/>
          <a:stretch/>
        </p:blipFill>
        <p:spPr>
          <a:xfrm>
            <a:off x="1187280" y="1844640"/>
            <a:ext cx="75614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ерои 1612 г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чтим Д. Пожарского и К. Минина, Ивана Сусанина и других за то, что в тяжелую годину, они, забыв про свои личные интересы, поставили превыше всего интересы народа, Родины. Время сокрушит эту бронзу, но священные имена их не исчезнут в океане веч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мятник Минину и Пожарском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Добрый памятник постав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ум героям всей стра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нак того, что был избавл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 бесчестья край родно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3" descr="0_8b43_2b1b8f84_XL"/>
          <p:cNvPicPr/>
          <p:nvPr/>
        </p:nvPicPr>
        <p:blipFill>
          <a:blip r:embed="rId1"/>
          <a:stretch/>
        </p:blipFill>
        <p:spPr>
          <a:xfrm>
            <a:off x="755640" y="1197000"/>
            <a:ext cx="7620120" cy="5400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00080" y="333360"/>
            <a:ext cx="904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00080" y="0"/>
            <a:ext cx="90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трана не забыла своих герое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М.И.Глинка. Из оперы «Иван Сусанин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«Жизнь за царя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, славься ты, Русь мо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 ты, русская наша земл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 будет во веки веков сильн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имая наша родная земля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, славься из рода в род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вься великий наш русский народ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агов, посягнувших на край род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им беспощадно могучей рукой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 память о каких событиях установлен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здник единения России установлен в память о событиях 4 ноября 1612 года, когда в едином духовном и ратном порыве народное ополчение под предводительством Кузьмы Минина и Дмитрия Пожарского освободило Москву от интервентов, что положило начало выходу страны из кризиса Смутного вре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народного един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воя ликующая с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 сенью стягов огнев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ила и сплот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родов крепкую сем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чему призывает нас этот праздни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ем состоит суть Дня народного един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чего нужно единство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 чему призывает нас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вый праздник призван напомнить о том, что мы, россияне, принадлежащие к разным социальным группам, национальностям и вероисповеданиям, - единый народ с общей исторической судьбой и общим будущи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ля чего нам нужно единство?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строить Россию вместе. Когда у нас будет доверие друг к другу, когда дружба между народами будет крепка, Россия станет еще сильнее и могущественн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цар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ва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розный ( 1533 – 1584 г.г.)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ван ( 1581г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дор Иванович (1584 -1598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( 1591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рис Годунов ( 1598 – 1605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жедмитр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 1605 – 1606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силий Шуйский ( 1606 – 1610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ибоярщина (1610- 1612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хаил Федорович Романов ( 1613 – 1645 г.г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ое еще название имеет этот праздн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нь добрых дел. В этот день мы оказываем помощь нуждающимся, то есть занимаемся благотворительност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ссия сильна единством, доверием, дружбо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годину бед она всегда быв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ой, несгибаемой, сталь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агу навстречу Русь моя сто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й дружиной, грозною сте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лавься, Русь моя, русская наша земля. Да будет во веки веков сильна наша стран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сский народ, талантливый и мудрый, обладающий стойким характером, выносливостью, несгибаемой волей, в тяжелую годину, когда надвигалась смертельная опасность, проникался ненавистью к захватчикам, сплачивался с братскими народами и с позором изгонял врагов со своей родной зем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ссия, Русь! Храни себя, хран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объединение всех       людей. Единство-это согласие нар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это когда есть общая надеж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мир и дружб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ство- это доброта, понимание и прощ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929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Грозный убивает сы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Иван Грозный"/>
          <p:cNvPicPr/>
          <p:nvPr/>
        </p:nvPicPr>
        <p:blipFill>
          <a:blip r:embed="rId1"/>
          <a:stretch/>
        </p:blipFill>
        <p:spPr>
          <a:xfrm>
            <a:off x="971640" y="1989000"/>
            <a:ext cx="695304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ван Грозный,  Борис Годунов, Лжедмитр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Портрет Ивана Грозного. Гравюра на дереве Х.Вайгеля"/>
          <p:cNvPicPr/>
          <p:nvPr/>
        </p:nvPicPr>
        <p:blipFill>
          <a:blip r:embed="rId1"/>
          <a:stretch/>
        </p:blipFill>
        <p:spPr>
          <a:xfrm>
            <a:off x="1116000" y="2060640"/>
            <a:ext cx="2449440" cy="29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Борис Годунов"/>
          <p:cNvPicPr/>
          <p:nvPr/>
        </p:nvPicPr>
        <p:blipFill>
          <a:blip r:embed="rId2"/>
          <a:stretch/>
        </p:blipFill>
        <p:spPr>
          <a:xfrm>
            <a:off x="3635280" y="2060640"/>
            <a:ext cx="2232000" cy="21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31-051"/>
          <p:cNvPicPr/>
          <p:nvPr/>
        </p:nvPicPr>
        <p:blipFill>
          <a:blip r:embed="rId3"/>
          <a:stretch/>
        </p:blipFill>
        <p:spPr>
          <a:xfrm>
            <a:off x="5940360" y="2060640"/>
            <a:ext cx="2784600" cy="3036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язань , Нижний Новгород,         Московский Кремль в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XVII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еке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3" descr="6_176_2"/>
          <p:cNvPicPr/>
          <p:nvPr/>
        </p:nvPicPr>
        <p:blipFill>
          <a:blip r:embed="rId1"/>
          <a:stretch/>
        </p:blipFill>
        <p:spPr>
          <a:xfrm>
            <a:off x="1332000" y="2060640"/>
            <a:ext cx="3311280" cy="25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in"/>
          <p:cNvPicPr/>
          <p:nvPr/>
        </p:nvPicPr>
        <p:blipFill>
          <a:blip r:embed="rId2"/>
          <a:stretch/>
        </p:blipFill>
        <p:spPr>
          <a:xfrm>
            <a:off x="1258920" y="4365720"/>
            <a:ext cx="5715000" cy="1689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260px-Sobornaya"/>
          <p:cNvPicPr/>
          <p:nvPr/>
        </p:nvPicPr>
        <p:blipFill>
          <a:blip r:embed="rId3"/>
          <a:stretch/>
        </p:blipFill>
        <p:spPr>
          <a:xfrm>
            <a:off x="5148360" y="2060640"/>
            <a:ext cx="338436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7c80"/>
                </a:solidFill>
                <a:uFillTx/>
                <a:latin typeface="Tahoma"/>
              </a:rPr>
              <a:t>Роль Минина и Пожарского  в освобождении России от поляков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http://kolibry.astroguru.com/portret/31-093.jpg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916280"/>
            <a:ext cx="1728720" cy="2017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692360" y="19468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митрий Пожар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Пожарский родился в ноябре 1578 г. в семье князя Михаила Федоровича Пожарского. С 1593 г. князь Дмитрий начал службу при дворе царя Федора Ивановича. В начале царствования Бориса Годунова князя Пожарского перевели в стольники. Он получил поместье под Москвой. В составе первого ополчения сражался в Москве. Много сделал для организации второго ополч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митрий Пожар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нязь Пожарский был не только выдающимся полководцем, но и мудрым политиком, дипломат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ыл руководителем второго опол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уководил освобождением Москвы и русской зем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его средства был возведен храм в честь иконы Казанской Богоматер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attach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62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 Дерзайте Отчизну мужеством прославить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1615 г. Пожарский нанес под Орлом поражение польскому авантюристу Лисовскому, в 1616 г. ведал в Москве "казенными деньгами", в 1617 г. оборонял от литовских налетчиков Калугу, в 1618 г. ходил к Можайску на выручку русской армии, осажденной королевичем Владиславом, а потом был среди воевод, оборонявших Москву от армии гетмана Ходкевича. По окончании Смуты Пожарский  был воеводой в Новгороде, потом был переведен в Москву в Поместный приказ, руководил строительством укреплений вокруг Москвы. Умер Пожарский в апреле 164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5:38Z</dcterms:created>
  <dc:creator>Deemon</dc:creator>
  <dc:description/>
  <dc:language>en-US</dc:language>
  <cp:lastModifiedBy>Генералова</cp:lastModifiedBy>
  <dcterms:modified xsi:type="dcterms:W3CDTF">2013-10-23T13:42:19Z</dcterms:modified>
  <cp:revision>130</cp:revision>
  <dc:subject/>
  <dc:title>     День народного единства.                  4 ноября</dc:title>
</cp:coreProperties>
</file>