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45D-55BA-4527-9CC6-3A6D7F86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D30-E037-4172-975C-3C2324FE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D04-A6F9-454D-998B-13D81006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099-0135-4C2B-A352-AC13C0C2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93DF-E62D-4FC1-B223-8E5AC48A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E9E2-776B-4712-AFD1-4218FAE7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D4E1-49B1-475E-8F91-63F8C0C5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089-A393-4EF6-963A-BE2E2F1C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8C9A-4F88-42ED-9958-096E2B39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833D-AE0D-4157-92EF-A25F33E9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835D-5740-4AA7-B6EF-5911B51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2B5-4562-455D-9B5B-87B1B99C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DB5C-F639-4515-BCEC-C18D9E0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3EA6-1875-49A9-B447-A1A88DF8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464D-21EC-4533-93C3-5A9771ED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4E89-E798-45B2-9931-ADE74626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82EA-3049-4966-9CE6-74203C69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5B2-43E7-4B04-9850-A4B7C6A0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942-B9B6-4C0A-BE8F-193B637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911-EBE5-4978-84E3-0DD4F2A7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B14-819D-4F61-9910-6BF8B562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37D-09ED-4ED5-A62A-79CD3EAB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0B3-EBB5-45EE-B8AF-0DB6AE4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2F1-91DF-462F-ACD2-6352549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8EB8-4070-414D-BEDC-D3F2DBE5D7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4F94-0E1E-47DE-8827-B1010A291A0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5905440" cy="19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ff7c80"/>
                </a:solidFill>
                <a:latin typeface="Tahoma"/>
              </a:rPr>
              <a:t>День </a:t>
            </a:r>
            <a:br>
              <a:rPr sz="4000"/>
            </a:br>
            <a:r>
              <a:rPr b="0" lang="ru-RU" sz="4000" spc="-1" strike="noStrike">
                <a:solidFill>
                  <a:srgbClr val="ff7c80"/>
                </a:solidFill>
                <a:latin typeface="Tahoma"/>
              </a:rPr>
              <a:t>   народного единства.</a:t>
            </a:r>
            <a:br>
              <a:rPr sz="4000"/>
            </a:br>
            <a:r>
              <a:rPr b="0" lang="ru-RU" sz="4000" spc="-1" strike="noStrike">
                <a:solidFill>
                  <a:srgbClr val="ff7c80"/>
                </a:solidFill>
                <a:latin typeface="Tahoma"/>
              </a:rPr>
              <a:t>         4 ноябр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3429000"/>
            <a:ext cx="748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лю теб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я Росс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 ясный свет твоих очей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 ум, за подвиги святые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 голос звонкий, как руч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7" descr="Загружается с сайта Т"/>
          <p:cNvPicPr/>
          <p:nvPr/>
        </p:nvPicPr>
        <p:blipFill>
          <a:blip r:embed="rId1"/>
          <a:stretch/>
        </p:blipFill>
        <p:spPr>
          <a:xfrm>
            <a:off x="5867280" y="260280"/>
            <a:ext cx="3024360" cy="353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узьма Мин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ство его прошло в городке Балахне на Волге. В зрелые годы Кузьма владел лавкой на нижегородском торгу, под стенами Кремля и был почитаемым горожанином. В 1611 г., в самый разгар Смутного времени, нижегородцы избрали его земским старостой. Минин сразу стал вести с горожанами разговоры о необходимости объединяться, копить средства и силы для освобождения Отечеств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http://kolibry.astroguru.com/portret/31-073.jpg"/>
          <p:cNvPicPr/>
          <p:nvPr/>
        </p:nvPicPr>
        <p:blipFill>
          <a:blip r:embed="rId1">
            <a:grayscl/>
          </a:blip>
          <a:stretch/>
        </p:blipFill>
        <p:spPr>
          <a:xfrm>
            <a:off x="5580000" y="260280"/>
            <a:ext cx="1368360" cy="130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узьма Минин зовет на борьб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2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47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чь Кузьмы Минина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Люди посадские, люди торговые, люди ратные! Поднимать надо весь народ. Не за один свой город, за всю землю русскую. Подымать надо всем миром народное ополчение, деньги собирать, пушки лить, свинец и порох готовить, чтобы идти на Москву всем миром. Не пожалеем ничего, продадим, если надо, дворы наши, отдадим достояние свое для защиты от супостатов родной земли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узьма Мин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 Друзья и братья! Рус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ятая гибнет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жем, братья, родине свято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ж! Разве в нас сердца окаменел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все ль мы дети матери одно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все ль мы братья от одной купели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5" descr="15"/>
          <p:cNvPicPr/>
          <p:nvPr/>
        </p:nvPicPr>
        <p:blipFill>
          <a:blip r:embed="rId1"/>
          <a:stretch/>
        </p:blipFill>
        <p:spPr>
          <a:xfrm>
            <a:off x="6804000" y="1052640"/>
            <a:ext cx="1800360" cy="2238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олченцы освободили Москву от интервен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мя нижегородского опол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image011"/>
          <p:cNvPicPr/>
          <p:nvPr/>
        </p:nvPicPr>
        <p:blipFill>
          <a:blip r:embed="rId1"/>
          <a:stretch/>
        </p:blipFill>
        <p:spPr>
          <a:xfrm>
            <a:off x="1042920" y="3068640"/>
            <a:ext cx="2514600" cy="2371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mage011"/>
          <p:cNvPicPr/>
          <p:nvPr/>
        </p:nvPicPr>
        <p:blipFill>
          <a:blip r:embed="rId2"/>
          <a:stretch/>
        </p:blipFill>
        <p:spPr>
          <a:xfrm>
            <a:off x="1042920" y="3068640"/>
            <a:ext cx="2514600" cy="2371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Защитникам Москвы посвящается"/>
          <p:cNvPicPr/>
          <p:nvPr/>
        </p:nvPicPr>
        <p:blipFill>
          <a:blip r:embed="rId3"/>
          <a:stretch/>
        </p:blipFill>
        <p:spPr>
          <a:xfrm>
            <a:off x="4572000" y="3500280"/>
            <a:ext cx="2952720" cy="25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3887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1616 г. - Минин умер. Погребен он в Нижнем Новгороде, в нижнем этаже Спасо-Преображенского собора, где в его память устроен придел во имя Косьмы и Дамиана, освященный в 1852 г.  Правительство со вниманием относилось ко вдове и сыну Мининым (дальнейшего потомства у него не было)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Место упокоения Кузьмы Минина"/>
          <p:cNvPicPr/>
          <p:nvPr/>
        </p:nvPicPr>
        <p:blipFill>
          <a:blip r:embed="rId1"/>
          <a:stretch/>
        </p:blipFill>
        <p:spPr>
          <a:xfrm>
            <a:off x="539640" y="4365720"/>
            <a:ext cx="1619280" cy="2114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irinarh-ikona"/>
          <p:cNvPicPr/>
          <p:nvPr/>
        </p:nvPicPr>
        <p:blipFill>
          <a:blip r:embed="rId2"/>
          <a:stretch/>
        </p:blipFill>
        <p:spPr>
          <a:xfrm>
            <a:off x="4284720" y="0"/>
            <a:ext cx="4600440" cy="619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irinarh-ikona"/>
          <p:cNvPicPr/>
          <p:nvPr/>
        </p:nvPicPr>
        <p:blipFill>
          <a:blip r:embed="rId3"/>
          <a:stretch/>
        </p:blipFill>
        <p:spPr>
          <a:xfrm>
            <a:off x="4284720" y="0"/>
            <a:ext cx="4600440" cy="619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rinarh-ikona"/>
          <p:cNvPicPr/>
          <p:nvPr/>
        </p:nvPicPr>
        <p:blipFill>
          <a:blip r:embed="rId4"/>
          <a:stretch/>
        </p:blipFill>
        <p:spPr>
          <a:xfrm>
            <a:off x="4284720" y="0"/>
            <a:ext cx="4600440" cy="619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irinarh-ikona"/>
          <p:cNvPicPr/>
          <p:nvPr/>
        </p:nvPicPr>
        <p:blipFill>
          <a:blip r:embed="rId5"/>
          <a:stretch/>
        </p:blipFill>
        <p:spPr>
          <a:xfrm>
            <a:off x="4284720" y="0"/>
            <a:ext cx="4600440" cy="619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кона Казанской Богоматер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cona"/>
          <p:cNvPicPr/>
          <p:nvPr/>
        </p:nvPicPr>
        <p:blipFill>
          <a:blip r:embed="rId1"/>
          <a:stretch/>
        </p:blipFill>
        <p:spPr>
          <a:xfrm>
            <a:off x="2268360" y="1844640"/>
            <a:ext cx="4249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Земский собор избрал Михаила Федоровича Романова царе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0"/>
          <p:cNvPicPr/>
          <p:nvPr/>
        </p:nvPicPr>
        <p:blipFill>
          <a:blip r:embed="rId1"/>
          <a:stretch/>
        </p:blipFill>
        <p:spPr>
          <a:xfrm>
            <a:off x="1619280" y="1989000"/>
            <a:ext cx="6265800" cy="388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ихаил Романов и символы царской вла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i?id=37503934&amp;tov=5"/>
          <p:cNvPicPr/>
          <p:nvPr/>
        </p:nvPicPr>
        <p:blipFill>
          <a:blip r:embed="rId1"/>
          <a:stretch/>
        </p:blipFill>
        <p:spPr>
          <a:xfrm>
            <a:off x="1332000" y="2133720"/>
            <a:ext cx="3240000" cy="3671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ris4"/>
          <p:cNvPicPr/>
          <p:nvPr/>
        </p:nvPicPr>
        <p:blipFill>
          <a:blip r:embed="rId2"/>
          <a:stretch/>
        </p:blipFill>
        <p:spPr>
          <a:xfrm>
            <a:off x="4788000" y="2205000"/>
            <a:ext cx="39592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ван Сусанин -легендарный герой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Picture 3" descr="susanin-0002"/>
          <p:cNvPicPr/>
          <p:nvPr/>
        </p:nvPicPr>
        <p:blipFill>
          <a:blip r:embed="rId1"/>
          <a:stretch/>
        </p:blipFill>
        <p:spPr>
          <a:xfrm>
            <a:off x="250920" y="2205000"/>
            <a:ext cx="2160360" cy="244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771640" y="2095560"/>
            <a:ext cx="532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ван Сусанин – крестьянин костромского уезда, с. Домни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ерой освободительной борьбы русского народа, спасший Михаила Федоровича – первого царя России  из династии Романовых. Он отдал свою жизнь в борьбе с польскими захватчи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то русский по сердц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от бодро и смело и радостно гибнет за правое дело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4 - ноября - День народного единства, День славы русского оружия и День возрождения Российской государственност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, Родина, смогу ль забы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вои нелегкие побед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вои немыслимые беды,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быть, как прадеды и де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ли драться и люб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, Родина! Всегда с тоб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е вечно жить и вечно помни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 заднем плане болото, в которое завел поляков  Иван Сусанин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64072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4" descr="CRW_2499-01-800x650"/>
          <p:cNvPicPr/>
          <p:nvPr/>
        </p:nvPicPr>
        <p:blipFill>
          <a:blip r:embed="rId1"/>
          <a:stretch/>
        </p:blipFill>
        <p:spPr>
          <a:xfrm>
            <a:off x="971640" y="1989000"/>
            <a:ext cx="7619760" cy="388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920" y="404280"/>
            <a:ext cx="75247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и казни, ни смерти я не боюсь, не дрогнув умру за царя и за Рус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mFayustovMV_IvanSusan20FD36"/>
          <p:cNvPicPr/>
          <p:nvPr/>
        </p:nvPicPr>
        <p:blipFill>
          <a:blip r:embed="rId1"/>
          <a:stretch/>
        </p:blipFill>
        <p:spPr>
          <a:xfrm>
            <a:off x="1187280" y="1844640"/>
            <a:ext cx="75614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ерои 1612 го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чтим Д. Пожарского и К. Минина, Ивана Сусанина и других за то, что в тяжелую годину, они, забыв про свои личные интересы, поставили превыше всего интересы народа, Родины. Время сокрушит эту бронзу, но священные имена их не исчезнут в океане веч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мятник Минину и Пожарском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Добрый памятник поставл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ум героям всей стран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нак того, что был избавл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 бесчестья край родной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Picture 3" descr="0_8b43_2b1b8f84_XL"/>
          <p:cNvPicPr/>
          <p:nvPr/>
        </p:nvPicPr>
        <p:blipFill>
          <a:blip r:embed="rId1"/>
          <a:stretch/>
        </p:blipFill>
        <p:spPr>
          <a:xfrm>
            <a:off x="755640" y="1197000"/>
            <a:ext cx="7620120" cy="5400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00080" y="333360"/>
            <a:ext cx="904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00080" y="0"/>
            <a:ext cx="90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трана не забыла своих герое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.И.Глинка. Из оперы «Иван Сусанин»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«Жизнь за царя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вься, славься ты, Русь мо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вься ты, русская наша земл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 будет во веки веков силь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имая наша родная земл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вься, славься из рода в род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вься великий наш русский народ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агов, посягнувших на край родн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им беспощадно могучей руко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 память о каких событиях установлен этот праздник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здник единения России установлен в память о событиях 4 ноября 1612 года, когда в едином духовном и ратном порыве народное ополчение под предводительством Кузьмы Минина и Дмитрия Пожарского освободило Москву от интервентов, что положило начало выходу страны из кризиса Смутного време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нь народного един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воя ликующая си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 сенью стягов огнев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единила и сплоти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родов крепкую сем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чему призывает нас этот праздни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чем состоит суть Дня народного един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чего нужно единство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 чему призывает нас этот праздник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вый праздник призван напомнить о том, что мы, россияне, принадлежащие к разным социальным группам, национальностям и вероисповеданиям, - единый народ с общей исторической судьбой и общим будущи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ля чего нам нужно единство?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того, чтобы строить Россию вместе. Когда у нас будет доверие друг к другу, когда дружба между народами будет крепка, Россия станет еще сильнее и могущественне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цар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ван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розный ( 1533 – 1584 г.г.)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ван ( 1581г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едор Иванович (1584 -1598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митрий ( 1591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рис Годунов ( 1598 – 1605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жедмитр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 1605 – 1606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силий Шуйский ( 1606 – 1610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ибоярщина (1610- 1612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хаил Федорович Романов ( 1613 – 1645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ое еще название имеет этот праздник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нь добрых дел. В этот день мы оказываем помощь нуждающимся, то есть занимаемся благотворительность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оссия сильна единством, доверием, дружбо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годину бед она всегда быв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ой, несгибаемой, сталь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агу навстречу Русь моя сто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й дружиной, грозною сте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лавься, Русь моя, русская наша земля. Да будет во веки веков сильна наша страна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усский народ, талантливый и мудрый, обладающий стойким характером, выносливостью, несгибаемой волей, в тяжелую годину, когда надвигалась смертельная опасность, проникался ненавистью к захватчикам, сплачивался с братскими народами и с позором изгонял врагов со своей родной зем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оссия, Русь! Храни себя, хран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ство- это объединение всех       людей. Единство-это согласие нар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ство-это когда есть общая надеж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ство- это мир и дружб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ство- это доброта, понимание и прощ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929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ван Грозный убивает сы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Иван Грозный"/>
          <p:cNvPicPr/>
          <p:nvPr/>
        </p:nvPicPr>
        <p:blipFill>
          <a:blip r:embed="rId1"/>
          <a:stretch/>
        </p:blipFill>
        <p:spPr>
          <a:xfrm>
            <a:off x="971640" y="1989000"/>
            <a:ext cx="6953040" cy="486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ван Грозный,  Борис Годунов, Лжедмитри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Портрет Ивана Грозного. Гравюра на дереве Х.Вайгеля"/>
          <p:cNvPicPr/>
          <p:nvPr/>
        </p:nvPicPr>
        <p:blipFill>
          <a:blip r:embed="rId1"/>
          <a:stretch/>
        </p:blipFill>
        <p:spPr>
          <a:xfrm>
            <a:off x="1116000" y="2060640"/>
            <a:ext cx="2449440" cy="298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Борис Годунов"/>
          <p:cNvPicPr/>
          <p:nvPr/>
        </p:nvPicPr>
        <p:blipFill>
          <a:blip r:embed="rId2"/>
          <a:stretch/>
        </p:blipFill>
        <p:spPr>
          <a:xfrm>
            <a:off x="3635280" y="2060640"/>
            <a:ext cx="2232000" cy="210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31-051"/>
          <p:cNvPicPr/>
          <p:nvPr/>
        </p:nvPicPr>
        <p:blipFill>
          <a:blip r:embed="rId3"/>
          <a:stretch/>
        </p:blipFill>
        <p:spPr>
          <a:xfrm>
            <a:off x="5940360" y="2060640"/>
            <a:ext cx="2784600" cy="3036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язань , Нижний Новгород,         Московский Кремль в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XVII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еке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3" descr="6_176_2"/>
          <p:cNvPicPr/>
          <p:nvPr/>
        </p:nvPicPr>
        <p:blipFill>
          <a:blip r:embed="rId1"/>
          <a:stretch/>
        </p:blipFill>
        <p:spPr>
          <a:xfrm>
            <a:off x="1332000" y="2060640"/>
            <a:ext cx="3311280" cy="252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in"/>
          <p:cNvPicPr/>
          <p:nvPr/>
        </p:nvPicPr>
        <p:blipFill>
          <a:blip r:embed="rId2"/>
          <a:stretch/>
        </p:blipFill>
        <p:spPr>
          <a:xfrm>
            <a:off x="1258920" y="4365720"/>
            <a:ext cx="5715000" cy="1689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260px-Sobornaya"/>
          <p:cNvPicPr/>
          <p:nvPr/>
        </p:nvPicPr>
        <p:blipFill>
          <a:blip r:embed="rId3"/>
          <a:stretch/>
        </p:blipFill>
        <p:spPr>
          <a:xfrm>
            <a:off x="5148360" y="2060640"/>
            <a:ext cx="338436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c80"/>
                </a:solidFill>
                <a:uFillTx/>
                <a:latin typeface="Tahoma"/>
              </a:rPr>
              <a:t>Роль Минина и Пожарского  в освобождении России от поляков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4" descr="http://kolibry.astroguru.com/portret/31-093.jpg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916280"/>
            <a:ext cx="1728720" cy="2017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692360" y="19468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митрий Пожар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митрий Пожарский родился в ноябре 1578 г. в семье князя Михаила Федоровича Пожарского. С 1593 г. князь Дмитрий начал службу при дворе царя Федора Ивановича. В начале царствования Бориса Годунова князя Пожарского перевели в стольники. Он получил поместье под Москвой. В составе первого ополчения сражался в Москве. Много сделал для организации второго ополч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митрий Пожар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нязь Пожарский был не только выдающимся полководцем, но и мудрым политиком, дипломат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ыл руководителем второго опол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уководил освобождением Москвы и русской зем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его средства был возведен храм в честь иконы Казанской Богоматер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attach"/>
          <p:cNvPicPr/>
          <p:nvPr/>
        </p:nvPicPr>
        <p:blipFill>
          <a:blip r:embed="rId1"/>
          <a:stretch/>
        </p:blipFill>
        <p:spPr>
          <a:xfrm>
            <a:off x="6948360" y="476280"/>
            <a:ext cx="1584360" cy="162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 Дерзайте Отчизну мужеством прославить!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1615 г. Пожарский нанес под Орлом поражение польскому авантюристу Лисовскому, в 1616 г. ведал в Москве "казенными деньгами", в 1617 г. оборонял от литовских налетчиков Калугу, в 1618 г. ходил к Можайску на выручку русской армии, осажденной королевичем Владиславом, а потом был среди воевод, оборонявших Москву от армии гетмана Ходкевича. По окончании Смуты Пожарский  был воеводой в Новгороде, потом был переведен в Москву в Поместный приказ, руководил строительством укреплений вокруг Москвы. Умер Пожарский в апреле 164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45:38Z</dcterms:created>
  <dc:creator>Deemon</dc:creator>
  <dc:description/>
  <dc:language>en-US</dc:language>
  <cp:lastModifiedBy>Генералова</cp:lastModifiedBy>
  <dcterms:modified xsi:type="dcterms:W3CDTF">2013-10-23T13:42:19Z</dcterms:modified>
  <cp:revision>130</cp:revision>
  <dc:subject/>
  <dc:title>     День народного единства.                  4 ноября</dc:title>
</cp:coreProperties>
</file>