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6C8-FCF9-437E-8E62-9B909119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797-BA30-447B-9A6A-143FFCA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B20-139B-4491-AD65-518AB67C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235-142F-4A47-A21A-F8DCD34B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A54-3CB4-4476-BC42-99E1A671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130-C0B8-4634-83DF-45CC4388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56E-9279-444E-9714-69263671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821-622C-442E-B97C-F2FA7D3A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B9A-0923-48FC-9939-00740DC8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2C9-F6DE-4FD6-B30F-E6BC1A8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B80-5CEB-42AD-81F9-B32188F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36C-920C-4C1F-B874-0C3E988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C3C1-710C-4B70-BC88-C08C9803E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Инфини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еличная форма глагола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которая называет действие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но не указывает ни лица ни числа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усском языке отвечает на вопрос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что дела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английском языке частица 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o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тоящая перед глаголом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является признаком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инфинитива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Инфинитив  сочетает в себе свойства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глагола и существительного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и имеет следующие формы: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18900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oper Black"/>
              </a:rPr>
              <a:t>Формы инфинит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981000"/>
          <a:ext cx="9144000" cy="5497560"/>
        </p:xfrm>
        <a:graphic>
          <a:graphicData uri="http://schemas.openxmlformats.org/drawingml/2006/table">
            <a:tbl>
              <a:tblPr/>
              <a:tblGrid>
                <a:gridCol w="1522440"/>
                <a:gridCol w="1681200"/>
                <a:gridCol w="2201760"/>
                <a:gridCol w="1749600"/>
                <a:gridCol w="198900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o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r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rfect 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pr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be prin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te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ve been prin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be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ve been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49360"/>
            <a:ext cx="9144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.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 Present Simple Active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Jane was sa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learn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the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Джейн было грустно узнать правд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2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.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Present Simple Passive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She was happy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be taught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Fre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Она была счастлива что её обучают французскому язык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. Present Perfect P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Kate was sa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have been told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a l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Кейт было грустно что ей сказали неправд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потребление инфинитива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(в предложении инфинитив может употребляться в функциях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длежаще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ереводится инфинитивом или существительны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spea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glish is very pleas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 по- английски прият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Части составного именного сказуемого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водится инфинитивом или существитель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pla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g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план – поехать (поездка) в Исп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32508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пол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ереводится инфинити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e promis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com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н обещал (что?) приехать вовремя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я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оящего после определяемого слова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ереводитя инфинитив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еже существитель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прилагатель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придаточным определительным предложен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’ve got mu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меня много работы(какой?) которую надо сдела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бстоя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) цели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одится придаточным предложен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водимым союзом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тобы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he took a tax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b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на взяла такси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(для чего?)чтобы быть вовремя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) следств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ловами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o(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лишком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), enough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достаточ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Your tea is too ho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drink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аш чай слишком горячий(для чего?) чтобы пить его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борот «Объектный падеж с инфинитивом»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(Сложное дополнение)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Complex Objec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уществительное в и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 или местоимение в объектном падеже(указательное) + инфини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Mother wants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Peter to do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Mother wants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him to do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57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964720" cy="69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mplex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ится придаточными изъяснительными предложениям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оторые вводятся союзам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чтоб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ле глаголо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o see, hear, watch, feel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е употребляется сою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а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стоимение 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ъектном паде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ится на русский язык местоимением 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именительном паде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личны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want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him to translate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this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Я хочу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чтобы он перевёл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этот текст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e watches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them play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Он наблюдает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как они играют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5920"/>
            <a:ext cx="914400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сле глаголов вос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ee, hear, watch, feel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и глаголов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make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let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нфинитив употребляется </a:t>
            </a:r>
            <a:r>
              <a:rPr b="1" lang="ru-RU" sz="4000" spc="-1" strike="noStrike" u="sng">
                <a:solidFill>
                  <a:srgbClr val="660066"/>
                </a:solidFill>
                <a:uFillTx/>
                <a:latin typeface="Arial"/>
              </a:rPr>
              <a:t>без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частицы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on’t let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your son come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home late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е позволяйте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вашему сыну приходить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домой поздно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 se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him park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Я вижу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(что)как он паркует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машину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9:19:05Z</dcterms:created>
  <dc:creator>Admin</dc:creator>
  <dc:description/>
  <dc:language>en-US</dc:language>
  <cp:lastModifiedBy>Admin</cp:lastModifiedBy>
  <dcterms:modified xsi:type="dcterms:W3CDTF">2012-02-05T20:29:33Z</dcterms:modified>
  <cp:revision>2</cp:revision>
  <dc:subject/>
  <dc:title>Слайд 1</dc:title>
</cp:coreProperties>
</file>