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BF73-D509-477B-A600-8D021E10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1B5E-3D81-4E13-B71C-1E70DD6D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94B9-1E8D-48D5-AC8F-5A5D9B6F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F0D2-F170-4C98-AF5D-6154CCB6F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7474-5BC4-42D2-B6C7-B5BD9F5E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DCCB-867D-4513-A453-B3611196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F252-6FB4-42CA-8870-07E57111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B582-EDB4-4A5B-BC10-59F10234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400A-39BD-4D83-BF0B-13F031DA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1115-82B8-456C-91E8-EA520AAF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B294-9F73-4053-B392-CF46C90F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8B55-BE2C-4814-9240-49301DB1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C79C-4BDF-476B-81CD-18A2A1E9C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900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ff"/>
                </a:solidFill>
                <a:latin typeface="Arial"/>
              </a:rPr>
              <a:t>Инфинит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неличная форма глагола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которая называет действие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но не указывает ни лица ни числа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русском языке отвечает на вопрос </a:t>
            </a:r>
            <a:r>
              <a:rPr b="1" lang="ru-RU" sz="3600" spc="-1" strike="noStrike">
                <a:solidFill>
                  <a:srgbClr val="3399ff"/>
                </a:solidFill>
                <a:latin typeface="Arial"/>
              </a:rPr>
              <a:t>что делать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английском языке частица </a:t>
            </a: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to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,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стоящая перед глаголом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является признаком </a:t>
            </a:r>
            <a:r>
              <a:rPr b="1" lang="ru-RU" sz="3600" spc="-1" strike="noStrike">
                <a:solidFill>
                  <a:srgbClr val="3399ff"/>
                </a:solidFill>
                <a:latin typeface="Arial"/>
              </a:rPr>
              <a:t>инфинитива</a:t>
            </a: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Инфинитив  сочетает в себе свойства </a:t>
            </a:r>
            <a:r>
              <a:rPr b="1" lang="ru-RU" sz="3600" spc="-1" strike="noStrike">
                <a:solidFill>
                  <a:srgbClr val="3399ff"/>
                </a:solidFill>
                <a:latin typeface="Arial"/>
              </a:rPr>
              <a:t>глагола и существительного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и имеет следующие формы: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92360" y="189000"/>
            <a:ext cx="532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oper Black"/>
              </a:rPr>
              <a:t>Формы инфинити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981000"/>
          <a:ext cx="9144000" cy="5497560"/>
        </p:xfrm>
        <a:graphic>
          <a:graphicData uri="http://schemas.openxmlformats.org/drawingml/2006/table">
            <a:tbl>
              <a:tblPr/>
              <a:tblGrid>
                <a:gridCol w="1522440"/>
                <a:gridCol w="1681200"/>
                <a:gridCol w="2201760"/>
                <a:gridCol w="1749600"/>
                <a:gridCol w="1989000"/>
              </a:tblGrid>
              <a:tr h="165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en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oi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i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er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erfect 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ctiv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To pri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To be print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To hate print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To have been print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a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To be print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To have been print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549360"/>
            <a:ext cx="9144000" cy="54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cc3300"/>
                </a:solidFill>
                <a:latin typeface="Arial Black"/>
              </a:rPr>
              <a:t>.</a:t>
            </a:r>
            <a:r>
              <a:rPr b="1" lang="en-US" sz="2800" spc="-1" strike="noStrike">
                <a:solidFill>
                  <a:srgbClr val="cc3300"/>
                </a:solidFill>
                <a:latin typeface="Arial Black"/>
              </a:rPr>
              <a:t> Present Simple Active Infi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 Black"/>
              </a:rPr>
              <a:t>Jane was sad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to learn</a:t>
            </a:r>
            <a:r>
              <a:rPr b="1" lang="en-US" sz="2800" spc="-1" strike="noStrike">
                <a:solidFill>
                  <a:srgbClr val="660066"/>
                </a:solidFill>
                <a:latin typeface="Arial Black"/>
              </a:rPr>
              <a:t> the tru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 Black"/>
              </a:rPr>
              <a:t>Джейн было грустно узнать правду</a:t>
            </a:r>
            <a:r>
              <a:rPr b="1" lang="en-US" sz="2800" spc="-1" strike="noStrike">
                <a:solidFill>
                  <a:srgbClr val="660066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 Black"/>
              </a:rPr>
              <a:t>2</a:t>
            </a:r>
            <a:r>
              <a:rPr b="1" lang="en-US" sz="2800" spc="-1" strike="noStrike">
                <a:solidFill>
                  <a:srgbClr val="cc3300"/>
                </a:solidFill>
                <a:latin typeface="Arial Black"/>
              </a:rPr>
              <a:t>.</a:t>
            </a:r>
            <a:r>
              <a:rPr b="1" lang="ru-RU" sz="28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Black"/>
              </a:rPr>
              <a:t>Present Simple Passive Infi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 Black"/>
              </a:rPr>
              <a:t>She was happy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to be taught</a:t>
            </a:r>
            <a:r>
              <a:rPr b="1" lang="en-US" sz="2800" spc="-1" strike="noStrike">
                <a:solidFill>
                  <a:srgbClr val="660066"/>
                </a:solidFill>
                <a:latin typeface="Arial Black"/>
              </a:rPr>
              <a:t> Fren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 Black"/>
              </a:rPr>
              <a:t>Она была счастлива что её обучают французскому языку</a:t>
            </a:r>
            <a:r>
              <a:rPr b="1" lang="en-US" sz="2800" spc="-1" strike="noStrike">
                <a:solidFill>
                  <a:srgbClr val="660066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 Black"/>
              </a:rPr>
              <a:t>3</a:t>
            </a:r>
            <a:r>
              <a:rPr b="1" lang="en-US" sz="2800" spc="-1" strike="noStrike">
                <a:solidFill>
                  <a:srgbClr val="cc3300"/>
                </a:solidFill>
                <a:latin typeface="Arial Black"/>
              </a:rPr>
              <a:t>. Present Perfect Pa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 Black"/>
              </a:rPr>
              <a:t>Kate was sad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to have been told</a:t>
            </a:r>
            <a:r>
              <a:rPr b="1" lang="en-US" sz="2800" spc="-1" strike="noStrike">
                <a:solidFill>
                  <a:srgbClr val="660066"/>
                </a:solidFill>
                <a:latin typeface="Arial Black"/>
              </a:rPr>
              <a:t> a l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 Black"/>
              </a:rPr>
              <a:t>Кейт было грустно что ей сказали неправду</a:t>
            </a:r>
            <a:r>
              <a:rPr b="1" lang="en-US" sz="2800" spc="-1" strike="noStrike">
                <a:solidFill>
                  <a:srgbClr val="660066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Употребление инфинитива</a:t>
            </a:r>
            <a:br>
              <a:rPr sz="2800"/>
            </a:b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(в предложении инфинитив может употребляться в функциях: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Подлежащег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переводится инфинитивом или существительны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 spea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nglish is very pleasa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ворить по- английски прият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Части составного именного сказуемого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ереводится инфинитивом или существительны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plan i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 g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p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ш план – поехать (поездка) в Испани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325080" cy="74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3.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Дополн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ереводится инфинити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He promis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 com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in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Он обещал (что?) приехать вовремя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пределения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стоящего после определяемого слова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ереводитя инфинитиво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еже существительны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ли прилагательны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ли придаточным определительным предложение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I’ve got muc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У меня много работы(какой?) которую надо сделат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5.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бстоя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а) цели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водится придаточным предложение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водимым союзом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чтобы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he took a taxi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 b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in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Она взяла такси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(для чего?)чтобы быть вовремя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б) следств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 словами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oo(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лишком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), enough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(достаточ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Your tea is too ho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 drink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Ваш чай слишком горячий(для чего?) чтобы пить его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8036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Оборот «Объектный падеж с инфинитивом»</a:t>
            </a:r>
            <a:br>
              <a:rPr sz="3600"/>
            </a:b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(Сложное дополнение)</a:t>
            </a:r>
            <a:br>
              <a:rPr sz="3600"/>
            </a:br>
            <a:r>
              <a:rPr b="1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Complex Object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66"/>
                </a:solidFill>
                <a:latin typeface="Arial"/>
              </a:rPr>
              <a:t>Существительное в и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1" i="1" lang="ru-RU" sz="3600" spc="-1" strike="noStrike">
                <a:solidFill>
                  <a:srgbClr val="660066"/>
                </a:solidFill>
                <a:latin typeface="Arial"/>
              </a:rPr>
              <a:t>п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1" i="1" lang="ru-RU" sz="3600" spc="-1" strike="noStrike">
                <a:solidFill>
                  <a:srgbClr val="660066"/>
                </a:solidFill>
                <a:latin typeface="Arial"/>
              </a:rPr>
              <a:t> или местоимение в объектном падеже(указательное) + инфинит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Mother wants </a:t>
            </a:r>
            <a:r>
              <a:rPr b="1" i="1" lang="en-US" sz="4000" spc="-1" strike="noStrike" u="sng">
                <a:solidFill>
                  <a:srgbClr val="cc3300"/>
                </a:solidFill>
                <a:uFillTx/>
                <a:latin typeface="Arial"/>
              </a:rPr>
              <a:t>Peter to do</a:t>
            </a: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Mother wants </a:t>
            </a:r>
            <a:r>
              <a:rPr b="1" i="1" lang="en-US" sz="4000" spc="-1" strike="noStrike" u="sng">
                <a:solidFill>
                  <a:srgbClr val="cc3300"/>
                </a:solidFill>
                <a:uFillTx/>
                <a:latin typeface="Arial"/>
              </a:rPr>
              <a:t>him to do</a:t>
            </a: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857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8964720" cy="69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mplex O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ереводится придаточными изъяснительными предложениям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которые вводятся союзами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что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 чтоб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сле глаголо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to see, hear, watch, feel,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ереводе употребляется союз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ка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естоимение 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объектном падеже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ереводится на русский язык местоимением 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именительном падеже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личны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I want </a:t>
            </a: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him to translate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this tex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Я хочу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чтобы он перевёл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этот текст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He watches </a:t>
            </a: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them play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Он наблюдает </a:t>
            </a:r>
            <a:r>
              <a:rPr b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как они играют</a:t>
            </a: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15920"/>
            <a:ext cx="9144000" cy="59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После глаголов воспри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o see, hear, watch, feel</a:t>
            </a: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 и глаголов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o make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и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o let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инфинитив употребляется </a:t>
            </a:r>
            <a:r>
              <a:rPr b="1" lang="ru-RU" sz="4000" spc="-1" strike="noStrike" u="sng">
                <a:solidFill>
                  <a:srgbClr val="660066"/>
                </a:solidFill>
                <a:uFillTx/>
                <a:latin typeface="Arial"/>
              </a:rPr>
              <a:t>без </a:t>
            </a: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частицы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Don’t let </a:t>
            </a:r>
            <a:r>
              <a:rPr b="1" lang="en-US" sz="3600" spc="-1" strike="noStrike" u="sng">
                <a:solidFill>
                  <a:srgbClr val="008000"/>
                </a:solidFill>
                <a:uFillTx/>
                <a:latin typeface="Arial"/>
              </a:rPr>
              <a:t>your son come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home late.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Не позволяйте </a:t>
            </a:r>
            <a:r>
              <a:rPr b="1" lang="ru-RU" sz="3600" spc="-1" strike="noStrike" u="sng">
                <a:solidFill>
                  <a:srgbClr val="008000"/>
                </a:solidFill>
                <a:uFillTx/>
                <a:latin typeface="Arial"/>
              </a:rPr>
              <a:t>вашему сыну приходить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 домой поздно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I see </a:t>
            </a:r>
            <a:r>
              <a:rPr b="1" lang="en-US" sz="3600" spc="-1" strike="noStrike" u="sng">
                <a:solidFill>
                  <a:srgbClr val="008000"/>
                </a:solidFill>
                <a:uFillTx/>
                <a:latin typeface="Arial"/>
              </a:rPr>
              <a:t>him park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the c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Я вижу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008000"/>
                </a:solidFill>
                <a:uFillTx/>
                <a:latin typeface="Arial"/>
              </a:rPr>
              <a:t>(что)как он паркует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 машину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19:19:05Z</dcterms:created>
  <dc:creator>Admin</dc:creator>
  <dc:description/>
  <dc:language>en-US</dc:language>
  <cp:lastModifiedBy>Admin</cp:lastModifiedBy>
  <dcterms:modified xsi:type="dcterms:W3CDTF">2012-02-05T20:29:33Z</dcterms:modified>
  <cp:revision>2</cp:revision>
  <dc:subject/>
  <dc:title>Слайд 1</dc:title>
</cp:coreProperties>
</file>