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3C0-1D7A-4671-961B-67579DB8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610-6B4A-4411-9D4F-34873653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908-64FF-4F2E-9464-4112671D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404-00BE-4094-BB93-1FA6143D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C588-0827-4E67-83AC-FB0DE4DC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C6DE-D7CB-468F-B3F8-0768B148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DFBD-1FC6-4D30-969C-DDEECE35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CB50-DA13-4700-9181-7B67F19B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F9A6-F219-41C7-BDB7-51FE03E4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2E6E-465A-4A2E-9CEA-072ABB36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5AB1-C310-42E7-85D7-639170AC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B3C-98CC-4394-ADB3-EB01B9A0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8DA1-FD58-4772-A498-14401C2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290B-1CC9-4B8B-A153-441F66B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8AFA-7213-4E48-BB8D-19E2A8DA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B151-B65B-48B5-B525-D19E777E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0568-303A-4C73-AEC9-A73F9B5A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45D-1DC8-49B2-AF3E-F7A640AC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450-58B5-4C0E-AF92-1C46D791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D2B-6B22-4907-8097-14EBAACC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16A-31F2-4F29-99F1-B5093E79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FCD-45FA-4A08-B5D2-401C75DD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858-0C7C-4799-854F-403B39CA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954-963A-4BB7-A286-47F8A804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20000"/>
                </a:gs>
                <a:gs pos="100000">
                  <a:srgbClr val="a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a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DC65-06AE-4CB3-B46B-69BC59C8E0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920000"/>
                </a:gs>
                <a:gs pos="100000">
                  <a:srgbClr val="a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a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34C1-B580-4191-9605-96A148EB99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00000"/>
                </a:solidFill>
                <a:latin typeface="Tahoma"/>
              </a:rPr>
              <a:t>Классный час на тему:</a:t>
            </a:r>
            <a:br>
              <a:rPr sz="7200"/>
            </a:br>
            <a:r>
              <a:rPr b="1" lang="ru-RU" sz="7200" spc="-1" strike="noStrike">
                <a:solidFill>
                  <a:srgbClr val="100000"/>
                </a:solidFill>
                <a:latin typeface="Tahoma"/>
              </a:rPr>
              <a:t>СПИД – чума           </a:t>
            </a:r>
            <a:r>
              <a:rPr b="1" lang="en-US" sz="7200" spc="-1" strike="noStrike">
                <a:solidFill>
                  <a:srgbClr val="100000"/>
                </a:solidFill>
                <a:latin typeface="Tahoma"/>
              </a:rPr>
              <a:t>XXI</a:t>
            </a:r>
            <a:r>
              <a:rPr b="1" lang="ru-RU" sz="7200" spc="-1" strike="noStrike">
                <a:solidFill>
                  <a:srgbClr val="100000"/>
                </a:solidFill>
                <a:latin typeface="Tahoma"/>
              </a:rPr>
              <a:t> века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43000" y="4724280"/>
            <a:ext cx="6858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00000"/>
                </a:solidFill>
                <a:latin typeface="Tahoma"/>
              </a:rPr>
              <a:t>Что нужно знать         о СПИД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Стадии болезни СПИ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1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Заражение вирусом ВИЧ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недельная лихорадка, увеличение лимфоузлов, сыпь. Через месяц в крови обнаруживаются </a:t>
            </a: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антитела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к вирусу ВИ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Скрытый период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от нескольких недель до нескольких лет: изъязвления слизистой, грибковые поражения кожи, похудание, понос, повышенная температура т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 СПИД: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оспаление легких, опухоли (саркома Капоши), сепсис и другие 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0"/>
          <p:cNvSpPr/>
          <p:nvPr/>
        </p:nvSpPr>
        <p:spPr>
          <a:xfrm>
            <a:off x="5486400" y="5715000"/>
            <a:ext cx="1523880" cy="45720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5334120" y="3429000"/>
            <a:ext cx="1676160" cy="190512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5943600" y="2819520"/>
            <a:ext cx="1371600" cy="38088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5791320" y="2057400"/>
            <a:ext cx="914400" cy="38088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7620120" y="3200400"/>
            <a:ext cx="1295280" cy="297180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7543800" y="2133720"/>
            <a:ext cx="1295280" cy="68580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2743200" y="3352680"/>
            <a:ext cx="1828800" cy="175284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2895480" y="2209680"/>
            <a:ext cx="1524240" cy="68580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838080" y="5791320"/>
            <a:ext cx="1524240" cy="38088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762120" y="4724280"/>
            <a:ext cx="1600200" cy="38124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228600" y="2895480"/>
            <a:ext cx="1295280" cy="76212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380880" y="2133720"/>
            <a:ext cx="2057400" cy="38088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0000"/>
                </a:solidFill>
                <a:latin typeface="Tahoma"/>
              </a:rPr>
              <a:t>Можно ли убить возбудителя СПИДа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31800" y="296388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33520" y="2133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50-70% спир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52280" y="2971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Несколько секун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858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Кипя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14400" y="5791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Мгнове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895480" y="2209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Попадание     в Ж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666880" y="3352680"/>
            <a:ext cx="190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Разрушается пищеваритель-ными ферментами и соляной кислот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334120" y="2057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56 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486400" y="2819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Times New Roman"/>
              </a:rPr>
              <a:t>30 </a:t>
            </a: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мину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257800" y="358128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Дезинфициру-ющие вещества (хлорамин, хлорная извес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334120" y="5791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Мгнове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467480" y="2133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Попадание на кож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7620120" y="3276720"/>
            <a:ext cx="137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Через 20 минут уничтожа-ется фермента-ми бактерий, паразитирующих на кож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31"/>
          <p:cNvSpPr/>
          <p:nvPr/>
        </p:nvSpPr>
        <p:spPr>
          <a:xfrm flipH="1">
            <a:off x="1600200" y="1600200"/>
            <a:ext cx="13716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990720" y="2514600"/>
            <a:ext cx="3045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3657600" y="1600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34"/>
          <p:cNvSpPr/>
          <p:nvPr/>
        </p:nvSpPr>
        <p:spPr>
          <a:xfrm flipH="1">
            <a:off x="1218960" y="1600200"/>
            <a:ext cx="1981080" cy="3124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5562720" y="160020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6858000" y="1600200"/>
            <a:ext cx="13716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952880" y="1600200"/>
            <a:ext cx="83844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38"/>
          <p:cNvSpPr/>
          <p:nvPr/>
        </p:nvSpPr>
        <p:spPr>
          <a:xfrm>
            <a:off x="1600200" y="5105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6248520" y="5334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815328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6172200" y="24382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365760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00000"/>
                </a:solidFill>
                <a:latin typeface="Tahoma"/>
              </a:rPr>
              <a:t>Как можно заразиться СПИДом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Пути передачи                   ВИЧ-инфек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Половой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(со спермой и влагалищным секретом) – при непостоянном половом партнер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(пользовать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презервативами!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и гомосексуальных отношениях; при искусственном оплодотвор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и использован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загрязненных медицинс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инструментов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у наркоманов – одним шпри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От матери – ребенку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нутриутробно, при родах, при кормлении материнским моло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Через кровь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и переливании крови, пересадке органов и ткан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Не отмечены случаи передачи ВИЧ-виру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1. Воздушно-капельным путем при чихании и каш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2. Бытовым путем через объятия, рукопожатия, при посещении бань, бассейнов, так как через 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</a:rPr>
              <a:t>неповрежденную </a:t>
            </a: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кожу вирус не перед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3. При укусах кровососущих насеком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Меры профилакт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ести здоровый образ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Не употреблять нарко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Избегать случайных связ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При половом контакте пользоваться презервати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егулярно проверятся на СПИ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Для уколов использовать одноразовые шпр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Борьба со СПИДо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100000"/>
                </a:solidFill>
                <a:latin typeface="Tahoma"/>
              </a:rPr>
              <a:t>(государственный уровень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Создание законодательной ба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Гарантия прав зараженных СПИД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Строгий иммунологический контроль за предназначенной для переливания кров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Использование систем переливания крови и шприцев только одноразового приме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Меры профилактики и лечения больных нарком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светительская и информационная работа среди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Создание центров профилактики и лечения СП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Формирование навыков здорового образа жизни у детей и молоде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Нравственное воспитание молоде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Из закона</a:t>
            </a:r>
            <a:br>
              <a:rPr sz="4000"/>
            </a:b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100000"/>
                </a:solidFill>
                <a:latin typeface="Tahoma"/>
              </a:rPr>
              <a:t>«О профилактике заболевания СПИД»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Граждане России обеспечивается право на медицинское освидетельствование на выявление заражения вирусом иммунодефицита человека, в том числе и аноним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Лица, зараженные СПИДом, уведомляются органами здравоохранения о необходимости соблюдения мер предупреждения распространения заболевания и уголовной ответственности за заведомое поставление в опасность заражения и заражение другого л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Не допускаются увольнение с работы, отказ в приеме на работу, в лечебные и учебные заведения, приеме детей в детские дошкольные учреждения, а также ущемление иных пра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Заражение СПИДом медицинских и фармацевтических работников при исполнении служебных обязанностей относится к профессиональным заболевани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00000"/>
                </a:solidFill>
                <a:latin typeface="Tahoma"/>
              </a:rPr>
              <a:t>Что такое СПИД?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ПИД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, или </a:t>
            </a: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индром приобретенного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иммунодефицита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– тяжелое инфекционное заболевание вирусной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Первые случаи СПИДа отмечены           в начале 80-х годов в США среди наркоманов.                                Сейчас эпидемия охватила около 190 стран м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ВИЧ </a:t>
            </a:r>
            <a:r>
              <a:rPr b="1" lang="en-US" sz="4400" spc="-1" strike="noStrike">
                <a:solidFill>
                  <a:srgbClr val="100000"/>
                </a:solidFill>
                <a:latin typeface="Tahoma"/>
              </a:rPr>
              <a:t>(YTLV-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Ч – вирус иммунодефицита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24280" y="1981080"/>
            <a:ext cx="4267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Модель строения вируса, построенная на основании электронно-микроскопического изуч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Эта работа выполнена совместными усилиями сотрудников Научно-исследовательского института эпидемиологии      и вирусологии                        им. Н.Ф.Гамалеи АМН СССР    и сотрудниками Института Пасте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657600" cy="4390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4648320" y="4724280"/>
            <a:ext cx="426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0000"/>
                </a:solidFill>
                <a:latin typeface="Tahoma"/>
              </a:rPr>
              <a:t>Вирус поражает ту часть иммунной системы, которая связана с Т-лимфоцитами крови, обеспечивающими клеточный и гуморальный иммун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Виру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ирусы – это живые организмы, которые настолько малы, что их не разглядеть невооруженным глаз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Более десяти основных групп вирусов патогенны для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Некоторые вирусы вызывают болезни, которые проявляются сразу и заметны каждо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Есть вирусы, которые вызывают заболевания, не имеющие признаков. К таким и относится вирус СП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Человек, зараженный СПИДом, не ощущает этого и выглядит вполне здоровым, но для других он представляет опас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Почему организм не может защититься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4343400" y="19810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4191120" y="25909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343400" y="2819520"/>
            <a:ext cx="15228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4191120" y="3505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4343400" y="3733920"/>
            <a:ext cx="15228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4572000" y="373392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3124080" y="41911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5257800" y="40384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3200400" y="4343400"/>
            <a:ext cx="15228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3505320" y="42670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20"/>
          <p:cNvSpPr/>
          <p:nvPr/>
        </p:nvSpPr>
        <p:spPr>
          <a:xfrm>
            <a:off x="3276720" y="45720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21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23"/>
          <p:cNvSpPr/>
          <p:nvPr/>
        </p:nvSpPr>
        <p:spPr>
          <a:xfrm>
            <a:off x="4800600" y="50292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4419720" y="51814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25"/>
          <p:cNvSpPr/>
          <p:nvPr/>
        </p:nvSpPr>
        <p:spPr>
          <a:xfrm>
            <a:off x="5410080" y="4114800"/>
            <a:ext cx="15264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26"/>
          <p:cNvSpPr/>
          <p:nvPr/>
        </p:nvSpPr>
        <p:spPr>
          <a:xfrm>
            <a:off x="5562720" y="42670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27"/>
          <p:cNvSpPr/>
          <p:nvPr/>
        </p:nvSpPr>
        <p:spPr>
          <a:xfrm>
            <a:off x="5257800" y="43434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28"/>
          <p:cNvSpPr/>
          <p:nvPr/>
        </p:nvSpPr>
        <p:spPr>
          <a:xfrm>
            <a:off x="5791320" y="304812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6781680" y="2133720"/>
            <a:ext cx="457200" cy="45720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30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32"/>
          <p:cNvSpPr/>
          <p:nvPr/>
        </p:nvSpPr>
        <p:spPr>
          <a:xfrm flipH="1">
            <a:off x="3733560" y="403848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33"/>
          <p:cNvSpPr/>
          <p:nvPr/>
        </p:nvSpPr>
        <p:spPr>
          <a:xfrm>
            <a:off x="4800600" y="40384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34"/>
          <p:cNvSpPr/>
          <p:nvPr/>
        </p:nvSpPr>
        <p:spPr>
          <a:xfrm>
            <a:off x="4572000" y="411480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35"/>
          <p:cNvSpPr/>
          <p:nvPr/>
        </p:nvSpPr>
        <p:spPr>
          <a:xfrm flipH="1">
            <a:off x="5790960" y="2514600"/>
            <a:ext cx="106668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36"/>
          <p:cNvSpPr/>
          <p:nvPr/>
        </p:nvSpPr>
        <p:spPr>
          <a:xfrm flipH="1">
            <a:off x="6019920" y="2438280"/>
            <a:ext cx="76176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37"/>
          <p:cNvSpPr/>
          <p:nvPr/>
        </p:nvSpPr>
        <p:spPr>
          <a:xfrm>
            <a:off x="6019920" y="3352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38"/>
          <p:cNvSpPr/>
          <p:nvPr/>
        </p:nvSpPr>
        <p:spPr>
          <a:xfrm>
            <a:off x="6248520" y="3124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3200400" y="1905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Вир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31520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Антите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5334120" y="190512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00"/>
                </a:solidFill>
                <a:latin typeface="Tahoma"/>
              </a:rPr>
              <a:t>Слабая связь со свободными вируса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2209680" y="2666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Т-лимфоц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2133720" y="335268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Т- лимфоцит  с вирус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1676520" y="49528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Поражение новых Т-лимфоци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6095880" y="41148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Вирусы в клетках находятся в форме, недоступной для антите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304920" y="556272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0000"/>
                </a:solidFill>
                <a:latin typeface="Tahoma"/>
              </a:rPr>
              <a:t>В результате болезни человеческий организм                       становится беззащитным перед инфекционными и опухолевыми заболеваниями, с которыми справляется                               нормальная иммун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Немного истор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Зимой 1980/81 года в госпиталь Нью-йоркского университета поступили несколько человек с незнакомой для врачей формой так называемой саркомы Капоши.  Это редкая болезнь и хорошо поддается терапии. Эта форма болезни протекала злокачественно, и большая часть их погибла в течение 20 месяцев. Все больные были мужчинами до 30 лет и гомосексуалистам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есной 1981 года врачи Лос-Анджелеса и Нью-Йорка обнаружили больных со злокачественной формой пневмоцистной пневмонии. За год погибли почти все. Они  тоже были гомосексуалис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Летом 1981 года в США насчитывалось уже 116 подобных случа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 1981 году СПИД обнаружился и в странах Западной Евро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есной 1982 года жертвой СПИДа стал первый больной гемофилией. Он заразился при переливании кров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Летом 1983г. выяснилось, что возбудитель может содержаться не только в крови, но и в сперме, в других жидкостях т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Тревога усилила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 1 сентября 1983г. В Нью-Йорке погибло 228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Африке СПИД впервые был зарегистрирован клиницистами Брюсселя и Парижа в 1983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Заболевание стали образно называть </a:t>
            </a:r>
            <a:r>
              <a:rPr b="1" lang="ru-RU" sz="2400" spc="-1" strike="noStrike" u="sng">
                <a:solidFill>
                  <a:srgbClr val="ffcc66"/>
                </a:solidFill>
                <a:uFillTx/>
                <a:latin typeface="Tahoma"/>
              </a:rPr>
              <a:t>«четыре Г»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, что отражало включение в эпидемию основных категорий риска: гомосексуалистов (75-77%), наркоманов, вводивших героин внутривенно (около 16%, больных гемофилией, заражающихся от лечебного препарата, изготовляемого из плазмы крови, а также жителей Гаити, среди которых отмечалось наибольшее количество заболеваний за пределами СШ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1984г. СПИД был объявлен проблемой номер один для здравоохранения СШ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Нью-Йорке был создан специальный инстит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 июню 1985 года СПИД уже регистрировался в 40 странах мира. Эпидемия превратилась в пандем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изучение нового грозного заболевания включились ученые разных стран – иммунологи, вирусологи, эпидемиологи, инфекционис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1983г. В Нью-Йорке вышла первая монография. На ее обложке был изображен скелет с косой и было крупно написано </a:t>
            </a: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«СПИД»</a:t>
            </a: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феврале 1990г., по данным ВОЗ, общее число зарегистрированных случаев СПИДа составило 215 444  в 153 странах ми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Master</cp:lastModifiedBy>
  <dcterms:modified xsi:type="dcterms:W3CDTF">2017-02-16T16:06:0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