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6406-7747-43F6-AEAF-29D18D39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0A20-520E-4159-BDD1-84A499F9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B24C-7DEC-48D6-A2AA-89878C75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7B68-961A-4BEE-B2EA-E256B8D2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7AAD-91D0-4C15-AC95-E79B3C2C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36A6-A383-42D3-A44C-1D646F09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588B-882A-44CD-9781-3A87BE1E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82C3-BE2E-4703-98D1-4A59D767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022D-FD64-4D2E-9564-4FC489B9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1723-E081-4DF0-BF12-D76AFAAB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3A32-20A7-48B2-8FDC-4293048F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65D7-35F0-4635-A368-DCCF5C38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BD0F-A475-4E67-AF6C-BA5B628D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F97E-E446-49F0-9231-D5EFD304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CC67-8293-48B3-8B99-9DE86697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AFD8-D4D1-4020-AB9E-5045B356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947D-7342-4DFF-8FCC-730ED18A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281-1D9B-44E0-BCAB-DF4590AD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D5FC-3895-4135-A462-29171494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5900-2D22-492C-ABEF-292C1480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223C-7A0C-4FF5-8B10-1B1290E1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129-8124-4797-A392-82FC333D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8AD-0307-4709-95A7-72E09EB9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F76-DB37-45C2-9BCD-AD8F289D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20000"/>
                </a:gs>
                <a:gs pos="100000">
                  <a:srgbClr val="a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a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2214-6195-4BD5-84D8-868E4006A11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920000"/>
                </a:gs>
                <a:gs pos="100000">
                  <a:srgbClr val="a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a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E820-24A4-4CFA-8FF6-F020E827F02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00000"/>
                </a:solidFill>
                <a:latin typeface="Tahoma"/>
              </a:rPr>
              <a:t>Классный час на тему:</a:t>
            </a:r>
            <a:br>
              <a:rPr sz="7200"/>
            </a:br>
            <a:r>
              <a:rPr b="1" lang="ru-RU" sz="7200" spc="-1" strike="noStrike">
                <a:solidFill>
                  <a:srgbClr val="100000"/>
                </a:solidFill>
                <a:latin typeface="Tahoma"/>
              </a:rPr>
              <a:t>СПИД – чума           </a:t>
            </a:r>
            <a:r>
              <a:rPr b="1" lang="en-US" sz="7200" spc="-1" strike="noStrike">
                <a:solidFill>
                  <a:srgbClr val="100000"/>
                </a:solidFill>
                <a:latin typeface="Tahoma"/>
              </a:rPr>
              <a:t>XXI</a:t>
            </a:r>
            <a:r>
              <a:rPr b="1" lang="ru-RU" sz="7200" spc="-1" strike="noStrike">
                <a:solidFill>
                  <a:srgbClr val="100000"/>
                </a:solidFill>
                <a:latin typeface="Tahoma"/>
              </a:rPr>
              <a:t> века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143000" y="4724280"/>
            <a:ext cx="6858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00000"/>
                </a:solidFill>
                <a:latin typeface="Tahoma"/>
              </a:rPr>
              <a:t>Что нужно знать         о СПИДе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0000"/>
                </a:solidFill>
                <a:latin typeface="Tahoma"/>
              </a:rPr>
              <a:t>Стадии болезни СПИ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1000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100000"/>
                </a:solidFill>
                <a:latin typeface="Tahoma"/>
              </a:rPr>
              <a:t>Заражение вирусом ВИЧ</a:t>
            </a:r>
            <a:r>
              <a:rPr b="0" lang="ru-RU" sz="2400" spc="-1" strike="noStrike">
                <a:solidFill>
                  <a:srgbClr val="100000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недельная лихорадка, увеличение лимфоузлов, сыпь. Через месяц в крови обнаруживаются </a:t>
            </a: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антитела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к вирусу ВИ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0000"/>
                </a:solidFill>
                <a:latin typeface="Tahoma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100000"/>
                </a:solidFill>
                <a:latin typeface="Tahoma"/>
              </a:rPr>
              <a:t>Скрытый период</a:t>
            </a:r>
            <a:r>
              <a:rPr b="0" lang="ru-RU" sz="2400" spc="-1" strike="noStrike">
                <a:solidFill>
                  <a:srgbClr val="100000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от нескольких недель до нескольких лет: изъязвления слизистой, грибковые поражения кожи, похудание, понос, повышенная температура те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0000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100000"/>
                </a:solidFill>
                <a:latin typeface="Tahoma"/>
              </a:rPr>
              <a:t> СПИД: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воспаление легких, опухоли (саркома Капоши), сепсис и другие инфекционные заболе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0"/>
          <p:cNvSpPr/>
          <p:nvPr/>
        </p:nvSpPr>
        <p:spPr>
          <a:xfrm>
            <a:off x="5486400" y="5715000"/>
            <a:ext cx="1523880" cy="45720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5334120" y="3429000"/>
            <a:ext cx="1676160" cy="190512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28"/>
          <p:cNvSpPr/>
          <p:nvPr/>
        </p:nvSpPr>
        <p:spPr>
          <a:xfrm>
            <a:off x="5943600" y="2819520"/>
            <a:ext cx="1371600" cy="38088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27"/>
          <p:cNvSpPr/>
          <p:nvPr/>
        </p:nvSpPr>
        <p:spPr>
          <a:xfrm>
            <a:off x="5791320" y="2057400"/>
            <a:ext cx="914400" cy="38088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7620120" y="3200400"/>
            <a:ext cx="1295280" cy="297180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7543800" y="2133720"/>
            <a:ext cx="1295280" cy="68580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2743200" y="3352680"/>
            <a:ext cx="1828800" cy="175284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2895480" y="2209680"/>
            <a:ext cx="1524240" cy="68580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838080" y="5791320"/>
            <a:ext cx="1524240" cy="38088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762120" y="4724280"/>
            <a:ext cx="1600200" cy="38124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228600" y="2895480"/>
            <a:ext cx="1295280" cy="76212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380880" y="2133720"/>
            <a:ext cx="2057400" cy="380880"/>
          </a:xfrm>
          <a:prstGeom prst="rect">
            <a:avLst/>
          </a:prstGeom>
          <a:solidFill>
            <a:srgbClr val="a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00000"/>
                </a:solidFill>
                <a:latin typeface="Tahoma"/>
              </a:rPr>
              <a:t>Можно ли убить возбудителя СПИДа?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31800" y="2963880"/>
            <a:ext cx="112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33520" y="21337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50-70% спир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52280" y="2971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Times New Roman"/>
              </a:rPr>
              <a:t>Несколько секун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85800" y="4724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Кипяч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914400" y="5791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Times New Roman"/>
              </a:rPr>
              <a:t>Мгновен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2895480" y="2209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Попадание     в ЖК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2666880" y="3352680"/>
            <a:ext cx="190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Times New Roman"/>
              </a:rPr>
              <a:t>Разрушается пищеваритель-ными ферментами и соляной кислот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334120" y="2057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56 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5486400" y="2819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Times New Roman"/>
              </a:rPr>
              <a:t>30 </a:t>
            </a:r>
            <a:r>
              <a:rPr b="1" i="1" lang="ru-RU" sz="1800" spc="-1" strike="noStrike">
                <a:solidFill>
                  <a:srgbClr val="ff9900"/>
                </a:solidFill>
                <a:latin typeface="Times New Roman"/>
              </a:rPr>
              <a:t>мину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257800" y="358128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Дезинфициру-ющие вещества (хлорамин, хлорная извест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5334120" y="57913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Times New Roman"/>
              </a:rPr>
              <a:t>Мгновен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7467480" y="2133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Попадание на кож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7620120" y="3276720"/>
            <a:ext cx="137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Times New Roman"/>
              </a:rPr>
              <a:t>Через 20 минут уничтожа-ется фермента-ми бактерий, паразитирующих на кож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31"/>
          <p:cNvSpPr/>
          <p:nvPr/>
        </p:nvSpPr>
        <p:spPr>
          <a:xfrm flipH="1">
            <a:off x="1600200" y="1600200"/>
            <a:ext cx="13716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32"/>
          <p:cNvSpPr/>
          <p:nvPr/>
        </p:nvSpPr>
        <p:spPr>
          <a:xfrm flipH="1">
            <a:off x="990720" y="2514600"/>
            <a:ext cx="3045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33"/>
          <p:cNvSpPr/>
          <p:nvPr/>
        </p:nvSpPr>
        <p:spPr>
          <a:xfrm>
            <a:off x="3657600" y="16002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34"/>
          <p:cNvSpPr/>
          <p:nvPr/>
        </p:nvSpPr>
        <p:spPr>
          <a:xfrm flipH="1">
            <a:off x="1218960" y="1600200"/>
            <a:ext cx="1981080" cy="3124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5562720" y="1600200"/>
            <a:ext cx="5331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6858000" y="1600200"/>
            <a:ext cx="13716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37"/>
          <p:cNvSpPr/>
          <p:nvPr/>
        </p:nvSpPr>
        <p:spPr>
          <a:xfrm>
            <a:off x="4952880" y="1600200"/>
            <a:ext cx="83844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38"/>
          <p:cNvSpPr/>
          <p:nvPr/>
        </p:nvSpPr>
        <p:spPr>
          <a:xfrm>
            <a:off x="1600200" y="5105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39"/>
          <p:cNvSpPr/>
          <p:nvPr/>
        </p:nvSpPr>
        <p:spPr>
          <a:xfrm>
            <a:off x="6248520" y="5334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Line 40"/>
          <p:cNvSpPr/>
          <p:nvPr/>
        </p:nvSpPr>
        <p:spPr>
          <a:xfrm>
            <a:off x="8153280" y="2819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Line 41"/>
          <p:cNvSpPr/>
          <p:nvPr/>
        </p:nvSpPr>
        <p:spPr>
          <a:xfrm>
            <a:off x="6172200" y="24382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3657600" y="2895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00000"/>
                </a:solidFill>
                <a:latin typeface="Tahoma"/>
              </a:rPr>
              <a:t>Как можно заразиться СПИДом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0000"/>
                </a:solidFill>
                <a:latin typeface="Tahoma"/>
              </a:rPr>
              <a:t>Пути передачи                   ВИЧ-инфекц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0000"/>
                </a:solidFill>
                <a:latin typeface="Tahoma"/>
              </a:rPr>
              <a:t>Половой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(со спермой и влагалищным секретом) – при непостоянном половом партнер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100000"/>
                </a:solidFill>
                <a:latin typeface="Tahoma"/>
              </a:rPr>
              <a:t>(пользоватьс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100000"/>
                </a:solidFill>
                <a:latin typeface="Tahoma"/>
              </a:rPr>
              <a:t>презервативами!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и гомосексуальных отношениях; при искусственном оплодотвор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ри использовани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100000"/>
                </a:solidFill>
                <a:latin typeface="Tahoma"/>
              </a:rPr>
              <a:t>загрязненных медицински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100000"/>
                </a:solidFill>
                <a:latin typeface="Tahoma"/>
              </a:rPr>
              <a:t>инструментов</a:t>
            </a:r>
            <a:r>
              <a:rPr b="0" lang="ru-RU" sz="2400" spc="-1" strike="noStrike">
                <a:solidFill>
                  <a:srgbClr val="100000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у наркоманов – одним шприц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0000"/>
                </a:solidFill>
                <a:latin typeface="Tahoma"/>
              </a:rPr>
              <a:t>От матери – ребенку</a:t>
            </a:r>
            <a:r>
              <a:rPr b="0" lang="ru-RU" sz="2400" spc="-1" strike="noStrike">
                <a:solidFill>
                  <a:srgbClr val="10000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внутриутробно, при родах, при кормлении материнским молок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0000"/>
                </a:solidFill>
                <a:latin typeface="Tahoma"/>
              </a:rPr>
              <a:t>Через кровь</a:t>
            </a:r>
            <a:r>
              <a:rPr b="0" lang="ru-RU" sz="2400" spc="-1" strike="noStrike">
                <a:solidFill>
                  <a:srgbClr val="100000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ри переливании крови, пересадке органов и ткан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0000"/>
                </a:solidFill>
                <a:latin typeface="Tahoma"/>
              </a:rPr>
              <a:t>Не отмечены случаи передачи ВИЧ-вирус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1. Воздушно-капельным путем при чихании и каш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2. Бытовым путем через объятия, рукопожатия, при посещении бань, бассейнов, так как через 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</a:rPr>
              <a:t>неповрежденную </a:t>
            </a: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кожу вирус не перед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3. При укусах кровососущих насеком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0000"/>
                </a:solidFill>
                <a:latin typeface="Tahoma"/>
              </a:rPr>
              <a:t>Меры профилакти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ести здоровый образ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Не употреблять наркот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Избегать случайных связ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При половом контакте пользоваться презерватив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Регулярно проверятся на СПИ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Для уколов использовать одноразовые шпр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0000"/>
                </a:solidFill>
                <a:latin typeface="Tahoma"/>
              </a:rPr>
              <a:t>Борьба со СПИДом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100000"/>
                </a:solidFill>
                <a:latin typeface="Tahoma"/>
              </a:rPr>
              <a:t>(государственный уровень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Создание законодательной баз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Гарантия прав зараженных СПИД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Строгий иммунологический контроль за предназначенной для переливания кров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Использование систем переливания крови и шприцев только одноразового примен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Меры профилактики и лечения больных наркоман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росветительская и информационная работа среди нас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Создание центров профилактики и лечения СПИ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Формирование навыков здорового образа жизни у детей и молодеж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Нравственное воспитание молодеж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0000"/>
                </a:solidFill>
                <a:latin typeface="Tahoma"/>
              </a:rPr>
              <a:t>Из закона</a:t>
            </a:r>
            <a:br>
              <a:rPr sz="4000"/>
            </a:br>
            <a:r>
              <a:rPr b="1" lang="ru-RU" sz="4000" spc="-1" strike="noStrike">
                <a:solidFill>
                  <a:srgbClr val="10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100000"/>
                </a:solidFill>
                <a:latin typeface="Tahoma"/>
              </a:rPr>
              <a:t>«О профилактике заболевания СПИД»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Граждане России обеспечивается право на медицинское освидетельствование на выявление заражения вирусом иммунодефицита человека, в том числе и анонимно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Лица, зараженные СПИДом, уведомляются органами здравоохранения о необходимости соблюдения мер предупреждения распространения заболевания и уголовной ответственности за заведомое поставление в опасность заражения и заражение другого лиц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Не допускаются увольнение с работы, отказ в приеме на работу, в лечебные и учебные заведения, приеме детей в детские дошкольные учреждения, а также ущемление иных пра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Заражение СПИДом медицинских и фармацевтических работников при исполнении служебных обязанностей относится к профессиональным заболевания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00000"/>
                </a:solidFill>
                <a:latin typeface="Tahoma"/>
              </a:rPr>
              <a:t>Что такое СПИД?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ПИД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, или </a:t>
            </a: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индром приобретенного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иммунодефицита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– тяжелое инфекционное заболевание вирусной прир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Первые случаи СПИДа отмечены           в начале 80-х годов в США среди наркоманов.                                Сейчас эпидемия охватила около 190 стран ми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0000"/>
                </a:solidFill>
                <a:latin typeface="Tahoma"/>
              </a:rPr>
              <a:t>ВИЧ </a:t>
            </a:r>
            <a:r>
              <a:rPr b="1" lang="en-US" sz="4400" spc="-1" strike="noStrike">
                <a:solidFill>
                  <a:srgbClr val="100000"/>
                </a:solidFill>
                <a:latin typeface="Tahoma"/>
              </a:rPr>
              <a:t>(YTLV-3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ИЧ – вирус иммунодефицита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724280" y="1981080"/>
            <a:ext cx="42674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Tahoma"/>
              </a:rPr>
              <a:t>Модель строения вируса, построенная на основании электронно-микроскопического изуч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Tahoma"/>
              </a:rPr>
              <a:t>Эта работа выполнена совместными усилиями сотрудников Научно-исследовательского института эпидемиологии      и вирусологии                        им. Н.Ф.Гамалеи АМН СССР    и сотрудниками Института Пастер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657600" cy="4390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4648320" y="4724280"/>
            <a:ext cx="426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0000"/>
                </a:solidFill>
                <a:latin typeface="Tahoma"/>
              </a:rPr>
              <a:t>Вирус поражает ту часть иммунной системы, которая связана с Т-лимфоцитами крови, обеспечивающими клеточный и гуморальный иммун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0000"/>
                </a:solidFill>
                <a:latin typeface="Tahoma"/>
              </a:rPr>
              <a:t>Виру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Вирусы – это живые организмы, которые настолько малы, что их не разглядеть невооруженным глаз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Более десяти основных групп вирусов патогенны для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Некоторые вирусы вызывают болезни, которые проявляются сразу и заметны каждом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Есть вирусы, которые вызывают заболевания, не имеющие признаков. К таким и относится вирус СПИ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Человек, зараженный СПИДом, не ощущает этого и выглядит вполне здоровым, но для других он представляет опас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0000"/>
                </a:solidFill>
                <a:latin typeface="Tahoma"/>
              </a:rPr>
              <a:t>Почему организм не может защититься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4343400" y="198108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4191120" y="259092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4343400" y="2819520"/>
            <a:ext cx="152280" cy="152280"/>
          </a:xfrm>
          <a:prstGeom prst="ellipse">
            <a:avLst/>
          </a:prstGeom>
          <a:solidFill>
            <a:srgbClr val="1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4191120" y="35053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4343400" y="3733920"/>
            <a:ext cx="152280" cy="152280"/>
          </a:xfrm>
          <a:prstGeom prst="ellipse">
            <a:avLst/>
          </a:prstGeom>
          <a:solidFill>
            <a:srgbClr val="1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val 11"/>
          <p:cNvSpPr/>
          <p:nvPr/>
        </p:nvSpPr>
        <p:spPr>
          <a:xfrm>
            <a:off x="4572000" y="373392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12"/>
          <p:cNvSpPr/>
          <p:nvPr/>
        </p:nvSpPr>
        <p:spPr>
          <a:xfrm>
            <a:off x="3124080" y="419112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4343400" y="47242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5257800" y="40384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Oval 15"/>
          <p:cNvSpPr/>
          <p:nvPr/>
        </p:nvSpPr>
        <p:spPr>
          <a:xfrm>
            <a:off x="3200400" y="4343400"/>
            <a:ext cx="152280" cy="152280"/>
          </a:xfrm>
          <a:prstGeom prst="ellipse">
            <a:avLst/>
          </a:prstGeom>
          <a:solidFill>
            <a:srgbClr val="1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Oval 17"/>
          <p:cNvSpPr/>
          <p:nvPr/>
        </p:nvSpPr>
        <p:spPr>
          <a:xfrm>
            <a:off x="3505320" y="426708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Oval 20"/>
          <p:cNvSpPr/>
          <p:nvPr/>
        </p:nvSpPr>
        <p:spPr>
          <a:xfrm>
            <a:off x="3276720" y="457200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Oval 21"/>
          <p:cNvSpPr/>
          <p:nvPr/>
        </p:nvSpPr>
        <p:spPr>
          <a:xfrm>
            <a:off x="3581280" y="44956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4495680" y="4876920"/>
            <a:ext cx="152640" cy="152280"/>
          </a:xfrm>
          <a:prstGeom prst="ellipse">
            <a:avLst/>
          </a:prstGeom>
          <a:solidFill>
            <a:srgbClr val="1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Oval 23"/>
          <p:cNvSpPr/>
          <p:nvPr/>
        </p:nvSpPr>
        <p:spPr>
          <a:xfrm>
            <a:off x="4800600" y="502920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4419720" y="518148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Oval 25"/>
          <p:cNvSpPr/>
          <p:nvPr/>
        </p:nvSpPr>
        <p:spPr>
          <a:xfrm>
            <a:off x="5410080" y="4114800"/>
            <a:ext cx="152640" cy="152280"/>
          </a:xfrm>
          <a:prstGeom prst="ellipse">
            <a:avLst/>
          </a:prstGeom>
          <a:solidFill>
            <a:srgbClr val="1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Oval 26"/>
          <p:cNvSpPr/>
          <p:nvPr/>
        </p:nvSpPr>
        <p:spPr>
          <a:xfrm>
            <a:off x="5562720" y="426708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Oval 27"/>
          <p:cNvSpPr/>
          <p:nvPr/>
        </p:nvSpPr>
        <p:spPr>
          <a:xfrm>
            <a:off x="5257800" y="434340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Oval 28"/>
          <p:cNvSpPr/>
          <p:nvPr/>
        </p:nvSpPr>
        <p:spPr>
          <a:xfrm>
            <a:off x="5791320" y="304812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1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Oval 29"/>
          <p:cNvSpPr/>
          <p:nvPr/>
        </p:nvSpPr>
        <p:spPr>
          <a:xfrm>
            <a:off x="6781680" y="2133720"/>
            <a:ext cx="457200" cy="457200"/>
          </a:xfrm>
          <a:prstGeom prst="ellipse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30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31"/>
          <p:cNvSpPr/>
          <p:nvPr/>
        </p:nvSpPr>
        <p:spPr>
          <a:xfrm>
            <a:off x="4495680" y="3200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32"/>
          <p:cNvSpPr/>
          <p:nvPr/>
        </p:nvSpPr>
        <p:spPr>
          <a:xfrm flipH="1">
            <a:off x="3733560" y="4038480"/>
            <a:ext cx="53316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33"/>
          <p:cNvSpPr/>
          <p:nvPr/>
        </p:nvSpPr>
        <p:spPr>
          <a:xfrm>
            <a:off x="4800600" y="4038480"/>
            <a:ext cx="4572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34"/>
          <p:cNvSpPr/>
          <p:nvPr/>
        </p:nvSpPr>
        <p:spPr>
          <a:xfrm>
            <a:off x="4572000" y="4114800"/>
            <a:ext cx="763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35"/>
          <p:cNvSpPr/>
          <p:nvPr/>
        </p:nvSpPr>
        <p:spPr>
          <a:xfrm flipH="1">
            <a:off x="5790960" y="2514600"/>
            <a:ext cx="106668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36"/>
          <p:cNvSpPr/>
          <p:nvPr/>
        </p:nvSpPr>
        <p:spPr>
          <a:xfrm flipH="1">
            <a:off x="6019920" y="2438280"/>
            <a:ext cx="76176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37"/>
          <p:cNvSpPr/>
          <p:nvPr/>
        </p:nvSpPr>
        <p:spPr>
          <a:xfrm>
            <a:off x="6019920" y="3352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38"/>
          <p:cNvSpPr/>
          <p:nvPr/>
        </p:nvSpPr>
        <p:spPr>
          <a:xfrm>
            <a:off x="6248520" y="3124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3200400" y="19051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ahoma"/>
              </a:rPr>
              <a:t>Виру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731520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ahoma"/>
              </a:rPr>
              <a:t>Антител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5334120" y="1905120"/>
            <a:ext cx="129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00"/>
                </a:solidFill>
                <a:latin typeface="Tahoma"/>
              </a:rPr>
              <a:t>Слабая связь со свободными вируса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2209680" y="26668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Т-лимфоци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2133720" y="335268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Т- лимфоцит  с вирус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45"/>
          <p:cNvSpPr/>
          <p:nvPr/>
        </p:nvSpPr>
        <p:spPr>
          <a:xfrm>
            <a:off x="1676520" y="495288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Поражение новых Т-лимфоци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46"/>
          <p:cNvSpPr/>
          <p:nvPr/>
        </p:nvSpPr>
        <p:spPr>
          <a:xfrm>
            <a:off x="6095880" y="41148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Tahoma"/>
              </a:rPr>
              <a:t>Вирусы в клетках находятся в форме, недоступной для антите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47"/>
          <p:cNvSpPr/>
          <p:nvPr/>
        </p:nvSpPr>
        <p:spPr>
          <a:xfrm>
            <a:off x="304920" y="556272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0000"/>
                </a:solidFill>
                <a:latin typeface="Tahoma"/>
              </a:rPr>
              <a:t>В результате болезни человеческий организм                       становится беззащитным перед инфекционными и опухолевыми заболеваниями, с которыми справляется                               нормальная иммунн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0000"/>
                </a:solidFill>
                <a:latin typeface="Tahoma"/>
              </a:rPr>
              <a:t>Немного истор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Зимой 1980/81 года в госпиталь Нью-йоркского университета поступили несколько человек с незнакомой для врачей формой так называемой саркомы Капоши.  Это редкая болезнь и хорошо поддается терапии. Эта форма болезни протекала злокачественно, и большая часть их погибла в течение 20 месяцев. Все больные были мужчинами до 30 лет и гомосексуалистами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Весной 1981 года врачи Лос-Анджелеса и Нью-Йорка обнаружили больных со злокачественной формой пневмоцистной пневмонии. За год погибли почти все. Они  тоже были гомосексуалист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Летом 1981 года в США насчитывалось уже 116 подобных случае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В 1981 году СПИД обнаружился и в странах Западной Европ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Весной 1982 года жертвой СПИДа стал первый больной гемофилией. Он заразился при переливании кров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Летом 1983г. выяснилось, что возбудитель может содержаться не только в крови, но и в сперме, в других жидкостях те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Тревога усилилас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 1 сентября 1983г. В Нью-Йорке погибло 228 челове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В Африке СПИД впервые был зарегистрирован клиницистами Брюсселя и Парижа в 1983 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Заболевание стали образно называть </a:t>
            </a:r>
            <a:r>
              <a:rPr b="1" lang="ru-RU" sz="2400" spc="-1" strike="noStrike" u="sng">
                <a:solidFill>
                  <a:srgbClr val="ffcc66"/>
                </a:solidFill>
                <a:uFillTx/>
                <a:latin typeface="Tahoma"/>
              </a:rPr>
              <a:t>«четыре Г»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, что отражало включение в эпидемию основных категорий риска: гомосексуалистов (75-77%), наркоманов, вводивших героин внутривенно (около 16%, больных гемофилией, заражающихся от лечебного препарата, изготовляемого из плазмы крови, а также жителей Гаити, среди которых отмечалось наибольшее количество заболеваний за пределами СШ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В 1984г. СПИД был объявлен проблемой номер один для здравоохранения СШ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В Нью-Йорке был создан специальный институ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 июню 1985 года СПИД уже регистрировался в 40 странах мира. Эпидемия превратилась в пандем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В изучение нового грозного заболевания включились ученые разных стран – иммунологи, вирусологи, эпидемиологи, инфекционис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В 1983г. В Нью-Йорке вышла первая монография. На ее обложке был изображен скелет с косой и было крупно написано </a:t>
            </a:r>
            <a:r>
              <a:rPr b="1" lang="ru-RU" sz="3600" spc="-1" strike="noStrike">
                <a:solidFill>
                  <a:srgbClr val="ffcc66"/>
                </a:solidFill>
                <a:latin typeface="Tahoma"/>
              </a:rPr>
              <a:t>«СПИД»</a:t>
            </a: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В феврале 1990г., по данным ВОЗ, общее число зарегистрированных случаев СПИДа составило 215 444  в 153 странах ми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Master</cp:lastModifiedBy>
  <dcterms:modified xsi:type="dcterms:W3CDTF">2017-02-16T16:06:0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