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0BA-A502-419A-B363-3775C6BB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A14-DDB7-4BD3-A8F4-53070501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882-3DC2-4486-99EE-3E298106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592-F3EE-4715-81D7-E46362D0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1B27-D126-4DC7-BCCF-2C8C190A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EF67-5AE9-4EC9-8B6D-460630CB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C6A1-C790-43A7-88BB-B9CD2190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5F68-600C-4473-8C02-719D26AD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7FF6-5F14-4BF3-8DB3-6E4BAC3E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7496-849E-49CE-AFEC-F83F14C7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FC07-A0A0-4366-A876-6B0DB43E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707-930C-4E05-8CC2-53787731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7371-B972-4109-8BFD-85C4ABE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0709-DB77-49E5-9385-EE7EA69A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909A-4A40-4714-8FE7-385FB3E3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1FF1-9110-4E32-8AD0-4B797D5D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3186-5BA6-442B-98E1-B3CD318D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114-CA53-4FD9-A204-703D7FBC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189-DC4F-4B62-B0AA-90D4CA6D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7A4-6012-4EE0-8E09-9D21643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639-7F72-41F9-874B-7DB0A819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987-9835-4959-90AB-ED46702C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9FD-48D1-4707-B007-750C4C67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796-AC11-4409-B3CF-514E801D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A0BA-507C-4ADD-A8FA-878933BF140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3E29-9E62-4484-AFF1-D463593D4BF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Verdana"/>
              </a:rPr>
              <a:t>Прямая и косвенная речь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3429000"/>
            <a:ext cx="8640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Direct and Indirect Speech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Verdana"/>
              </a:rPr>
              <a:t>(правила перевода из прямой речи в косвенную)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Специальный вопро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, say to smb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вопросительное слово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казуем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John: “ Where does Tom go every week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Джону: «Куда Том ходит каждую неделю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s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John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where</a:t>
            </a:r>
            <a:r>
              <a:rPr b="1" lang="ru-RU" sz="32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om</a:t>
            </a:r>
            <a:r>
              <a:rPr b="1" lang="ru-RU" sz="32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goes</a:t>
            </a:r>
            <a:r>
              <a:rPr b="1" lang="ru-RU" sz="32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every wee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Джона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куда Том ходит каждую неделю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Вопрос к подлежащем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рядок слов не меняетс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, “Who likes pop music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: «Кто любит поп музыку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s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who likes pop mus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кто любит поп музыку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Положительные просьб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ay to smb, tell smb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Verdana"/>
              </a:rPr>
              <a:t>.</a:t>
            </a: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сказать кому-то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ask smb.+ t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сить кого-то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Jane, “Give me your hand, please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Джейн: «Дай мне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пожалуйста руку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Jan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o give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him her hand.-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рос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Джей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ать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ему руку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Положительные приказ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ay to smb.</a:t>
            </a:r>
            <a:r>
              <a:rPr b="1" i="1" lang="en-US" sz="32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tell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велеть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i="1" lang="ru-RU" sz="3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mb. +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Nick</a:t>
            </a:r>
            <a:r>
              <a:rPr b="1" i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, 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“Mary, bring some milk from the kitchen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Ник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: «Мэр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принеси молока из кухни»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Nick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Mar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o bring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ome milk from the kitche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Ник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ел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Мэр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инести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молока из кухн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осьб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a)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Tell smb., say smb.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 </a:t>
            </a:r>
            <a:r>
              <a:rPr b="1" i="1" lang="ru-RU" sz="3200" spc="-1" strike="noStrike">
                <a:solidFill>
                  <a:srgbClr val="006600"/>
                </a:solidFill>
                <a:latin typeface="Verdana"/>
              </a:rPr>
              <a:t>на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ask smb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b)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don’t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not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, “Please don’t come home late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я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е: «Не приходи домой поздно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пожалуйст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ask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not to come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 home lat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ося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у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не приходить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домой позд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иказ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а)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say to smb.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сказать кому-то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tell smb.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велеть кому-то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b)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don’t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not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 teacher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o children: “Don’t open your books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Учитель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детям: «Не открывайте книги»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  teacher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he children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not to open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heir book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Учитель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елит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детям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не открывать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книг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Повествовательные 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 предлож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Say to smb., tell to smb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. + 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(that)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сказуемое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торостепенные член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o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, “I see my friends every day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hat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e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ee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is friend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every da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hat 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ee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is friend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every da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е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что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он видит своих друзей каждый день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едло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, “I don’t like poetry.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говорит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им: «Я не люблю поэзию»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(that)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he doesn’t like poet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hat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he doesn’t like poetr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что не любит поэзию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бщие вопрос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, say to smb.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ask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прашивать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+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if (whether)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и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казуемое в нужном времени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 “Did they write anything interesting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: «Они написали что-нибудь интересное?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if</a:t>
            </a:r>
            <a:r>
              <a:rPr b="1" lang="en-US" sz="28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they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wrot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anything interestin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написали ли они что- нибудь интересное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Альтернативные вопрос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., say to smb.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ask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прашивать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+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whether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и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одлежащее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казуемое в нужном време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 “Will you play football or basketball, Andrew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: «Эндрю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ты будешь играть в футбол или баскетбол?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Andrew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hether</a:t>
            </a:r>
            <a:r>
              <a:rPr b="1" lang="en-US" sz="28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h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will play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foolball or basketbal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Эндрю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будет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и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он играть в футбол или баскетбол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8:35:30Z</dcterms:created>
  <dc:creator>Admin</dc:creator>
  <dc:description/>
  <dc:language>en-US</dc:language>
  <cp:lastModifiedBy>Admin</cp:lastModifiedBy>
  <dcterms:modified xsi:type="dcterms:W3CDTF">2012-02-08T20:14:47Z</dcterms:modified>
  <cp:revision>2</cp:revision>
  <dc:subject/>
  <dc:title>Прямая и косвенная речь</dc:title>
</cp:coreProperties>
</file>