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698DE-A17B-4850-BF10-CD934B8E02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13785-6425-4EF3-A1D2-D01F5B56DE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DE8BC-0910-4403-8013-5238EE9372E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C73FD-A4B8-4ED3-BEEA-3DAF6B3AD5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25D78-6A97-4856-948D-18352D9161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12598-BBD2-48B6-87CD-9458B5FE03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91B2A-04D9-4E8A-9243-0138A0F4F1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DFE80-845B-4CCB-B562-F0AB1B1891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D5FB8-58A3-4A03-8332-22D155BC39A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358C3-B0DC-47B4-973E-7E4BECAD5D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E927-C049-48AC-845C-AE4AB1063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DDBE-7E73-4DCB-B5C8-80481F079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BD58-18D7-4D8F-A171-22B5AD78D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9CA1-6E14-4A4E-AD59-661F7AEFF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897E-14B2-40EE-8153-DBA1C83A13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C8D8-0A3A-47F0-94A1-455E15078B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19E5-4518-474B-B5F3-5286206F8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D975-429C-4BFA-BDAD-AAB135E882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DE97-63CA-488B-A1B4-F4E540DB02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429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8EF9-4C2E-4302-977A-17A11AF656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0C4D-C0A0-4BFA-ABF4-E6B111683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3ADC-D1F0-46EC-B7EB-F51AEC24E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0960-860B-4008-ADF9-37C229D9EA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75A6-E791-4712-96B9-D2E94633D4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2589-8469-45E7-8941-76A03761F1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BB37-D3BA-486D-85A0-A84AB9F763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DF3A-225C-41CA-AEE8-6AF41BE918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458-C2B4-4D5A-A44C-70C8DAF07A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527-F0CD-4520-A9EC-FBC936E8EF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1D8-D717-4FD8-BA2A-0C796ACB5A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2E3-7536-4A58-9273-FA07C54944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5CC-092F-400F-97FE-A6F653AF2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6808-3FAE-49BD-8232-B66582B205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-6429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C63-764A-424D-BBA5-961A8F3D86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F60-657F-4D0F-A4F0-9D3A5F0E40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EA9-A6CE-4824-9F16-316F1B015A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424-B5F0-4919-906F-730919B7D1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C81-B2FB-4B1C-8E0F-64D2E7A532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EF2-DF28-4650-A1A8-BAFE9A51D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A9B-2205-44E4-9361-C34E1D785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9F58-EB6B-4D3E-8E4E-CF3318CF7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17BA-1B53-4FB5-8919-143FC3A78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429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1138-8751-407E-AA4C-079BD56D8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583A-0AFA-4026-A7D1-FCFF2AA89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D6EF-CE81-444F-A42F-F431D00C2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7DBF-0DAD-4DC4-AD63-D3A5BFE5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A97E4B-4E17-4B25-B981-FB60C464A90E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582535-1CDB-4674-857D-1833FD96673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-6429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584C9-4858-4540-BCD8-E83E83753F2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"/>
          <p:cNvGrpSpPr/>
          <p:nvPr/>
        </p:nvGrpSpPr>
        <p:grpSpPr>
          <a:xfrm>
            <a:off x="181800" y="5785200"/>
            <a:ext cx="777600" cy="970200"/>
            <a:chOff x="181800" y="5785200"/>
            <a:chExt cx="777600" cy="970200"/>
          </a:xfrm>
        </p:grpSpPr>
        <p:sp>
          <p:nvSpPr>
            <p:cNvPr id="135" name="AutoShape 2"/>
            <p:cNvSpPr/>
            <p:nvPr/>
          </p:nvSpPr>
          <p:spPr>
            <a:xfrm rot="20100000">
              <a:off x="207720" y="6330600"/>
              <a:ext cx="725040" cy="28476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36720 h 284760"/>
                <a:gd name="textAreaBottom" fmla="*/ 248040 h 2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3"/>
            <p:cNvSpPr/>
            <p:nvPr/>
          </p:nvSpPr>
          <p:spPr>
            <a:xfrm rot="600000">
              <a:off x="561600" y="5901120"/>
              <a:ext cx="45360" cy="477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532080" y="5863680"/>
              <a:ext cx="45000" cy="477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547200" y="5823720"/>
              <a:ext cx="14760" cy="52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 rot="600000">
              <a:off x="625680" y="5861880"/>
              <a:ext cx="29880" cy="52200"/>
            </a:xfrm>
            <a:prstGeom prst="ellips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3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547200" y="5888880"/>
              <a:ext cx="14760" cy="297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 rot="20820000">
              <a:off x="484920" y="5825520"/>
              <a:ext cx="45000" cy="477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>
              <a:off x="485280" y="6186600"/>
              <a:ext cx="164160" cy="322560"/>
            </a:xfrm>
            <a:custGeom>
              <a:avLst/>
              <a:gdLst>
                <a:gd name="textAreaLeft" fmla="*/ 33480 w 164160"/>
                <a:gd name="textAreaRight" fmla="*/ 130680 w 164160"/>
                <a:gd name="textAreaTop" fmla="*/ 66600 h 322560"/>
                <a:gd name="textAreaBottom" fmla="*/ 255960 h 3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 rot="20820000">
              <a:off x="422640" y="5787720"/>
              <a:ext cx="30240" cy="52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AutoShape 11"/>
            <p:cNvSpPr/>
            <p:nvPr/>
          </p:nvSpPr>
          <p:spPr>
            <a:xfrm rot="2760000">
              <a:off x="689040" y="6372000"/>
              <a:ext cx="133200" cy="324000"/>
            </a:xfrm>
            <a:prstGeom prst="parallelogram">
              <a:avLst>
                <a:gd name="adj" fmla="val 8176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 rot="19620000">
              <a:off x="777240" y="6447600"/>
              <a:ext cx="61920" cy="2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 rot="19620000">
              <a:off x="823680" y="6485400"/>
              <a:ext cx="62280" cy="2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 rot="19620000">
              <a:off x="746640" y="6537960"/>
              <a:ext cx="61920" cy="24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 rot="19620000">
              <a:off x="622440" y="6550200"/>
              <a:ext cx="61920" cy="25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 rot="19620000">
              <a:off x="699480" y="6498360"/>
              <a:ext cx="61920" cy="248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 rot="19620000">
              <a:off x="684720" y="6588000"/>
              <a:ext cx="62280" cy="25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 rot="17580000">
              <a:off x="525240" y="6383880"/>
              <a:ext cx="24840" cy="50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19"/>
            <p:cNvSpPr/>
            <p:nvPr/>
          </p:nvSpPr>
          <p:spPr>
            <a:xfrm rot="17580000">
              <a:off x="262440" y="6509880"/>
              <a:ext cx="25200" cy="7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" name="Text Box 20"/>
          <p:cNvSpPr/>
          <p:nvPr/>
        </p:nvSpPr>
        <p:spPr>
          <a:xfrm>
            <a:off x="68580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9200" indent="-257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изучить историю возникновения  куклы (на примере кукол-оберегов) и познакомиться с технологией изготовления таких куко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Group 21"/>
          <p:cNvGrpSpPr/>
          <p:nvPr/>
        </p:nvGrpSpPr>
        <p:grpSpPr>
          <a:xfrm>
            <a:off x="176040" y="30240"/>
            <a:ext cx="8515440" cy="968400"/>
            <a:chOff x="176040" y="30240"/>
            <a:chExt cx="8515440" cy="968400"/>
          </a:xfrm>
        </p:grpSpPr>
        <p:pic>
          <p:nvPicPr>
            <p:cNvPr id="155" name="Picture 22" descr=""/>
            <p:cNvPicPr/>
            <p:nvPr/>
          </p:nvPicPr>
          <p:blipFill>
            <a:blip r:embed="rId1"/>
            <a:stretch/>
          </p:blipFill>
          <p:spPr>
            <a:xfrm>
              <a:off x="176040" y="30240"/>
              <a:ext cx="8515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3"/>
            <p:cNvSpPr/>
            <p:nvPr/>
          </p:nvSpPr>
          <p:spPr>
            <a:xfrm>
              <a:off x="176040" y="30240"/>
              <a:ext cx="85154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знакомиться с историей возникновения ку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знать  какие виды кукол  изготавливались  в  стари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яснить  из  чего  их мастер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следить  с  какими  этапами жизни  человека они  были  связ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здать образцы из современных материалов, с тщательным соблюдением старинных техник и технолог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2"/>
          <p:cNvGrpSpPr/>
          <p:nvPr/>
        </p:nvGrpSpPr>
        <p:grpSpPr>
          <a:xfrm>
            <a:off x="176040" y="-165240"/>
            <a:ext cx="8515440" cy="1541520"/>
            <a:chOff x="176040" y="-165240"/>
            <a:chExt cx="8515440" cy="1541520"/>
          </a:xfrm>
        </p:grpSpPr>
        <p:pic>
          <p:nvPicPr>
            <p:cNvPr id="159" name="Picture 3" descr=""/>
            <p:cNvPicPr/>
            <p:nvPr/>
          </p:nvPicPr>
          <p:blipFill>
            <a:blip r:embed="rId1"/>
            <a:stretch/>
          </p:blipFill>
          <p:spPr>
            <a:xfrm>
              <a:off x="176040" y="-165240"/>
              <a:ext cx="851544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4"/>
            <p:cNvSpPr/>
            <p:nvPr/>
          </p:nvSpPr>
          <p:spPr>
            <a:xfrm>
              <a:off x="176040" y="-165240"/>
              <a:ext cx="851544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352600" y="-6480"/>
            <a:ext cx="5577120" cy="1535400"/>
            <a:chOff x="2352600" y="-6480"/>
            <a:chExt cx="5577120" cy="1535400"/>
          </a:xfrm>
        </p:grpSpPr>
        <p:pic>
          <p:nvPicPr>
            <p:cNvPr id="162" name="Picture 2" descr=""/>
            <p:cNvPicPr/>
            <p:nvPr/>
          </p:nvPicPr>
          <p:blipFill>
            <a:blip r:embed="rId1"/>
            <a:stretch/>
          </p:blipFill>
          <p:spPr>
            <a:xfrm>
              <a:off x="2352600" y="-6480"/>
              <a:ext cx="5577120" cy="15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"/>
            <p:cNvSpPr/>
            <p:nvPr/>
          </p:nvSpPr>
          <p:spPr>
            <a:xfrm>
              <a:off x="2352600" y="-6480"/>
              <a:ext cx="5577120" cy="15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066680" y="2133720"/>
            <a:ext cx="2208240" cy="3325680"/>
            <a:chOff x="1066680" y="2133720"/>
            <a:chExt cx="2208240" cy="3325680"/>
          </a:xfrm>
        </p:grpSpPr>
        <p:pic>
          <p:nvPicPr>
            <p:cNvPr id="165" name="Picture 5" descr=""/>
            <p:cNvPicPr/>
            <p:nvPr/>
          </p:nvPicPr>
          <p:blipFill>
            <a:blip r:embed="rId2"/>
            <a:stretch/>
          </p:blipFill>
          <p:spPr>
            <a:xfrm>
              <a:off x="1066680" y="2133720"/>
              <a:ext cx="2208240" cy="33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6"/>
            <p:cNvSpPr/>
            <p:nvPr/>
          </p:nvSpPr>
          <p:spPr>
            <a:xfrm>
              <a:off x="1066680" y="2133720"/>
              <a:ext cx="2208240" cy="33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5116680" y="2133720"/>
            <a:ext cx="2396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914400"/>
          <a:ext cx="8611920" cy="5049720"/>
        </p:xfrm>
        <a:graphic>
          <a:graphicData uri="http://schemas.openxmlformats.org/drawingml/2006/table">
            <a:tbl>
              <a:tblPr/>
              <a:tblGrid>
                <a:gridCol w="2093760"/>
                <a:gridCol w="2171880"/>
                <a:gridCol w="2174760"/>
                <a:gridCol w="2171520"/>
              </a:tblGrid>
              <a:tr h="56844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ук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ое 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ытия жизни, с которыми связана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чего изготовле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4269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-кува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 от злых сил младен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ки,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269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-пелена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 от злых сил младен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т  рождения до стар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ки,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4269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рядовая свадебная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оединяла мужчину и женщи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вадь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ы ткани, ленты, нитк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6704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Зольная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Древний символ продолжения рода, посредник между живущими на земле и царством мёртвых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Дарилась молодым на свадьб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Зола, лоскуты ткани,нит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116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Неразлучн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(«Семейное счастье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желания счастья и семейного долголе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вадь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ы ткани, веточки березы, кружева, цветные ленты и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-береги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(кукла – столбуш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ла дом и своего хозяина от несчастий и бед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Её наличие в доме отпугивало нечистую силу и злых дух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ленце из березы, лоскуты ткани, нитки, л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52480"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« десятируч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мощь женщине в домашнем хозяйств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едение хозяйства, работа в поле, уход за детьми и т.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ы ткани, цветные нитки, ленты, мелкие предметы и орудия женского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80880" y="304920"/>
          <a:ext cx="8383680" cy="601812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5560"/>
                <a:gridCol w="2095560"/>
              </a:tblGrid>
              <a:tr h="6904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ук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ое 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ытия жизни, с которыми связана кук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чего изготовле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999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Бессонниц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ет сон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904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День-ноч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, приносить благополучие в дом днем и ночь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Изготавливалась на Рожд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Темный и светлый лоскут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590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озьма и Демья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ечебные куклы, украшались трав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о время болез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ы ткани, веточки березы, лечебные тра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600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кос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мощь женщине в по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о время покоса, сбора урож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кла в простом женском наря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4484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Зернуш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ть собранный урожай зер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бор урож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Из лоскутов ткани изготавливался мешочек и заполнялся зерн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46008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епская кукол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охранять женское здоров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сле свадьбы, образ замужней женщ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Яркие лоскуты ткани, ленты, нитк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9084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Вени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охранять в семье мир и счастье, хранят в укромном мес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Если в Доме, в семье произошла ссор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ыко, солома, лоскуты ткани, ни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2232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Кубышка- трав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972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1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Следить за тем, чтобы болезнь не проникала в д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Подвешивали её над колыбелью ребёнка и там, где воздух застаивал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999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Бессонниц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Оберегает сон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f0b15"/>
                          </a:solidFill>
                          <a:latin typeface="Times New Roman"/>
                          <a:ea typeface="Times New Roman"/>
                        </a:rPr>
                        <a:t>Лоскут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450720" y="146160"/>
            <a:ext cx="8240760" cy="1230120"/>
            <a:chOff x="450720" y="146160"/>
            <a:chExt cx="8240760" cy="1230120"/>
          </a:xfrm>
        </p:grpSpPr>
        <p:pic>
          <p:nvPicPr>
            <p:cNvPr id="171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3"/>
            <p:cNvSpPr/>
            <p:nvPr/>
          </p:nvSpPr>
          <p:spPr>
            <a:xfrm>
              <a:off x="450720" y="146160"/>
              <a:ext cx="82407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3" name="Group 4"/>
          <p:cNvGrpSpPr/>
          <p:nvPr/>
        </p:nvGrpSpPr>
        <p:grpSpPr>
          <a:xfrm>
            <a:off x="990720" y="1504800"/>
            <a:ext cx="7011720" cy="4513320"/>
            <a:chOff x="990720" y="1504800"/>
            <a:chExt cx="7011720" cy="4513320"/>
          </a:xfrm>
        </p:grpSpPr>
        <p:pic>
          <p:nvPicPr>
            <p:cNvPr id="174" name="Picture 5" descr=""/>
            <p:cNvPicPr/>
            <p:nvPr/>
          </p:nvPicPr>
          <p:blipFill>
            <a:blip r:embed="rId2"/>
            <a:stretch/>
          </p:blipFill>
          <p:spPr>
            <a:xfrm>
              <a:off x="990720" y="1504800"/>
              <a:ext cx="7011720" cy="45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"/>
            <p:cNvSpPr/>
            <p:nvPr/>
          </p:nvSpPr>
          <p:spPr>
            <a:xfrm>
              <a:off x="990720" y="1504800"/>
              <a:ext cx="7011720" cy="45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450720" y="146160"/>
            <a:ext cx="8240760" cy="1230120"/>
            <a:chOff x="450720" y="146160"/>
            <a:chExt cx="8240760" cy="1230120"/>
          </a:xfrm>
        </p:grpSpPr>
        <p:pic>
          <p:nvPicPr>
            <p:cNvPr id="178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4"/>
            <p:cNvSpPr/>
            <p:nvPr/>
          </p:nvSpPr>
          <p:spPr>
            <a:xfrm>
              <a:off x="450720" y="146160"/>
              <a:ext cx="82407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2514600" y="1979640"/>
            <a:ext cx="388620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аждая куколка создаётся  с определенной цел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ы-обереги  самые разные, но одно у них  общее: у таких кукол нет лиц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у-берегиню изготавливают без иголки (и даже без ножни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а-оберег должна быть не больше 10-12 см (размером с ладош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уклу-берегиню нужно создавать с добрыми мыслями и любов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2"/>
          <p:cNvGrpSpPr/>
          <p:nvPr/>
        </p:nvGrpSpPr>
        <p:grpSpPr>
          <a:xfrm>
            <a:off x="450720" y="23760"/>
            <a:ext cx="8240760" cy="1352520"/>
            <a:chOff x="450720" y="23760"/>
            <a:chExt cx="8240760" cy="1352520"/>
          </a:xfrm>
        </p:grpSpPr>
        <p:pic>
          <p:nvPicPr>
            <p:cNvPr id="18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3760"/>
              <a:ext cx="8240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4"/>
            <p:cNvSpPr/>
            <p:nvPr/>
          </p:nvSpPr>
          <p:spPr>
            <a:xfrm>
              <a:off x="450720" y="23760"/>
              <a:ext cx="82407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"/>
          <p:cNvGrpSpPr/>
          <p:nvPr/>
        </p:nvGrpSpPr>
        <p:grpSpPr>
          <a:xfrm>
            <a:off x="219240" y="66600"/>
            <a:ext cx="8472240" cy="852480"/>
            <a:chOff x="219240" y="66600"/>
            <a:chExt cx="8472240" cy="852480"/>
          </a:xfrm>
        </p:grpSpPr>
        <p:pic>
          <p:nvPicPr>
            <p:cNvPr id="186" name="Picture 2" descr=""/>
            <p:cNvPicPr/>
            <p:nvPr/>
          </p:nvPicPr>
          <p:blipFill>
            <a:blip r:embed="rId1"/>
            <a:stretch/>
          </p:blipFill>
          <p:spPr>
            <a:xfrm>
              <a:off x="219240" y="66600"/>
              <a:ext cx="84722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3"/>
            <p:cNvSpPr/>
            <p:nvPr/>
          </p:nvSpPr>
          <p:spPr>
            <a:xfrm>
              <a:off x="219240" y="66600"/>
              <a:ext cx="847224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1243080" y="1784520"/>
            <a:ext cx="1952640" cy="1447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5651640" y="1773360"/>
            <a:ext cx="1523880" cy="158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2050920" y="4210200"/>
            <a:ext cx="1600200" cy="209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5"/>
          <a:stretch/>
        </p:blipFill>
        <p:spPr>
          <a:xfrm>
            <a:off x="5219640" y="4365720"/>
            <a:ext cx="16048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7-02-20T02:53:1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