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CB15C-E5D3-4C42-AFB8-62FD002909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10F98-1CA1-43F6-AEBB-F7DB95D950F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8B3CE-70BE-4865-92CD-90B75392A87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BC90-62CA-4C57-85BE-74DFDDD6E03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096F5-57D8-4367-8531-A13B9F0AF9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1D41-BEC6-4175-9BC3-54E2A8790D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87A17-1F4C-4622-9460-147009BBE79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94680-14C8-4DF0-8E11-B1D81E9F43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5A7C1-7ED0-4FC2-AE2D-AA09820A924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39F65-50E9-4CAE-B25E-65E1D90D6AE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9982-D0DB-44A9-A7DA-F3D8E279A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455B-BECF-48D4-AE6C-072C4DA68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20BA-6A5D-4F60-A4D0-98F178EE5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597C-7AEE-477F-B8E0-357B358FE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297A-06E3-468A-9188-5FEF0892B1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FE92-D360-4018-9BC8-8A61DB68D0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535A-BD7B-4CDB-957D-11A2D38E49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C241-8163-4B41-A4E7-B8BE031CF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D27A-1A7A-4B5E-89EF-671F416B93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429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32D8-38C9-47E4-A73B-391E81B89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1FFD-D445-4A12-9848-91D28305C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7E1B-FE55-413E-9069-445814547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8D0E-6392-4CD6-AA31-40BF4A9497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A0FF-65C2-4399-8634-682E1477B4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887C-645E-44C4-850C-2332B3AF32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5F29-13C7-4753-8B8F-AB050ABE91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18DB-D2E0-4AD1-B509-988F71531D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66B-4F57-45B1-9ECB-443D10ADB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563-F6B0-4409-BC9B-4FF533094C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B83-D8C5-4C89-8B80-A053C3AFE1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2FE-F9E6-45CC-B3A8-A44A280FF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BAE-2E4A-4EEB-A3E4-E7B5BA567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E23D-B54C-41C8-ADBD-474BD92C83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-6429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2AE-CE7B-438C-842D-EB4B779F0A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13B-994D-4E31-96E9-538AF83C7B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D5F-7CCB-4967-AD9B-9D382C10EC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A39-CBE3-4219-9820-0E2E945F7F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6A1-419F-4C5D-9C5F-EED4BDD3E8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0C5-3A3C-4204-9CC8-7808662E2D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B6E-D002-46E9-8260-E0022CE1A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2A5C-3C6F-47CF-9F83-95D91600A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F078-2423-43FB-AD22-DB2CD69DF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429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934C-CD1D-4494-A50D-2BD45522B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C3C1-A8E9-4ED5-8442-33392E23C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CD32-9408-4E77-ACF9-7621C8663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6B63-0F90-4C24-9894-CF1B00B72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304F5C-A5F8-4FBE-916B-4752B58C5CB4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48F8D2-761B-43C3-8155-AAF137CB0B5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A8C5E5-9C1B-43EF-8B1F-D10825E72E8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"/>
          <p:cNvGrpSpPr/>
          <p:nvPr/>
        </p:nvGrpSpPr>
        <p:grpSpPr>
          <a:xfrm>
            <a:off x="181800" y="5785200"/>
            <a:ext cx="777600" cy="970200"/>
            <a:chOff x="181800" y="5785200"/>
            <a:chExt cx="777600" cy="970200"/>
          </a:xfrm>
        </p:grpSpPr>
        <p:sp>
          <p:nvSpPr>
            <p:cNvPr id="135" name="AutoShape 2"/>
            <p:cNvSpPr/>
            <p:nvPr/>
          </p:nvSpPr>
          <p:spPr>
            <a:xfrm rot="20100000">
              <a:off x="207720" y="6330600"/>
              <a:ext cx="725040" cy="28476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36720 h 284760"/>
                <a:gd name="textAreaBottom" fmla="*/ 248040 h 2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3"/>
            <p:cNvSpPr/>
            <p:nvPr/>
          </p:nvSpPr>
          <p:spPr>
            <a:xfrm rot="600000">
              <a:off x="561600" y="5901120"/>
              <a:ext cx="45360" cy="477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532080" y="5863680"/>
              <a:ext cx="45000" cy="477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547200" y="5823720"/>
              <a:ext cx="1476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 rot="600000">
              <a:off x="625680" y="5861880"/>
              <a:ext cx="29880" cy="52200"/>
            </a:xfrm>
            <a:prstGeom prst="ellips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3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547200" y="5888880"/>
              <a:ext cx="14760" cy="297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 rot="20820000">
              <a:off x="484920" y="5825520"/>
              <a:ext cx="45000" cy="477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>
              <a:off x="485280" y="6186600"/>
              <a:ext cx="164160" cy="322560"/>
            </a:xfrm>
            <a:custGeom>
              <a:avLst/>
              <a:gdLst>
                <a:gd name="textAreaLeft" fmla="*/ 33480 w 164160"/>
                <a:gd name="textAreaRight" fmla="*/ 130680 w 164160"/>
                <a:gd name="textAreaTop" fmla="*/ 66600 h 322560"/>
                <a:gd name="textAreaBottom" fmla="*/ 255960 h 3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 rot="20820000">
              <a:off x="422640" y="5787720"/>
              <a:ext cx="30240" cy="52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AutoShape 11"/>
            <p:cNvSpPr/>
            <p:nvPr/>
          </p:nvSpPr>
          <p:spPr>
            <a:xfrm rot="2760000">
              <a:off x="689040" y="6372000"/>
              <a:ext cx="133200" cy="324000"/>
            </a:xfrm>
            <a:prstGeom prst="parallelogram">
              <a:avLst>
                <a:gd name="adj" fmla="val 8176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 rot="19620000">
              <a:off x="777240" y="6447600"/>
              <a:ext cx="61920" cy="2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 rot="19620000">
              <a:off x="823680" y="6485400"/>
              <a:ext cx="62280" cy="2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 rot="19620000">
              <a:off x="746640" y="6537960"/>
              <a:ext cx="61920" cy="24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 rot="19620000">
              <a:off x="622440" y="6550200"/>
              <a:ext cx="61920" cy="25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 rot="19620000">
              <a:off x="699480" y="6498360"/>
              <a:ext cx="61920" cy="24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 rot="19620000">
              <a:off x="684720" y="6588000"/>
              <a:ext cx="62280" cy="2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 rot="17580000">
              <a:off x="525240" y="6383880"/>
              <a:ext cx="24840" cy="50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19"/>
            <p:cNvSpPr/>
            <p:nvPr/>
          </p:nvSpPr>
          <p:spPr>
            <a:xfrm rot="17580000">
              <a:off x="262440" y="6509880"/>
              <a:ext cx="25200" cy="7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" name="Text Box 20"/>
          <p:cNvSpPr/>
          <p:nvPr/>
        </p:nvSpPr>
        <p:spPr>
          <a:xfrm>
            <a:off x="68580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9200" indent="-257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зучить историю возникновения  куклы (на примере кукол-оберегов) и познакомиться с технологией изготовления таких куко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Group 21"/>
          <p:cNvGrpSpPr/>
          <p:nvPr/>
        </p:nvGrpSpPr>
        <p:grpSpPr>
          <a:xfrm>
            <a:off x="176040" y="30240"/>
            <a:ext cx="8515440" cy="968400"/>
            <a:chOff x="176040" y="30240"/>
            <a:chExt cx="8515440" cy="968400"/>
          </a:xfrm>
        </p:grpSpPr>
        <p:pic>
          <p:nvPicPr>
            <p:cNvPr id="155" name="Picture 22" descr=""/>
            <p:cNvPicPr/>
            <p:nvPr/>
          </p:nvPicPr>
          <p:blipFill>
            <a:blip r:embed="rId1"/>
            <a:stretch/>
          </p:blipFill>
          <p:spPr>
            <a:xfrm>
              <a:off x="176040" y="30240"/>
              <a:ext cx="8515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3"/>
            <p:cNvSpPr/>
            <p:nvPr/>
          </p:nvSpPr>
          <p:spPr>
            <a:xfrm>
              <a:off x="176040" y="30240"/>
              <a:ext cx="85154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знакомиться с историей возникновения ку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знать  какие виды кукол  изготавливались  в  стари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яснить  из  чего  их мастер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следить  с  какими  этапами жизни  человека они  были  связ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здать образцы из современных материалов, с тщательным соблюдением старинных техник и технолог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2"/>
          <p:cNvGrpSpPr/>
          <p:nvPr/>
        </p:nvGrpSpPr>
        <p:grpSpPr>
          <a:xfrm>
            <a:off x="176040" y="-165240"/>
            <a:ext cx="8515440" cy="1541520"/>
            <a:chOff x="176040" y="-165240"/>
            <a:chExt cx="8515440" cy="1541520"/>
          </a:xfrm>
        </p:grpSpPr>
        <p:pic>
          <p:nvPicPr>
            <p:cNvPr id="159" name="Picture 3" descr=""/>
            <p:cNvPicPr/>
            <p:nvPr/>
          </p:nvPicPr>
          <p:blipFill>
            <a:blip r:embed="rId1"/>
            <a:stretch/>
          </p:blipFill>
          <p:spPr>
            <a:xfrm>
              <a:off x="176040" y="-165240"/>
              <a:ext cx="851544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4"/>
            <p:cNvSpPr/>
            <p:nvPr/>
          </p:nvSpPr>
          <p:spPr>
            <a:xfrm>
              <a:off x="176040" y="-165240"/>
              <a:ext cx="851544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352600" y="-6480"/>
            <a:ext cx="5577120" cy="1535400"/>
            <a:chOff x="2352600" y="-6480"/>
            <a:chExt cx="5577120" cy="1535400"/>
          </a:xfrm>
        </p:grpSpPr>
        <p:pic>
          <p:nvPicPr>
            <p:cNvPr id="162" name="Picture 2" descr=""/>
            <p:cNvPicPr/>
            <p:nvPr/>
          </p:nvPicPr>
          <p:blipFill>
            <a:blip r:embed="rId1"/>
            <a:stretch/>
          </p:blipFill>
          <p:spPr>
            <a:xfrm>
              <a:off x="2352600" y="-6480"/>
              <a:ext cx="5577120" cy="15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"/>
            <p:cNvSpPr/>
            <p:nvPr/>
          </p:nvSpPr>
          <p:spPr>
            <a:xfrm>
              <a:off x="2352600" y="-6480"/>
              <a:ext cx="5577120" cy="15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066680" y="2133720"/>
            <a:ext cx="2208240" cy="3325680"/>
            <a:chOff x="1066680" y="2133720"/>
            <a:chExt cx="2208240" cy="3325680"/>
          </a:xfrm>
        </p:grpSpPr>
        <p:pic>
          <p:nvPicPr>
            <p:cNvPr id="165" name="Picture 5" descr=""/>
            <p:cNvPicPr/>
            <p:nvPr/>
          </p:nvPicPr>
          <p:blipFill>
            <a:blip r:embed="rId2"/>
            <a:stretch/>
          </p:blipFill>
          <p:spPr>
            <a:xfrm>
              <a:off x="1066680" y="2133720"/>
              <a:ext cx="2208240" cy="33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6"/>
            <p:cNvSpPr/>
            <p:nvPr/>
          </p:nvSpPr>
          <p:spPr>
            <a:xfrm>
              <a:off x="1066680" y="2133720"/>
              <a:ext cx="2208240" cy="33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5116680" y="2133720"/>
            <a:ext cx="2396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914400"/>
          <a:ext cx="8611920" cy="5049720"/>
        </p:xfrm>
        <a:graphic>
          <a:graphicData uri="http://schemas.openxmlformats.org/drawingml/2006/table">
            <a:tbl>
              <a:tblPr/>
              <a:tblGrid>
                <a:gridCol w="2093760"/>
                <a:gridCol w="2171880"/>
                <a:gridCol w="2174760"/>
                <a:gridCol w="2171520"/>
              </a:tblGrid>
              <a:tr h="56844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ук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ое 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ытия жизни, с которыми связана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чего изготовле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4269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-кува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 от злых сил младен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ки,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269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-пелена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 от злых сил младен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т  рождения до стар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ки,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4269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рядовая свадебная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оединяла мужчину и женщи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вадь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ы ткани, ленты, нитк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6704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Зольная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Древний символ продолжения рода, посредник между живущими на земле и царством мёртвых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Дарилась молодым на свадьб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Зола, лоскуты ткани,нит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11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Неразлучн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(«Семейное счастье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желания счастья и семейного долголе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вадь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ы ткани, веточки березы, кружева, цветные ленты и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-береги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(кукла – столбуш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ла дом и своего хозяина от несчастий и бед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Её наличие в доме отпугивало нечистую силу и злых дух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ленце из березы, лоскуты ткани, нитки, л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5248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« десятируч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мощь женщине в домашнем хозяйств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едение хозяйства, работа в поле, уход за детьми и т.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ы ткани, цветные нитки, ленты, мелкие предметы и орудия женского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80880" y="304920"/>
          <a:ext cx="8383680" cy="601812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5560"/>
                <a:gridCol w="2095560"/>
              </a:tblGrid>
              <a:tr h="6904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ук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ое 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ытия жизни, с которыми связана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чего изготовле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999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Бессонниц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ет сон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904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День-ноч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, приносить благополучие в дом днем и ночь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Изготавливалась на Рожд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Темный и светлый лоскут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590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озьма и Демья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ечебные куклы, украшались трав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о время болез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ы ткани, веточки березы, лечебные тра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600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кос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мощь женщине в по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о время покоса, сбора урож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 в простом женском наря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4484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Зернуш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 собранный урожай зер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бор урож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Из лоскутов ткани изготавливался мешочек и заполнялся зерн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600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епская кукол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охранять женское здоров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сле свадьбы, образ замужней женщ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ы ткани, ленты, нитк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9084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ени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охранять в семье мир и счастье, хранят в укромном мес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Если в Доме, в семье произошла ссор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ыко, солома, лоскуты ткани,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2232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бышка- трав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1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ледить за тем, чтобы болезнь не проникала в д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двешивали её над колыбелью ребёнка и там, где воздух застаивал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999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Бессонниц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ет сон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450720" y="146160"/>
            <a:ext cx="8240760" cy="1230120"/>
            <a:chOff x="450720" y="146160"/>
            <a:chExt cx="8240760" cy="1230120"/>
          </a:xfrm>
        </p:grpSpPr>
        <p:pic>
          <p:nvPicPr>
            <p:cNvPr id="171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3"/>
            <p:cNvSpPr/>
            <p:nvPr/>
          </p:nvSpPr>
          <p:spPr>
            <a:xfrm>
              <a:off x="450720" y="146160"/>
              <a:ext cx="82407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3" name="Group 4"/>
          <p:cNvGrpSpPr/>
          <p:nvPr/>
        </p:nvGrpSpPr>
        <p:grpSpPr>
          <a:xfrm>
            <a:off x="990720" y="1504800"/>
            <a:ext cx="7011720" cy="4513320"/>
            <a:chOff x="990720" y="1504800"/>
            <a:chExt cx="7011720" cy="4513320"/>
          </a:xfrm>
        </p:grpSpPr>
        <p:pic>
          <p:nvPicPr>
            <p:cNvPr id="174" name="Picture 5" descr=""/>
            <p:cNvPicPr/>
            <p:nvPr/>
          </p:nvPicPr>
          <p:blipFill>
            <a:blip r:embed="rId2"/>
            <a:stretch/>
          </p:blipFill>
          <p:spPr>
            <a:xfrm>
              <a:off x="990720" y="1504800"/>
              <a:ext cx="7011720" cy="45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"/>
            <p:cNvSpPr/>
            <p:nvPr/>
          </p:nvSpPr>
          <p:spPr>
            <a:xfrm>
              <a:off x="990720" y="1504800"/>
              <a:ext cx="7011720" cy="45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450720" y="146160"/>
            <a:ext cx="8240760" cy="1230120"/>
            <a:chOff x="450720" y="146160"/>
            <a:chExt cx="8240760" cy="1230120"/>
          </a:xfrm>
        </p:grpSpPr>
        <p:pic>
          <p:nvPicPr>
            <p:cNvPr id="178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4"/>
            <p:cNvSpPr/>
            <p:nvPr/>
          </p:nvSpPr>
          <p:spPr>
            <a:xfrm>
              <a:off x="450720" y="146160"/>
              <a:ext cx="82407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2514600" y="1979640"/>
            <a:ext cx="388620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ждая куколка создаётся  с определенной цел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ы-обереги  самые разные, но одно у них  общее: у таких кукол нет лиц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у-берегиню изготавливают без иголки (и даже без ножни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а-оберег должна быть не больше 10-12 см (размером с ладош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у-берегиню нужно создавать с добрыми мыслями и любов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2"/>
          <p:cNvGrpSpPr/>
          <p:nvPr/>
        </p:nvGrpSpPr>
        <p:grpSpPr>
          <a:xfrm>
            <a:off x="450720" y="23760"/>
            <a:ext cx="8240760" cy="1352520"/>
            <a:chOff x="450720" y="23760"/>
            <a:chExt cx="8240760" cy="1352520"/>
          </a:xfrm>
        </p:grpSpPr>
        <p:pic>
          <p:nvPicPr>
            <p:cNvPr id="18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3760"/>
              <a:ext cx="8240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4"/>
            <p:cNvSpPr/>
            <p:nvPr/>
          </p:nvSpPr>
          <p:spPr>
            <a:xfrm>
              <a:off x="450720" y="23760"/>
              <a:ext cx="82407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"/>
          <p:cNvGrpSpPr/>
          <p:nvPr/>
        </p:nvGrpSpPr>
        <p:grpSpPr>
          <a:xfrm>
            <a:off x="219240" y="66600"/>
            <a:ext cx="8472240" cy="852480"/>
            <a:chOff x="219240" y="66600"/>
            <a:chExt cx="8472240" cy="852480"/>
          </a:xfrm>
        </p:grpSpPr>
        <p:pic>
          <p:nvPicPr>
            <p:cNvPr id="186" name="Picture 2" descr=""/>
            <p:cNvPicPr/>
            <p:nvPr/>
          </p:nvPicPr>
          <p:blipFill>
            <a:blip r:embed="rId1"/>
            <a:stretch/>
          </p:blipFill>
          <p:spPr>
            <a:xfrm>
              <a:off x="219240" y="66600"/>
              <a:ext cx="84722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"/>
            <p:cNvSpPr/>
            <p:nvPr/>
          </p:nvSpPr>
          <p:spPr>
            <a:xfrm>
              <a:off x="219240" y="66600"/>
              <a:ext cx="84722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1243080" y="1784520"/>
            <a:ext cx="1952640" cy="1447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5651640" y="1773360"/>
            <a:ext cx="1523880" cy="158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2050920" y="4210200"/>
            <a:ext cx="1600200" cy="209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5"/>
          <a:stretch/>
        </p:blipFill>
        <p:spPr>
          <a:xfrm>
            <a:off x="5219640" y="4365720"/>
            <a:ext cx="1604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7-02-20T02:53:1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