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5.png" ContentType="image/png"/>
  <Override PartName="/ppt/media/image12.gif" ContentType="image/gif"/>
  <Override PartName="/ppt/media/image30.jpeg" ContentType="image/jpeg"/>
  <Override PartName="/ppt/media/image32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7.png" ContentType="image/png"/>
  <Override PartName="/ppt/media/image16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C94-8092-45F2-ABC9-0EB80D99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95A-E2C2-4635-8FFA-DDAFA5BD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9AF-31DA-4C34-9A6D-295C59F8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43B-3B4D-4A6A-94FB-1647CA4D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94A-9DAE-4F31-B527-CD6FDF1F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6E9-2560-4AC0-8848-5E0ED6CF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2F1-D4D9-4A33-A266-F0F2ABC9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B73-D888-4DAB-B070-CE20F85D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1E9-40E9-4992-80B6-EF797D83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8B9-55F0-4AD1-B420-C20ED8B2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17B-33C5-4C0F-B9D6-193F937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EF3-8ADA-4071-833E-52D05C1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3AF-5590-4E16-8044-CA6E61985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1/sin264.5/0_1302d_674b5ebb_XL" TargetMode="External"/><Relationship Id="rId2" Type="http://schemas.openxmlformats.org/officeDocument/2006/relationships/hyperlink" Target="http://my-strongdc.ru/wp-content/uploads/2010/08/p2p.jpg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reatweb.co.uk/images/greatweb_network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1000080" y="1285920"/>
            <a:ext cx="7020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ЛОКАЛЬНЫЕ  И  ГЛОБАЛЬНЫЕ  КОМПЬЮТЕРНЫЕ СЕ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1785960" y="378612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40006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16C7-8758-4E76-A0AE-D4E9438DA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4"/>
          <p:cNvSpPr/>
          <p:nvPr/>
        </p:nvSpPr>
        <p:spPr>
          <a:xfrm>
            <a:off x="1143000" y="6356520"/>
            <a:ext cx="6715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a6a6a6"/>
                </a:solidFill>
                <a:latin typeface="Calibri"/>
              </a:rPr>
              <a:t>Автор: учитель информатики и ИКТ  Полторак В.В. гДзерж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1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1447920" cy="676080"/>
          </a:xfrm>
          <a:prstGeom prst="rect">
            <a:avLst/>
          </a:prstGeom>
          <a:ln w="0">
            <a:noFill/>
          </a:ln>
        </p:spPr>
      </p:pic>
      <p:sp>
        <p:nvSpPr>
          <p:cNvPr id="124" name="Line 44"/>
          <p:cNvSpPr/>
          <p:nvPr/>
        </p:nvSpPr>
        <p:spPr>
          <a:xfrm>
            <a:off x="7162920" y="973080"/>
            <a:ext cx="31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1280" y="4653000"/>
            <a:ext cx="8208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более мощный компьютер; на нем хранится основная часть программного обеспечения и данных, которыми могут воспользоваться все другие компьютеры  сети - клиент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1728720" cy="12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1873080" cy="136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4"/>
          <a:stretch/>
        </p:blipFill>
        <p:spPr>
          <a:xfrm>
            <a:off x="6588000" y="2924280"/>
            <a:ext cx="1873440" cy="136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5"/>
          <a:stretch/>
        </p:blipFill>
        <p:spPr>
          <a:xfrm>
            <a:off x="6732720" y="1557360"/>
            <a:ext cx="1800000" cy="1311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ttp://www.ruben.ru/lj/2009.03.18/mediasmart.jpg"/>
          <p:cNvPicPr/>
          <p:nvPr/>
        </p:nvPicPr>
        <p:blipFill>
          <a:blip r:embed="rId6"/>
          <a:stretch/>
        </p:blipFill>
        <p:spPr>
          <a:xfrm>
            <a:off x="1979640" y="836640"/>
            <a:ext cx="83664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7"/>
          <a:stretch/>
        </p:blipFill>
        <p:spPr>
          <a:xfrm>
            <a:off x="900000" y="3213000"/>
            <a:ext cx="1079640" cy="695520"/>
          </a:xfrm>
          <a:prstGeom prst="rect">
            <a:avLst/>
          </a:prstGeom>
          <a:ln w="0">
            <a:noFill/>
          </a:ln>
        </p:spPr>
      </p:pic>
      <p:sp>
        <p:nvSpPr>
          <p:cNvPr id="133" name="Line 13"/>
          <p:cNvSpPr/>
          <p:nvPr/>
        </p:nvSpPr>
        <p:spPr>
          <a:xfrm flipH="1">
            <a:off x="1402920" y="2060640"/>
            <a:ext cx="865080" cy="10810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3995280" y="2060640"/>
            <a:ext cx="360360" cy="1008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4500720" y="1989000"/>
            <a:ext cx="934920" cy="1368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4643280" y="1989000"/>
            <a:ext cx="2953080" cy="1224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H="1" flipV="1">
            <a:off x="4787640" y="1988640"/>
            <a:ext cx="208908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84360" y="3933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т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9528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рве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6012000" y="27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2771640" y="1773000"/>
            <a:ext cx="1368720" cy="21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419640" y="76500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центратор 3Com Office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2A26-8B0B-40F0-8ECD-C84354F95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42960" y="1643040"/>
            <a:ext cx="439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компьютер в сети должен иметь сетевой адаптер для передачи и приёма сигналов, распространяемых по канала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4240" y="4214880"/>
            <a:ext cx="810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ение компьютеров (их сетевых плат) в локальную сеть осуществляется с помощью различных типов кабелей (витая пара, оптическое волокно) или по  беспроводным каналам (типа Wi-F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http://www.3dnews.ru/documents/2799/lancard.jpg"/>
          <p:cNvPicPr/>
          <p:nvPr/>
        </p:nvPicPr>
        <p:blipFill>
          <a:blip r:embed="rId1"/>
          <a:stretch/>
        </p:blipFill>
        <p:spPr>
          <a:xfrm rot="610200">
            <a:off x="5416200" y="1292040"/>
            <a:ext cx="2727360" cy="2530440"/>
          </a:xfrm>
          <a:prstGeom prst="rect">
            <a:avLst/>
          </a:prstGeom>
          <a:ln w="0">
            <a:noFill/>
          </a:ln>
        </p:spPr>
      </p:pic>
      <p:sp>
        <p:nvSpPr>
          <p:cNvPr id="1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4867-B41E-4AB6-A797-E5C6B4DB9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4"/>
          <p:cNvSpPr/>
          <p:nvPr/>
        </p:nvSpPr>
        <p:spPr>
          <a:xfrm>
            <a:off x="857160" y="4076640"/>
            <a:ext cx="7715520" cy="24955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4500720" y="3586320"/>
            <a:ext cx="360360" cy="502920"/>
          </a:xfrm>
          <a:prstGeom prst="downArrow">
            <a:avLst>
              <a:gd name="adj1" fmla="val 50000"/>
              <a:gd name="adj2" fmla="val 3489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лоб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1042920" y="2060640"/>
            <a:ext cx="7346880" cy="1512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об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воляет организовать информационное общ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абонентами на больших расстоя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 масштабах всей план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1044720" y="4221000"/>
            <a:ext cx="288108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диня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ы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елах регио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а, обла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я,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5510160" y="4221000"/>
            <a:ext cx="288144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рпора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ва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 (филиал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ельств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234144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673272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58920" y="620640"/>
            <a:ext cx="84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обальная компьютерная сеть  - это система связанных между собой компьютеров, расположенных на большом удалении друг от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96B5-B95D-4D04-9693-AC590A546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28760" y="857160"/>
            <a:ext cx="828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 объединяет многочисленные локальные, региональные и корпоративные сети, а также компьютеры отдельных пользователей, распределённые по всему ми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28760" y="2000160"/>
            <a:ext cx="831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ой сети Интернет являются компьютерные узлы и каналы связи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зел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мощный компьютер, постоянно подключённый к се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9" descr="http://www.lookinfo.org/uploads/posts/1190733496_20070312101944615_1.png"/>
          <p:cNvPicPr/>
          <p:nvPr/>
        </p:nvPicPr>
        <p:blipFill>
          <a:blip r:embed="rId1"/>
          <a:stretch/>
        </p:blipFill>
        <p:spPr>
          <a:xfrm>
            <a:off x="3000240" y="3286080"/>
            <a:ext cx="3581640" cy="3086280"/>
          </a:xfrm>
          <a:prstGeom prst="rect">
            <a:avLst/>
          </a:prstGeom>
          <a:ln w="0">
            <a:noFill/>
          </a:ln>
        </p:spPr>
      </p:pic>
      <p:sp>
        <p:nvSpPr>
          <p:cNvPr id="1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B924-49CB-4641-AEE1-3496B279B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4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248360" cy="3629160"/>
          </a:xfrm>
          <a:prstGeom prst="rect">
            <a:avLst/>
          </a:prstGeom>
          <a:ln w="0">
            <a:noFill/>
          </a:ln>
        </p:spPr>
      </p:pic>
      <p:sp>
        <p:nvSpPr>
          <p:cNvPr id="16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403280" y="907920"/>
            <a:ext cx="6840720" cy="576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зические каналы для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971640" y="177336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иче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971640" y="3716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освяз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971640" y="4724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ракрас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у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971640" y="2781360"/>
            <a:ext cx="244296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971640" y="5734080"/>
            <a:ext cx="245088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ефо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2" descr="http://upload.wikimedia.org/wikipedia/commons/c/cb/UTP_cable.jpg"/>
          <p:cNvPicPr/>
          <p:nvPr/>
        </p:nvPicPr>
        <p:blipFill>
          <a:blip r:embed="rId2"/>
          <a:stretch/>
        </p:blipFill>
        <p:spPr>
          <a:xfrm rot="14647200">
            <a:off x="5454360" y="2618640"/>
            <a:ext cx="2909880" cy="2370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2563560" cy="338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http://www.mobile-review.com/pda/review/image/acsessories/keyboards/luch2.jpg"/>
          <p:cNvPicPr/>
          <p:nvPr/>
        </p:nvPicPr>
        <p:blipFill>
          <a:blip r:embed="rId4"/>
          <a:stretch/>
        </p:blipFill>
        <p:spPr>
          <a:xfrm>
            <a:off x="3995640" y="1916280"/>
            <a:ext cx="4464000" cy="3716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http://www.telecomfamily.com/wp-content/uploads/2010/07/wireless-telecommunications1.jpg"/>
          <p:cNvPicPr/>
          <p:nvPr/>
        </p:nvPicPr>
        <p:blipFill>
          <a:blip r:embed="rId5"/>
          <a:stretch/>
        </p:blipFill>
        <p:spPr>
          <a:xfrm>
            <a:off x="3780000" y="1916280"/>
            <a:ext cx="4895640" cy="360180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147B-6764-4658-B1FA-34320B511F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68360" y="92880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узлам компьютерной сети подключ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бонен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ерсональные компьютеры пользователей или локальные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, предоставляющая пользователям связь с Интернет через свои компьютеры,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вайдер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provider - поставщик) сетевых услу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11280" y="3284640"/>
            <a:ext cx="8133840" cy="2415600"/>
            <a:chOff x="611280" y="3284640"/>
            <a:chExt cx="8133840" cy="2415600"/>
          </a:xfrm>
        </p:grpSpPr>
        <p:pic>
          <p:nvPicPr>
            <p:cNvPr id="185" name="Picture 7" descr=""/>
            <p:cNvPicPr/>
            <p:nvPr/>
          </p:nvPicPr>
          <p:blipFill>
            <a:blip r:embed="rId1"/>
            <a:stretch/>
          </p:blipFill>
          <p:spPr>
            <a:xfrm>
              <a:off x="682560" y="3789000"/>
              <a:ext cx="1190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"/>
            <p:cNvPicPr/>
            <p:nvPr/>
          </p:nvPicPr>
          <p:blipFill>
            <a:blip r:embed="rId2"/>
            <a:stretch/>
          </p:blipFill>
          <p:spPr>
            <a:xfrm>
              <a:off x="2987640" y="3860640"/>
              <a:ext cx="106632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"/>
            <p:cNvPicPr/>
            <p:nvPr/>
          </p:nvPicPr>
          <p:blipFill>
            <a:blip r:embed="rId3"/>
            <a:stretch/>
          </p:blipFill>
          <p:spPr>
            <a:xfrm>
              <a:off x="5148000" y="3284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"/>
            <p:cNvPicPr/>
            <p:nvPr/>
          </p:nvPicPr>
          <p:blipFill>
            <a:blip r:embed="rId4"/>
            <a:stretch/>
          </p:blipFill>
          <p:spPr>
            <a:xfrm>
              <a:off x="5074920" y="4652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"/>
            <p:cNvPicPr/>
            <p:nvPr/>
          </p:nvPicPr>
          <p:blipFill>
            <a:blip r:embed="rId5"/>
            <a:stretch/>
          </p:blipFill>
          <p:spPr>
            <a:xfrm>
              <a:off x="7307280" y="3860640"/>
              <a:ext cx="1437840" cy="10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2"/>
            <p:cNvSpPr/>
            <p:nvPr/>
          </p:nvSpPr>
          <p:spPr>
            <a:xfrm>
              <a:off x="611280" y="4939920"/>
              <a:ext cx="136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Интер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269856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Провайд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3092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Абонен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63640" y="4292280"/>
              <a:ext cx="122364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 flipV="1">
              <a:off x="4066920" y="3788640"/>
              <a:ext cx="1223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>
              <a:off x="4066920" y="4437000"/>
              <a:ext cx="33127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4066920" y="4652640"/>
              <a:ext cx="1007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1A4D-7711-49CB-90BB-1113A8290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ADS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28760" y="857160"/>
            <a:ext cx="8424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овышения скорости передачи данных по телефонным линиям разработана техология ADSL (Asymmetric Digital Subscriber Line - асимметричная цифровая абонентская лин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правило, пользователь загружает из Интернета на свой компьютер большой объём информации, а в обратном направлении передаёт значительно меньший объём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ое оборудование, подключаемое к телефонной линии, обеспечивает достаточно высокую входящую и более низкую исходящую скорость передачи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http://kunegin.narod.ru/ref2/wireless/images/acc_05.gif"/>
          <p:cNvPicPr/>
          <p:nvPr/>
        </p:nvPicPr>
        <p:blipFill>
          <a:blip r:embed="rId1"/>
          <a:stretch/>
        </p:blipFill>
        <p:spPr>
          <a:xfrm>
            <a:off x="6786720" y="5000760"/>
            <a:ext cx="2286000" cy="1743120"/>
          </a:xfrm>
          <a:prstGeom prst="rect">
            <a:avLst/>
          </a:prstGeom>
          <a:ln w="0">
            <a:noFill/>
          </a:ln>
        </p:spPr>
      </p:pic>
      <p:sp>
        <p:nvSpPr>
          <p:cNvPr id="2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F6D8-812D-4F4E-AD25-CEB0BA2CB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2"/>
          <p:cNvSpPr/>
          <p:nvPr/>
        </p:nvSpPr>
        <p:spPr>
          <a:xfrm>
            <a:off x="539640" y="18900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яем время передачи дан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28760" y="15001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корость передачи данных через ADSL-соединение равна 128 000 бит/c. Какое количество времени (в секундах) потребуется для передачи через это соединение файла размером 625 Кбай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68360" y="350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68360" y="3933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25 Кбай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128 00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т/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68360" y="47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 flipH="1">
            <a:off x="39528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916360" y="39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I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414036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4211640" y="3933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25 Кбайт = 625*1024*8 битов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ит/с=128*1000бит/с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125 бит/с=1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6"/>
              <p:cNvSpPr txBox="1"/>
              <p:nvPr/>
            </p:nvSpPr>
            <p:spPr>
              <a:xfrm>
                <a:off x="611280" y="5516640"/>
                <a:ext cx="3960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бит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 Box 17"/>
          <p:cNvSpPr/>
          <p:nvPr/>
        </p:nvSpPr>
        <p:spPr>
          <a:xfrm>
            <a:off x="5435640" y="6093000"/>
            <a:ext cx="273672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0 секу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D4D0-688F-4688-BF99-0A14EE1A3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4"/>
          <p:cNvSpPr/>
          <p:nvPr/>
        </p:nvSpPr>
        <p:spPr>
          <a:xfrm>
            <a:off x="324000" y="981000"/>
            <a:ext cx="856908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два и более компьютеров, соединённых линиями передачи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Лок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бъединяет компьютеры, установленные в одном помещении или в одном здании, и обеспечивает пользователям возможность совместного доступа к ресурсам компьютеров, а также к периферийным устройствам, подключённым к сети. Локальные сети бывают одноранговыми и с выделенным сервер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Глоб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система связанных между собой компьютеров, расположенных на сколь угодно большом удалении друг от друга (например, в разных странах и на разных континентах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F780-82F4-4CD2-823C-DBDF42BCF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смысл фразы: «Возможность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й, информации - основа прогресса всего обществ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м и каждого человека в  отдельност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ьютер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нал связ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пределяется пропускная способность канала связ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одноранговая локаль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локальная сеть с выделенным серв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го типа локальная сеть установлена в ваш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ом классе? Какие функции она вы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ети называются глоба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таки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аналы связи используются для передачи данны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х компьютерных с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передачи данных через ADSL-соединение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12 000 бит/с. Передача файла по этому каналу за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с. Определите объём файла в кило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 названия фирм, являющихся поставщ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ых услуг в в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граф отношений, связывающих поня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ные в этом парагра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802F-415F-4854-A36B-0502F8BDD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сть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б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3D57-643D-4020-B574-0A54B02AB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 flipV="1">
            <a:off x="3851280" y="2420640"/>
            <a:ext cx="504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информации – важнейший информационны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ая сеть -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истема компьютеров, связанных каналами передач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971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каль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5219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лобальная 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"/>
          <p:cNvSpPr/>
          <p:nvPr/>
        </p:nvSpPr>
        <p:spPr>
          <a:xfrm>
            <a:off x="814320" y="4076640"/>
            <a:ext cx="319428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местного доступ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информаци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устройств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5076720" y="4076640"/>
            <a:ext cx="331164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вяз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соб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большом уда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 от д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 flipV="1">
            <a:off x="4643280" y="2420640"/>
            <a:ext cx="64944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698920" y="2060640"/>
            <a:ext cx="3673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268360" y="3645000"/>
            <a:ext cx="360720" cy="431640"/>
          </a:xfrm>
          <a:prstGeom prst="downArrow">
            <a:avLst>
              <a:gd name="adj1" fmla="val 50000"/>
              <a:gd name="adj2" fmla="val 2991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4"/>
          <p:cNvSpPr/>
          <p:nvPr/>
        </p:nvSpPr>
        <p:spPr>
          <a:xfrm>
            <a:off x="6516720" y="3645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65F7-A5D4-4B48-894C-44F29E125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61"/>
          <p:cNvSpPr/>
          <p:nvPr/>
        </p:nvSpPr>
        <p:spPr>
          <a:xfrm>
            <a:off x="468360" y="83664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g-fotki.yandex.ru/get/41/sin264.5/0_1302d_674b5ebb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зговор по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ntorthirdgrade.homestead.com/000801_0204_0002_tsls_op_600x600.jpg - чтение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abble.com/CS/blogs/strollerderby/2009/06/tvkids.jpg - просмотр теле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books.ru/books/Music/Book.AdobeAfterEffect6/Glava_01/8.gif - звуковые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hone.vpfile.ru/images/phone1.jpg - разговор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valbib.ru/strawberry/data/upimages/laksiq10.png -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webpark.ru/uploads54/091229/Cards_09.jpg - почта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.primamedia.ru/f/big/185/184649.jpg - современная 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log.uole-museum.ru/wp-content/uploads/2009/09/telefon.jpg -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archive.cnews.ru/img/cnews/2010/06/09/panas_63977.jpg - современный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vrostd.ru/uploads/products/max/9966.jpg - телеф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my-strongdc.ru/wp-content/uploads/2010/08/p2p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норангов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pnetworks.ru/m_m_img/bw_ip/w-ip.png   - Схема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ralprinter.ru/sites/default/files/2868B009.jpg - 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4pk.ru/11824.jpg - концентратор 3Com Office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8884-054A-4F28-B4E6-DB2FF88906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468360" y="76500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greatweb.co.uk/images/greatweb_networ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пьютер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chool-collection.edu.ru/catalog/res/14e721e6-4bb2-4bbb-974c-90787cc4e34f/?interface=catalog – устройство компьютерных с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818e5481-5d5d-41fd-86ed-85d87dc7aaf7/9_43.swf - пакетная передач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evt.ru/load/internet_istoriya_powerpoint/87-1-0-429 - презентация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vlar.narod.ru/kvlar3dn/seti.files/slide0014_image029.gif - локальная сеть с выделенным серв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3dnews.ru/documents/2799/lancard.jpg - сетев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upload.wikimedia.org/wikipedia/commons/c/cb/UTP_cable.jpg - кабель вита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911-comp.ru/upload/medialibrary/f19/network.jpg - глобаль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oip.jalita.com/literature/images/voip_for_sb_3.jpg - телефон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bile-review.com/pda/review/image/acsessories/keyboards/luch2.jpg - инфракрас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elecomfamily.com/wp-content/uploads/2010/07/wireless-telecommunications1.jpg - радио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upport.by/images/auto/lanwithinternet.gif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B00-3C90-4BE6-890C-D44C41316B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2"/>
          <p:cNvSpPr/>
          <p:nvPr/>
        </p:nvSpPr>
        <p:spPr>
          <a:xfrm>
            <a:off x="468360" y="260280"/>
            <a:ext cx="8361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цесс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031"/>
          <p:cNvPicPr/>
          <p:nvPr/>
        </p:nvPicPr>
        <p:blipFill>
          <a:blip r:embed="rId1"/>
          <a:stretch/>
        </p:blipFill>
        <p:spPr>
          <a:xfrm>
            <a:off x="2411280" y="1812960"/>
            <a:ext cx="5040360" cy="4057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539640" y="98100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роисходит передача звуковых сигналов -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39640" y="836640"/>
            <a:ext cx="835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текста воспринимаются графические символы - бук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68360" y="836640"/>
            <a:ext cx="8281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осмотре телепередачи воспринимается видеоинформ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611280" y="5950080"/>
            <a:ext cx="828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аваемая последовательность сигналов, символов,знаков называе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сообщен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834160" cy="421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4717-F200-4D6D-852A-825AE4E96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ередачи информации) - это система технических средств и среда распространения сигналов для передачи сообщений от источника к приёмн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1700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епосредственном общении людей информация  передаётся с помощью звук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68360" y="1700280"/>
            <a:ext cx="8353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о телефону - с помощью акустических и  электрических сигналов, распространяемых по линия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39640" y="177336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- с помощью свет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688360" cy="404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"/>
          <p:cNvPicPr/>
          <p:nvPr/>
        </p:nvPicPr>
        <p:blipFill>
          <a:blip r:embed="rId2"/>
          <a:stretch/>
        </p:blipFill>
        <p:spPr>
          <a:xfrm>
            <a:off x="1908000" y="2637000"/>
            <a:ext cx="5616720" cy="386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D0C-45A7-488B-8743-E1FD0B406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дирование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28760" y="3000240"/>
            <a:ext cx="8424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образование информации, идущей от источника, в форму, пригодную для её передачи по каналу связи, называется кодиро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ая связь основана на передаче информации, преобразованной в двоичный к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12"/>
          <p:cNvGrpSpPr/>
          <p:nvPr/>
        </p:nvGrpSpPr>
        <p:grpSpPr>
          <a:xfrm>
            <a:off x="357120" y="785880"/>
            <a:ext cx="8786880" cy="1357200"/>
            <a:chOff x="357120" y="785880"/>
            <a:chExt cx="8786880" cy="1357200"/>
          </a:xfrm>
        </p:grpSpPr>
        <p:sp>
          <p:nvSpPr>
            <p:cNvPr id="72" name="Прямоугольник 11"/>
            <p:cNvSpPr/>
            <p:nvPr/>
          </p:nvSpPr>
          <p:spPr>
            <a:xfrm>
              <a:off x="428400" y="785880"/>
              <a:ext cx="8715600" cy="13572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Нашивка 6"/>
            <p:cNvSpPr/>
            <p:nvPr/>
          </p:nvSpPr>
          <p:spPr>
            <a:xfrm>
              <a:off x="357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Источ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Нашивка 7"/>
            <p:cNvSpPr/>
            <p:nvPr/>
          </p:nvSpPr>
          <p:spPr>
            <a:xfrm>
              <a:off x="214308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Нашивка 8"/>
            <p:cNvSpPr/>
            <p:nvPr/>
          </p:nvSpPr>
          <p:spPr>
            <a:xfrm>
              <a:off x="3929040" y="1214280"/>
              <a:ext cx="1357200" cy="57132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3" y="0"/>
                  </a:lnTo>
                  <a:lnTo>
                    <a:pt x="21600" y="10800"/>
                  </a:lnTo>
                  <a:lnTo>
                    <a:pt x="17053" y="21600"/>
                  </a:lnTo>
                  <a:lnTo>
                    <a:pt x="0" y="21600"/>
                  </a:lnTo>
                  <a:lnTo>
                    <a:pt x="4547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анал свя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Нашивка 9"/>
            <p:cNvSpPr/>
            <p:nvPr/>
          </p:nvSpPr>
          <p:spPr>
            <a:xfrm>
              <a:off x="5143320" y="1214280"/>
              <a:ext cx="2286000" cy="5713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е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Нашивка 10"/>
            <p:cNvSpPr/>
            <p:nvPr/>
          </p:nvSpPr>
          <p:spPr>
            <a:xfrm>
              <a:off x="7215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ём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869D-1965-4C4A-B352-ECDF2C2B8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рия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тяжении столетий для передачи писем человечество пользовалось услугами почтовой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еще почтальон"/>
          <p:cNvPicPr/>
          <p:nvPr/>
        </p:nvPicPr>
        <p:blipFill>
          <a:blip r:embed="rId1"/>
          <a:stretch/>
        </p:blipFill>
        <p:spPr>
          <a:xfrm>
            <a:off x="826920" y="1916280"/>
            <a:ext cx="2946600" cy="4508280"/>
          </a:xfrm>
          <a:prstGeom prst="rect">
            <a:avLst/>
          </a:prstGeom>
          <a:ln w="38160">
            <a:solidFill>
              <a:srgbClr val="f9a88b"/>
            </a:solidFill>
            <a:miter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4067280" y="2492280"/>
            <a:ext cx="4752720" cy="3565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торой половине XIX века была изобретена технология передачи звука (телефо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3063600" cy="4467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4"/>
          <a:stretch/>
        </p:blipFill>
        <p:spPr>
          <a:xfrm>
            <a:off x="4211640" y="2205000"/>
            <a:ext cx="4191120" cy="3952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39640" y="620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30-х годов XX века для передачи изображений стал использоваться телефак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5"/>
          <a:stretch/>
        </p:blipFill>
        <p:spPr>
          <a:xfrm>
            <a:off x="18352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D766-E450-4EFD-8865-AAAA47365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пьютер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71680" y="3929040"/>
            <a:ext cx="842472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корость передачи информ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пускная способность канала) -  количество информации в битах в секунду (бит/с) и в производных единицах (Кбит/с, Мбит/с, Гбит/с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Кбит/с = 1024 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Мбит/с = 1024 К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Гбит/с = 1024 Мбит/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ьютерная се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ва и более компьютеров, соединенных линиями передачи информации. Различают локальные и глобальные компьютер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1582560" y="2205000"/>
            <a:ext cx="5616360" cy="421560"/>
            <a:chOff x="1582560" y="2205000"/>
            <a:chExt cx="5616360" cy="421560"/>
          </a:xfrm>
        </p:grpSpPr>
        <p:pic>
          <p:nvPicPr>
            <p:cNvPr id="95" name="Picture 11" descr="AG00056_"/>
            <p:cNvPicPr/>
            <p:nvPr/>
          </p:nvPicPr>
          <p:blipFill>
            <a:blip r:embed="rId1">
              <a:lum bright="48000"/>
            </a:blip>
            <a:stretch/>
          </p:blipFill>
          <p:spPr>
            <a:xfrm flipH="1">
              <a:off x="1585440" y="2402640"/>
              <a:ext cx="561276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AG00056_"/>
            <p:cNvPicPr/>
            <p:nvPr/>
          </p:nvPicPr>
          <p:blipFill>
            <a:blip r:embed="rId2"/>
            <a:stretch/>
          </p:blipFill>
          <p:spPr>
            <a:xfrm>
              <a:off x="1582560" y="2205000"/>
              <a:ext cx="561636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3" descr="computer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74560" y="1839960"/>
            <a:ext cx="2484720" cy="20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computer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156360" y="1773360"/>
            <a:ext cx="2484360" cy="2070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3096000" y="27241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 передачи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E49D-CD8D-4FD7-A1AA-95E793FF4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компьютерная сеть объединяет компьютеры, установленные в одном помещ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9640" y="521172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сеть позволяет пользователям получить совместный доступ к ресурсам компьютеров, а также к периферийным устройствам (принтерам, сканерам, дискам, модемам и др.), подключенным к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Группа 8"/>
          <p:cNvGrpSpPr/>
          <p:nvPr/>
        </p:nvGrpSpPr>
        <p:grpSpPr>
          <a:xfrm>
            <a:off x="2143080" y="1468440"/>
            <a:ext cx="5357880" cy="3889440"/>
            <a:chOff x="2143080" y="1468440"/>
            <a:chExt cx="5357880" cy="3889440"/>
          </a:xfrm>
        </p:grpSpPr>
        <p:sp>
          <p:nvSpPr>
            <p:cNvPr id="106" name="Прямоугольник 6"/>
            <p:cNvSpPr/>
            <p:nvPr/>
          </p:nvSpPr>
          <p:spPr>
            <a:xfrm>
              <a:off x="2571480" y="2325600"/>
              <a:ext cx="4643640" cy="28576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4" descr="http://pc-life.ru/uploads/posts/2010-06/1276518423_lan_2.jpg"/>
            <p:cNvPicPr/>
            <p:nvPr/>
          </p:nvPicPr>
          <p:blipFill>
            <a:blip r:embed="rId1"/>
            <a:stretch/>
          </p:blipFill>
          <p:spPr>
            <a:xfrm>
              <a:off x="2555640" y="2023920"/>
              <a:ext cx="42865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Равнобедренный треугольник 7"/>
            <p:cNvSpPr/>
            <p:nvPr/>
          </p:nvSpPr>
          <p:spPr>
            <a:xfrm>
              <a:off x="2143080" y="1468440"/>
              <a:ext cx="5357880" cy="8571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DFB3-DD84-4354-ACF8-096F9EB22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2"/>
          <p:cNvSpPr/>
          <p:nvPr/>
        </p:nvSpPr>
        <p:spPr>
          <a:xfrm>
            <a:off x="2214720" y="4071960"/>
            <a:ext cx="5929200" cy="207180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708360" y="1341360"/>
            <a:ext cx="50007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дноранговых сетях все компьютеры равноправ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е устройства могут быть подключены к любому компьютеру в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 flipH="1">
            <a:off x="3017880" y="4395960"/>
            <a:ext cx="191592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4"/>
          <p:cNvSpPr/>
          <p:nvPr/>
        </p:nvSpPr>
        <p:spPr>
          <a:xfrm flipV="1">
            <a:off x="4243320" y="4395960"/>
            <a:ext cx="74448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5"/>
          <p:cNvSpPr/>
          <p:nvPr/>
        </p:nvSpPr>
        <p:spPr>
          <a:xfrm flipV="1">
            <a:off x="5143680" y="4786200"/>
            <a:ext cx="7300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6"/>
          <p:cNvSpPr/>
          <p:nvPr/>
        </p:nvSpPr>
        <p:spPr>
          <a:xfrm>
            <a:off x="5092560" y="4395960"/>
            <a:ext cx="9050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7"/>
          <p:cNvSpPr/>
          <p:nvPr/>
        </p:nvSpPr>
        <p:spPr>
          <a:xfrm>
            <a:off x="5092560" y="4395960"/>
            <a:ext cx="22352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7" descr="http://my-strongdc.ru/wp-content/uploads/2010/08/p2p.jpg"/>
          <p:cNvPicPr/>
          <p:nvPr/>
        </p:nvPicPr>
        <p:blipFill>
          <a:blip r:embed="rId1"/>
          <a:stretch/>
        </p:blipFill>
        <p:spPr>
          <a:xfrm>
            <a:off x="714240" y="1500120"/>
            <a:ext cx="2776680" cy="2424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локальная сеть1"/>
          <p:cNvPicPr/>
          <p:nvPr/>
        </p:nvPicPr>
        <p:blipFill>
          <a:blip r:embed="rId2"/>
          <a:stretch/>
        </p:blipFill>
        <p:spPr>
          <a:xfrm>
            <a:off x="2286000" y="4071960"/>
            <a:ext cx="5715000" cy="173520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43DB-521D-4451-A66F-9BD59C3BB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торак</cp:lastModifiedBy>
  <dcterms:modified xsi:type="dcterms:W3CDTF">2017-02-20T17:14:55Z</dcterms:modified>
  <cp:revision>126</cp:revision>
  <dc:subject/>
  <dc:title>Презентация PowerPoint</dc:title>
</cp:coreProperties>
</file>