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jpeg" ContentType="image/jpe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wmf" ContentType="image/x-wmf"/>
  <Override PartName="/ppt/media/image14.wmf" ContentType="image/x-wmf"/>
  <Override PartName="/ppt/media/image6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4386-B64B-4D1E-B767-5F747C8ECC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FF6F-D808-49D8-9545-7D90EDB082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A98-3284-45E8-94D7-A79CE6F7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465-BC68-4E6C-9EF0-D617263E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B70-7585-417E-9E5B-8461754F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4D1A-D4B4-41CC-95D0-116CA86A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4045-7B51-4B7B-A777-C0B9EB67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6753-7A77-4995-A2F5-A093FF4F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3F40-28A8-4ECA-BACC-E07155EA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D7F4-5AD8-438A-AFD7-1953ECF4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67B1-445B-4196-8356-9533501F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CAE1-C2DF-41C3-B469-18F512A6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6448-C8F8-418F-B8D0-737A93E5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333F-65EE-4AA2-A1EC-8C16B1DC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62B0-A1F7-4572-A3A8-4B58775C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EFFE-6F23-4C60-A558-083CDCCF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3664-5E49-42E5-9195-2794D2E7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ECC6-A489-411D-A865-1469DEC5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8399-A8D6-4F93-BEBF-F2FCBF80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02A-604D-4DED-8A9D-E4079E86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42C-CC11-4EB9-8AC4-BD095A4D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92C-D7E5-4EB2-BDDC-37E0C8FF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82C2-7347-4019-8D46-8FA9DFC3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6BB-AFEF-43F2-9858-CA005ED6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2B1-8912-4247-B926-825737B4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5291-BD70-4564-AAED-E8BA60BA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8BF9-5CDE-43D1-8F86-78F47149F3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0234-D452-4468-84F8-43BDA2B340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oikompas.ru/img/compas/2008-08-21/sos_1sentebrja/80063647_or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Родительское собрание для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родителей будущих первоклассников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427640" y="3068640"/>
            <a:ext cx="4176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ихолог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тов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шко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g_1" descr="800636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371628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ормированы мыслительные операции сравнение, обобщение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1" name="Объект 6"/>
          <p:cNvGraphicFramePr/>
          <p:nvPr/>
        </p:nvGraphicFramePr>
        <p:xfrm>
          <a:off x="863640" y="1549440"/>
          <a:ext cx="7873920" cy="46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549440"/>
                    <a:ext cx="78739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ормированы навыки письма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Объект 6"/>
          <p:cNvGraphicFramePr/>
          <p:nvPr/>
        </p:nvGraphicFramePr>
        <p:xfrm>
          <a:off x="863640" y="1549440"/>
          <a:ext cx="7873920" cy="46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549440"/>
                    <a:ext cx="78739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ff0000"/>
                </a:solidFill>
                <a:uFillTx/>
                <a:latin typeface="Times New Roman"/>
              </a:rPr>
              <a:t>Психологическая готовность </a:t>
            </a:r>
            <a:br>
              <a:rPr sz="3400"/>
            </a:br>
            <a:r>
              <a:rPr b="1" i="1" lang="ru-RU" sz="3400" spc="-1" strike="noStrike" u="sng">
                <a:solidFill>
                  <a:srgbClr val="ff0000"/>
                </a:solidFill>
                <a:uFillTx/>
                <a:latin typeface="Times New Roman"/>
              </a:rPr>
              <a:t>к обучению в школе включает </a:t>
            </a:r>
            <a:br>
              <a:rPr sz="3400"/>
            </a:br>
            <a:r>
              <a:rPr b="1" i="1" lang="ru-RU" sz="3400" spc="-1" strike="noStrike" u="sng">
                <a:solidFill>
                  <a:srgbClr val="ff0000"/>
                </a:solidFill>
                <a:uFillTx/>
                <a:latin typeface="Times New Roman"/>
              </a:rPr>
              <a:t>в себя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8560" y="2133360"/>
            <a:ext cx="864216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ллектуальную готов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тивационную готов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левую готов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муникативную готов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MCj04357730000[1]"/>
          <p:cNvPicPr/>
          <p:nvPr/>
        </p:nvPicPr>
        <p:blipFill>
          <a:blip r:embed="rId1"/>
          <a:stretch/>
        </p:blipFill>
        <p:spPr>
          <a:xfrm>
            <a:off x="6659640" y="2997360"/>
            <a:ext cx="2160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24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</a:rPr>
              <a:t>Интеллектуальная готовность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6249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полагает развитие внимания, памяти, сформирова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ыслительные операции анализа, синтеза, обобщения, ум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танавливать связи между явлениями и событи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К 6–7-и годам ребенок должен знат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й адрес и название города, в котором он живет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звание страны и ее столиц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мена и отчества своих родителей, информацию о местах их работ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ремена года, их последовательность и основные призна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звания месяцев, дней недел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новные виды деревьев и цве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му следует уметь различать домашних и диких животных, понимать, что бабушка — это мама отца или матер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ыми словами, он должен ориентироваться во времен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странстве и своем ближайшем окруж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MCBD07205_0000[1]"/>
          <p:cNvPicPr/>
          <p:nvPr/>
        </p:nvPicPr>
        <p:blipFill>
          <a:blip r:embed="rId1"/>
          <a:stretch/>
        </p:blipFill>
        <p:spPr>
          <a:xfrm>
            <a:off x="7164360" y="189000"/>
            <a:ext cx="182088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</a:rPr>
              <a:t>Мотивационная готовность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разумевает наличие у ребенка желания принять новую социальную роль —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оль школьника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этой целью родителям необходимо объяснить своему ребенку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что дети ходят учиться для получения знаний, которые необходимы каждому челове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едует давать ребенку только позитивную информацию о школе. Помните, что ваши оценки с легкостью заимствуются детьми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ебенок должен видеть, что родители спокойно и уверенно смотрят на его предстоящее поступление в школ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чиной нежелания идти в школу может быть и то, что ребенок “не наигрался”. Но в возрасте 6–7 лет психическое развитие очень пластично, и дети, которые “не наигрались”, придя в класс, скоро начинают испытывать удовольствие от процесса уче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м не обязательно до начала учебного года формировать любовь к школе, поскольку невозможно полюбить то, с чем еще не сталкивался. Достаточно дать понять ребенку, что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учеба — это обязанность каждого человека и от того, насколько он будет успешен в учении, зависит отношение к нему многих из окружающих ребенка люд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0000"/>
                </a:solidFill>
                <a:latin typeface="Times New Roman"/>
              </a:rPr>
              <a:t>Волевая готовност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олагает наличие у ребен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ностей ставить перед собой цел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ять решение о начале дея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метить план действ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ить его, проявив определенные усил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ценить результат своей дея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также умения длительно выполнять не очень привлекательную рабо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Развитию волевой готовности к школе способствуют изобразительная деятельность и конструирование, поскольку они побуждают длительное время сосредоточиваться на постройке или рисовании.</a:t>
            </a:r>
            <a:r>
              <a:rPr b="0" i="1" lang="ru-RU" sz="20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MCj04357430000[1]"/>
          <p:cNvPicPr/>
          <p:nvPr/>
        </p:nvPicPr>
        <p:blipFill>
          <a:blip r:embed="rId1"/>
          <a:stretch/>
        </p:blipFill>
        <p:spPr>
          <a:xfrm>
            <a:off x="7524720" y="1628640"/>
            <a:ext cx="117144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</a:rPr>
              <a:t>Коммуникативная готовность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684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является в умении ребенка подчинять свое поведение законам детских групп и нормам поведения, установленным в клас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а предполагает способность включиться в детское сообщество, действовать совместно с другими ребятами, в случае необходимости уступать или отстаивать свою правоту, подчиняться или руковод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целях развития коммуникативной компетентности следует поддерживать доброжелательные отношения вашего сына или дочери с окружающими. Личный пример терпимости во взаимоотношениях с друзьями, родными, соседями также играет большую роль в формировании этого вида готовности к школ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MCj02921100000[1]"/>
          <p:cNvPicPr/>
          <p:nvPr/>
        </p:nvPicPr>
        <p:blipFill>
          <a:blip r:embed="rId1"/>
          <a:stretch/>
        </p:blipFill>
        <p:spPr>
          <a:xfrm>
            <a:off x="7164360" y="4365720"/>
            <a:ext cx="19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260280"/>
            <a:ext cx="590544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0000"/>
                </a:solidFill>
                <a:latin typeface="Times New Roman"/>
              </a:rPr>
              <a:t>Готов ли ребенок к школе?</a:t>
            </a:r>
            <a:br>
              <a:rPr sz="3400"/>
            </a:b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Тест для родителей.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487520"/>
            <a:ext cx="80136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очет ли Ваш ребенок идти в школу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лекает ли Вашего ребенка в школе то, что в ней будет интересно учиться, и он многое узнает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жет ли Ваш ребенок заниматься самостоятельно каким-либо делом, требующим сосредоточенности в течение 30 минут (например, собирать конструктор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ерно ли, что Ваш ребенок в присутствии незнакомых нисколько не стесняетс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меет ли Ваш ребенок составлять рассказы по картинке не короче чем из 5 предложени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меет ли Ваш ребенок рассказать наизусть несколько стихотворени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меет ли он изменять существительные по числа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меет ли Ваш ребенок читать по слогам или, что еще лучше, целыми словам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меет ли Ваш ребенок считать до 10 и обратно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ерно ли, что Ваш ребенок имеет твердую руку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жет ли он решать простые задачи на вычитание или прибавление единицы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юбит ли он рисовать и раскрашивать картинк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жет ли Ваш ребенок пользоваться ножницами и клеем (например, делать аппликации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жет ли он собрать разрезанную картинку из 5 частей за 1 минуту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нает ли ребенок названия диких и домашних животных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жет ли Ваш ребенок понимать и точно выполнять словесные инструкци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жет ли он обобщать понятия (например, назвать одним словом “овощи” помидоры, морковь, лук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юбит ли Ваш ребенок заниматься самостоятельно рисовать, собирать мозаику и т. д.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одсчитайте количество положительных ответов на вопросы теста. Если оно составля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5-18 балл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можно считать, что ребенок вполне готов к тому, чтобы идти в школу. Вы не напрасно много с ним занимались, а школьные трудности, если и возникнут, будут легко преодолимы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-14 балл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Вы на правильном пути, ребенок многому научился, а содержание вопросов, на которые Вы ответили отрицанием, подскажет Вам точки приложения дальнейших усил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ньше 9 балл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ребенку нужна ваша помощь, почитайте другую специальную литературу, постарайтесь уделять больше времени занятиям с ребенком и обратите особое внимание на то, чего он не умеет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MCBD07208_0000[1]"/>
          <p:cNvPicPr/>
          <p:nvPr/>
        </p:nvPicPr>
        <p:blipFill>
          <a:blip r:embed="rId1"/>
          <a:stretch/>
        </p:blipFill>
        <p:spPr>
          <a:xfrm>
            <a:off x="7329600" y="0"/>
            <a:ext cx="18144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Century"/>
              </a:rPr>
              <a:t>Что необходимо приобрести ученику для 1 класса?</a:t>
            </a:r>
            <a:r>
              <a:rPr b="0" lang="ru-RU" sz="4400" spc="-1" strike="noStrike">
                <a:solidFill>
                  <a:srgbClr val="330033"/>
                </a:solidFill>
                <a:latin typeface="Century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671640" cy="3672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25718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97068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Используемый УМК-   </a:t>
            </a:r>
            <a:br>
              <a:rPr sz="3800"/>
            </a:b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«Школа России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14040" y="1600200"/>
            <a:ext cx="69706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«Школа России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1 класса включает в себя завершенные предметные линии учебников по следующим основным предметам начального общего образования: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усский язык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збука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орецкий В.Г., Кирюшкин В.А., Виноградская Л.А. и др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ий язык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накина В.П., Горецкий В.Г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Литературное чтение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лиманова Л.Ф., Горецкий В.Г., Голованова М.В.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70c0"/>
                </a:solidFill>
                <a:latin typeface="Times New Roman"/>
              </a:rPr>
              <a:t>Тест “Готовы ли вы отдавать своего ребенка в школу?”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3026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Мне кажется, что мой ребенок будет учиться хуже других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Я опасаюсь, что мой ребенок часто будет обижать других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На мой взгляд, четыре урока — непомерная нагрузка для маленького ребе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Трудно быть уверенным, что учителя младших классов хорошо понимают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Ребенок может спокойно учиться только в том случае, если учительница — его собственная ма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Трудно представить, что первоклассник может быстро научиться читать, считать и писа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Мне кажется, что дети в этом возрасте еще не способны дружи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Боюсь даже думать о том, как мой ребенок будет обходиться без дневного с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9. Мой ребенок часто плачет, когда к нему обращается незнакомый взрослый челове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0. Мой ребенок не ходит в детский сад и никогда не расстается с матер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1. Начальная школа, по-моему, редко способна чему-либо научить ребе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2. Я опасаюсь, что дети будут дразнить моего ребе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3. Мой малыш, по-моему, значительно слабее своих сверст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4. Боюсь, что учительница не имеет возможности оценить успехи каждого ребе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5. Мой ребенок часто говорит: “Мама, мы пойдем в школу вместе!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MCj03432970000[1]"/>
          <p:cNvPicPr/>
          <p:nvPr/>
        </p:nvPicPr>
        <p:blipFill>
          <a:blip r:embed="rId1"/>
          <a:stretch/>
        </p:blipFill>
        <p:spPr>
          <a:xfrm>
            <a:off x="7164360" y="4869000"/>
            <a:ext cx="182088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Используемый УМК-   </a:t>
            </a:r>
            <a:br>
              <a:rPr sz="4200"/>
            </a:b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«Школа России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атемати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оро М.И., Степанова С.В., Волкова С.И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кружающий ми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ешаков А.А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ехнология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оговцева Н.И., Богданова Н.В., Фрейтаг И.П., Добромыслова Н.В., Шипилова Н.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узыка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ритская Е.Д., Сергеева Г.П., Шмагина Т.С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зобразительное искусство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енская Л.А.,Коротеева Е.И.,Горяева Н.А.(под ред.Неменского Б.М.)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Физическая культура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Лях В.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6920" y="188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60093"/>
                </a:solidFill>
                <a:latin typeface="Arial"/>
              </a:rPr>
              <a:t>Часто задаваемые вопрос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Обязательно ли ребенок </a:t>
            </a:r>
            <a:br>
              <a:rPr sz="2800"/>
            </a:b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должен уметь читать и писать к 1 классу?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400" y="1600200"/>
            <a:ext cx="70423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обяза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ие складывать из слогов слова еще не является умением читать. Многие дети с трудом осваивают эту сложную мыслительную операцию - не стоит их подгонять! Навык чтения и письма должен формироваться по специальным методикам (складываются представления о речи, звуках и буква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Основными умениями при чтении являются понимание прочитанного текста, анализ описанной ситуации, ответы на вопросы после чт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Обязательна ли школьная форма в 1 классе?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14040" y="1600200"/>
            <a:ext cx="61786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 дисциплинирует детей, является атрибутом, отличающим дошкольника от ученика. А именно об этом, как правило, и мечтают в первую очередь при поступлении в школу все дети - они теперь первокласс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Есть ли в 1 классе домашние задания?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14400" y="1599840"/>
            <a:ext cx="639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машних заданий в 1 классе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ако если вы хотите сформировать у своего ребенка качественные навыки письма, чтения, счета, то не отказывайтесь от тренировочных упражнений, которые может предложить учитель, — научиться плавать в ванне еще никому не удавало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Почему учителя не ставят оценки в 1 классе, ведь родители хотели бы знать об успеваемости своего ребенка?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14400" y="1600200"/>
            <a:ext cx="68263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 классе обучение  безоценочн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оправдано тем, что ребенок находится в самом начале учебного пути. К концу первого года обучения уже можно судить о той или иной степени успешности младшего школь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 классе основной упор делается на приобретение навыков учебного труда. Словесная или условно-знаковая оценка тоже зачастую присутствует в работе учителя с учеником. Важно, чтобы она была пози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Можно ли носить в школу игрушки?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14400" y="1600200"/>
            <a:ext cx="682632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, мож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овая деятельность ещё значимая для ребёнка, любимая игрушка зачастую олицетворяет друга, с ней можно поиграть на перемене вместе с однокласс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учше, если игрушка не громоздкая и без острых уг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Нужно ли наказывать ребёнка за отсутствие успехов в обучении?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14400" y="1599840"/>
            <a:ext cx="761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го делать не рекомендуется, ведь первоклассник ещё ничему не научил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казать можно за непослушание. Однако помните, что нельзя наказывать трудом или лишением прогу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брежно выполненное задание необходимо переделать, но не поздно вече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пытайтесь вселить в ребёнка уверенность в своих силах, подбодрите его и подскажите, как лучше сделать зад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валите первоклассника даже за самые маленькие успехи, и тогда вам не придётся думать о наказа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651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СОВЕТЫ РОДИТЕЛЯМ </a:t>
            </a:r>
            <a:br>
              <a:rPr sz="3800"/>
            </a:br>
            <a:r>
              <a:rPr b="1" lang="ru-RU" sz="3400" spc="-1" strike="noStrike">
                <a:solidFill>
                  <a:srgbClr val="330033"/>
                </a:solidFill>
                <a:latin typeface="Times New Roman"/>
              </a:rPr>
              <a:t>Как подготовить малыша к школе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12536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чите чадо различать право-лев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жите, как правильно укладывать в портфель книжки и тетрад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берите пенал. В нем должны лежать две простые шариковые синие ручки, одна красная, одна зеленая, два заточенных карандаша, набор из пяти цветных карандашей, линейка и ласт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учите с малышом ваш домашний адрес и телефон, объясните ему, как звонить, если он потеря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ти часто боятся или стесняются просить у строгого учителя разрешения выйти во время урока, так что проговорите с чадом этот момен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у вашего ребенка есть логопедические проблемы, постарайтесь решить их до начала уче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держивайте вашего первоклассника во всем. Хвалите за дело, говорите, как здорово у него получается выводить буквы (считать, рисовать и т. д.). Это придаст ему уверенности в себ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ъясните ребенку, что он сам несет ответственность за свою учебу. Если мама и папа зарабатывают деньги на работе, то его работа - ходить в школу и "зарабатывать" хорошие отмет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рьте, умеет ли ваше чадо самостоятельно завязывать шнурки, застегивать пуговицы и молнии, переодеваться без вашей помощи в спортивный костюм, складывать аккуратно свои ве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d60093"/>
                </a:solidFill>
                <a:latin typeface="Times New Roman"/>
              </a:rPr>
              <a:t>Вывод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14040" y="1599840"/>
            <a:ext cx="7978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5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бно-воспитательная деятельность в школе не может иметь успеха без тесных контактов с родител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5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нно Вы должны стать нашими лучшими помощниками, заинтересованными союзниками, доброжелательными участниками единого педагогическ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5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тели нужны нам, учителям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адеюсь на сотрудничест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p16"/>
          <p:cNvPicPr/>
          <p:nvPr/>
        </p:nvPicPr>
        <p:blipFill>
          <a:blip r:embed="rId1"/>
          <a:stretch/>
        </p:blipFill>
        <p:spPr>
          <a:xfrm>
            <a:off x="5867280" y="3573360"/>
            <a:ext cx="26640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Занесите свои ответы в табличку: </a:t>
            </a:r>
            <a:br>
              <a:rPr sz="2100"/>
            </a:b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если Вы согласны с утверждением, поставьте крестик после косой черты, если не согласны, оставьте клетку пустой. 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65200" y="1793880"/>
          <a:ext cx="6346800" cy="4525920"/>
        </p:xfrm>
        <a:graphic>
          <a:graphicData uri="http://schemas.openxmlformats.org/drawingml/2006/table">
            <a:tbl>
              <a:tblPr/>
              <a:tblGrid>
                <a:gridCol w="1270080"/>
                <a:gridCol w="1268280"/>
                <a:gridCol w="1270080"/>
                <a:gridCol w="1268280"/>
                <a:gridCol w="12700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Times New Roman"/>
              </a:rPr>
              <a:t>На заметку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171520" y="1699920"/>
            <a:ext cx="52578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детей, не подготовленных к систематическому обучению, труднее и дольше проходит период адаптации (приспособления) к школе, у них гораздо чаще проявляются различные трудности обучения, среди них значительно    больше неуспевающих, и не только в первом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http://rpp.nashaucheba.ru/pars_docs/refs/3/2034/img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70c0"/>
                </a:solidFill>
                <a:latin typeface="Times New Roman"/>
              </a:rPr>
              <a:t>Результаты тестиров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 4 балл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— это означает, что у Вас есть все основания оптимистично ждать первого сентября — по крайней мере, сами вполне готовы к школьной жизни Вашего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-10 балл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— лучше подготовиться к возможным трудностям заране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 баллов и больш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— было бы неплохо посоветоваться детским психолог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А теперь обратим внимание на то, в каких столбц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олучено 2 или 3 крест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— необходимо больше заниматься играми и заданиями, развивающими память, внимание, тонкую мотор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— нужно обратить внимание на то, умеет ли Ваш ребенок общаться с другими деть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 — предвидятся сложности, связанные со здоровьем ребенка, но еще есть время заняться закаливанием и общеукрепляющими упражне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 — есть опасения, что ребенок не найдет контакта с учительницей, надо обратить внимание на сюжетны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 – ваш ребенок недостаточно самостоятелен, вероятно, он излишне привязан к матер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sos_1sentebrja"/>
          <p:cNvPicPr/>
          <p:nvPr/>
        </p:nvPicPr>
        <p:blipFill>
          <a:blip r:embed="rId1"/>
          <a:stretch/>
        </p:blipFill>
        <p:spPr>
          <a:xfrm>
            <a:off x="7812000" y="333360"/>
            <a:ext cx="92412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езультаты диагностики будущих первоклассник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03240" y="155736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нимали участие всего 25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ступили к выполнению всех заданий – 13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Диаграмма 6"/>
          <p:cNvGraphicFramePr/>
          <p:nvPr/>
        </p:nvGraphicFramePr>
        <p:xfrm>
          <a:off x="1473120" y="3017880"/>
          <a:ext cx="5526000" cy="377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3017880"/>
                    <a:ext cx="552600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4360" y="189000"/>
            <a:ext cx="7224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ут продолжить  рисунок по образцу – 20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деют счетом в пределах 10 – 21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ут определить порядковый номер предмета – 21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ют направления «право», «лево» - 17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Диаграмма 6"/>
          <p:cNvGraphicFramePr/>
          <p:nvPr/>
        </p:nvGraphicFramePr>
        <p:xfrm>
          <a:off x="1473120" y="2657520"/>
          <a:ext cx="5526000" cy="384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2657520"/>
                    <a:ext cx="552600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Объект 6"/>
          <p:cNvGraphicFramePr/>
          <p:nvPr/>
        </p:nvGraphicFramePr>
        <p:xfrm>
          <a:off x="633240" y="138240"/>
          <a:ext cx="7874280" cy="46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138240"/>
                    <a:ext cx="78742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ормированы мыслительные операции анализ, синтез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Объект 6"/>
          <p:cNvGraphicFramePr/>
          <p:nvPr/>
        </p:nvGraphicFramePr>
        <p:xfrm>
          <a:off x="863640" y="1549440"/>
          <a:ext cx="7873920" cy="46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549440"/>
                    <a:ext cx="78739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68996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нают состав числа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8" name="Объект 6"/>
          <p:cNvGraphicFramePr/>
          <p:nvPr/>
        </p:nvGraphicFramePr>
        <p:xfrm>
          <a:off x="863640" y="1549440"/>
          <a:ext cx="7873920" cy="46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549440"/>
                    <a:ext cx="78739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4:05:29Z</dcterms:created>
  <dc:creator>Мама</dc:creator>
  <dc:description/>
  <dc:language>en-US</dc:language>
  <cp:lastModifiedBy>Пользователь</cp:lastModifiedBy>
  <dcterms:modified xsi:type="dcterms:W3CDTF">2016-04-23T00:33:55Z</dcterms:modified>
  <cp:revision>105</cp:revision>
  <dc:subject/>
  <dc:title>Родительское собрание для родителей будущих первоклассников</dc:title>
</cp:coreProperties>
</file>