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B296-7770-47A5-A0F6-678DB4DB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ECC-89CF-4D35-8474-6FB02012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825F-860F-48F7-9453-161E197B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4FD-68A2-465A-BBC0-09AA3D6E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AB8B-E735-4BD9-966F-677C92D6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B9A6-B22C-435F-8AD7-E00011D6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065-EA94-4052-9BB7-DFBD0BB2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196B-F181-471F-9D6D-B9DFC13E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8E4-1D41-4829-849B-DDE51D31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807-1121-436C-9B90-E48E3155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CE8-670E-40AD-AFD8-B272F018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C1FC-EEBC-4BBA-880D-B7A5315F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1521-E0B1-41BC-86E2-4744B7E361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4"/>
          <p:cNvGrpSpPr/>
          <p:nvPr/>
        </p:nvGrpSpPr>
        <p:grpSpPr>
          <a:xfrm>
            <a:off x="1060560" y="1359000"/>
            <a:ext cx="7022880" cy="2268360"/>
            <a:chOff x="1060560" y="1359000"/>
            <a:chExt cx="7022880" cy="2268360"/>
          </a:xfrm>
        </p:grpSpPr>
        <p:pic>
          <p:nvPicPr>
            <p:cNvPr id="42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060560" y="1359000"/>
              <a:ext cx="7022880" cy="22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1187280" y="1484280"/>
              <a:ext cx="676944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Рисунок 3" descr="maxresdefault.jpg"/>
          <p:cNvPicPr/>
          <p:nvPr/>
        </p:nvPicPr>
        <p:blipFill>
          <a:blip r:embed="rId2"/>
          <a:stretch/>
        </p:blipFill>
        <p:spPr>
          <a:xfrm>
            <a:off x="-60480" y="-36360"/>
            <a:ext cx="9259920" cy="6980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203280" y="4797000"/>
            <a:ext cx="594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Воспитатель:Чёлник Н.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МКДОУ «Верхнемамонск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детский сад №2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187280" y="1318680"/>
            <a:ext cx="6769440" cy="20307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Моё творчество.</a:t>
            </a:r>
            <a:br>
              <a:rPr sz="5400"/>
            </a:br>
            <a:r>
              <a:rPr b="1" i="1" lang="ru-RU" sz="36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оделки из креповой бумаги</a:t>
            </a:r>
            <a:br>
              <a:rPr sz="3600"/>
            </a:br>
            <a:r>
              <a:rPr b="1" i="1" lang="ru-RU" sz="36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атласных лент, пайето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maxresdefaul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Педагогическая деятельность — процесс постоянного творчества . Мне нравиться познавать новое , поэтому мои работы разнообразн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7" descr="DSC02787.JPG"/>
          <p:cNvPicPr/>
          <p:nvPr/>
        </p:nvPicPr>
        <p:blipFill>
          <a:blip r:embed="rId2"/>
          <a:stretch/>
        </p:blipFill>
        <p:spPr>
          <a:xfrm>
            <a:off x="2550960" y="2347920"/>
            <a:ext cx="4042080" cy="3030480"/>
          </a:xfrm>
          <a:prstGeom prst="rect">
            <a:avLst/>
          </a:prstGeom>
          <a:ln w="0">
            <a:noFill/>
          </a:ln>
        </p:spPr>
      </p:pic>
    </p:spTree>
  </p:cSld>
  <p:transition advTm="4000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maxresdefaul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Зима –холодное время года , но в каждой поделке есть частица теп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Сосновая ветка из креповой бумаг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12" descr="DSC03109.JPG"/>
          <p:cNvPicPr/>
          <p:nvPr/>
        </p:nvPicPr>
        <p:blipFill>
          <a:blip r:embed="rId2"/>
          <a:stretch/>
        </p:blipFill>
        <p:spPr>
          <a:xfrm>
            <a:off x="995400" y="2421000"/>
            <a:ext cx="2963880" cy="3705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4720" y="1341000"/>
            <a:ext cx="404172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Новогодняя игрушка из пайе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15" descr="DSC_1233.JPG"/>
          <p:cNvPicPr/>
          <p:nvPr/>
        </p:nvPicPr>
        <p:blipFill>
          <a:blip r:embed="rId3"/>
          <a:stretch/>
        </p:blipFill>
        <p:spPr>
          <a:xfrm>
            <a:off x="4500720" y="2492280"/>
            <a:ext cx="4392360" cy="352908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maxresdefaul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Шкатулка из атласных лент выполнена в технике «Канзаш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18" descr="DSC03409.JPG"/>
          <p:cNvPicPr/>
          <p:nvPr/>
        </p:nvPicPr>
        <p:blipFill>
          <a:blip r:embed="rId2"/>
          <a:stretch/>
        </p:blipFill>
        <p:spPr>
          <a:xfrm>
            <a:off x="2550960" y="2347920"/>
            <a:ext cx="4042080" cy="303048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maxresdefaul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Весна-это цве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7" descr="DSC03584.JPG"/>
          <p:cNvPicPr/>
          <p:nvPr/>
        </p:nvPicPr>
        <p:blipFill>
          <a:blip r:embed="rId2"/>
          <a:stretch/>
        </p:blipFill>
        <p:spPr>
          <a:xfrm>
            <a:off x="2550960" y="2347920"/>
            <a:ext cx="4042080" cy="3030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10920" y="1484280"/>
            <a:ext cx="446436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Calibri"/>
              </a:rPr>
              <a:t>Цветы выполнены из креповой бумаг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maxresdefaul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Поделка выполнена из бросового матери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9" descr="DSC03836.JPG"/>
          <p:cNvPicPr/>
          <p:nvPr/>
        </p:nvPicPr>
        <p:blipFill>
          <a:blip r:embed="rId2"/>
          <a:stretch/>
        </p:blipFill>
        <p:spPr>
          <a:xfrm>
            <a:off x="2268360" y="1989000"/>
            <a:ext cx="4896000" cy="338940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maxresdefaul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Каждая новая поделка это радость. И мне нравиться радовать окружающих меня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7T16:27:29Z</dcterms:created>
  <dc:creator>user</dc:creator>
  <dc:description/>
  <dc:language>en-US</dc:language>
  <cp:lastModifiedBy>user</cp:lastModifiedBy>
  <dcterms:modified xsi:type="dcterms:W3CDTF">2017-02-20T18:06:49Z</dcterms:modified>
  <cp:revision>18</cp:revision>
  <dc:subject/>
  <dc:title>Моё творчество.</dc:title>
</cp:coreProperties>
</file>