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925-529E-4707-A895-F4EBD3FD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F7E-9D43-4866-BB90-C5499FBD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1D6-8DAA-40D8-AC2E-3572DD24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24E-D0BE-4210-A27F-46A62209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7CE-EECB-47B6-AA9B-C5ACAAA0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65F-1B94-47BD-85BB-7EF43BC8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8AA-B150-4BC3-B1F2-CDFE8DE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CC9-9E88-449D-BDB7-56DF8C28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EDA-F7D6-4862-AA71-02D9DD9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502-F2E9-4774-A495-B205970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2E8-5D9F-4244-8451-AABC3D5C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714-B6D1-4CD5-974E-3119405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841E-8A30-45A8-972B-2C8C52E27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4"/>
          <p:cNvGrpSpPr/>
          <p:nvPr/>
        </p:nvGrpSpPr>
        <p:grpSpPr>
          <a:xfrm>
            <a:off x="1060560" y="1359000"/>
            <a:ext cx="7022880" cy="2268360"/>
            <a:chOff x="1060560" y="1359000"/>
            <a:chExt cx="7022880" cy="2268360"/>
          </a:xfrm>
        </p:grpSpPr>
        <p:pic>
          <p:nvPicPr>
            <p:cNvPr id="4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60560" y="1359000"/>
              <a:ext cx="702288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187280" y="1484280"/>
              <a:ext cx="676944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Рисунок 3" descr="maxresdefault.jpg"/>
          <p:cNvPicPr/>
          <p:nvPr/>
        </p:nvPicPr>
        <p:blipFill>
          <a:blip r:embed="rId2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203280" y="4797000"/>
            <a:ext cx="59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Воспитатель:Чёлник Н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МКДОУ «Верхнемамон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детский сад №2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87280" y="1318680"/>
            <a:ext cx="6769440" cy="2030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оё творчество.</a:t>
            </a:r>
            <a:br>
              <a:rPr sz="5400"/>
            </a:br>
            <a:r>
              <a:rPr b="1" i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оделки из креповой бумаги</a:t>
            </a:r>
            <a:br>
              <a:rPr sz="3600"/>
            </a:br>
            <a:r>
              <a:rPr b="1" i="1" lang="ru-RU" sz="3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атласных лент, пайет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едагогическая деятельность — процесс постоянного творчества . Мне нравиться познавать новое , поэтому мои работы разнообраз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7" descr="DSC02787.JPG"/>
          <p:cNvPicPr/>
          <p:nvPr/>
        </p:nvPicPr>
        <p:blipFill>
          <a:blip r:embed="rId2"/>
          <a:stretch/>
        </p:blipFill>
        <p:spPr>
          <a:xfrm>
            <a:off x="2550960" y="2347920"/>
            <a:ext cx="4042080" cy="30304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Зима –холодное время года , но в каждой поделке есть частица теп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Сосновая ветка из креповой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12" descr="DSC03109.JPG"/>
          <p:cNvPicPr/>
          <p:nvPr/>
        </p:nvPicPr>
        <p:blipFill>
          <a:blip r:embed="rId2"/>
          <a:stretch/>
        </p:blipFill>
        <p:spPr>
          <a:xfrm>
            <a:off x="995400" y="2421000"/>
            <a:ext cx="2963880" cy="3705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4720" y="1341000"/>
            <a:ext cx="40417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Новогодняя игрушка из пайе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15" descr="DSC_1233.JPG"/>
          <p:cNvPicPr/>
          <p:nvPr/>
        </p:nvPicPr>
        <p:blipFill>
          <a:blip r:embed="rId3"/>
          <a:stretch/>
        </p:blipFill>
        <p:spPr>
          <a:xfrm>
            <a:off x="4500720" y="2492280"/>
            <a:ext cx="4392360" cy="35290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Шкатулка из атласных лент выполнена в технике «Канзаш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18" descr="DSC03409.JPG"/>
          <p:cNvPicPr/>
          <p:nvPr/>
        </p:nvPicPr>
        <p:blipFill>
          <a:blip r:embed="rId2"/>
          <a:stretch/>
        </p:blipFill>
        <p:spPr>
          <a:xfrm>
            <a:off x="2550960" y="2347920"/>
            <a:ext cx="4042080" cy="30304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Весна-это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7" descr="DSC03584.JPG"/>
          <p:cNvPicPr/>
          <p:nvPr/>
        </p:nvPicPr>
        <p:blipFill>
          <a:blip r:embed="rId2"/>
          <a:stretch/>
        </p:blipFill>
        <p:spPr>
          <a:xfrm>
            <a:off x="2550960" y="2347920"/>
            <a:ext cx="4042080" cy="303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0920" y="1484280"/>
            <a:ext cx="446436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Цветы выполнены из креповой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alibri"/>
              </a:rPr>
              <a:t>Поделка выполнена из бросов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9" descr="DSC03836.JPG"/>
          <p:cNvPicPr/>
          <p:nvPr/>
        </p:nvPicPr>
        <p:blipFill>
          <a:blip r:embed="rId2"/>
          <a:stretch/>
        </p:blipFill>
        <p:spPr>
          <a:xfrm>
            <a:off x="2268360" y="1989000"/>
            <a:ext cx="4896000" cy="33894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Каждая новая поделка это радость. И мне нравиться радовать окружающих мен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16:27:29Z</dcterms:created>
  <dc:creator>user</dc:creator>
  <dc:description/>
  <dc:language>en-US</dc:language>
  <cp:lastModifiedBy>user</cp:lastModifiedBy>
  <dcterms:modified xsi:type="dcterms:W3CDTF">2017-02-20T18:06:49Z</dcterms:modified>
  <cp:revision>18</cp:revision>
  <dc:subject/>
  <dc:title>Моё творчество.</dc:title>
</cp:coreProperties>
</file>