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37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AD0A-668B-48D7-B6C5-3D444D9E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1B81-AEC2-4E4C-AD76-B36B1FC5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4FB9-9BB9-41CC-91F7-2D4A5F1B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A491-7FEC-4CA3-8FBF-19433A5F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F213-761B-4745-9145-AE685852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0D02-5852-473D-8008-707C9A57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0410-0F88-419C-9A0E-328BD179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4E20-445E-4181-872F-C6FB952F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6042-1C2F-4DFD-8571-AE57CCF4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40BE-800F-413A-B6D9-B89EB48A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E044-1138-4AD1-9026-FDAF41EE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A2F0-83FF-4360-8405-6D6EBF43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735C-3D54-4D24-8F93-5734BD69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1ED2-14D0-48BD-8B02-A752607C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FFF1-C291-4D14-A231-D9236BE9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17A9-5E33-4370-A4D1-DBFDD9CA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F331-5003-4831-9E51-A80BE736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B38C9-BE6E-4FC2-A466-D0EB11EA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3248B-1A7A-4077-AF70-FB48EF01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FD388-BB21-420F-8DC1-583F2775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466FE-B83A-4BDD-B296-0CC43F28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406B2-E2FF-45E4-A8F9-A2DE1783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DC90-EE76-492E-B60F-6E811144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123F1-22D4-48BF-8005-0274289B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14476-A689-4163-A712-EB8E6A9C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C257A-79A4-4B3E-84E0-19ACE308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D243F-0B3C-4423-99DD-BFE4DD0C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0928B-1FC8-4040-A054-92B29F3D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875B5-972C-4650-92D9-50DE61A3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6FF7D-6E98-4C7D-9B12-4EEDAB3C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C65B9-1C9E-47A8-9658-79F80968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E976A-5A6A-40C2-8503-265C2224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D128C-6997-439A-A14F-212FE054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E5EF-3251-43EC-B841-5FA5D0A5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EF9D6-3BFA-4FAB-A111-3B64B1AF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CCD92-B19D-434E-AC52-398876E6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1B752-5BC7-4A91-93FD-CCA88175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F6873-76D8-4D9A-8AEF-2024C2E2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66D6A-98B2-42A0-B1B6-BAB90A5D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B72B0-7EB8-41F6-952E-E10863B3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C9A0A-41DA-4F6D-A802-68A37D9D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A9B2D-5F1E-4046-A862-844EE169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6BFD1-5368-4378-8F12-A38EF6CF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CDC4-1FC8-4B81-950A-6FBDD049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C732-02EE-42E4-B756-C680D478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A2B6-A31D-457F-9C65-142402BA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99A5-B5BE-4843-A88F-04F03B45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905D-6D16-4E1E-B0D4-E380CCFE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CD56-B080-4AA5-8A7F-8703B764987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8CE7-46C5-42AA-9183-418751EAA4B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44A8-F646-47BB-8BD6-86CC5697414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5224-0D90-46B7-9ACE-3CA8620D589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93560" y="73080"/>
            <a:ext cx="7864560" cy="1974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1320" y="1714680"/>
            <a:ext cx="78548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бное занятие по алгебре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класс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ала: учитель математик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го бюджетного образовательного учреждения «Новоаганская общеобразовательная средняя школа  №2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Клюева Лариса Валентинов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оаганск, 2014год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Актуализация знаний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роизведение опорных знаний предыдущих уроков, установление осознанности их понимания, полноты и правильности их примене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 доске во время перерыва перед уроком тремя обучающимися записано решение домашнего задания. Ребята меняются тетрадями и осуществляют взаимопроверку. Оценка выставляется карандашом. Результат заносится в маршрутный лис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42960" y="3643200"/>
          <a:ext cx="7858080" cy="2773440"/>
        </p:xfrm>
        <a:graphic>
          <a:graphicData uri="http://schemas.openxmlformats.org/drawingml/2006/table">
            <a:tbl>
              <a:tblPr/>
              <a:tblGrid>
                <a:gridCol w="2548080"/>
                <a:gridCol w="2547720"/>
                <a:gridCol w="2762280"/>
              </a:tblGrid>
              <a:tr h="277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5(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3+3х)+(8х-41)=15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+3х+8х-41=15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х+8х=15-23+4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х=33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=33:1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=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: х=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5(б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9+2х)-(5х-11)=25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+2х-5х+11=25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х-5х=25-19-11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х=- 5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=-5:(-3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вет: х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3(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23" name="Object 14"/>
              <p:cNvSpPr txBox="1"/>
              <p:nvPr/>
            </p:nvSpPr>
            <p:spPr>
              <a:xfrm>
                <a:off x="3571920" y="5286240"/>
                <a:ext cx="2858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4357800" y="5715000"/>
                <a:ext cx="2854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6"/>
              <p:cNvSpPr txBox="1"/>
              <p:nvPr/>
            </p:nvSpPr>
            <p:spPr>
              <a:xfrm>
                <a:off x="5857920" y="3929040"/>
                <a:ext cx="24256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М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ху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ху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</m:e>
                      <m:e>
                        <m:r>
                          <m:t xml:space="preserve">М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ху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ху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М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ху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ху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М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ху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М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ху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159012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14200"/>
            <a:ext cx="82296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минка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 чтобы вы могли успешно работать далее, повторим некоторые вопросы теории и практики в ходе  «Своей игры». Играют пары . На экране 16 вопросов. Пара выбирает вопрос и отвечает: если правильно, то баллы делятся пополам и прибавляются каждому. При неправильном ответе баллы не начисляются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ронтальная работа)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 работ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ие правила мы сейчас повторили? (Свойства степеней, действия с одночленами и многочленами.)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2" descr="C:\Users\KOMP\Pictures\c6addb13.jpg"/>
          <p:cNvPicPr/>
          <p:nvPr/>
        </p:nvPicPr>
        <p:blipFill>
          <a:blip r:embed="rId1"/>
          <a:stretch/>
        </p:blipFill>
        <p:spPr>
          <a:xfrm>
            <a:off x="357120" y="3500280"/>
            <a:ext cx="4216320" cy="3071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Users\KOMP\Pictures\82b395df.jpg"/>
          <p:cNvPicPr/>
          <p:nvPr/>
        </p:nvPicPr>
        <p:blipFill>
          <a:blip r:embed="rId2"/>
          <a:stretch/>
        </p:blipFill>
        <p:spPr>
          <a:xfrm>
            <a:off x="4714920" y="3429000"/>
            <a:ext cx="4187880" cy="3143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Users\KOMP\Pictures\9d8fa1f3.jpg"/>
          <p:cNvPicPr/>
          <p:nvPr/>
        </p:nvPicPr>
        <p:blipFill>
          <a:blip r:embed="rId3"/>
          <a:stretch/>
        </p:blipFill>
        <p:spPr>
          <a:xfrm>
            <a:off x="4786200" y="3500280"/>
            <a:ext cx="4151520" cy="3214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Users\KOMP\Pictures\8f867cd4.jpg"/>
          <p:cNvPicPr/>
          <p:nvPr/>
        </p:nvPicPr>
        <p:blipFill>
          <a:blip r:embed="rId4"/>
          <a:stretch/>
        </p:blipFill>
        <p:spPr>
          <a:xfrm>
            <a:off x="4786200" y="3500280"/>
            <a:ext cx="4357800" cy="3194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C:\Users\KOMP\Pictures\c0bb3adc (1).jpg"/>
          <p:cNvPicPr/>
          <p:nvPr/>
        </p:nvPicPr>
        <p:blipFill>
          <a:blip r:embed="rId5"/>
          <a:stretch/>
        </p:blipFill>
        <p:spPr>
          <a:xfrm>
            <a:off x="4786200" y="3500280"/>
            <a:ext cx="4214880" cy="3143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2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2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2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7" descr="C:\Users\KOMP\Pictures\55c5ae0e.jpg"/>
          <p:cNvPicPr/>
          <p:nvPr/>
        </p:nvPicPr>
        <p:blipFill>
          <a:blip r:embed="rId1"/>
          <a:stretch/>
        </p:blipFill>
        <p:spPr>
          <a:xfrm rot="19220400">
            <a:off x="-66240" y="4579560"/>
            <a:ext cx="2305080" cy="1743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C:\Users\KOMP\Pictures\c34124ac.jpg"/>
          <p:cNvPicPr/>
          <p:nvPr/>
        </p:nvPicPr>
        <p:blipFill>
          <a:blip r:embed="rId2"/>
          <a:stretch/>
        </p:blipFill>
        <p:spPr>
          <a:xfrm rot="19238400">
            <a:off x="1711440" y="4592160"/>
            <a:ext cx="2324160" cy="1724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C:\Users\KOMP\Pictures\f2871665.jpg"/>
          <p:cNvPicPr/>
          <p:nvPr/>
        </p:nvPicPr>
        <p:blipFill>
          <a:blip r:embed="rId3"/>
          <a:stretch/>
        </p:blipFill>
        <p:spPr>
          <a:xfrm rot="19053600">
            <a:off x="3504960" y="4574880"/>
            <a:ext cx="2276280" cy="17431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бобщение и систематизация знаний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уровень усвоения материал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фы и математик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 некоторых мифических персонажей состоит из головы и туловища, взятых от разных существ. Расшифруйте их названия. Для этого нужно установить соответствие между заданиями, расположенными в левом столбце и ответами в право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верка выполнения, заполнение маршрутных листов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12" descr="C:\Users\KOMP\Pictures\dce25187.jpg"/>
          <p:cNvPicPr/>
          <p:nvPr/>
        </p:nvPicPr>
        <p:blipFill>
          <a:blip r:embed="rId4"/>
          <a:stretch/>
        </p:blipFill>
        <p:spPr>
          <a:xfrm rot="19105200">
            <a:off x="5075280" y="4684680"/>
            <a:ext cx="2295360" cy="1743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Users\KOMP\Pictures\0c925189.jpg"/>
          <p:cNvPicPr/>
          <p:nvPr/>
        </p:nvPicPr>
        <p:blipFill>
          <a:blip r:embed="rId5"/>
          <a:stretch/>
        </p:blipFill>
        <p:spPr>
          <a:xfrm rot="18936600">
            <a:off x="6695640" y="4589280"/>
            <a:ext cx="2305080" cy="1704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C:\Users\KOMP\Desktop\91f3bbaf.jpg"/>
          <p:cNvPicPr/>
          <p:nvPr/>
        </p:nvPicPr>
        <p:blipFill>
          <a:blip r:embed="rId1"/>
          <a:stretch/>
        </p:blipFill>
        <p:spPr>
          <a:xfrm>
            <a:off x="-423720" y="-324000"/>
            <a:ext cx="9991440" cy="7506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KOMP\Pictures\afa91b6c.jpg"/>
          <p:cNvPicPr/>
          <p:nvPr/>
        </p:nvPicPr>
        <p:blipFill>
          <a:blip r:embed="rId2"/>
          <a:stretch/>
        </p:blipFill>
        <p:spPr>
          <a:xfrm>
            <a:off x="-438120" y="-347760"/>
            <a:ext cx="10020240" cy="7553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KOMP\Pictures\c2693a74.jpg"/>
          <p:cNvPicPr/>
          <p:nvPr/>
        </p:nvPicPr>
        <p:blipFill>
          <a:blip r:embed="rId3"/>
          <a:stretch/>
        </p:blipFill>
        <p:spPr>
          <a:xfrm>
            <a:off x="-466560" y="-371520"/>
            <a:ext cx="10077120" cy="7601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KOMP\Pictures\2b2ad82f.jpg"/>
          <p:cNvPicPr/>
          <p:nvPr/>
        </p:nvPicPr>
        <p:blipFill>
          <a:blip r:embed="rId4"/>
          <a:stretch/>
        </p:blipFill>
        <p:spPr>
          <a:xfrm>
            <a:off x="-457200" y="-343080"/>
            <a:ext cx="10058400" cy="75441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C:\Users\KOMP\Pictures\ce15bfd3.jpg"/>
          <p:cNvPicPr/>
          <p:nvPr/>
        </p:nvPicPr>
        <p:blipFill>
          <a:blip r:embed="rId5"/>
          <a:stretch/>
        </p:blipFill>
        <p:spPr>
          <a:xfrm>
            <a:off x="-447840" y="-366840"/>
            <a:ext cx="10039680" cy="7591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73296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Стрела»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самостоятельная работа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предстоит решить нетрудные задания на сложение и вычитание многочленов. Эти задания им  известны под названием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ела»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ужно найти сумму двух многочленов и результат записать в третью клетку. Затем найти сумму двух последних многочленов и результат записать в следующую клетку. В последней клетке получится ответ на это задание. Обучающиеся, быстро справившиеся с заданием, заполняют клетки, находя также разность.  Результаты выполнения этого задания проверяются по ключу и за правильные ответы  учащиеся выставляют баллы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5 баллов за каждый правильный ответ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заимопроверка)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 работы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какой целью выполнялось задание? (Повторение правил раскрытия скобок, отработка навыка приведения подобных членов)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7" descr="C:\Users\KOMP\Pictures\a968fcea.jpg"/>
          <p:cNvPicPr/>
          <p:nvPr/>
        </p:nvPicPr>
        <p:blipFill>
          <a:blip r:embed="rId1"/>
          <a:stretch/>
        </p:blipFill>
        <p:spPr>
          <a:xfrm>
            <a:off x="428760" y="4929120"/>
            <a:ext cx="2295360" cy="1714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C:\Users\KOMP\Pictures\be4464c5.jpg"/>
          <p:cNvPicPr/>
          <p:nvPr/>
        </p:nvPicPr>
        <p:blipFill>
          <a:blip r:embed="rId2"/>
          <a:stretch/>
        </p:blipFill>
        <p:spPr>
          <a:xfrm>
            <a:off x="3429000" y="4929120"/>
            <a:ext cx="2286000" cy="17240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C:\Users\KOMP\Pictures\e64c2b6f.jpg"/>
          <p:cNvPicPr/>
          <p:nvPr/>
        </p:nvPicPr>
        <p:blipFill>
          <a:blip r:embed="rId3"/>
          <a:stretch/>
        </p:blipFill>
        <p:spPr>
          <a:xfrm>
            <a:off x="6429240" y="4857840"/>
            <a:ext cx="2305080" cy="1724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2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2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21392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абить умственное напряжение, снять зрительное утомле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4" descr="C:\Users\KOMP\Pictures\9e146657.jpg"/>
          <p:cNvPicPr/>
          <p:nvPr/>
        </p:nvPicPr>
        <p:blipFill>
          <a:blip r:embed="rId1"/>
          <a:stretch/>
        </p:blipFill>
        <p:spPr>
          <a:xfrm>
            <a:off x="2571840" y="2857680"/>
            <a:ext cx="4381560" cy="3286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2000" fill="hold"/>
                                        <p:tgtEl>
                                          <p:spTgt spid="2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именение знаний и умений в новой ситуации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28760" y="1143000"/>
            <a:ext cx="822960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полученных знаний для решения нестандартных задан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парах  «Не подведи»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у каждого из учащегося есть определенное количество баллов,  которое он может увеличить, работая в парах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, сидящие за одной партой, получают задание одно на двоих и баллы, за правильность выполнения, тоже будут начисляться на двоих. В парных карточках два примера, учащимся необходимо найти ответы и  сумму или разность ответов. Что именно находить написано вверху карточк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м выполнении задания, каждому ученику в паре начисляетс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балло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ыведенным на экран ответам,  учащиеся проверяют правильность выполнения задания (самопроверка).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4" descr="C:\Users\KOMP\Pictures\5ee384f8.jpg"/>
          <p:cNvPicPr/>
          <p:nvPr/>
        </p:nvPicPr>
        <p:blipFill>
          <a:blip r:embed="rId1"/>
          <a:stretch/>
        </p:blipFill>
        <p:spPr>
          <a:xfrm>
            <a:off x="0" y="-571680"/>
            <a:ext cx="10058400" cy="75726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C:\Users\KOMP\Pictures\092e7be6.jpg"/>
          <p:cNvPicPr/>
          <p:nvPr/>
        </p:nvPicPr>
        <p:blipFill>
          <a:blip r:embed="rId2"/>
          <a:stretch/>
        </p:blipFill>
        <p:spPr>
          <a:xfrm>
            <a:off x="6286680" y="4500720"/>
            <a:ext cx="2286000" cy="1724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" dur="2000" fill="hold"/>
                                        <p:tgtEl>
                                          <p:spTgt spid="2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онструктор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Работа в парах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клетки каждого квадрата такие выражения, чтобы их сумма в каждом столбце, каждой строке и каждой диагонали была равна выражению, записанному в треугольнике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лы начисляются по 5 за каждый правильный ответ и делятся попола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, которые затрудняются выполнить задание, выполняют 3 и 4 вариант предыдущего задания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ние копируется из предыдущего задания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верка выполнения и заполнение маршрутных лист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 работы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умения, качества  развивали? Какие правила повторили? (Умение работать в паре, развитие  внимания, правило  нахождения неизвестного компонента-многочлена, правила  раскрытия скобок, приведения подобных членов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9" name="Picture 2" descr="C:\Users\KOMP\Pictures\336762e6.jpg"/>
          <p:cNvPicPr/>
          <p:nvPr/>
        </p:nvPicPr>
        <p:blipFill>
          <a:blip r:embed="rId1"/>
          <a:stretch/>
        </p:blipFill>
        <p:spPr>
          <a:xfrm>
            <a:off x="357120" y="4143240"/>
            <a:ext cx="3071880" cy="2322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C:\Users\KOMP\Pictures\1d04995c.jpg"/>
          <p:cNvPicPr/>
          <p:nvPr/>
        </p:nvPicPr>
        <p:blipFill>
          <a:blip r:embed="rId2"/>
          <a:stretch/>
        </p:blipFill>
        <p:spPr>
          <a:xfrm>
            <a:off x="5715000" y="4143240"/>
            <a:ext cx="3000240" cy="2300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C:\Users\KOMP\Pictures\164e8631.jpg"/>
          <p:cNvPicPr/>
          <p:nvPr/>
        </p:nvPicPr>
        <p:blipFill>
          <a:blip r:embed="rId3"/>
          <a:stretch/>
        </p:blipFill>
        <p:spPr>
          <a:xfrm>
            <a:off x="3071880" y="3143160"/>
            <a:ext cx="3078000" cy="2324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2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2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2000" fill="hold"/>
                                        <p:tgtEl>
                                          <p:spTgt spid="2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онтроль усвоения, обсуждение допущенных ошибок и их коррекция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, самоанализ  и оценка успешности достижения планируемых результат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чет общего количества баллов. По таблице, выведенной на экран, каждый учащийся может увидеть какую оценку  он заработал,  и поставить её в лист личных достижений. Перед уходом с урока листы личных достижений  и тетради учащиеся сдают учител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Picture 3" descr="C:\Users\KOMP\Pictures\55d95b34 (1).jpg"/>
          <p:cNvPicPr/>
          <p:nvPr/>
        </p:nvPicPr>
        <p:blipFill>
          <a:blip r:embed="rId1"/>
          <a:stretch/>
        </p:blipFill>
        <p:spPr>
          <a:xfrm>
            <a:off x="5643720" y="4214880"/>
            <a:ext cx="3100320" cy="237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" dur="20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онимания  содержания и способов выполнения домашнего задания. Проверка соответствующих записе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и фронтальная формы работы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 записывается в дневник каждым учащимся,  и проводится подробная инструкция по его выполнению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необходимых и достаточных условий для успешного выполнения домашнего задания всеми учащимися в соответствии с уровневым  дифференцированием.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2" descr="C:\Users\KOMP\Pictures\42733c0c.jpg"/>
          <p:cNvPicPr/>
          <p:nvPr/>
        </p:nvPicPr>
        <p:blipFill>
          <a:blip r:embed="rId1"/>
          <a:stretch/>
        </p:blipFill>
        <p:spPr>
          <a:xfrm>
            <a:off x="3857760" y="3071880"/>
            <a:ext cx="4019400" cy="2981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2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85816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ема : «Сложение и вычитание многочленов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учебного занят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вторение и обобщение знан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проведения учебного занятия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шеств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орудование для педагог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ска,  медиапроектор, ноутбук,  презентация к уроку  с заданиями, презентация  музыкальной физкультминутк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орудование для  учащихс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рточки – задания; маршрутный лист; тетрад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для учителя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благоприятные условия для обобщения и систематизации  знаний по теме и перевести деятельность учащихся с репродуктивной до творческой за счет использования методик КСО и индивидуального дифференцированного подход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ефлекси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условия для формирования навыков  самоанали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вернемся к началу урока – притче о Сократ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нимите руку те, кто считает, что поднялся на ступеньку вверх в путешествии к знаниям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, теперь поднимите руку те, кто остался на мест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сли есть, те -  кто стал на ступеньку ниж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скажите ваше мнение об урок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 оценили достижение поставленных в начале урока целей, эффективность работы класса, увлекательность и полезность выбранных форм работы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11512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амоанализ урока  алгебры  в 7б классе</a:t>
            </a:r>
            <a:br>
              <a:rPr sz="2900"/>
            </a:br>
            <a:r>
              <a:rPr b="1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 теме: «Сложение и вычитание многочленов»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алгебры был проведен в соответствии с программными требованиями по курсу  с использованием учебно-методического комплекса    Ю.Н. Макарычева, Н.Г. Миндюк, К.Н. Нешкова, С.Б. Суворовой. Это  четвертый   урок из  семнадцати в разделе «Многочлены». Урок был проведен в 7б классе. Класс средний, не все учащиеся могут работать в быстром темпе. Класс к уроку был готов, на партах лежали все необходимые принадлежности, учащиеся быстро включились в деловой ритм. Ребята были готовы к восприятию данной темы и имели достаточный запас знаний. С первых минут урока стало ясно, что учащиеся не равнодушны к предмету математика. Взаимоотношения между детьми ровные, спокойные, дружеские. Ребята данного класса владеют диалогической формой общения, умеют слушать и слышать другог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для учителя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благоприятные условия для обобщения и систематизации  знаний по теме и перевести деятельность учащихся с репродуктивной до творческой за счет использования методик КСО и индивидуального дифференцированного подход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159012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429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Задачи данного урок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учающа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и систематизация знаний  по теме «Сложение и вычитание многочленов»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 умения раскрывать скобки, приводить подобные слагаемые,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уровня усвоения материал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вивающа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мения работать в группе, координировать свою деятельность с другими участниками учебного процесс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навыков  оценивания своей учебной деятельности и деятельности своего партнер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грамотной математической речи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ышления: умения сравнивать, анализировать, проводить аналогии, прогнозировать, делать вывод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 учебно-познавательной компетенции учащихс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спитательна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культуры общения, уважения к собеседнику и учителю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интереса  к предмет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толерантност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6868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42560"/>
            <a:ext cx="822960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ип уро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повторение и обобщение знани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рма урока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утешестви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ализации данных задач был подобран соответствующий материал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остроения урока выдержана с учетом логики процесса обобщения и систематизации материал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урока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рганизационный момент –  1 минут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становка цели и задач урока. Мотивация учебной деятельности учащихся  - 3 минут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ктуализация знаний – 10 минут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бобщение и систематизация знаний – 13 минут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изкультминутка для глаз – 1 минут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Применение знаний и умений в новой ситуации – 10 минут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Контроль усвоения, обсуждение допущенных ошибок и их коррекция - 3 минуты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Домашнее задание – 2 минуты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тоговая рефлексия урока – 2 минут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6868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429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8560" indent="-26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й момент включал в себя предварительную организацию класса, мобилизующее начало урока, мотивацию деятельности учащихся, создание психологической комфортности и подготовку учащихся к активному и сознательному труду. Подготовка класса и каждого ученика была проверена мною визуально. Для снятия стрессообразующих факторов учебного процесса, создание на уроке атмосферы доброжелательности, сотрудничества я использовала рефлексивный момен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8560" indent="-26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полагание было определено учащимися в результате диалога. Последующая деятельность учеников осознавалась ими как своя собственна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8560" indent="-26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й этап – мотивационно - ориентировочный. Дидактической задачей этого этапа урока являлось формирование  интереса к материалу, пробуждение творческой мысли, осознанное принятие учащимися цели познавательной деятельност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8560" indent="-26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знаний . Его дидактическая задача – воспроизведение опорных знаний предыдущих уроков, установление осознанности их понимания, полноты и правильности их применения (через устную работу – «Своя игра»). На этом этапе мне удалось вовлечь учащихся в процесс активного взаимодействия по реконструкции ранее изученного материала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6868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71280"/>
            <a:ext cx="8229600" cy="62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й этап - обобщение и систематизация знаний. В ходе выполнения самостоятельной работы ребята получили достоверную информацию о достижении собственных планируемых результатов. На этом этапе удалось определить уровень усвоения материала и приступить к устранению типичных ошибок у ребят и доведению знаний учащихся до обязательного уровня  - создание условий, обеспечивающих процесс самостоятельного применения знаний и способов действий. Они состоят из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дивидуальной самостоятельной работы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контроля, самооценки, взаимоконтроля и взаимооценки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ктики под руководством учителя и коррекции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ю были созданы условия, требующие от учащихся пробы своих возможностей самоопределения, самоутверждения, самооценки (развитие рефлексивных качеств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на этом этапе работали самостоятельн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я роль на данном этапе заключалась в координации и консульта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кончанию самостоятельной работы, с помощью готовых ответов на экране, учащиеся осуществили самопроверку и взаимопроверку.  Результаты этапов  «Мифы и математика» и игры Стрела» были продемонстрированы и на слайдах. Обучающиеся увидели результаты своего труд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80424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4292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а помогла  ослабить умственное напряжение, снять зрительное утомлени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апе применения знаний и умений в новой ситуации были использованы задания с применением  приёмов и методов технологии уровневой дифференциации. Каждый обучающийся был самостоятелен в выборе способов обучения, учился делать осознанный выбор. Разноуровневые задания позволили всем обучающимся работать в соответствии с выбранным уровнем, реализовать свои потребности и способности. Каждый обучающийся имел возможность перейти в зону ближайшего развития при незначительной помощи учителя, выполняющего на данном уроке роль консультанта и организатора учебной деятельности. Задания были продуманы с учетом возможностей каждого ученик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й этап – подведение итогов. Дидактическая цель – анализ, самоанализ  и оценка успешности достижения планируемых результатов. Со стороны учащихся я почувствовала проявление заинтересованности в работе, стимулирование к личным достижениям. Этот этап послужил объективной самооценке, оценке учителя, получению обучающимися информации о реальных результатах своей деятельност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116172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21384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редной этап – задание на дом. О домашнем задании была дана полная информация, предложенные на выбор задания были прокомментированы.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апе рефлексии урока обучающиеся оценили достижение поставленных в начале урока целей, эффективность работы класса, увлекательность и полезность выбранных форм работы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достичь целей урока, был подобран материал  доступный и интересный для восприятия учащихся 7 класса, для того чтобы каждый ученик справился с заданием, на уроке использована  мультимедийная презентация. Материал урока оказался  интересным.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паре требовала от  учащихся умения прислушиваться друг к другу. Кроме того работа в парах имеет большой воспитательный эффект, так как создает условия для развития самостоятельности, сотрудничества, взаимопонимания и общения всех дете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 был виден принцип создания необходимых условий для обучени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используемый материал излагался на доступном уровне, что помогло настроить ребят на работу и восприятие дальнейшего материала. Ученики не испытывали интеллектуальных, физических, моральных перегрузок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6868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7128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сберегающая работа заключалась  в равномерной нагрузке на всех обучающихся, были учтены возрастные и индивидуальные особенности  учащихс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терес  к изучению предмета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витые на достаточном уровне умения и навыки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остаточно высокая мотивация, которая стимулировалась похвалой за активность,  самостоятельность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здание благоприятного клима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наблюдалось рациональное использование времени, предупреждение перегрузки детей обеспечивалось за счёт быстрой смены видов деятельност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с мультимедийной поддержкой эмоционален и не утомляет учащихся за счёт переключения на разнообразные виды деятельности, что резко повышает познавательный интерес, служит развитию воображения, внимания, мышления, речи и памят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урока были реализованы следующие методы организации и осуществления учебно-познавательной деятельност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сточнику получения знаний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сные (ответы  учащихся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ые (наглядная презентация учебного материала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е (выполнение практических заданий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8758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97560" indent="-9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епени активности познавательной деятельности учащихся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97560" indent="-9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чно-поисковый (эвристический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97560" indent="-9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льны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97560" indent="-9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люстративный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97560" indent="-9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особу передачи и восприятия учебной информации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97560" indent="-9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уктивный (от общего к частному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97560" indent="-9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особу организации учебной работы, по степени управления учебной работой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97560" indent="-9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ая форма организации работ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97560" indent="-9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пара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97560" indent="-9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организации и осуществления учебно-познавательной деятельности обеспечили  мотивацию, сотрудничество  учителя и  обучающихся, соответствовали содержанию и целям урока. Формы познавательной деятельности  способствовали включению  в работу каждого обучающегося, обеспечили сотрудничество между ним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97560" indent="-9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проведен продуктивно. Цели и задач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ленные на уроке,  были полностью реализованы в ходе уро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97560" indent="-9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и сложность учебного материала соответствовали образовательным стандартам по алгебре, учебным возможностям данного класса. Задания были направлены на развитие познавательной деятельности, на развитие самостоятельности обучающихся. Урок носил практический, развивающий и обучающий характер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97560" indent="-9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Задачи данного урока:</a:t>
            </a:r>
            <a:br>
              <a:rPr sz="45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учающа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и систематизация знаний  по теме «Сложение и вычитание многочленов»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 умения раскрывать скобки, приводить подобные слагаемые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уровня усвоения материал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вивающа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мения работать в группе, координировать свою деятельность с другими участниками учебного процесс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навыков оценивания своей учебной деятельности и деятельности своего партнер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грамотной математической речи  учащихся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ышления: умения сравнивать, анализировать, проводить аналогии, прогнозировать, делать вывод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чебно-познавательной компетенции учащихс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спитательна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культуры общения, уважения к собеседнику и учителю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интереса к предмет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толерантност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Этапы урок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рганизационный момент –  1 минут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становка цели и задач урока. Мотивация учебной деятельности учащихся  - 3 минут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ктуализация знаний – 10 мину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бобщение и систематизация знаний – 13 мину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изкультминутка для глаз – 1 мину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Применение знаний и умений в новой ситуации – 10 мину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Контроль усвоения, обсуждение допущенных ошибок и их коррекция - 3 минуты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Домашнее задание – 2 минуты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тоговая рефлексия урока – 2 минут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рганизационный момент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организации обучающихся к начал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а, создание психологической комфортности  и  подготовки учащихся к активному и сознательном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у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ное приветстви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готовности обучающихся к работ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вним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становка цели и задач урока.</a:t>
            </a:r>
            <a:br>
              <a:rPr sz="2900"/>
            </a:br>
            <a:r>
              <a:rPr b="1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отивация учебной деятельности обучающихся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4268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Цель: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учащихся к самовыводу цели,  возбуждение интереса к материалу, пробуждение творческой мысли, осознанное принятие учащимися цели познавательной деятельност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итель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ы начинаем необычный урок повторения   и обобщения. Необычен он тем, что этот урок  - путешествие. Хочу начать наше путешествие с притчи: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Однажды Сократ, окружённый учениками, поднимался к храму. Навстречу им спускалась известная афинская гетера. «Вот ты гордишься своими учениками, Сократ, - улыбнулась она ему, - но стоит мне только легонько поманить их, как они покинут тебя и пойдут вслед за мной». Мудрец же ответил так: «Да, но ты зовёшь их вниз, в тёплую весёлую долину, а я веду их вверх, к неприступным, чистым вершинам»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и мы с вами сегодня должны отправиться в путешествие к знаниям. В процессе путешествия мы выполним интересные задания, работая в парах, индивидуально и коллективно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123300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12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461960" indent="-209520">
              <a:lnSpc>
                <a:spcPct val="100000"/>
              </a:lnSpc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ит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ш урок – урок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ения,  тема урок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100000"/>
              </a:lnSpc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ложение и вычитание многочленов»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100000"/>
              </a:lnSpc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то мы сегодня должны повторить?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веты учащихся) повторить  все,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 знаем о многочленах: определение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 раскрытия скобок,  приведени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ных  слагаемых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свою речь; быть внимательным, слушать учителя и  своего  товарищ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работать в паре и самостоятельн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2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утешествие не показалось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чным, пусть нашим девизом станут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Б. Паскаля «Предмет математика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ко серьезен, что полезно не упускать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ев, делать его немного занимательным»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5" descr="C:\Users\KOMP\Pictures\e3a65158.jpg"/>
          <p:cNvPicPr/>
          <p:nvPr/>
        </p:nvPicPr>
        <p:blipFill>
          <a:blip r:embed="rId1"/>
          <a:stretch/>
        </p:blipFill>
        <p:spPr>
          <a:xfrm>
            <a:off x="5500800" y="3929040"/>
            <a:ext cx="3423960" cy="2571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C:\Users\KOMP\Pictures\0868cbb9.jpg"/>
          <p:cNvPicPr/>
          <p:nvPr/>
        </p:nvPicPr>
        <p:blipFill>
          <a:blip r:embed="rId2"/>
          <a:stretch/>
        </p:blipFill>
        <p:spPr>
          <a:xfrm>
            <a:off x="357120" y="285840"/>
            <a:ext cx="3292560" cy="25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144720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00040" y="356760"/>
            <a:ext cx="8229600" cy="62866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обучающихся с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ом учебной работы на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е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нтирование всех этапов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оящей работы и знакомство с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ями оценивания на каждом этапе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ечным результато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апы путеше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 каждого обучающегося  на парт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тся маршрутный лист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ъяснение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правила заполнения этих листов).  Каждому предстоит решить 4 задачи.   Задачи представлены на слайдах, а также у каждого имеются на столах экземпляры в печатном виде. Урок  состоит из нескольких этапов,  во время проведения которых каждый  будет набирать баллы. Чем больше  баллов за урок  наберет  обучающийся, тем выше оценку он получит.  Если на уроке у  учащегося появляется  свободное от заданий время, он разгадывает ребусы, за каждый, из которых  получает 10 балл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(показатель)                                                            (знаменатель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Рисунок 1" descr="img1"/>
          <p:cNvPicPr/>
          <p:nvPr/>
        </p:nvPicPr>
        <p:blipFill>
          <a:blip r:embed="rId1"/>
          <a:stretch/>
        </p:blipFill>
        <p:spPr>
          <a:xfrm>
            <a:off x="642960" y="5572080"/>
            <a:ext cx="2619360" cy="104616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2" descr="img2"/>
          <p:cNvPicPr/>
          <p:nvPr/>
        </p:nvPicPr>
        <p:blipFill>
          <a:blip r:embed="rId2"/>
          <a:stretch/>
        </p:blipFill>
        <p:spPr>
          <a:xfrm>
            <a:off x="5214960" y="5786280"/>
            <a:ext cx="1771560" cy="7905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C:\Users\KOMP\Pictures\88e318f5.jpg"/>
          <p:cNvPicPr/>
          <p:nvPr/>
        </p:nvPicPr>
        <p:blipFill>
          <a:blip r:embed="rId3"/>
          <a:stretch/>
        </p:blipFill>
        <p:spPr>
          <a:xfrm>
            <a:off x="285840" y="428760"/>
            <a:ext cx="3714840" cy="2747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C:\Users\KOMP\Pictures\11a8f107.jpg"/>
          <p:cNvPicPr/>
          <p:nvPr/>
        </p:nvPicPr>
        <p:blipFill>
          <a:blip r:embed="rId4"/>
          <a:stretch/>
        </p:blipFill>
        <p:spPr>
          <a:xfrm>
            <a:off x="285840" y="428760"/>
            <a:ext cx="3714840" cy="270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аршрутный лист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амилия, имя_______________________________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28800" y="1785960"/>
          <a:ext cx="6381720" cy="4263840"/>
        </p:xfrm>
        <a:graphic>
          <a:graphicData uri="http://schemas.openxmlformats.org/drawingml/2006/table">
            <a:tbl>
              <a:tblPr/>
              <a:tblGrid>
                <a:gridCol w="4012920"/>
                <a:gridCol w="236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омер эта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оличество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машнее зад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минка «Своя игр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ифы и 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гра  «Стрел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бота в парах «Не подвед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нстру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бу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т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06:50:22Z</dcterms:created>
  <dc:creator>KOMP</dc:creator>
  <dc:description/>
  <dc:language>en-US</dc:language>
  <cp:lastModifiedBy>KOMP</cp:lastModifiedBy>
  <dcterms:modified xsi:type="dcterms:W3CDTF">2014-02-03T16:02:20Z</dcterms:modified>
  <cp:revision>127</cp:revision>
  <dc:subject/>
  <dc:title>Муниципальное бюджетное образовательное учреждение «Новоаганская общеобразовательная средняя школа  №2»</dc:title>
</cp:coreProperties>
</file>