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37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BC2-1A9E-4D57-A8F5-BB09A477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3D7-0367-408A-8FD3-422422B9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E1C-8617-4D8B-AD75-A4D811E9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5B8-7464-4032-BDC7-215DB4CD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DFB2-A124-41EF-83B4-AC20F0C0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3146-AAA1-4A95-AD8D-602B6D98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A35A-3070-4118-87E8-057EB6E6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F458-3ABE-4E44-A5DF-FB9A4354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CBAB-FEF7-48D4-A29A-959D9950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9EED-8821-4CF9-BC21-8751F93C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2FDA-9769-44CD-9225-E5EF907C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299-42F3-4AB8-87AF-8D6DAAB5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D7ED-685A-46E1-90A7-704D85F1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66A1-8BF0-4F6F-95B5-E2F0AF7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E8CC-2A40-4FCC-ACA3-31914EF2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EC70-44CB-4D1E-A969-1F1A5009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11E5-A8B8-45E3-AA0D-28F63AE8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90A1-7EE3-45BB-9D2D-F0BFF499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246E-AB19-4A7B-A8EF-2B0DA21D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34DA9-E623-44C7-AD12-87E33233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E281-1EDC-41FB-A8AB-F5DB02E3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3DC4-A703-4A6B-9165-36C8B905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C24-D68E-4DFC-93E4-B61788F8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B51C-63C3-4935-B262-5A12C5B2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DE21-18AB-45C4-8AA6-859F28C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F15C-D519-4E41-A6E7-F6EE1F4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1D8B-9FE6-4048-8D52-D6AC28C3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2323-90F7-4BD2-8E8B-99B504C8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8A8A-942D-499C-895C-A15FE44C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7725-0F24-43A0-ADA0-2DF690E5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EBF3F-9AF6-46DA-AB62-F33544FA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C51A-CDC4-4F44-9790-13F757C3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E796C-A0A5-41D6-8F77-E4E9CE69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7A3-027C-49FC-BA92-FA7E6A4E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B6123-F8F7-4243-876E-34BE1E0C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BDCFE-4656-4CF9-A45C-A898E801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B23A7-4429-4F6A-9024-E028326A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38C7A-5E9F-4FE2-88D0-54360A68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65C8-961F-4B6E-B9CE-8D00BEB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E7A2-8900-44E5-8ED9-DD14E75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F3E81-52EB-44C9-A18A-FD16FBDE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E8F4E-D58C-4350-8419-01DD558D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1AE7D-EB96-49CD-A539-6F419166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1DD-83D1-4F0A-8BC0-5FACEC39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4D1-1006-4CDE-8D13-E470A06F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7B9-9299-4ED3-93AB-711F54C6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809-30D3-4126-A3F8-BFCE81FF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FDF-3610-4AB8-A42A-1733BA9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B1C5-89B4-4616-BF7B-379FD7CF675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2CFB-781B-4C36-8138-E3E830AB533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2427-B9AC-41D3-87B0-1AF25E60EA1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AB12-E0A5-4E18-8C33-87770698FB0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93560" y="73080"/>
            <a:ext cx="7864560" cy="1974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1714680"/>
            <a:ext cx="7854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е занятие по алгебре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ала: учитель математи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го бюджетного образовательного учреждения «Новоаганская общеобразовательная средняя школа  №2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люева Лариса Валентин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аганск, 2014год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оизведение опорных знаний предыдущих уроков, установление осознанности их понимания, полноты и правильности их примен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доске во время перерыва перед уроком тремя обучающимися записано решение домашнего задания. Ребята меняются тетрадями и осуществляют взаимопроверку. Оценка выставляется карандашом. Результат заносится в маршрутный лис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42960" y="3643200"/>
          <a:ext cx="7858080" cy="2773440"/>
        </p:xfrm>
        <a:graphic>
          <a:graphicData uri="http://schemas.openxmlformats.org/drawingml/2006/table">
            <a:tbl>
              <a:tblPr/>
              <a:tblGrid>
                <a:gridCol w="2548080"/>
                <a:gridCol w="2547720"/>
                <a:gridCol w="2762280"/>
              </a:tblGrid>
              <a:tr h="27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(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3+3х)+(8х-41)=1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+3х+8х-41=15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х+8х=15-23+4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х=33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33:1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: х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(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+2х)-(5х-11)=2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+2х-5х+11=2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х-5х=25-19-1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х=- 5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-5:(-3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вет: х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3(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3" name="Object 14"/>
              <p:cNvSpPr txBox="1"/>
              <p:nvPr/>
            </p:nvSpPr>
            <p:spPr>
              <a:xfrm>
                <a:off x="3571920" y="5286240"/>
                <a:ext cx="285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4357800" y="5715000"/>
                <a:ext cx="285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6"/>
              <p:cNvSpPr txBox="1"/>
              <p:nvPr/>
            </p:nvSpPr>
            <p:spPr>
              <a:xfrm>
                <a:off x="5857920" y="3929040"/>
                <a:ext cx="24256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М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М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15901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1420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минка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вы могли успешно работать далее, повторим некоторые вопросы теории и практики в ходе  «Своей игры». Играют пары . На экране 16 вопросов. Пара выбирает вопрос и отвечает: если правильно, то баллы делятся пополам и прибавляются каждому. При неправильном ответе баллы не начисляютс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ронтальная работа)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правила мы сейчас повторили? (Свойства степеней, действия с одночленами и многочленами.)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KOMP\Pictures\c6addb13.jpg"/>
          <p:cNvPicPr/>
          <p:nvPr/>
        </p:nvPicPr>
        <p:blipFill>
          <a:blip r:embed="rId1"/>
          <a:stretch/>
        </p:blipFill>
        <p:spPr>
          <a:xfrm>
            <a:off x="357120" y="3500280"/>
            <a:ext cx="4216320" cy="3071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KOMP\Pictures\82b395df.jpg"/>
          <p:cNvPicPr/>
          <p:nvPr/>
        </p:nvPicPr>
        <p:blipFill>
          <a:blip r:embed="rId2"/>
          <a:stretch/>
        </p:blipFill>
        <p:spPr>
          <a:xfrm>
            <a:off x="4714920" y="3429000"/>
            <a:ext cx="4187880" cy="3143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KOMP\Pictures\9d8fa1f3.jpg"/>
          <p:cNvPicPr/>
          <p:nvPr/>
        </p:nvPicPr>
        <p:blipFill>
          <a:blip r:embed="rId3"/>
          <a:stretch/>
        </p:blipFill>
        <p:spPr>
          <a:xfrm>
            <a:off x="4786200" y="3500280"/>
            <a:ext cx="415152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Users\KOMP\Pictures\8f867cd4.jpg"/>
          <p:cNvPicPr/>
          <p:nvPr/>
        </p:nvPicPr>
        <p:blipFill>
          <a:blip r:embed="rId4"/>
          <a:stretch/>
        </p:blipFill>
        <p:spPr>
          <a:xfrm>
            <a:off x="4786200" y="3500280"/>
            <a:ext cx="4357800" cy="3194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C:\Users\KOMP\Pictures\c0bb3adc (1).jpg"/>
          <p:cNvPicPr/>
          <p:nvPr/>
        </p:nvPicPr>
        <p:blipFill>
          <a:blip r:embed="rId5"/>
          <a:stretch/>
        </p:blipFill>
        <p:spPr>
          <a:xfrm>
            <a:off x="4786200" y="3500280"/>
            <a:ext cx="4214880" cy="314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C:\Users\KOMP\Pictures\55c5ae0e.jpg"/>
          <p:cNvPicPr/>
          <p:nvPr/>
        </p:nvPicPr>
        <p:blipFill>
          <a:blip r:embed="rId1"/>
          <a:stretch/>
        </p:blipFill>
        <p:spPr>
          <a:xfrm rot="19220400">
            <a:off x="-66240" y="4579560"/>
            <a:ext cx="2305080" cy="174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Users\KOMP\Pictures\c34124ac.jpg"/>
          <p:cNvPicPr/>
          <p:nvPr/>
        </p:nvPicPr>
        <p:blipFill>
          <a:blip r:embed="rId2"/>
          <a:stretch/>
        </p:blipFill>
        <p:spPr>
          <a:xfrm rot="19238400">
            <a:off x="1711440" y="4592160"/>
            <a:ext cx="2324160" cy="1724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KOMP\Pictures\f2871665.jpg"/>
          <p:cNvPicPr/>
          <p:nvPr/>
        </p:nvPicPr>
        <p:blipFill>
          <a:blip r:embed="rId3"/>
          <a:stretch/>
        </p:blipFill>
        <p:spPr>
          <a:xfrm rot="19053600">
            <a:off x="3504960" y="4574880"/>
            <a:ext cx="2276280" cy="1743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общение и систематизация знан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уровень усвоения материал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фы и математик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некоторых мифических персонажей состоит из головы и туловища, взятых от разных существ. Расшифруйте их названия. Для этого нужно установить соответствие между заданиями, расположенными в левом столбце и ответами в прав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верка выполнения, заполнение маршрутных листо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2" descr="C:\Users\KOMP\Pictures\dce25187.jpg"/>
          <p:cNvPicPr/>
          <p:nvPr/>
        </p:nvPicPr>
        <p:blipFill>
          <a:blip r:embed="rId4"/>
          <a:stretch/>
        </p:blipFill>
        <p:spPr>
          <a:xfrm rot="19105200">
            <a:off x="5075280" y="4684680"/>
            <a:ext cx="2295360" cy="1743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Users\KOMP\Pictures\0c925189.jpg"/>
          <p:cNvPicPr/>
          <p:nvPr/>
        </p:nvPicPr>
        <p:blipFill>
          <a:blip r:embed="rId5"/>
          <a:stretch/>
        </p:blipFill>
        <p:spPr>
          <a:xfrm rot="18936600">
            <a:off x="6695640" y="4589280"/>
            <a:ext cx="2305080" cy="170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KOMP\Desktop\91f3bbaf.jpg"/>
          <p:cNvPicPr/>
          <p:nvPr/>
        </p:nvPicPr>
        <p:blipFill>
          <a:blip r:embed="rId1"/>
          <a:stretch/>
        </p:blipFill>
        <p:spPr>
          <a:xfrm>
            <a:off x="-423720" y="-324000"/>
            <a:ext cx="9991440" cy="750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KOMP\Pictures\afa91b6c.jpg"/>
          <p:cNvPicPr/>
          <p:nvPr/>
        </p:nvPicPr>
        <p:blipFill>
          <a:blip r:embed="rId2"/>
          <a:stretch/>
        </p:blipFill>
        <p:spPr>
          <a:xfrm>
            <a:off x="-438120" y="-347760"/>
            <a:ext cx="10020240" cy="7553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KOMP\Pictures\c2693a74.jpg"/>
          <p:cNvPicPr/>
          <p:nvPr/>
        </p:nvPicPr>
        <p:blipFill>
          <a:blip r:embed="rId3"/>
          <a:stretch/>
        </p:blipFill>
        <p:spPr>
          <a:xfrm>
            <a:off x="-466560" y="-371520"/>
            <a:ext cx="10077120" cy="7601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KOMP\Pictures\2b2ad82f.jpg"/>
          <p:cNvPicPr/>
          <p:nvPr/>
        </p:nvPicPr>
        <p:blipFill>
          <a:blip r:embed="rId4"/>
          <a:stretch/>
        </p:blipFill>
        <p:spPr>
          <a:xfrm>
            <a:off x="-457200" y="-343080"/>
            <a:ext cx="10058400" cy="7544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Users\KOMP\Pictures\ce15bfd3.jpg"/>
          <p:cNvPicPr/>
          <p:nvPr/>
        </p:nvPicPr>
        <p:blipFill>
          <a:blip r:embed="rId5"/>
          <a:stretch/>
        </p:blipFill>
        <p:spPr>
          <a:xfrm>
            <a:off x="-447840" y="-366840"/>
            <a:ext cx="10039680" cy="759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73296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трела»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самостоятельная работ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предстоит решить нетрудные задания на сложение и вычитание многочленов. Эти задания им  известны под названием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ела»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ужно найти сумму двух многочленов и результат записать в третью клетку. Затем найти сумму двух последних многочленов и результат записать в следующую клетку. В последней клетке получится ответ на это задание. Обучающиеся, быстро справившиеся с заданием, заполняют клетки, находя также разность.  Результаты выполнения этого задания проверяются по ключу и за правильные ответы  учащиеся выставляют баллы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5 баллов за каждый правильный ответ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заимопроверка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какой целью выполнялось задание? (Повторение правил раскрытия скобок, отработка навыка приведения подобных членов)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C:\Users\KOMP\Pictures\a968fcea.jpg"/>
          <p:cNvPicPr/>
          <p:nvPr/>
        </p:nvPicPr>
        <p:blipFill>
          <a:blip r:embed="rId1"/>
          <a:stretch/>
        </p:blipFill>
        <p:spPr>
          <a:xfrm>
            <a:off x="428760" y="4929120"/>
            <a:ext cx="2295360" cy="1714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:\Users\KOMP\Pictures\be4464c5.jpg"/>
          <p:cNvPicPr/>
          <p:nvPr/>
        </p:nvPicPr>
        <p:blipFill>
          <a:blip r:embed="rId2"/>
          <a:stretch/>
        </p:blipFill>
        <p:spPr>
          <a:xfrm>
            <a:off x="3429000" y="4929120"/>
            <a:ext cx="2286000" cy="1724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KOMP\Pictures\e64c2b6f.jpg"/>
          <p:cNvPicPr/>
          <p:nvPr/>
        </p:nvPicPr>
        <p:blipFill>
          <a:blip r:embed="rId3"/>
          <a:stretch/>
        </p:blipFill>
        <p:spPr>
          <a:xfrm>
            <a:off x="6429240" y="4857840"/>
            <a:ext cx="2305080" cy="172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ить умственное напряжение, снять зрительное утомл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4" descr="C:\Users\KOMP\Pictures\9e146657.jpg"/>
          <p:cNvPicPr/>
          <p:nvPr/>
        </p:nvPicPr>
        <p:blipFill>
          <a:blip r:embed="rId1"/>
          <a:stretch/>
        </p:blipFill>
        <p:spPr>
          <a:xfrm>
            <a:off x="2571840" y="285768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менение знаний и умений в новой ситуации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876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олученных знаний для решения нестандартных зад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ах  «Не подведи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у каждого из учащегося есть определенное количество баллов,  которое он может увеличить, работая в пара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, сидящие за одной партой, получают задание одно на двоих и баллы, за правильность выполнения, тоже будут начисляться на двоих. В парных карточках два примера, учащимся необходимо найти ответы и  сумму или разность ответов. Что именно находить написано вверху карточк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м выполнении задания, каждому ученику в паре начисляетс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балл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веденным на экран ответам,  учащиеся проверяют правильность выполнения задания (самопроверка).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4" descr="C:\Users\KOMP\Pictures\5ee384f8.jpg"/>
          <p:cNvPicPr/>
          <p:nvPr/>
        </p:nvPicPr>
        <p:blipFill>
          <a:blip r:embed="rId1"/>
          <a:stretch/>
        </p:blipFill>
        <p:spPr>
          <a:xfrm>
            <a:off x="0" y="-571680"/>
            <a:ext cx="10058400" cy="7572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Users\KOMP\Pictures\092e7be6.jpg"/>
          <p:cNvPicPr/>
          <p:nvPr/>
        </p:nvPicPr>
        <p:blipFill>
          <a:blip r:embed="rId2"/>
          <a:stretch/>
        </p:blipFill>
        <p:spPr>
          <a:xfrm>
            <a:off x="6286680" y="4500720"/>
            <a:ext cx="2286000" cy="172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структор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Работа в пара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клетки каждого квадрата такие выражения, чтобы их сумма в каждом столбце, каждой строке и каждой диагонали была равна выражению, записанному в треугольнике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лы начисляются по 5 за каждый правильный ответ и делятся попола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, которые затрудняются выполнить задание, выполняют 3 и 4 вариант предыдущего задания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копируется из предыдущего задания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верка выполнения и заполнение маршрутных лис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мения, качества  развивали? Какие правила повторили? (Умение работать в паре, развитие  внимания, правило  нахождения неизвестного компонента-многочлена, правила  раскрытия скобок, приведения подобных член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2" descr="C:\Users\KOMP\Pictures\336762e6.jpg"/>
          <p:cNvPicPr/>
          <p:nvPr/>
        </p:nvPicPr>
        <p:blipFill>
          <a:blip r:embed="rId1"/>
          <a:stretch/>
        </p:blipFill>
        <p:spPr>
          <a:xfrm>
            <a:off x="357120" y="4143240"/>
            <a:ext cx="3071880" cy="2322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C:\Users\KOMP\Pictures\1d04995c.jpg"/>
          <p:cNvPicPr/>
          <p:nvPr/>
        </p:nvPicPr>
        <p:blipFill>
          <a:blip r:embed="rId2"/>
          <a:stretch/>
        </p:blipFill>
        <p:spPr>
          <a:xfrm>
            <a:off x="5715000" y="4143240"/>
            <a:ext cx="3000240" cy="2300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C:\Users\KOMP\Pictures\164e8631.jpg"/>
          <p:cNvPicPr/>
          <p:nvPr/>
        </p:nvPicPr>
        <p:blipFill>
          <a:blip r:embed="rId3"/>
          <a:stretch/>
        </p:blipFill>
        <p:spPr>
          <a:xfrm>
            <a:off x="3071880" y="3143160"/>
            <a:ext cx="3078000" cy="2324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троль усвоения, обсуждение допущенных ошибок и их коррекция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, самоанализ  и оценка успешности достижения планируемых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ет общего количества баллов. По таблице, выведенной на экран, каждый учащийся может увидеть какую оценку  он заработал,  и поставить её в лист личных достижений. Перед уходом с урока листы личных достижений  и тетради учащиеся сдают учител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3" descr="C:\Users\KOMP\Pictures\55d95b34 (1).jpg"/>
          <p:cNvPicPr/>
          <p:nvPr/>
        </p:nvPicPr>
        <p:blipFill>
          <a:blip r:embed="rId1"/>
          <a:stretch/>
        </p:blipFill>
        <p:spPr>
          <a:xfrm>
            <a:off x="5643720" y="4214880"/>
            <a:ext cx="3100320" cy="23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нимания  содержания и способов выполнения домашнего задания. Проверка соответствующих запис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и фронтальная формы рабо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записывается в дневник каждым учащимся,  и проводится подробная инструкция по его выполнени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еобходимых и достаточных условий для успешного выполнения домашнего задания всеми учащимися в соответствии с уровневым  дифференцированием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2" descr="C:\Users\KOMP\Pictures\42733c0c.jpg"/>
          <p:cNvPicPr/>
          <p:nvPr/>
        </p:nvPicPr>
        <p:blipFill>
          <a:blip r:embed="rId1"/>
          <a:stretch/>
        </p:blipFill>
        <p:spPr>
          <a:xfrm>
            <a:off x="3857760" y="3071880"/>
            <a:ext cx="4019400" cy="298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85816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ма : «Сложение и вычитание многочленов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учебного заня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вторение и обобщение зн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роведения учебного занят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рудование для педагог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ска,  медиапроектор, ноутбук,  презентация к уроку  с заданиями, презентация  музыкальной физкультминутк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рудование для  учащихс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точки – задания; маршрутный лист; тетрад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для учителя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благоприятные условия для обобщения и систематизации  знаний по теме и перевести деятельность учащихся с репродуктивной до творческой за счет использования методик КСО и индивидуального дифференцированного подх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формирования навыков  самоанали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ернемся к началу урока – притче о Сокра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нимите руку те, кто считает, что поднялся на ступеньку вверх в путешествии к знаниям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, теперь поднимите руку те, кто остался на мест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есть, те -  кто стал на ступеньку ниж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кажите ваше мнение об урок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оценили достижение поставленных в начале урока целей, эффективность работы класса, увлекательность и полезность выбранных форм работ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1512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амоанализ урока  алгебры  в 7б классе</a:t>
            </a:r>
            <a:br>
              <a:rPr sz="2900"/>
            </a:b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 теме: «Сложение и вычитание многочленов»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алгебры был проведен в соответствии с программными требованиями по курсу  с использованием учебно-методического комплекса    Ю.Н. Макарычева, Н.Г. Миндюк, К.Н. Нешкова, С.Б. Суворовой. Это  четвертый   урок из  семнадцати в разделе «Многочлены». Урок был проведен в 7б классе. Класс средний, не все учащиеся могут работать в быстром темпе. Класс к уроку был готов, на партах лежали все необходимые принадлежности, учащиеся быстро включились в деловой ритм. Ребята были готовы к восприятию данной темы и имели достаточный запас знаний. С первых минут урока стало ясно, что учащиеся не равнодушны к предмету математика. Взаимоотношения между детьми ровные, спокойные, дружеские. Ребята данного класса владеют диалогической формой общения, умеют слушать и слышать другог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для учителя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благоприятные условия для обобщения и систематизации  знаний по теме и перевести деятельность учащихся с репродуктивной до творческой за счет использования методик КСО и индивидуального дифференцированного подхо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15901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29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дачи данного урок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ющ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и систематизация знаний  по теме «Сложение и вычитание многочленов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умения раскрывать скобки, приводить подобные слагаемые,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уровня усвоения материа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я работать в группе, координировать свою деятельность с другими участниками учебного процесс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навыков  оценивания своей учебной деятельности и деятельности своего партнер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грамотной математической речи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шления: умения сравнивать, анализировать, проводить аналогии, прогнозировать, делать вывод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 учебно-познавательной компетенции учащих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тельн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ультуры общения, уважения к собеседнику и учител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нтереса  к предмет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толерантн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6868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2560"/>
            <a:ext cx="822960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ип уро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повторение и обобщение зна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урок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ешеств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данных задач был подобран соответствующий материал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строения урока выдержана с учетом логики процесса обобщения и систематизации материал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урок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рганизационный момент –  1 мину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ановка цели и задач урока. Мотивация учебной деятельности учащихся  - 3 минут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ктуализация знаний – 10 мину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общение и систематизация знаний – 13 мину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изкультминутка для глаз – 1 минут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рименение знаний и умений в новой ситуации – 10 мину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Контроль усвоения, обсуждение допущенных ошибок и их коррекция - 3 минуты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Домашнее задание – 2 минуты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тоговая рефлексия урока – 2 мину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6868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429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момент включал в себя предварительную организацию класса, мобилизующее начало урока, мотивацию деятельности учащихся, создание психологической комфортности и подготовку учащихся к активному и сознательному труду. Подготовка класса и каждого ученика была проверена мною визуально. Для снятия стрессообразующих факторов учебного процесса, создание на уроке атмосферы доброжелательности, сотрудничества я использовала рефлексивный момен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 было определено учащимися в результате диалога. Последующая деятельность учеников осознавалась ими как своя собствен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этап – мотивационно - ориентировочный. Дидактической задачей этого этапа урока являлось формирование  интереса к материалу, пробуждение творческой мысли, осознанное принятие учащимися цели познав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 . Его дидактическая задача – воспроизведение опорных знаний предыдущих уроков, установление осознанности их понимания, полноты и правильности их применения (через устную работу – «Своя игра»). На этом этапе мне удалось вовлечь учащихся в процесс активного взаимодействия по реконструкции ранее изученного материала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6868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71280"/>
            <a:ext cx="822960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этап - обобщение и систематизация знаний. В ходе выполнения самостоятельной работы ребята получили достоверную информацию о достижении собственных планируемых результатов. На этом этапе удалось определить уровень усвоения материала и приступить к устранению типичных ошибок у ребят и доведению знаний учащихся до обязательного уровня  - создание условий, обеспечивающих процесс самостоятельного применения знаний и способов действий. Они состоят и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ивидуальной самостоятельной работы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контроля, самооценки, взаимоконтроля и взаимооценк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ктики под руководством учителя и коррекци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ю были созданы условия, требующие от учащихся пробы своих возможностей самоопределения, самоутверждения, самооценки (развитие рефлексивных качеств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на этом этапе работали самостоятель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роль на данном этапе заключалась в координации и консульт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ю самостоятельной работы, с помощью готовых ответов на экране, учащиеся осуществили самопроверку и взаимопроверку.  Результаты этапов  «Мифы и математика» и игры Стрела» были продемонстрированы и на слайдах. Обучающиеся увидели результаты свое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80424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4292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 помогла  ослабить умственное напряжение, снять зрительное утомлен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применения знаний и умений в новой ситуации были использованы задания с применением  приёмов и методов технологии уровневой дифференциации. Каждый обучающийся был самостоятелен в выборе способов обучения, учился делать осознанный выбор. Разноуровневые задания позволили всем обучающимся работать в соответствии с выбранным уровнем, реализовать свои потребности и способности. Каждый обучающийся имел возможность перейти в зону ближайшего развития при незначительной помощи учителя, выполняющего на данном уроке роль консультанта и организатора учебной деятельности. Задания были продуманы с учетом возможностей каждого ученик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этап – подведение итогов. Дидактическая цель – анализ, самоанализ  и оценка успешности достижения планируемых результатов. Со стороны учащихся я почувствовала проявление заинтересованности в работе, стимулирование к личным достижениям. Этот этап послужил объективной самооценке, оценке учителя, получению обучающимися информации о реальных результатах своей деятель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11617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ой этап – задание на дом. О домашнем задании была дана полная информация, предложенные на выбор задания были прокомментированы.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рефлексии урока обучающиеся оценили достижение поставленных в начале урока целей, эффективность работы класса, увлекательность и полезность выбранных форм работ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остичь целей урока, был подобран материал  доступный и интересный для восприятия учащихся 7 класса, для того чтобы каждый ученик справился с заданием, на уроке использована  мультимедийная презентация. Материал урока оказался  интересным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е требовала от  учащихся умения прислушиваться друг к другу. Кроме того работа в парах имеет большой воспитательный эффект, так как создает условия для развития самостоятельности, сотрудничества, взаимопонимания и общения всех де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 был виден принцип создания необходимых условий для обуче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используемый материал излагался на доступном уровне, что помогло настроить ребят на работу и восприятие дальнейшего материала. Ученики не испытывали интеллектуальных, физических, моральных перегрузо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6868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7128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ая работа заключалась  в равномерной нагрузке на всех обучающихся, были учтены возрастные и индивидуальные особенности  учащихс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ес  к изучению предмет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ые на достаточном уровне умения и навык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статочно высокая мотивация, которая стимулировалась похвалой за активность,  самостоятельность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здание благоприятного клима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наблюдалось рациональное использование времени, предупреждение перегрузки детей обеспечивалось за счёт быстрой смены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с мультимедийной поддержкой эмоционален и не утомляет учащихся за счёт переключения на разнообразные виды деятельности, что резко повышает познавательный интерес, служит развитию воображения, внимания, мышления, речи и памя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урока были реализованы следующие методы организации и осуществления учебно-познавательной деятельнос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очнику получения знани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(ответы  учащихся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(наглядная презентация учебного материал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(выполнение практических заданий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8758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активности познавательной деятельности учащихс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-поисковый (эвристический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льны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тивный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ередачи и восприятия учебной информации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уктивный (от общего к частному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организации учебной работы, по степени управления учебной работо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ая форма организации рабо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рганизации и осуществления учебно-познавательной деятельности обеспечили  мотивацию, сотрудничество  учителя и  обучающихся, соответствовали содержанию и целям урока. Формы познавательной деятельности  способствовали включению  в работу каждого обучающегося, обеспечили сотрудничество между ним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роведен продуктивно. Цели и задач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е на уроке,  были полностью реализованы в ходе уро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и сложность учебного материала соответствовали образовательным стандартам по алгебре, учебным возможностям данного класса. Задания были направлены на развитие познавательной деятельности, на развитие самостоятельности обучающихся. Урок носил практический, развивающий и обучающий характе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97560" indent="-9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 данного урока: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ющ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и систематизация знаний  по теме «Сложение и вычитание многочленов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умения раскрывать скобки, приводить подобные слагаемые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уровня усвоения материа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я работать в группе, координировать свою деятельность с другими участниками учебного процесс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навыков оценивания своей учебной деятельности и деятельности своего партнер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грамотной математической речи  учащихся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шления: умения сравнивать, анализировать, проводить аналогии, прогнозировать, делать вывод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ебно-познавательной компетенции учащих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тельн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ультуры общения, уважения к собеседнику и учител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нтереса к предмет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толерантн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Этапы урок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рганизационный момент –  1 мину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ановка цели и задач урока. Мотивация учебной деятельности учащихся  - 3 мину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ктуализация знаний – 10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общение и систематизация знаний – 13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изкультминутка для глаз – 1 мину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рименение знаний и умений в новой ситуации – 10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Контроль усвоения, обсуждение допущенных ошибок и их коррекция - 3 минут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Домашнее задание – 2 минут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тоговая рефлексия урока – 2 мину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ганизационный момен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организации обучающихся к начал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, создание психологической комфортности  и  подготовки учащихся к активному и сознательн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приветств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готовности обучающихся к работ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ним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становка цели и задач урока.</a:t>
            </a:r>
            <a:br>
              <a:rPr sz="2900"/>
            </a:b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тивация учебной деятельности обучающихся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Цель: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учащихся к самовыводу цели,  возбуждение интереса к материалу, пробуждение творческой мысли, осознанное принятие учащимися цели познав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ел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ы начинаем необычный урок повторения   и обобщения. Необычен он тем, что этот урок  - путешествие. Хочу начать наше путешествие с притчи: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Однажды Сократ, окружённый учениками, поднимался к храму. Навстречу им спускалась известная афинская гетера. «Вот ты гордишься своими учениками, Сократ, - улыбнулась она ему, - но стоит мне только легонько поманить их, как они покинут тебя и пойдут вслед за мной». Мудрец же ответил так: «Да, но ты зовёшь их вниз, в тёплую весёлую долину, а я веду их вверх, к неприступным, чистым вершинам»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мы с вами сегодня должны отправиться в путешествие к знаниям. В процессе путешествия мы выполним интересные задания, работая в парах, индивидуально и коллективно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123300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461960" indent="-209520">
              <a:lnSpc>
                <a:spcPct val="100000"/>
              </a:lnSpc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ш урок – урок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я,  тема урок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жение и вычитание многочленов»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мы сегодня должны повторить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веты учащихся) повторить  все,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знаем о многочленах: определение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 раскрытия скобок,  приведени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ых  слагаемы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свою речь; быть внимательным, слушать учителя и  своего  товарищ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ботать в паре и самостоятель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2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утешествие не показалось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чным, пусть нашим девизом станут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Б. Паскаля «Предмет математика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ко серьезен, что полезно не упускать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в, делать его немного занимательным»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C:\Users\KOMP\Pictures\e3a65158.jpg"/>
          <p:cNvPicPr/>
          <p:nvPr/>
        </p:nvPicPr>
        <p:blipFill>
          <a:blip r:embed="rId1"/>
          <a:stretch/>
        </p:blipFill>
        <p:spPr>
          <a:xfrm>
            <a:off x="5500800" y="3929040"/>
            <a:ext cx="3423960" cy="257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Users\KOMP\Pictures\0868cbb9.jpg"/>
          <p:cNvPicPr/>
          <p:nvPr/>
        </p:nvPicPr>
        <p:blipFill>
          <a:blip r:embed="rId2"/>
          <a:stretch/>
        </p:blipFill>
        <p:spPr>
          <a:xfrm>
            <a:off x="357120" y="285840"/>
            <a:ext cx="3292560" cy="25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144720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0040" y="356760"/>
            <a:ext cx="8229600" cy="62866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обучающихся с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ом учебной работы на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е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нтирование всех этапов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оящей работы и знакомство с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ями оценивания на каждом этапе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ечным результат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ы путеше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каждого обучающегося  на парт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маршрутный лис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ъяснение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правила заполнения этих листов).  Каждому предстоит решить 4 задачи.   Задачи представлены на слайдах, а также у каждого имеются на столах экземпляры в печатном виде. Урок  состоит из нескольких этапов,  во время проведения которых каждый  будет набирать баллы. Чем больше  баллов за урок  наберет  обучающийся, тем выше оценку он получит.  Если на уроке у  учащегося появляется  свободное от заданий время, он разгадывает ребусы, за каждый, из которых  получает 10 балл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(показатель)                                                            (знаменатель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Рисунок 1" descr="img1"/>
          <p:cNvPicPr/>
          <p:nvPr/>
        </p:nvPicPr>
        <p:blipFill>
          <a:blip r:embed="rId1"/>
          <a:stretch/>
        </p:blipFill>
        <p:spPr>
          <a:xfrm>
            <a:off x="642960" y="5572080"/>
            <a:ext cx="2619360" cy="10461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img2"/>
          <p:cNvPicPr/>
          <p:nvPr/>
        </p:nvPicPr>
        <p:blipFill>
          <a:blip r:embed="rId2"/>
          <a:stretch/>
        </p:blipFill>
        <p:spPr>
          <a:xfrm>
            <a:off x="5214960" y="5786280"/>
            <a:ext cx="1771560" cy="790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Users\KOMP\Pictures\88e318f5.jpg"/>
          <p:cNvPicPr/>
          <p:nvPr/>
        </p:nvPicPr>
        <p:blipFill>
          <a:blip r:embed="rId3"/>
          <a:stretch/>
        </p:blipFill>
        <p:spPr>
          <a:xfrm>
            <a:off x="285840" y="428760"/>
            <a:ext cx="3714840" cy="2747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Users\KOMP\Pictures\11a8f107.jpg"/>
          <p:cNvPicPr/>
          <p:nvPr/>
        </p:nvPicPr>
        <p:blipFill>
          <a:blip r:embed="rId4"/>
          <a:stretch/>
        </p:blipFill>
        <p:spPr>
          <a:xfrm>
            <a:off x="285840" y="428760"/>
            <a:ext cx="3714840" cy="270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аршрутный лист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амилия, имя_______________________________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28800" y="1785960"/>
          <a:ext cx="6381720" cy="4263840"/>
        </p:xfrm>
        <a:graphic>
          <a:graphicData uri="http://schemas.openxmlformats.org/drawingml/2006/table">
            <a:tbl>
              <a:tblPr/>
              <a:tblGrid>
                <a:gridCol w="4012920"/>
                <a:gridCol w="236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ер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машнее 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минка «Своя игр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ифы и 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гра  «Стре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бота в парах «Не подвед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стру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бу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06:50:22Z</dcterms:created>
  <dc:creator>KOMP</dc:creator>
  <dc:description/>
  <dc:language>en-US</dc:language>
  <cp:lastModifiedBy>KOMP</cp:lastModifiedBy>
  <dcterms:modified xsi:type="dcterms:W3CDTF">2014-02-03T16:02:20Z</dcterms:modified>
  <cp:revision>127</cp:revision>
  <dc:subject/>
  <dc:title>Муниципальное бюджетное образовательное учреждение «Новоаганская общеобразовательная средняя школа  №2»</dc:title>
</cp:coreProperties>
</file>