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0A2-91B8-4BEE-837A-E1D3E5BF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41F-C159-46D1-8A19-93F1E823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08E-59E9-4F7C-906E-3B5FD3AF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956-0BE0-4668-B7DA-9624FE68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F25A-8F59-4B96-B059-CB65FE3D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338D-7962-4A59-AD6F-0D89FFAA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F0DA-7B48-477F-8266-D025C58C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6D29-B3F2-45ED-ADCD-19E3954C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CD3D-12E7-4387-8BF8-6CB985CE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5585-43BC-4E2D-92E6-5A8E804C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6845-E568-4CE4-9389-9CA3C783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C89-C263-4F35-A0B4-87C160FC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4F92-D408-40D5-96CE-32A41608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8AC5-50D8-4EBF-8CFD-48CD4826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B7B8-C4EB-47DA-966C-83917E81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8A44-077D-41F4-BC58-5CB49A3D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0F7B-A1F6-4F23-B723-6D331445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392C-C765-46B9-BABC-C29BADA6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A620-3684-4827-9BD6-B918CF78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FC11-CE7F-4E96-A295-3956F90E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36871-A36C-4C74-9F66-1A510AC2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E2CF7-327E-4A97-BA80-9C192D11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F72-1424-4CF7-BC6F-21C84608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3B3F-651E-4C27-B61C-9138ACCD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1013-1D6A-4218-8E01-E97FD36C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F0A97-D52B-44AE-A058-94ABF5B9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DB2F-B1A8-4D66-8B79-58844872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6A85-0965-4D95-B955-1210E8B6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A57E-C7EC-40E2-99DD-A9FC14F1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582A-690E-46F0-9DF5-B0C0D4F1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370-7977-4DCC-A216-71EE96C0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D29-FF97-45B2-9E01-D4B3706D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A5A-31EE-4AEA-A890-5E29CEB3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215-2571-4314-8B64-2870F24C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B28-CB02-4DED-BF66-BB07CBB5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1F9-20B6-4F6E-AC77-2B76A507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DA54-9E6B-479F-BB91-47BD0DF57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FFD7-6A09-4B4A-9BAF-CC8393C772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C790-EC26-4659-9E08-DFFC2B467F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1619280" y="1989000"/>
            <a:ext cx="5448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Группа "НЕПОСЕДЫ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5435640" y="4221000"/>
            <a:ext cx="1873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итатели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ташинская Е.Ю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щаева С.В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3851280" y="5734080"/>
            <a:ext cx="12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16 г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8" descr="P1020488"/>
          <p:cNvPicPr/>
          <p:nvPr/>
        </p:nvPicPr>
        <p:blipFill>
          <a:blip r:embed="rId1"/>
          <a:stretch/>
        </p:blipFill>
        <p:spPr>
          <a:xfrm>
            <a:off x="2195640" y="2781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авай будем одеваться..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Я сама! Я сам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DSCN4985"/>
          <p:cNvPicPr/>
          <p:nvPr/>
        </p:nvPicPr>
        <p:blipFill>
          <a:blip r:embed="rId1"/>
          <a:stretch/>
        </p:blipFill>
        <p:spPr>
          <a:xfrm>
            <a:off x="971640" y="2060640"/>
            <a:ext cx="3313080" cy="2485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DSCN4987"/>
          <p:cNvPicPr/>
          <p:nvPr/>
        </p:nvPicPr>
        <p:blipFill>
          <a:blip r:embed="rId2"/>
          <a:stretch/>
        </p:blipFill>
        <p:spPr>
          <a:xfrm>
            <a:off x="4572000" y="3068640"/>
            <a:ext cx="3711600" cy="27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ойдём, будем умываться..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Я сама! Я сам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DSCN4988"/>
          <p:cNvPicPr/>
          <p:nvPr/>
        </p:nvPicPr>
        <p:blipFill>
          <a:blip r:embed="rId1"/>
          <a:stretch/>
        </p:blipFill>
        <p:spPr>
          <a:xfrm>
            <a:off x="611280" y="1700280"/>
            <a:ext cx="3890880" cy="2919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20160526_083337"/>
          <p:cNvPicPr/>
          <p:nvPr/>
        </p:nvPicPr>
        <p:blipFill>
          <a:blip r:embed="rId2"/>
          <a:stretch/>
        </p:blipFill>
        <p:spPr>
          <a:xfrm>
            <a:off x="5508720" y="1773360"/>
            <a:ext cx="2917800" cy="388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20160526_083402"/>
          <p:cNvPicPr/>
          <p:nvPr/>
        </p:nvPicPr>
        <p:blipFill>
          <a:blip r:embed="rId3"/>
          <a:stretch/>
        </p:blipFill>
        <p:spPr>
          <a:xfrm>
            <a:off x="3492360" y="4005360"/>
            <a:ext cx="187020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Ну давай хоть покормлю я..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Я сама! Я сам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P1010380"/>
          <p:cNvPicPr/>
          <p:nvPr/>
        </p:nvPicPr>
        <p:blipFill>
          <a:blip r:embed="rId1"/>
          <a:stretch/>
        </p:blipFill>
        <p:spPr>
          <a:xfrm>
            <a:off x="611280" y="1341360"/>
            <a:ext cx="2438280" cy="3251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1020457"/>
          <p:cNvPicPr/>
          <p:nvPr/>
        </p:nvPicPr>
        <p:blipFill>
          <a:blip r:embed="rId2"/>
          <a:stretch/>
        </p:blipFill>
        <p:spPr>
          <a:xfrm>
            <a:off x="5076720" y="1628640"/>
            <a:ext cx="3368880" cy="2527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1020398"/>
          <p:cNvPicPr/>
          <p:nvPr/>
        </p:nvPicPr>
        <p:blipFill>
          <a:blip r:embed="rId3"/>
          <a:stretch/>
        </p:blipFill>
        <p:spPr>
          <a:xfrm>
            <a:off x="2771640" y="378936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Я сам! Я сам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P1020081"/>
          <p:cNvPicPr/>
          <p:nvPr/>
        </p:nvPicPr>
        <p:blipFill>
          <a:blip r:embed="rId1"/>
          <a:stretch/>
        </p:blipFill>
        <p:spPr>
          <a:xfrm>
            <a:off x="684360" y="1268280"/>
            <a:ext cx="4518000" cy="3387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1010933"/>
          <p:cNvPicPr/>
          <p:nvPr/>
        </p:nvPicPr>
        <p:blipFill>
          <a:blip r:embed="rId2"/>
          <a:stretch/>
        </p:blipFill>
        <p:spPr>
          <a:xfrm>
            <a:off x="4859280" y="3303720"/>
            <a:ext cx="3656160" cy="27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1010739"/>
          <p:cNvPicPr/>
          <p:nvPr/>
        </p:nvPicPr>
        <p:blipFill>
          <a:blip r:embed="rId1"/>
          <a:stretch/>
        </p:blipFill>
        <p:spPr>
          <a:xfrm>
            <a:off x="684360" y="1268280"/>
            <a:ext cx="3367080" cy="2525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P1010690"/>
          <p:cNvPicPr/>
          <p:nvPr/>
        </p:nvPicPr>
        <p:blipFill>
          <a:blip r:embed="rId2"/>
          <a:stretch/>
        </p:blipFill>
        <p:spPr>
          <a:xfrm>
            <a:off x="4356000" y="54936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P1010703"/>
          <p:cNvPicPr/>
          <p:nvPr/>
        </p:nvPicPr>
        <p:blipFill>
          <a:blip r:embed="rId3"/>
          <a:stretch/>
        </p:blipFill>
        <p:spPr>
          <a:xfrm>
            <a:off x="1763640" y="3933720"/>
            <a:ext cx="3405240" cy="255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P1010814"/>
          <p:cNvPicPr/>
          <p:nvPr/>
        </p:nvPicPr>
        <p:blipFill>
          <a:blip r:embed="rId4"/>
          <a:stretch/>
        </p:blipFill>
        <p:spPr>
          <a:xfrm>
            <a:off x="5508720" y="3573360"/>
            <a:ext cx="220320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Calibri"/>
              </a:rPr>
              <a:t>СПАСИБО ЗА ВНИМАНИЕ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4:00:33Z</dcterms:created>
  <dc:creator>User</dc:creator>
  <dc:description/>
  <dc:language>en-US</dc:language>
  <cp:lastModifiedBy>DNA7 X86</cp:lastModifiedBy>
  <dcterms:modified xsi:type="dcterms:W3CDTF">2017-02-20T20:54:54Z</dcterms:modified>
  <cp:revision>3</cp:revision>
  <dc:subject/>
  <dc:title>Слайд 1</dc:title>
</cp:coreProperties>
</file>