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9E1-FAC2-4649-BC5E-C6FF7F8C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A0F-44AD-4DC7-BA99-60B1D8CB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EAE-98BA-4E49-8C32-FC32D5C3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899-C7B5-489A-989E-BED83526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A71-3AAA-4F10-880F-93ABEF21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0609-A296-4307-A315-2D603A4E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F89-278E-43B8-A5B1-7383721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C5E2-E44D-4BE3-BD6B-1915132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75A-32BD-4CA4-A028-87258540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3C92-4D51-4F2F-8739-B825E9CB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DCB7-B239-4E6A-BF55-AAA4447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65A-4131-452B-8EDC-192159B9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9828-1642-4067-B1CF-4AF3B043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EE54-00DB-4BBC-A968-BD84D24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C7F-C6AA-4BBE-88D9-4992973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B22-E011-4FC6-A8B1-4549BF61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3B8A-3DA4-4F70-BC93-80183F78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FC74-6A96-4D43-B9FC-A0B9EF52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1C01-0C66-4889-B63F-A34DC694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BD8C-9189-4540-A54C-2BCF4B04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D63D-3A34-4ED0-A6E4-DD7CE5D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5930-EE7D-4260-90CF-7AD8BF85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E5C-78B3-46A4-AB73-8734D67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2B29-4241-46E7-B801-7F267BD2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40C8-55E6-440E-BE9C-501103A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3B18-1725-4E7E-98D1-B4FDAD24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4A41-54DE-4CB6-B7D9-CE334B0D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06E2-0C6B-4BD0-BDB3-159B96D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2A85-24EF-46C0-A5AC-63BAB7BF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2A7A-24C5-4338-B993-F40DD2E3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DC6-BDE0-48AF-8655-A07F1414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685-B5CC-4F9F-9930-CC96D22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660-3F22-4624-A868-05C7A9F2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086-3A15-44B1-A57F-F69AEE3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C88-CF13-43C1-A276-8027788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B9A-9542-402C-B3CB-DC658164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5C9F-FC44-4CB8-B87B-59F02113D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40B-6FB0-4099-A48B-98D7D9449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FA2-77EB-4029-B6C1-7FA96FBEE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619280" y="1989000"/>
            <a:ext cx="5448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уппа "НЕПОСЕД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5435640" y="4221000"/>
            <a:ext cx="18730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тел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ташинская Е.Ю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ева С.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3851280" y="5734080"/>
            <a:ext cx="12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16 г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8" descr="P1020488"/>
          <p:cNvPicPr/>
          <p:nvPr/>
        </p:nvPicPr>
        <p:blipFill>
          <a:blip r:embed="rId1"/>
          <a:stretch/>
        </p:blipFill>
        <p:spPr>
          <a:xfrm>
            <a:off x="2195640" y="2781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авай будем одеватьс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DSCN4985"/>
          <p:cNvPicPr/>
          <p:nvPr/>
        </p:nvPicPr>
        <p:blipFill>
          <a:blip r:embed="rId1"/>
          <a:stretch/>
        </p:blipFill>
        <p:spPr>
          <a:xfrm>
            <a:off x="971640" y="206064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SCN4987"/>
          <p:cNvPicPr/>
          <p:nvPr/>
        </p:nvPicPr>
        <p:blipFill>
          <a:blip r:embed="rId2"/>
          <a:stretch/>
        </p:blipFill>
        <p:spPr>
          <a:xfrm>
            <a:off x="4572000" y="3068640"/>
            <a:ext cx="3711600" cy="27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ойдём, будем умыватьс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DSCN4988"/>
          <p:cNvPicPr/>
          <p:nvPr/>
        </p:nvPicPr>
        <p:blipFill>
          <a:blip r:embed="rId1"/>
          <a:stretch/>
        </p:blipFill>
        <p:spPr>
          <a:xfrm>
            <a:off x="611280" y="1700280"/>
            <a:ext cx="3890880" cy="2919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0160526_083337"/>
          <p:cNvPicPr/>
          <p:nvPr/>
        </p:nvPicPr>
        <p:blipFill>
          <a:blip r:embed="rId2"/>
          <a:stretch/>
        </p:blipFill>
        <p:spPr>
          <a:xfrm>
            <a:off x="5508720" y="1773360"/>
            <a:ext cx="2917800" cy="388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20160526_083402"/>
          <p:cNvPicPr/>
          <p:nvPr/>
        </p:nvPicPr>
        <p:blipFill>
          <a:blip r:embed="rId3"/>
          <a:stretch/>
        </p:blipFill>
        <p:spPr>
          <a:xfrm>
            <a:off x="3492360" y="4005360"/>
            <a:ext cx="187020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у давай хоть покормлю я..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Я сама! Я сам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P1010380"/>
          <p:cNvPicPr/>
          <p:nvPr/>
        </p:nvPicPr>
        <p:blipFill>
          <a:blip r:embed="rId1"/>
          <a:stretch/>
        </p:blipFill>
        <p:spPr>
          <a:xfrm>
            <a:off x="611280" y="134136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1020457"/>
          <p:cNvPicPr/>
          <p:nvPr/>
        </p:nvPicPr>
        <p:blipFill>
          <a:blip r:embed="rId2"/>
          <a:stretch/>
        </p:blipFill>
        <p:spPr>
          <a:xfrm>
            <a:off x="5076720" y="1628640"/>
            <a:ext cx="3368880" cy="2527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1020398"/>
          <p:cNvPicPr/>
          <p:nvPr/>
        </p:nvPicPr>
        <p:blipFill>
          <a:blip r:embed="rId3"/>
          <a:stretch/>
        </p:blipFill>
        <p:spPr>
          <a:xfrm>
            <a:off x="2771640" y="378936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Я сам! Я сам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P1020081"/>
          <p:cNvPicPr/>
          <p:nvPr/>
        </p:nvPicPr>
        <p:blipFill>
          <a:blip r:embed="rId1"/>
          <a:stretch/>
        </p:blipFill>
        <p:spPr>
          <a:xfrm>
            <a:off x="684360" y="1268280"/>
            <a:ext cx="4518000" cy="338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10933"/>
          <p:cNvPicPr/>
          <p:nvPr/>
        </p:nvPicPr>
        <p:blipFill>
          <a:blip r:embed="rId2"/>
          <a:stretch/>
        </p:blipFill>
        <p:spPr>
          <a:xfrm>
            <a:off x="4859280" y="3303720"/>
            <a:ext cx="365616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1010739"/>
          <p:cNvPicPr/>
          <p:nvPr/>
        </p:nvPicPr>
        <p:blipFill>
          <a:blip r:embed="rId1"/>
          <a:stretch/>
        </p:blipFill>
        <p:spPr>
          <a:xfrm>
            <a:off x="684360" y="1268280"/>
            <a:ext cx="3367080" cy="2525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1010690"/>
          <p:cNvPicPr/>
          <p:nvPr/>
        </p:nvPicPr>
        <p:blipFill>
          <a:blip r:embed="rId2"/>
          <a:stretch/>
        </p:blipFill>
        <p:spPr>
          <a:xfrm>
            <a:off x="4356000" y="54936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P1010703"/>
          <p:cNvPicPr/>
          <p:nvPr/>
        </p:nvPicPr>
        <p:blipFill>
          <a:blip r:embed="rId3"/>
          <a:stretch/>
        </p:blipFill>
        <p:spPr>
          <a:xfrm>
            <a:off x="1763640" y="3933720"/>
            <a:ext cx="3405240" cy="255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1010814"/>
          <p:cNvPicPr/>
          <p:nvPr/>
        </p:nvPicPr>
        <p:blipFill>
          <a:blip r:embed="rId4"/>
          <a:stretch/>
        </p:blipFill>
        <p:spPr>
          <a:xfrm>
            <a:off x="5508720" y="3573360"/>
            <a:ext cx="22032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СПАСИБО ЗА ВНИМАНИЕ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4:00:33Z</dcterms:created>
  <dc:creator>User</dc:creator>
  <dc:description/>
  <dc:language>en-US</dc:language>
  <cp:lastModifiedBy>DNA7 X86</cp:lastModifiedBy>
  <dcterms:modified xsi:type="dcterms:W3CDTF">2017-02-20T20:54:54Z</dcterms:modified>
  <cp:revision>3</cp:revision>
  <dc:subject/>
  <dc:title>Слайд 1</dc:title>
</cp:coreProperties>
</file>