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532-A2AB-47AA-BC87-80AB49F3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1B0-B576-4514-94B9-30D21F25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627-02BC-49C0-9B93-AF0C9D91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F17-2FCE-4396-9A71-C9A0E1D9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FCA3-C695-467B-823A-97308C38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D9C4-9D12-4938-9577-ED471655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3249-4C94-4192-BF7A-7AE1FC63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4DE1-1D5A-4DB2-A4D0-D9A5B693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F429-94F9-439A-AA0F-901FE6A5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1BC0-8BAC-4C11-90BB-BCAE7E6B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0394-2F79-4B5A-B34E-00EE124D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A8B-6AA2-41B0-8386-70A7BDA8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07EE-F3CB-4109-8A2D-D9C4E39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20E4-C9E6-413E-BF29-920B1EB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1CED-67F8-4D8E-8710-82E9D65B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20BF-02BC-4CE5-BFFF-3030F2EF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603C-CBBA-48B4-901E-CC07FC79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97DB1-3275-4D02-B751-4AF9336B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1027F-D05B-477F-A751-95E8E4E6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9D23E-6EB1-442B-BD4E-C867A16A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C8378-1258-4597-9946-952B90E9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FB5B2-B9B9-4DE7-802E-887E4772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759-E83B-453A-8280-95330D92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31ED0-6500-4F06-A25A-C9A1CDA4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1D321-92D5-45A5-AE68-315E35CE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21A37-B99A-4C60-8675-192E552C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1364A-C59E-420A-9F6F-8B22E30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5DA89-5F45-464E-BEDA-0208E8BD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96975-7241-4204-B980-918BEB64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58BB9-88E0-4B6C-B3B9-DC524FCC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B2A5D-D577-4978-AFE1-53BD0406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2D6C5-224B-41C7-BA7D-4410D90B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17E5D-E6EE-4CF7-93BC-8E15796A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DE2-68D6-46AC-BFA8-FFF9F04B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B85C1-12B4-43D0-AD45-AA7D03B4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E88B0-E591-48BA-BC63-BF423E5B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6210A1-8C41-4128-963D-7D07F7A6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E6FC2-B9BA-47AB-8A71-9670026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0F744-A3A3-4A5D-816E-60052B75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33B8A-96AC-4119-BB7A-1F7FD26A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66B90-5A9D-4B15-BAEF-D30105DB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108B7-572F-4A25-B37D-2CB7DF6E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FEA93-6EE0-4F86-A146-A199DAD3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C0FA2-BE35-4F47-9791-AA665148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AD5-6463-4D90-B00A-162B882B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328AE-E9CC-4DA4-A0F3-93F8DC52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1A5F5-A0F8-4EB8-A9A0-7A6B53C9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43142-C332-4938-A0E1-215285B6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4CDBC-35BF-4D5E-BD9A-D11CCECE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E7468-1C0D-4FED-8D88-BB436414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E0DE9-F779-4CA8-9A47-40F37F6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47527F-296A-4A1C-94F0-CE5070D4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0F1AF-A649-4D52-8CF3-26E25C8A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208DE-3B2C-4D84-B96B-287A31D6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B1AC1-88FA-4090-9704-840D6C35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0CD-C0BE-40CA-904C-CBFFCBB9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EB9CD-DB8C-40C7-9D69-BBD68AA8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C78CC-17AC-4904-8295-90DD8E6F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23322-42FE-453A-A602-8EF7B575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DA5D-4344-40C8-8358-9B47E387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38D2B-C93E-4ECF-8F49-7ED25AD1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9C104-B2B0-41CC-A669-FBC1A099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8B09B-3EBF-4060-B14A-A2939342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D81ED-FC65-45F9-AA23-3CDFD542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C366C-ED8D-4967-A11E-E536CED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91753-8F8F-468C-8326-8D640C0C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5D3-1AA8-48C0-B989-764C7F3D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23CBB-ADC8-4D68-BAB4-6784D5D9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7E79C-C748-41BA-BE25-74FF351A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FA7B8-0613-4668-A187-417F5FD2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55BB7-D931-4540-948A-CF51787B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ECD6C-6F4F-495B-BE64-8519726B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3E3B6-6EC6-46D7-820A-55D92507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A571F-8619-47FC-9DAB-082810EC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863B9-2F6F-42AC-8E25-CE217134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3BB4C-027B-4361-AFDA-4DB63980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F533F-5217-4CA7-A641-3920827E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656-0C0D-449F-90DB-32F4C9C9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93F40-8712-4137-9A23-9413A26D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C5E39-FC5D-4968-8561-F6D7006B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5607F-2D79-4743-A35E-7E91CE98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63917-3DE7-4255-A763-271FB5B0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DAB8B-33B4-4CDB-8C18-B650D012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57ED6-6DB6-4C43-92B2-4FA64777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1941F-59BE-4A56-B0F7-0B05D3F7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67EA8-88D6-4CB2-8BCC-DD710D0D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78213-89BD-462F-945A-2D45A761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3C483-6366-4621-A20B-DFD043A2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3A7-2D3E-4035-B526-5BEFA6E3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7A3BB-CF51-45C6-AC1E-1CE57C8B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F9B00-89E8-4D0D-BF13-979CB010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C8943-6C97-48A0-BDFA-AC4F6090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FBA60-D0B9-44FD-ABEE-C3CD3D57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26E7A-A730-467A-ABCB-C15FED48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1D4AE-E975-4D53-AF24-00DA8FAB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9D311-06F1-46B1-AA55-2C4E4ED1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A3CE-B188-4373-BFB8-BE3F27CAF9D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ED33-43A4-4C96-ABCA-31EFCA2C67A4}" type="slidenum">
              <a:rPr b="1" lang="ru-RU" sz="14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E2E1-6133-47AD-8D73-48E8681EC199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3503-BDB2-459D-862A-5755A4C97A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75BC-B208-4861-8C27-D4CE20F1BA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6BA8-034B-434C-9DB6-5478D285B0E9}" type="slidenum">
              <a:rPr b="1" lang="ru-RU" sz="14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2747-8344-4EF8-B7AB-1ED01B1875D3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1990-B80A-4D2C-9D46-A902F326D3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7200" spc="-1" strike="noStrike">
                <a:solidFill>
                  <a:srgbClr val="d6ecff"/>
                </a:solidFill>
                <a:latin typeface="Calibri"/>
              </a:rPr>
              <a:t>ПОКОЛЕНИЯ ЭВМ</a:t>
            </a:r>
            <a:endParaRPr b="0" lang="en-US" sz="72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304920" y="2438280"/>
            <a:ext cx="617220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73af"/>
                </a:solidFill>
                <a:latin typeface="Tahoma"/>
              </a:rPr>
              <a:t>История вычислительной техни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втор: Кушманцева Т., 10а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ель: Полторак В.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8" descr="http://im8-tub-ru.yandex.net/i?id=66922885-25-72&amp;n=21"/>
          <p:cNvPicPr/>
          <p:nvPr/>
        </p:nvPicPr>
        <p:blipFill>
          <a:blip r:embed="rId1"/>
          <a:stretch/>
        </p:blipFill>
        <p:spPr>
          <a:xfrm>
            <a:off x="5257800" y="4952880"/>
            <a:ext cx="1828800" cy="1428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http://im5-tub-ru.yandex.net/i?id=78440922-05-72&amp;n=21"/>
          <p:cNvPicPr/>
          <p:nvPr/>
        </p:nvPicPr>
        <p:blipFill>
          <a:blip r:embed="rId2"/>
          <a:stretch/>
        </p:blipFill>
        <p:spPr>
          <a:xfrm>
            <a:off x="7315200" y="4038480"/>
            <a:ext cx="136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http://static.dstu.edu.ru/povtas/img/img6.jpg"/>
          <p:cNvPicPr/>
          <p:nvPr/>
        </p:nvPicPr>
        <p:blipFill>
          <a:blip r:embed="rId1"/>
          <a:stretch/>
        </p:blipFill>
        <p:spPr>
          <a:xfrm>
            <a:off x="457200" y="304920"/>
            <a:ext cx="4286160" cy="2657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://img15.nnm.ru/2/8/c/3/6/0ba85b1a7221aa3488f94edbe73.jpg"/>
          <p:cNvPicPr/>
          <p:nvPr/>
        </p:nvPicPr>
        <p:blipFill>
          <a:blip r:embed="rId2"/>
          <a:stretch/>
        </p:blipFill>
        <p:spPr>
          <a:xfrm>
            <a:off x="1905120" y="2819520"/>
            <a:ext cx="4976640" cy="35305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://www.uh.edu/engines/ibm360.jpg"/>
          <p:cNvPicPr/>
          <p:nvPr/>
        </p:nvPicPr>
        <p:blipFill>
          <a:blip r:embed="rId3"/>
          <a:stretch/>
        </p:blipFill>
        <p:spPr>
          <a:xfrm>
            <a:off x="6095880" y="1295280"/>
            <a:ext cx="2449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5b6f"/>
                </a:solidFill>
                <a:latin typeface="Tw Cen MT"/>
              </a:rPr>
              <a:t>IV </a:t>
            </a: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поколение </a:t>
            </a:r>
            <a:br>
              <a:rPr sz="3600"/>
            </a:br>
            <a:r>
              <a:rPr b="1" lang="ru-RU" sz="3200" spc="-1" strike="noStrike">
                <a:solidFill>
                  <a:srgbClr val="4e5b6f"/>
                </a:solidFill>
                <a:latin typeface="Calibri"/>
              </a:rPr>
              <a:t>(середина 70-х – настоящее время)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62120" y="1828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лементная база – сверхбольшие интегральные схемы (СБИС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ние многопроцессорных вычислительных систе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ние дешевых и компактных микроЭВМ и персональных ЭВМ и на их базе вычислительных се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5" descr="BIS"/>
          <p:cNvPicPr/>
          <p:nvPr/>
        </p:nvPicPr>
        <p:blipFill>
          <a:blip r:embed="rId1"/>
          <a:stretch/>
        </p:blipFill>
        <p:spPr>
          <a:xfrm>
            <a:off x="7086600" y="502920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8" descr="http://images.tiu.ru/6486123_w640_h640_12.jpg"/>
          <p:cNvPicPr/>
          <p:nvPr/>
        </p:nvPicPr>
        <p:blipFill>
          <a:blip r:embed="rId1"/>
          <a:stretch/>
        </p:blipFill>
        <p:spPr>
          <a:xfrm>
            <a:off x="3048120" y="3027240"/>
            <a:ext cx="3733560" cy="3830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http://malayalamcomputer.files.wordpress.com/2010/05/mpj041008400001.jpg?w=544&amp;h=577"/>
          <p:cNvPicPr/>
          <p:nvPr/>
        </p:nvPicPr>
        <p:blipFill>
          <a:blip r:embed="rId2"/>
          <a:stretch/>
        </p:blipFill>
        <p:spPr>
          <a:xfrm>
            <a:off x="5715000" y="304920"/>
            <a:ext cx="3017880" cy="3200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www.bupk.ru/assets/images/uch_rab/ckt/1.jpg"/>
          <p:cNvPicPr/>
          <p:nvPr/>
        </p:nvPicPr>
        <p:blipFill>
          <a:blip r:embed="rId3"/>
          <a:stretch/>
        </p:blipFill>
        <p:spPr>
          <a:xfrm>
            <a:off x="380880" y="457200"/>
            <a:ext cx="3333960" cy="25909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9"/>
          <p:cNvSpPr/>
          <p:nvPr/>
        </p:nvSpPr>
        <p:spPr>
          <a:xfrm>
            <a:off x="304920" y="37339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 существует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коление ЭВМ, перспективно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WordArt 4"/>
          <p:cNvSpPr txBox="1"/>
          <p:nvPr/>
        </p:nvSpPr>
        <p:spPr>
          <a:xfrm>
            <a:off x="990720" y="4419720"/>
            <a:ext cx="73152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0" name="Picture 5" descr="http://files.adme.ru/files/comment/part_297/2966605_1282294733.jpg"/>
          <p:cNvPicPr/>
          <p:nvPr/>
        </p:nvPicPr>
        <p:blipFill>
          <a:blip r:embed="rId1"/>
          <a:stretch/>
        </p:blipFill>
        <p:spPr>
          <a:xfrm>
            <a:off x="3352680" y="2438280"/>
            <a:ext cx="2117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5"/>
          <p:cNvSpPr/>
          <p:nvPr/>
        </p:nvSpPr>
        <p:spPr>
          <a:xfrm>
            <a:off x="228600" y="2666880"/>
            <a:ext cx="8915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6ecff"/>
                </a:solidFill>
                <a:uFillTx/>
                <a:latin typeface="Calibri"/>
              </a:rPr>
              <a:t>Компьютер</a:t>
            </a:r>
            <a:r>
              <a:rPr b="0" lang="ru-RU" sz="2400" spc="-1" strike="noStrike">
                <a:solidFill>
                  <a:srgbClr val="d6ecff"/>
                </a:solidFill>
                <a:latin typeface="Calibri"/>
              </a:rPr>
              <a:t> – это устройство взаимосвязанных технических устройств, выполняющих автоматизированную обработку информ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alibri"/>
              </a:rPr>
              <a:t>Название «ЭВМ», принятое в русскоязычной научной литературе, является синонимом компьютера. В настоящее время оно почти вытеснено из бытового употребления и в основном используется инженерами цифровой электрон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Picture 6" descr="http://im2-tub-ru.yandex.net/i?id=781331529-53-72&amp;n=21"/>
          <p:cNvPicPr/>
          <p:nvPr/>
        </p:nvPicPr>
        <p:blipFill>
          <a:blip r:embed="rId1"/>
          <a:stretch/>
        </p:blipFill>
        <p:spPr>
          <a:xfrm>
            <a:off x="380880" y="3049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Этапы развития вычислительной техники 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358" name="Picture 6" descr="http://900igr.net/datas/informatika/Vychislitelnaja-tekhnika/0008-008-Istorija-vychislitelnoj-tekhniki.jpg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b6f"/>
                </a:solidFill>
                <a:latin typeface="Calibri"/>
              </a:rPr>
              <a:t>Поколения ЭВМ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240" y="2285640"/>
            <a:ext cx="5257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192f"/>
                </a:solidFill>
                <a:latin typeface="Calibri"/>
              </a:rPr>
              <a:t>Под поколением понимают все типы и модели ЭВМ, разработанные различными конструкторско-техническими коллективами, но построенных на одних и тех же научных и технических принцип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5" descr="http://im6-tub-ru.yandex.net/i?id=399585666-65-72&amp;n=21"/>
          <p:cNvPicPr/>
          <p:nvPr/>
        </p:nvPicPr>
        <p:blipFill>
          <a:blip r:embed="rId1"/>
          <a:stretch/>
        </p:blipFill>
        <p:spPr>
          <a:xfrm>
            <a:off x="5486400" y="1905120"/>
            <a:ext cx="3349800" cy="251460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4"/>
          <p:cNvSpPr/>
          <p:nvPr/>
        </p:nvSpPr>
        <p:spPr>
          <a:xfrm>
            <a:off x="228600" y="49528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192f"/>
                </a:solidFill>
                <a:latin typeface="Calibri"/>
              </a:rPr>
              <a:t>Появление каждого нового поколения определялось тем, что появлялись новые базовые элементы, технология изготовления которых принципиально отличалась от предыдущего покол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5b6f"/>
                </a:solidFill>
                <a:latin typeface="Tw Cen MT"/>
              </a:rPr>
              <a:t>I </a:t>
            </a:r>
            <a:r>
              <a:rPr b="1" lang="ru-RU" sz="4000" spc="-1" strike="noStrike">
                <a:solidFill>
                  <a:srgbClr val="4e5b6f"/>
                </a:solidFill>
                <a:latin typeface="Calibri"/>
              </a:rPr>
              <a:t>поколение </a:t>
            </a:r>
            <a:br>
              <a:rPr sz="4000"/>
            </a:br>
            <a:r>
              <a:rPr b="1" lang="ru-RU" sz="4000" spc="-1" strike="noStrike">
                <a:solidFill>
                  <a:srgbClr val="4e5b6f"/>
                </a:solidFill>
                <a:latin typeface="Calibri"/>
              </a:rPr>
              <a:t>(1946 – середина 50-х гг.)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ментная база – электронно-вакуумные лам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бариты – в виде шкафов и занимали машинные за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стродействие – 10 – 100 тыс. оп./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плуатация – очень слож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ирование – трудоемкий проце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уктура ЭВМ – по жесткому принцип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5" descr="Lampa"/>
          <p:cNvPicPr/>
          <p:nvPr/>
        </p:nvPicPr>
        <p:blipFill>
          <a:blip r:embed="rId1"/>
          <a:stretch/>
        </p:blipFill>
        <p:spPr>
          <a:xfrm>
            <a:off x="8001000" y="3809880"/>
            <a:ext cx="466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img15.nnm.ru/5/3/9/c/a/b78570db680911f384d29e762e0.jpg"/>
          <p:cNvPicPr/>
          <p:nvPr/>
        </p:nvPicPr>
        <p:blipFill>
          <a:blip r:embed="rId1"/>
          <a:stretch/>
        </p:blipFill>
        <p:spPr>
          <a:xfrm>
            <a:off x="304920" y="228600"/>
            <a:ext cx="5205240" cy="3048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www.senkomp.ru/uploads/posts/2009-12/1261248125_5.jpg"/>
          <p:cNvPicPr/>
          <p:nvPr/>
        </p:nvPicPr>
        <p:blipFill>
          <a:blip r:embed="rId2"/>
          <a:stretch/>
        </p:blipFill>
        <p:spPr>
          <a:xfrm>
            <a:off x="4637160" y="3200400"/>
            <a:ext cx="4133880" cy="2895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http://im4-tub-ru.yandex.net/i?id=149371865-11-72&amp;n=21"/>
          <p:cNvPicPr/>
          <p:nvPr/>
        </p:nvPicPr>
        <p:blipFill>
          <a:blip r:embed="rId3"/>
          <a:stretch/>
        </p:blipFill>
        <p:spPr>
          <a:xfrm>
            <a:off x="6172200" y="838080"/>
            <a:ext cx="2336760" cy="175284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7"/>
          <p:cNvSpPr/>
          <p:nvPr/>
        </p:nvSpPr>
        <p:spPr>
          <a:xfrm>
            <a:off x="304920" y="39625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й компьютер был созда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ША в 1946 году и назывался «ЭНИАК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5b6f"/>
                </a:solidFill>
                <a:latin typeface="Tw Cen MT"/>
              </a:rPr>
              <a:t>II </a:t>
            </a: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поколение </a:t>
            </a:r>
            <a:br>
              <a:rPr sz="3600"/>
            </a:br>
            <a:r>
              <a:rPr b="1" lang="ru-RU" sz="3200" spc="-1" strike="noStrike">
                <a:solidFill>
                  <a:srgbClr val="4e5b6f"/>
                </a:solidFill>
                <a:latin typeface="Calibri"/>
              </a:rPr>
              <a:t>(середина 50-х – середина 60-х гг.)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7521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ментная база – активные и пассивные элемен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бариты – однотипные стойки, требующие машинный з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стродействие – сотни тысяч – 1 млн. оп./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плуатация – упростила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ирование – появились алгоритмические язы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уктура ЭВМ – микропрограммный способ управ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5" descr="Tranzistor"/>
          <p:cNvPicPr/>
          <p:nvPr/>
        </p:nvPicPr>
        <p:blipFill>
          <a:blip r:embed="rId1"/>
          <a:stretch/>
        </p:blipFill>
        <p:spPr>
          <a:xfrm>
            <a:off x="8229600" y="3886200"/>
            <a:ext cx="466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http://img-fotki.yandex.ru/get/4426/5091045.e/0_79c04_86b79646_XL"/>
          <p:cNvPicPr/>
          <p:nvPr/>
        </p:nvPicPr>
        <p:blipFill>
          <a:blip r:embed="rId1"/>
          <a:stretch/>
        </p:blipFill>
        <p:spPr>
          <a:xfrm>
            <a:off x="380880" y="2971800"/>
            <a:ext cx="5002200" cy="34527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http://www.kurzweilai.net/images/eniac-6.jpg"/>
          <p:cNvPicPr/>
          <p:nvPr/>
        </p:nvPicPr>
        <p:blipFill>
          <a:blip r:embed="rId2"/>
          <a:stretch/>
        </p:blipFill>
        <p:spPr>
          <a:xfrm>
            <a:off x="4495680" y="457200"/>
            <a:ext cx="4038840" cy="4978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http://im7-tub-ru.yandex.net/i?id=91861706-65-72&amp;n=21"/>
          <p:cNvPicPr/>
          <p:nvPr/>
        </p:nvPicPr>
        <p:blipFill>
          <a:blip r:embed="rId3"/>
          <a:stretch/>
        </p:blipFill>
        <p:spPr>
          <a:xfrm>
            <a:off x="1447920" y="762120"/>
            <a:ext cx="2324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5b6f"/>
                </a:solidFill>
                <a:latin typeface="Tw Cen MT"/>
              </a:rPr>
              <a:t>III </a:t>
            </a: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поколение </a:t>
            </a:r>
            <a:br>
              <a:rPr sz="3600"/>
            </a:br>
            <a:r>
              <a:rPr b="1" lang="ru-RU" sz="3200" spc="-1" strike="noStrike">
                <a:solidFill>
                  <a:srgbClr val="4e5b6f"/>
                </a:solidFill>
                <a:latin typeface="Calibri"/>
              </a:rPr>
              <a:t>(середина 60-х – середина 70-х гг.)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7521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ементная база – интегральные схемы, большие интегральные схемы (ИС, БИС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абариты – однотипные стойки, требующие машинный за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ыстродействие – сотни тысяч – миллионы оп./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сплуатация – оперативно производится ремон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граммирование – подобен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околени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уктура ЭВМ – принцип модульности и магистраль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явились дисплеи, магнитные дис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5" descr="IMS"/>
          <p:cNvPicPr/>
          <p:nvPr/>
        </p:nvPicPr>
        <p:blipFill>
          <a:blip r:embed="rId1"/>
          <a:stretch/>
        </p:blipFill>
        <p:spPr>
          <a:xfrm>
            <a:off x="7696080" y="5181480"/>
            <a:ext cx="762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торак</dc:creator>
  <dc:description/>
  <dc:language>en-US</dc:language>
  <cp:lastModifiedBy>Полторак</cp:lastModifiedBy>
  <dcterms:modified xsi:type="dcterms:W3CDTF">2017-02-20T16:58:4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