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F2A0-AB13-4028-A385-98E56DD15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9B7F-EE17-4625-BB0C-C5DE8833F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C39B-5BB5-4811-BAB1-44E791CEA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21A9-004F-4AC2-89C7-CAF701A5E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CE26B-A0EB-4F83-894C-DDD293764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C5DD7-02D5-4981-B84F-A116CFEC7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ACA76-44D6-482C-98AC-9235A2D0A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15093-EF73-4823-A53B-C2D121160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6F8C2-46AA-4587-B057-0B51533ED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91429-0FF8-4980-A898-0AF2840A7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3F106-B02B-4052-B567-CACD7F7C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07B8-BE64-4ABB-9066-E103CB941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A09E5-4C11-401C-AC39-C94A7F28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2179F-C189-42DD-826F-0BBE6400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BD2DF-A509-4B86-B072-C17B62010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2B3D0-04DF-4CF8-8146-705BAAC07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272D1-D01B-43BF-A95F-751828D48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59DAA5-46AD-4ABF-957B-5A02C3BA8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8D844F-67A3-4D1F-A008-D8D7900DB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9C6CEC-31D0-4534-9FC5-42254F7BA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AB2868-A135-4F68-A416-B29A026FD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D31209-7336-4F17-ACC2-33F4334F9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8784-D54E-4A21-BD9C-4FF71A7F6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09BC36-0A30-4E08-876F-4047F9C18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F7904D-7711-4ED8-8234-411E3684F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F05127-FABB-4F1B-9DB7-8F2CB489D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C0884D-1D18-43B1-8480-FACE1C6F9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2A306D-624E-4C0B-BDD9-2A7BEE0E5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E060A3-A39B-42E2-B484-73C04513C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CDAD82-BC67-4098-8E21-924E1305F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AE6FA0-EACA-49F3-AFCD-74818F67A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3BDBEA-8A42-4F87-9272-B6FC0C783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28F0AA-637B-4C14-B6B8-5BADA7863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5AF8-5779-4616-88CA-3E524A26C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5BE171-E53F-43D5-9BB2-D11C744D5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079FA5-4F11-4C7A-807F-669D733A7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005294-3FF5-42AE-B6C6-B7EC01217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69830A-A991-4EC8-96C8-ED9FD557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EB20BA-2B0E-4F90-8F2D-38B4049B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410763-B4FF-412E-9973-2F563FC7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B1EAC5-8058-4B19-B2BB-40B94852C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74EB46-4DEB-4B16-A14D-48FDDE280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3534CF-B61E-4A70-A7B5-0743B8EAE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E2D8AF-DA53-44F4-BAE2-5C38075A9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DAF6-5249-4A77-9C46-B633B90FA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2CB17C-1816-4C94-B8E3-22EC6BAF4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5AAAE6-C9B0-4EFF-A1BE-243691321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3079D8-9B83-43F6-907E-CA35DC648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973C77-265F-40B5-83EB-D20A254BF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69A0D5-A555-4DCD-873D-4E1C49935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C63C11-45E6-45D1-BC13-D4ED67DF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2C7837-A888-498D-8FA8-DCED7758B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384E2E-7756-4AB7-B612-C094099F9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7427B6-14A7-445E-8C97-59E97BC34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FA0EB1-93AE-4ED6-B4C9-A0632F8E0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9A03-753E-4D8D-A2F0-FEEC1F9CD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F76347-C745-4385-8586-2125B442C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8B3C4D-88BD-47A7-A602-43E908DD3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72C9DE-9938-4E96-A886-FD96CEB24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F85A2E-4473-4001-9279-3DF345290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65F0C-20AB-4EF7-B18A-056D8DCDF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E69F5B-5B1E-4BD2-AA7D-F7552DFCB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FAF5FA-7625-4CE7-B463-60FF83422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10A1B9-F95C-4639-96B2-730C75AC3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9E1D82-2907-4FCE-911B-0804E0CD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255BA8-5377-49E7-B666-23C46E517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972C-056E-4E53-A446-7F62C17F2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95E438-3892-4C5A-A792-BB0B6E323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CC1D4B-6AB7-45BE-85DF-38DAE7620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3A45D5-460E-4020-B63B-8F396DF95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9A4CAD-306C-40EC-BBF3-459DF3224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AE3C75-151E-4DF9-A4EE-AFE07280E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49919F-7698-4D15-B34A-DF43C2123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C9E589-6884-43F1-B9ED-D40B00EF4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343903-4B6C-4CAB-AF0B-A250690DD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92ACB6-DB86-4F09-86F6-572873020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DF9D81-F38C-470F-A39F-AF7F6652C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C4F9-51EB-4F45-87B4-654C65648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3000E1-10A2-41A7-95C2-46F379E1A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42360C-CE8E-4388-A92D-55D7498D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FDF77D-34F4-47B7-BFCE-D4397AD52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CAB8F7-BC5A-4A75-8151-9A8DE4AF4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0144F3-9429-4C8C-A366-F68425012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92AB17-B19F-4CC5-9CB6-6C715E6A7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15DC78-C791-43AD-9CAE-AAD408F6B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76EA7A-AA61-4D5C-B0E2-FCBBCB92B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E2D624-0B4E-4616-BB03-53F32B002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F07041-D3EF-4295-909D-595F013AA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6410-9A90-4411-B7E6-F7F54B7A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F8FF06-B3C1-4BAA-8D73-9AABB1F8F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BA6916-7D41-4F24-87C4-8C725357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9D16EF-1915-4431-8DA0-2779D116E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913FC5-E15D-40BB-BB00-1CADA1E8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D53991-34DF-4BE3-A3EA-9BC531828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21C48B-2874-4511-92FB-8E51B88DD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649C66-586C-4065-944B-A04E2052C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40326-EE7E-4373-A8F5-7BA30633EEC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ec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49AA4-C45D-4A7D-AC9D-4BDB711A9F40}" type="slidenum">
              <a:rPr b="1" lang="ru-RU" sz="14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1FB26-EBB1-40E2-91E8-E2178CDEA62D}" type="slidenum"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86632-D907-41AA-A493-045E8AD279F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BF248-A273-455D-B0CA-4B2B72369B5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EB2D5-DB2D-448E-911D-BC09D7ED4C78}" type="slidenum">
              <a:rPr b="1" lang="ru-RU" sz="14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Прямоугольник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300FF-9F16-46C0-87C2-C9F1FE679B92}" type="slidenum"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03372-51B7-4572-8649-C20225ACC70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4560" y="1295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r>
              <a:rPr b="1" lang="ru-RU" sz="7200" spc="-1" strike="noStrike">
                <a:solidFill>
                  <a:srgbClr val="d6ecff"/>
                </a:solidFill>
                <a:latin typeface="Calibri"/>
              </a:rPr>
              <a:t>ПОКОЛЕНИЯ ЭВМ</a:t>
            </a:r>
            <a:endParaRPr b="0" lang="en-US" sz="72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Text Box 6"/>
          <p:cNvSpPr/>
          <p:nvPr/>
        </p:nvSpPr>
        <p:spPr>
          <a:xfrm>
            <a:off x="304920" y="2438280"/>
            <a:ext cx="6172200" cy="35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273af"/>
                </a:solidFill>
                <a:latin typeface="Tahoma"/>
              </a:rPr>
              <a:t>История вычислительной техники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Автор: Кушманцева Т., 10а клас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Учитель: Полторак В.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3" name="Picture 8" descr="http://im8-tub-ru.yandex.net/i?id=66922885-25-72&amp;n=21"/>
          <p:cNvPicPr/>
          <p:nvPr/>
        </p:nvPicPr>
        <p:blipFill>
          <a:blip r:embed="rId1"/>
          <a:stretch/>
        </p:blipFill>
        <p:spPr>
          <a:xfrm>
            <a:off x="5257800" y="4952880"/>
            <a:ext cx="1828800" cy="142884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0" descr="http://im5-tub-ru.yandex.net/i?id=78440922-05-72&amp;n=21"/>
          <p:cNvPicPr/>
          <p:nvPr/>
        </p:nvPicPr>
        <p:blipFill>
          <a:blip r:embed="rId2"/>
          <a:stretch/>
        </p:blipFill>
        <p:spPr>
          <a:xfrm>
            <a:off x="7315200" y="4038480"/>
            <a:ext cx="13622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2" descr="http://static.dstu.edu.ru/povtas/img/img6.jpg"/>
          <p:cNvPicPr/>
          <p:nvPr/>
        </p:nvPicPr>
        <p:blipFill>
          <a:blip r:embed="rId1"/>
          <a:stretch/>
        </p:blipFill>
        <p:spPr>
          <a:xfrm>
            <a:off x="457200" y="304920"/>
            <a:ext cx="4286160" cy="26575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4" descr="http://img15.nnm.ru/2/8/c/3/6/0ba85b1a7221aa3488f94edbe73.jpg"/>
          <p:cNvPicPr/>
          <p:nvPr/>
        </p:nvPicPr>
        <p:blipFill>
          <a:blip r:embed="rId2"/>
          <a:stretch/>
        </p:blipFill>
        <p:spPr>
          <a:xfrm>
            <a:off x="1905120" y="2819520"/>
            <a:ext cx="4976640" cy="353052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6" descr="http://www.uh.edu/engines/ibm360.jpg"/>
          <p:cNvPicPr/>
          <p:nvPr/>
        </p:nvPicPr>
        <p:blipFill>
          <a:blip r:embed="rId3"/>
          <a:stretch/>
        </p:blipFill>
        <p:spPr>
          <a:xfrm>
            <a:off x="6095880" y="1295280"/>
            <a:ext cx="24498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5b6f"/>
                </a:solidFill>
                <a:latin typeface="Tw Cen MT"/>
              </a:rPr>
              <a:t>IV </a:t>
            </a:r>
            <a:r>
              <a:rPr b="1" lang="ru-RU" sz="3600" spc="-1" strike="noStrike">
                <a:solidFill>
                  <a:srgbClr val="4e5b6f"/>
                </a:solidFill>
                <a:latin typeface="Calibri"/>
              </a:rPr>
              <a:t>поколение </a:t>
            </a:r>
            <a:br>
              <a:rPr sz="3600"/>
            </a:br>
            <a:r>
              <a:rPr b="1" lang="ru-RU" sz="3200" spc="-1" strike="noStrike">
                <a:solidFill>
                  <a:srgbClr val="4e5b6f"/>
                </a:solidFill>
                <a:latin typeface="Calibri"/>
              </a:rPr>
              <a:t>(середина 70-х – настоящее время)</a:t>
            </a:r>
            <a:endParaRPr b="0" lang="en-US" sz="32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762120" y="182880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Элементная база – сверхбольшие интегральные схемы (СБИС)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Создание многопроцессорных вычислительных систем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Создание дешевых и компактных микроЭВМ и персональных ЭВМ и на их базе вычислительных сетей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4" name="Picture 5" descr="BIS"/>
          <p:cNvPicPr/>
          <p:nvPr/>
        </p:nvPicPr>
        <p:blipFill>
          <a:blip r:embed="rId1"/>
          <a:stretch/>
        </p:blipFill>
        <p:spPr>
          <a:xfrm>
            <a:off x="7086600" y="5029200"/>
            <a:ext cx="11239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8" descr="http://images.tiu.ru/6486123_w640_h640_12.jpg"/>
          <p:cNvPicPr/>
          <p:nvPr/>
        </p:nvPicPr>
        <p:blipFill>
          <a:blip r:embed="rId1"/>
          <a:stretch/>
        </p:blipFill>
        <p:spPr>
          <a:xfrm>
            <a:off x="3048120" y="3027240"/>
            <a:ext cx="3733560" cy="383076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" descr="http://malayalamcomputer.files.wordpress.com/2010/05/mpj041008400001.jpg?w=544&amp;h=577"/>
          <p:cNvPicPr/>
          <p:nvPr/>
        </p:nvPicPr>
        <p:blipFill>
          <a:blip r:embed="rId2"/>
          <a:stretch/>
        </p:blipFill>
        <p:spPr>
          <a:xfrm>
            <a:off x="5715000" y="304920"/>
            <a:ext cx="3017880" cy="32004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2" descr="http://www.bupk.ru/assets/images/uch_rab/ckt/1.jpg"/>
          <p:cNvPicPr/>
          <p:nvPr/>
        </p:nvPicPr>
        <p:blipFill>
          <a:blip r:embed="rId3"/>
          <a:stretch/>
        </p:blipFill>
        <p:spPr>
          <a:xfrm>
            <a:off x="380880" y="457200"/>
            <a:ext cx="3333960" cy="2590920"/>
          </a:xfrm>
          <a:prstGeom prst="rect">
            <a:avLst/>
          </a:prstGeom>
          <a:ln w="0">
            <a:noFill/>
          </a:ln>
        </p:spPr>
      </p:pic>
      <p:sp>
        <p:nvSpPr>
          <p:cNvPr id="388" name="Прямоугольник 9"/>
          <p:cNvSpPr/>
          <p:nvPr/>
        </p:nvSpPr>
        <p:spPr>
          <a:xfrm>
            <a:off x="304920" y="3733920"/>
            <a:ext cx="281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акже существует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поколение ЭВМ, перспективное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WordArt 4"/>
          <p:cNvSpPr txBox="1"/>
          <p:nvPr/>
        </p:nvSpPr>
        <p:spPr>
          <a:xfrm>
            <a:off x="990720" y="4419720"/>
            <a:ext cx="731520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Спасибо за внимание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808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90" name="Picture 5" descr="http://files.adme.ru/files/comment/part_297/2966605_1282294733.jpg"/>
          <p:cNvPicPr/>
          <p:nvPr/>
        </p:nvPicPr>
        <p:blipFill>
          <a:blip r:embed="rId1"/>
          <a:stretch/>
        </p:blipFill>
        <p:spPr>
          <a:xfrm>
            <a:off x="3352680" y="2438280"/>
            <a:ext cx="211788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 Box 5"/>
          <p:cNvSpPr/>
          <p:nvPr/>
        </p:nvSpPr>
        <p:spPr>
          <a:xfrm>
            <a:off x="228600" y="2666880"/>
            <a:ext cx="89154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d6ecff"/>
                </a:solidFill>
                <a:uFillTx/>
                <a:latin typeface="Calibri"/>
              </a:rPr>
              <a:t>Компьютер</a:t>
            </a:r>
            <a:r>
              <a:rPr b="0" lang="ru-RU" sz="2400" spc="-1" strike="noStrike">
                <a:solidFill>
                  <a:srgbClr val="d6ecff"/>
                </a:solidFill>
                <a:latin typeface="Calibri"/>
              </a:rPr>
              <a:t> – это устройство взаимосвязанных технических устройств, выполняющих автоматизированную обработку информаци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ecff"/>
                </a:solidFill>
                <a:latin typeface="Calibri"/>
              </a:rPr>
              <a:t>Название «ЭВМ», принятое в русскоязычной научной литературе, является синонимом компьютера. В настоящее время оно почти вытеснено из бытового употребления и в основном используется инженерами цифровой электроник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6" name="Picture 6" descr="http://im2-tub-ru.yandex.net/i?id=781331529-53-72&amp;n=21"/>
          <p:cNvPicPr/>
          <p:nvPr/>
        </p:nvPicPr>
        <p:blipFill>
          <a:blip r:embed="rId1"/>
          <a:stretch/>
        </p:blipFill>
        <p:spPr>
          <a:xfrm>
            <a:off x="380880" y="304920"/>
            <a:ext cx="29718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5b6f"/>
                </a:solidFill>
                <a:latin typeface="Calibri"/>
              </a:rPr>
              <a:t>Этапы развития вычислительной техники </a:t>
            </a:r>
            <a:endParaRPr b="0" lang="en-US" sz="3600" spc="-1" strike="noStrike">
              <a:solidFill>
                <a:srgbClr val="4e5b6f"/>
              </a:solidFill>
              <a:latin typeface="Calibri"/>
            </a:endParaRPr>
          </a:p>
        </p:txBody>
      </p:sp>
      <p:pic>
        <p:nvPicPr>
          <p:cNvPr id="358" name="Picture 6" descr="http://900igr.net/datas/informatika/Vychislitelnaja-tekhnika/0008-008-Istorija-vychislitelnoj-tekhniki.jpg"/>
          <p:cNvPicPr/>
          <p:nvPr/>
        </p:nvPicPr>
        <p:blipFill>
          <a:blip r:embed="rId1"/>
          <a:stretch/>
        </p:blipFill>
        <p:spPr>
          <a:xfrm>
            <a:off x="685800" y="1523880"/>
            <a:ext cx="76201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e5b6f"/>
                </a:solidFill>
                <a:latin typeface="Calibri"/>
              </a:rPr>
              <a:t>Поколения ЭВМ</a:t>
            </a: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228240" y="2285640"/>
            <a:ext cx="52578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92f"/>
                </a:solidFill>
                <a:latin typeface="Calibri"/>
              </a:rPr>
              <a:t>       </a:t>
            </a:r>
            <a:r>
              <a:rPr b="0" lang="ru-RU" sz="2400" spc="-1" strike="noStrike">
                <a:solidFill>
                  <a:srgbClr val="00192f"/>
                </a:solidFill>
                <a:latin typeface="Calibri"/>
              </a:rPr>
              <a:t>Под поколением понимают все типы и модели ЭВМ, разработанные различными конструкторско-техническими коллективами, но построенных на одних и тех же научных и технических принцип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1" name="Picture 5" descr="http://im6-tub-ru.yandex.net/i?id=399585666-65-72&amp;n=21"/>
          <p:cNvPicPr/>
          <p:nvPr/>
        </p:nvPicPr>
        <p:blipFill>
          <a:blip r:embed="rId1"/>
          <a:stretch/>
        </p:blipFill>
        <p:spPr>
          <a:xfrm>
            <a:off x="5486400" y="1905120"/>
            <a:ext cx="3349800" cy="2514600"/>
          </a:xfrm>
          <a:prstGeom prst="rect">
            <a:avLst/>
          </a:prstGeom>
          <a:ln w="0">
            <a:noFill/>
          </a:ln>
        </p:spPr>
      </p:pic>
      <p:sp>
        <p:nvSpPr>
          <p:cNvPr id="362" name="Прямоугольник 4"/>
          <p:cNvSpPr/>
          <p:nvPr/>
        </p:nvSpPr>
        <p:spPr>
          <a:xfrm>
            <a:off x="228600" y="495288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92f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192f"/>
                </a:solidFill>
                <a:latin typeface="Calibri"/>
              </a:rPr>
              <a:t>Появление каждого нового поколения определялось тем, что появлялись новые базовые элементы, технология изготовления которых принципиально отличалась от предыдущего поколен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e5b6f"/>
                </a:solidFill>
                <a:latin typeface="Tw Cen MT"/>
              </a:rPr>
              <a:t>I </a:t>
            </a:r>
            <a:r>
              <a:rPr b="1" lang="ru-RU" sz="4000" spc="-1" strike="noStrike">
                <a:solidFill>
                  <a:srgbClr val="4e5b6f"/>
                </a:solidFill>
                <a:latin typeface="Calibri"/>
              </a:rPr>
              <a:t>поколение </a:t>
            </a:r>
            <a:br>
              <a:rPr sz="4000"/>
            </a:br>
            <a:r>
              <a:rPr b="1" lang="ru-RU" sz="4000" spc="-1" strike="noStrike">
                <a:solidFill>
                  <a:srgbClr val="4e5b6f"/>
                </a:solidFill>
                <a:latin typeface="Calibri"/>
              </a:rPr>
              <a:t>(1946 – середина 50-х гг.)</a:t>
            </a: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19051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лементная база – электронно-вакуумные ламп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абариты – в виде шкафов и занимали машинные зал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ыстродействие – 10 – 100 тыс. оп./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ксплуатация – очень сложн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граммирование – трудоемкий процес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руктура ЭВМ – по жесткому принцип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5" name="Picture 5" descr="Lampa"/>
          <p:cNvPicPr/>
          <p:nvPr/>
        </p:nvPicPr>
        <p:blipFill>
          <a:blip r:embed="rId1"/>
          <a:stretch/>
        </p:blipFill>
        <p:spPr>
          <a:xfrm>
            <a:off x="8001000" y="3809880"/>
            <a:ext cx="46656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http://img15.nnm.ru/5/3/9/c/a/b78570db680911f384d29e762e0.jpg"/>
          <p:cNvPicPr/>
          <p:nvPr/>
        </p:nvPicPr>
        <p:blipFill>
          <a:blip r:embed="rId1"/>
          <a:stretch/>
        </p:blipFill>
        <p:spPr>
          <a:xfrm>
            <a:off x="304920" y="228600"/>
            <a:ext cx="5205240" cy="304812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4" descr="http://www.senkomp.ru/uploads/posts/2009-12/1261248125_5.jpg"/>
          <p:cNvPicPr/>
          <p:nvPr/>
        </p:nvPicPr>
        <p:blipFill>
          <a:blip r:embed="rId2"/>
          <a:stretch/>
        </p:blipFill>
        <p:spPr>
          <a:xfrm>
            <a:off x="4637160" y="3200400"/>
            <a:ext cx="4133880" cy="289548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8" descr="http://im4-tub-ru.yandex.net/i?id=149371865-11-72&amp;n=21"/>
          <p:cNvPicPr/>
          <p:nvPr/>
        </p:nvPicPr>
        <p:blipFill>
          <a:blip r:embed="rId3"/>
          <a:stretch/>
        </p:blipFill>
        <p:spPr>
          <a:xfrm>
            <a:off x="6172200" y="838080"/>
            <a:ext cx="2336760" cy="1752840"/>
          </a:xfrm>
          <a:prstGeom prst="rect">
            <a:avLst/>
          </a:prstGeom>
          <a:ln w="0">
            <a:noFill/>
          </a:ln>
        </p:spPr>
      </p:pic>
      <p:sp>
        <p:nvSpPr>
          <p:cNvPr id="369" name="Прямоугольник 7"/>
          <p:cNvSpPr/>
          <p:nvPr/>
        </p:nvSpPr>
        <p:spPr>
          <a:xfrm>
            <a:off x="304920" y="3962520"/>
            <a:ext cx="4343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вый компьютер был создан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США в 1946 году и назывался «ЭНИАК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5b6f"/>
                </a:solidFill>
                <a:latin typeface="Tw Cen MT"/>
              </a:rPr>
              <a:t>II </a:t>
            </a:r>
            <a:r>
              <a:rPr b="1" lang="ru-RU" sz="3600" spc="-1" strike="noStrike">
                <a:solidFill>
                  <a:srgbClr val="4e5b6f"/>
                </a:solidFill>
                <a:latin typeface="Calibri"/>
              </a:rPr>
              <a:t>поколение </a:t>
            </a:r>
            <a:br>
              <a:rPr sz="3600"/>
            </a:br>
            <a:r>
              <a:rPr b="1" lang="ru-RU" sz="3200" spc="-1" strike="noStrike">
                <a:solidFill>
                  <a:srgbClr val="4e5b6f"/>
                </a:solidFill>
                <a:latin typeface="Calibri"/>
              </a:rPr>
              <a:t>(середина 50-х – середина 60-х гг.)</a:t>
            </a:r>
            <a:endParaRPr b="0" lang="en-US" sz="32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85800" y="1752120"/>
            <a:ext cx="7772400" cy="46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лементная база – активные и пассивные элемен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абариты – однотипные стойки, требующие машинный за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ыстродействие – сотни тысяч – 1 млн. оп./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ксплуатация – упростилас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граммирование – появились алгоритмические язы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руктура ЭВМ – микропрограммный способ управл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2" name="Picture 5" descr="Tranzistor"/>
          <p:cNvPicPr/>
          <p:nvPr/>
        </p:nvPicPr>
        <p:blipFill>
          <a:blip r:embed="rId1"/>
          <a:stretch/>
        </p:blipFill>
        <p:spPr>
          <a:xfrm>
            <a:off x="8229600" y="3886200"/>
            <a:ext cx="46656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4" descr="http://img-fotki.yandex.ru/get/4426/5091045.e/0_79c04_86b79646_XL"/>
          <p:cNvPicPr/>
          <p:nvPr/>
        </p:nvPicPr>
        <p:blipFill>
          <a:blip r:embed="rId1"/>
          <a:stretch/>
        </p:blipFill>
        <p:spPr>
          <a:xfrm>
            <a:off x="380880" y="2971800"/>
            <a:ext cx="5002200" cy="345276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2" descr="http://www.kurzweilai.net/images/eniac-6.jpg"/>
          <p:cNvPicPr/>
          <p:nvPr/>
        </p:nvPicPr>
        <p:blipFill>
          <a:blip r:embed="rId2"/>
          <a:stretch/>
        </p:blipFill>
        <p:spPr>
          <a:xfrm>
            <a:off x="4495680" y="457200"/>
            <a:ext cx="4038840" cy="49784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6" descr="http://im7-tub-ru.yandex.net/i?id=91861706-65-72&amp;n=21"/>
          <p:cNvPicPr/>
          <p:nvPr/>
        </p:nvPicPr>
        <p:blipFill>
          <a:blip r:embed="rId3"/>
          <a:stretch/>
        </p:blipFill>
        <p:spPr>
          <a:xfrm>
            <a:off x="1447920" y="762120"/>
            <a:ext cx="232416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5b6f"/>
                </a:solidFill>
                <a:latin typeface="Tw Cen MT"/>
              </a:rPr>
              <a:t>III </a:t>
            </a:r>
            <a:r>
              <a:rPr b="1" lang="ru-RU" sz="3600" spc="-1" strike="noStrike">
                <a:solidFill>
                  <a:srgbClr val="4e5b6f"/>
                </a:solidFill>
                <a:latin typeface="Calibri"/>
              </a:rPr>
              <a:t>поколение </a:t>
            </a:r>
            <a:br>
              <a:rPr sz="3600"/>
            </a:br>
            <a:r>
              <a:rPr b="1" lang="ru-RU" sz="3200" spc="-1" strike="noStrike">
                <a:solidFill>
                  <a:srgbClr val="4e5b6f"/>
                </a:solidFill>
                <a:latin typeface="Calibri"/>
              </a:rPr>
              <a:t>(середина 60-х – середина 70-х гг.)</a:t>
            </a:r>
            <a:endParaRPr b="0" lang="en-US" sz="32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85800" y="1752120"/>
            <a:ext cx="7772400" cy="46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лементная база – интегральные схемы, большие интегральные схемы (ИС, БИС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Габариты – однотипные стойки, требующие машинный зал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Быстродействие – сотни тысяч – миллионы оп./с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ксплуатация – оперативно производится ремонт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ограммирование – подобен 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I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поколению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труктура ЭВМ – принцип модульности и магистральност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явились дисплеи, магнитные диск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8" name="Picture 5" descr="IMS"/>
          <p:cNvPicPr/>
          <p:nvPr/>
        </p:nvPicPr>
        <p:blipFill>
          <a:blip r:embed="rId1"/>
          <a:stretch/>
        </p:blipFill>
        <p:spPr>
          <a:xfrm>
            <a:off x="7696080" y="5181480"/>
            <a:ext cx="76212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олторак</dc:creator>
  <dc:description/>
  <dc:language>en-US</dc:language>
  <cp:lastModifiedBy>Полторак</cp:lastModifiedBy>
  <dcterms:modified xsi:type="dcterms:W3CDTF">2017-02-20T16:58:43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