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0D6-6505-40FA-B84B-A54216C2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12C-9E65-4714-9C77-5885730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522-2B82-4915-9CE6-64ACDA75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D6F-346E-42C3-BC64-0F237936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825C-E2E8-4F3A-8449-3F50B7D4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7BF-B08D-4FF3-81B4-434AE05A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89DC-C996-4BFF-81D6-F85A026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6A8-3507-478A-9A74-8007054A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7DF6-EA0F-471D-B07A-D7F52A5A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9A26-7DE0-4994-826F-3830C1A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D66-E6CF-40A5-B15A-CFD15EC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0F6-BFD7-4CAA-98E5-E26E5DA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A25B-C650-493D-84E5-03C9308B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638-1BBB-4651-82AB-EA2CD1A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2D96-1A07-4555-808B-C21B14EB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3745-A289-41EF-B201-50368344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11D1-1777-4CF1-91BC-201047AE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2C7-D469-4441-A897-1394102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364-FBC7-413C-A383-06E42D5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892-4773-4135-A11A-10021E7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65F-69F1-4711-8261-10EBBEAA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1F8-9CAC-4032-8210-DB3FCED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8B5-CD35-4F62-8731-AE0779C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6C9-7F95-4ED9-8C1A-8980346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0492-E50C-4F2A-AA3C-409935BBC54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12BE-FC6D-41DA-BFC8-A1E8E878F1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138&amp;text=%EA%EE%F0%E0%E1%EB%FC%20%F3%20%E1%E5%F0%E5%E3%E0&amp;rpt=simage" TargetMode="External"/><Relationship Id="rId2" Type="http://schemas.openxmlformats.org/officeDocument/2006/relationships/hyperlink" Target="http://images.yandex.ru/yandpage?&amp;p=138&amp;text=%EA%EE%F0%E0%E1%EB%FC%20%F3%20%E1%E5%F0%E5%E3%E0&amp;rpt=simage" TargetMode="External"/><Relationship Id="rId3" Type="http://schemas.openxmlformats.org/officeDocument/2006/relationships/hyperlink" Target="http://images.yandex.ru/yandpage?&amp;p=138&amp;text=%EA%EE%F0%E0%E1%EB%FC%20%F3%20%E1%E5%F0%E5%E3%E0&amp;rpt=simage" TargetMode="External"/><Relationship Id="rId4" Type="http://schemas.openxmlformats.org/officeDocument/2006/relationships/hyperlink" Target="http://images.yandex.ru/yandpage?&amp;p=138&amp;text=%EA%EE%F0%E0%E1%EB%FC%20%F3%20%E1%E5%F0%E5%E3%E0&amp;rpt=simage" TargetMode="External"/><Relationship Id="rId5" Type="http://schemas.openxmlformats.org/officeDocument/2006/relationships/hyperlink" Target="http://images.yandex.ru/yandpage?&amp;p=138&amp;text=%EA%EE%F0%E0%E1%EB%FC%20%F3%20%E1%E5%F0%E5%E3%E0&amp;rpt=simage" TargetMode="External"/><Relationship Id="rId6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7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8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9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10" Type="http://schemas.openxmlformats.org/officeDocument/2006/relationships/hyperlink" Target="http://images.yandex.ru/yandsearch?&amp;p=1&amp;text=%F4%EE%F2%EE%E3%F0%E0%F4%E8%FF+%F3%F7%E5%ED%EE%E3%EE+%CD%FC%FE%F2%EE%ED%E0&amp;stype=image" TargetMode="External"/><Relationship Id="rId11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2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3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4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5" Type="http://schemas.openxmlformats.org/officeDocument/2006/relationships/hyperlink" Target="http://images.yandex.ru/yandsearch?&amp;p=1&amp;text=%F4%EE%F2%EE%E3%F0%E0%F4%E8%FF+%F3%F7%E5%ED%EE%E3%EE+%CB%E5%E9%E1%ED%E8%F6%E0&amp;stype" TargetMode="External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ysail.fatal.ru/art/105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8915400" cy="3751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Monotype Corsiva"/>
              </a:rPr>
              <a:t>Применение производной при решении текстовых зада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95680" y="2971800"/>
            <a:ext cx="4343400" cy="28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Работу выполнили: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Магомедова Пат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Горькавенко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Arial"/>
              </a:rPr>
              <a:t>Баранова М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ченицы 10  класса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m(t)=0;    1-2t/3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                  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t=3/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Капля испарится на 3/2 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Обозначим время падения капли через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  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V(t)=gt;   </a:t>
            </a:r>
            <a:r>
              <a:rPr b="1" lang="el-GR" sz="2800" spc="-1" strike="noStrike">
                <a:solidFill>
                  <a:srgbClr val="8a8a2d"/>
                </a:solidFill>
                <a:latin typeface="Arial"/>
              </a:rPr>
              <a:t>ω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(t)=m(t)∙V²(t) ⁄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 </a:t>
            </a:r>
            <a:r>
              <a:rPr b="1" lang="ru-RU" sz="2800" spc="-1" strike="noStrike">
                <a:solidFill>
                  <a:srgbClr val="8a8a2d"/>
                </a:solidFill>
                <a:latin typeface="Arial"/>
              </a:rPr>
              <a:t>Найдем критические точки на </a:t>
            </a:r>
            <a:r>
              <a:rPr b="1" lang="en-US" sz="2800" spc="-1" strike="noStrike">
                <a:solidFill>
                  <a:srgbClr val="8a8a2d"/>
                </a:solidFill>
                <a:latin typeface="Bauhaus 93"/>
              </a:rPr>
              <a:t>[0;3/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Лента лицом вниз 7"/>
          <p:cNvSpPr/>
          <p:nvPr/>
        </p:nvSpPr>
        <p:spPr>
          <a:xfrm>
            <a:off x="152280" y="304920"/>
            <a:ext cx="8763120" cy="990360"/>
          </a:xfrm>
          <a:custGeom>
            <a:avLst/>
            <a:gdLst>
              <a:gd name="textAreaLeft" fmla="*/ 2190600 w 8763120"/>
              <a:gd name="textAreaRight" fmla="*/ 6572520 w 8763120"/>
              <a:gd name="textAreaTop" fmla="*/ 16488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9999"/>
          </a:solidFill>
          <a:ln w="399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9040" y="228240"/>
            <a:ext cx="8305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362320" y="50292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793080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70" name="24-конечная звезда 8"/>
          <p:cNvGrpSpPr/>
          <p:nvPr/>
        </p:nvGrpSpPr>
        <p:grpSpPr>
          <a:xfrm>
            <a:off x="0" y="4495680"/>
            <a:ext cx="2193840" cy="1962360"/>
            <a:chOff x="0" y="4495680"/>
            <a:chExt cx="2193840" cy="1962360"/>
          </a:xfrm>
        </p:grpSpPr>
        <p:pic>
          <p:nvPicPr>
            <p:cNvPr id="171" name="24-конечная звезда 8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21938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909720" y="5288040"/>
              <a:ext cx="361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оловина рамки 9"/>
          <p:cNvGrpSpPr/>
          <p:nvPr/>
        </p:nvGrpSpPr>
        <p:grpSpPr>
          <a:xfrm>
            <a:off x="1127160" y="3962520"/>
            <a:ext cx="8016840" cy="2689200"/>
            <a:chOff x="1127160" y="3962520"/>
            <a:chExt cx="8016840" cy="2689200"/>
          </a:xfrm>
        </p:grpSpPr>
        <p:pic>
          <p:nvPicPr>
            <p:cNvPr id="174" name="Половина рамки 9" descr=""/>
            <p:cNvPicPr/>
            <p:nvPr/>
          </p:nvPicPr>
          <p:blipFill>
            <a:blip r:embed="rId3"/>
            <a:stretch/>
          </p:blipFill>
          <p:spPr>
            <a:xfrm>
              <a:off x="1127160" y="3962520"/>
              <a:ext cx="80168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0800000">
              <a:off x="1209600" y="4047840"/>
              <a:ext cx="784872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066680"/>
            <a:ext cx="1066680" cy="20574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носка-облако 8"/>
          <p:cNvSpPr/>
          <p:nvPr/>
        </p:nvSpPr>
        <p:spPr>
          <a:xfrm>
            <a:off x="152280" y="0"/>
            <a:ext cx="4572000" cy="1828800"/>
          </a:xfrm>
          <a:prstGeom prst="cloudCallout">
            <a:avLst>
              <a:gd name="adj1" fmla="val -21319"/>
              <a:gd name="adj2" fmla="val 221888"/>
            </a:avLst>
          </a:prstGeom>
          <a:gradFill rotWithShape="0">
            <a:gsLst>
              <a:gs pos="0">
                <a:srgbClr val="c4c4c4"/>
              </a:gs>
              <a:gs pos="100000">
                <a:srgbClr val="5a5a5a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6" descr=""/>
          <p:cNvPicPr/>
          <p:nvPr/>
        </p:nvPicPr>
        <p:blipFill>
          <a:blip r:embed="rId1"/>
          <a:stretch/>
        </p:blipFill>
        <p:spPr>
          <a:xfrm>
            <a:off x="189000" y="165240"/>
            <a:ext cx="4541760" cy="1145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924000" y="762120"/>
            <a:ext cx="5219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Дождевая капля падает под действием силы тяжести, равномерно испаряясь так ,что её масса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Ravie"/>
              </a:rPr>
              <a:t>m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изменяется по закону </a:t>
            </a:r>
            <a:r>
              <a:rPr b="0" lang="en-US" sz="2800" spc="-1" strike="noStrike">
                <a:solidFill>
                  <a:srgbClr val="006633"/>
                </a:solidFill>
                <a:latin typeface="Ravie"/>
              </a:rPr>
              <a:t>m(t)=1-2t/3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33"/>
                </a:solidFill>
                <a:latin typeface="Arial"/>
              </a:rPr>
              <a:t>Через сколько времени после начала падения кинетическая энергия капли будет наиболь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Текст 3"/>
          <p:cNvSpPr/>
          <p:nvPr/>
        </p:nvSpPr>
        <p:spPr>
          <a:xfrm>
            <a:off x="1676520" y="434340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Текст 3"/>
          <p:cNvSpPr/>
          <p:nvPr/>
        </p:nvSpPr>
        <p:spPr>
          <a:xfrm>
            <a:off x="2209680" y="3276720"/>
            <a:ext cx="300852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ubHalfFrame"/>
          <p:cNvSpPr/>
          <p:nvPr/>
        </p:nvSpPr>
        <p:spPr>
          <a:xfrm rot="10800000">
            <a:off x="2438280" y="4800600"/>
            <a:ext cx="6553440" cy="1905120"/>
          </a:xfrm>
          <a:custGeom>
            <a:avLst/>
            <a:gdLst>
              <a:gd name="textAreaLeft" fmla="*/ 0 w 6553440"/>
              <a:gd name="textAreaRight" fmla="*/ 5549040 w 6553440"/>
              <a:gd name="textAreaTop" fmla="*/ 0 h 1905120"/>
              <a:gd name="textAreaBottom" fmla="*/ 291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11" y="20889"/>
                </a:lnTo>
                <a:lnTo>
                  <a:pt x="711" y="3311"/>
                </a:lnTo>
                <a:lnTo>
                  <a:pt x="18289" y="3311"/>
                </a:lnTo>
                <a:lnTo>
                  <a:pt x="21600" y="0"/>
                </a:lnTo>
              </a:path>
            </a:pathLst>
          </a:custGeom>
          <a:solidFill>
            <a:srgbClr val="b2b2b2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ubHalfFrame"/>
          <p:cNvSpPr/>
          <p:nvPr/>
        </p:nvSpPr>
        <p:spPr>
          <a:xfrm rot="10800000">
            <a:off x="2438280" y="4800600"/>
            <a:ext cx="6553440" cy="1905120"/>
          </a:xfrm>
          <a:custGeom>
            <a:avLst/>
            <a:gdLst>
              <a:gd name="textAreaLeft" fmla="*/ 0 w 6553440"/>
              <a:gd name="textAreaRight" fmla="*/ 5549040 w 6553440"/>
              <a:gd name="textAreaTop" fmla="*/ 0 h 1905120"/>
              <a:gd name="textAreaBottom" fmla="*/ 2919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11" y="20889"/>
                </a:lnTo>
                <a:lnTo>
                  <a:pt x="711" y="3311"/>
                </a:lnTo>
                <a:lnTo>
                  <a:pt x="18289" y="3311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33cccc">
                  <a:alpha val="90196"/>
                </a:srgbClr>
              </a:gs>
              <a:gs pos="100000">
                <a:srgbClr val="175e5e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1)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'(t) = g²t - g²t² = g²t(1-t).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2)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'(t)=0;      g²t(1-t)=0</a:t>
            </a:r>
            <a:br>
              <a:rPr sz="3800"/>
            </a:b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                   t=0  </a:t>
            </a:r>
            <a:r>
              <a:rPr b="1" lang="ru-RU" sz="3800" spc="-1" strike="noStrike">
                <a:solidFill>
                  <a:srgbClr val="737326"/>
                </a:solidFill>
                <a:latin typeface="Garamond"/>
              </a:rPr>
              <a:t>или  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t=1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3)</a:t>
            </a:r>
            <a:r>
              <a:rPr b="1" lang="ru-RU" sz="3800" spc="-1" strike="noStrike">
                <a:solidFill>
                  <a:srgbClr val="737326"/>
                </a:solidFill>
                <a:latin typeface="Garamond"/>
              </a:rPr>
              <a:t>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0)=0;     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1)=g²/6;    </a:t>
            </a:r>
            <a:r>
              <a:rPr b="1" lang="el-GR" sz="3800" spc="-1" strike="noStrike">
                <a:solidFill>
                  <a:srgbClr val="737326"/>
                </a:solidFill>
                <a:latin typeface="Garamond"/>
              </a:rPr>
              <a:t>ω</a:t>
            </a:r>
            <a:r>
              <a:rPr b="1" lang="en-US" sz="3800" spc="-1" strike="noStrike">
                <a:solidFill>
                  <a:srgbClr val="737326"/>
                </a:solidFill>
                <a:latin typeface="Garamond"/>
              </a:rPr>
              <a:t>(3/2)=0;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Половина рамки 9"/>
          <p:cNvGrpSpPr/>
          <p:nvPr/>
        </p:nvGrpSpPr>
        <p:grpSpPr>
          <a:xfrm>
            <a:off x="1127160" y="3657600"/>
            <a:ext cx="8016840" cy="2841120"/>
            <a:chOff x="1127160" y="3657600"/>
            <a:chExt cx="8016840" cy="2841120"/>
          </a:xfrm>
        </p:grpSpPr>
        <p:pic>
          <p:nvPicPr>
            <p:cNvPr id="189" name="Половина рамки 9" descr=""/>
            <p:cNvPicPr/>
            <p:nvPr/>
          </p:nvPicPr>
          <p:blipFill>
            <a:blip r:embed="rId1"/>
            <a:stretch/>
          </p:blipFill>
          <p:spPr>
            <a:xfrm>
              <a:off x="1127160" y="3657600"/>
              <a:ext cx="8016840" cy="28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10800000">
              <a:off x="1209600" y="3747960"/>
              <a:ext cx="7848720" cy="26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7200" y="4267080"/>
            <a:ext cx="8077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97a8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1c97a8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через 1 секунду после          падения кинетическая энергия капли будет наиболь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Половина рамки 4"/>
          <p:cNvGrpSpPr/>
          <p:nvPr/>
        </p:nvGrpSpPr>
        <p:grpSpPr>
          <a:xfrm>
            <a:off x="0" y="-152280"/>
            <a:ext cx="1828800" cy="3614760"/>
            <a:chOff x="0" y="-152280"/>
            <a:chExt cx="1828800" cy="3614760"/>
          </a:xfrm>
        </p:grpSpPr>
        <p:pic>
          <p:nvPicPr>
            <p:cNvPr id="193" name="Половина рамки 4" descr=""/>
            <p:cNvPicPr/>
            <p:nvPr/>
          </p:nvPicPr>
          <p:blipFill>
            <a:blip r:embed="rId2"/>
            <a:stretch/>
          </p:blipFill>
          <p:spPr>
            <a:xfrm>
              <a:off x="0" y="-152280"/>
              <a:ext cx="182880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27520" y="88920"/>
              <a:ext cx="136584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80880" y="4876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304920"/>
            <a:ext cx="480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2341440" y="49320"/>
            <a:ext cx="5985000" cy="2322360"/>
          </a:xfrm>
          <a:prstGeom prst="rect">
            <a:avLst/>
          </a:prstGeom>
          <a:ln w="0">
            <a:noFill/>
          </a:ln>
        </p:spPr>
      </p:pic>
      <p:pic>
        <p:nvPicPr>
          <p:cNvPr id="198" name="Солнце 5" descr=""/>
          <p:cNvPicPr/>
          <p:nvPr/>
        </p:nvPicPr>
        <p:blipFill>
          <a:blip r:embed="rId2"/>
          <a:stretch/>
        </p:blipFill>
        <p:spPr>
          <a:xfrm>
            <a:off x="-189000" y="-158760"/>
            <a:ext cx="2382840" cy="245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2209680"/>
            <a:ext cx="6934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Среди всего материала, касающегося применения производной, наибольшую сложность вызывают текстовые задачи на экстре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бщеизвестно, что решение любой задачи может быть облегчено выработкой определённого плана, алгоритма её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оловина рамки 8"/>
          <p:cNvGrpSpPr/>
          <p:nvPr/>
        </p:nvGrpSpPr>
        <p:grpSpPr>
          <a:xfrm>
            <a:off x="5410080" y="2951280"/>
            <a:ext cx="3752640" cy="3906720"/>
            <a:chOff x="5410080" y="2951280"/>
            <a:chExt cx="3752640" cy="3906720"/>
          </a:xfrm>
        </p:grpSpPr>
        <p:pic>
          <p:nvPicPr>
            <p:cNvPr id="201" name="Половина рамки 8" descr=""/>
            <p:cNvPicPr/>
            <p:nvPr/>
          </p:nvPicPr>
          <p:blipFill>
            <a:blip r:embed="rId3"/>
            <a:stretch/>
          </p:blipFill>
          <p:spPr>
            <a:xfrm>
              <a:off x="5410080" y="2951280"/>
              <a:ext cx="37526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10800000">
              <a:off x="5763600" y="3198960"/>
              <a:ext cx="3045600" cy="34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3049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Прямоугольник 2" descr=""/>
          <p:cNvPicPr/>
          <p:nvPr/>
        </p:nvPicPr>
        <p:blipFill>
          <a:blip r:embed="rId1"/>
          <a:stretch/>
        </p:blipFill>
        <p:spPr>
          <a:xfrm>
            <a:off x="781200" y="285840"/>
            <a:ext cx="7167240" cy="1414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143000" y="22860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хема 4" descr=""/>
          <p:cNvPicPr/>
          <p:nvPr/>
        </p:nvPicPr>
        <p:blipFill>
          <a:blip r:embed="rId2"/>
          <a:stretch/>
        </p:blipFill>
        <p:spPr>
          <a:xfrm>
            <a:off x="122400" y="1517760"/>
            <a:ext cx="879624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1f4519"/>
                </a:solidFill>
                <a:latin typeface="Arial"/>
              </a:rPr>
              <a:t>Данная тема представляет собой благодатный материал для формирования диалектико-материалистического представления о предмете математики. Мы показали, как понятие производной используется для изучения многообразных явлений и процессов реального мира, как с помощью этого понятия получают единую трактовку многие понятия в физике, химии, биологии, географии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28600"/>
            <a:ext cx="7619760" cy="1447920"/>
          </a:xfrm>
          <a:custGeom>
            <a:avLst/>
            <a:gdLst>
              <a:gd name="textAreaLeft" fmla="*/ 0 w 7619760"/>
              <a:gd name="textAreaRight" fmla="*/ 7620120 w 7619760"/>
              <a:gd name="textAreaTop" fmla="*/ 597600 h 1447920"/>
              <a:gd name="textAreaBottom" fmla="*/ 850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3366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52480" y="3049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7894"/>
                <a:gd name="adj2" fmla="val -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ВОД:</a:t>
            </a:r>
            <a:endParaRPr b="0" lang="en-US" sz="1800" spc="1" strike="noStrike">
              <a:ln w="0">
                <a:noFill/>
              </a:ln>
              <a:solidFill>
                <a:srgbClr val="66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00400" y="380880"/>
            <a:ext cx="380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371600"/>
            <a:ext cx="7696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http://images.yandex.ru/yandpage?&amp;p=2&amp;text=%EA%EE%EB%E5%E1%E0%ED%E8%E5%20%F1%F2%F0%F3%ED%FB&amp;rpt=sima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page?&amp;p=1&amp;text=%EA%EE%EB%E5%E1%E0%ED%E8%E5%20%F1%F2%F0%F3%ED%FB&amp;rpt=sim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5"/>
              </a:rPr>
              <a:t>yandpage?&amp;p=138&amp;text=%EA%EE%F0%E0%E1%EB%FC%20%F3%20%E1%E5%F0%E5%E3%E0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8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0"/>
              </a:rPr>
              <a:t>yandsearch?&amp;p=1&amp;text=%F4%EE%F2%EE%E3%F0%E0%F4%E8%FF+%F3%F7%E5%ED%EE%E3%EE+%CD%FC%FE%F2%EE%ED%E0&amp;stype=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3"/>
              </a:rPr>
              <a:t>images.yandex.ru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800" spc="-1" strike="noStrike" u="sng">
                <a:solidFill>
                  <a:srgbClr val="4c6d80"/>
                </a:solidFill>
                <a:uFillTx/>
                <a:latin typeface="Arial"/>
                <a:hlinkClick r:id="rId15"/>
              </a:rPr>
              <a:t>yandsearch?&amp;p=1&amp;text=%F4%EE%F2%EE%E3%F0%E0%F4%E8%FF+%F3%F7%E5%ED%EE%E3%EE+%CB%E5%E9%E1%ED%E8%F6%E0&amp;s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search?text=%F4%E8%E7%E8%F7%E5%F1%EA%E8%E9+%F1%EC%FB%F1%EB+%EF%F0%EE%E8%E7%E2%EE%E4%ED%EE%E9&amp;stype=image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0492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Е. Г. Глаголева, И. Л. Никольская. Формирование  материалистического мировоззрения на   уроках алгебры и начала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Е. Г. Глаголева Б. В. Сорокин. Предел и непрерывность функции в курсе 10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А. Я. Блох, И. А. Павленкова. Орешении задач на экстремум при изучении производной в 10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А. К. Арнольд.   Теория катастр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А. А. Пинский, С. Т. Тхамафокова. Основные направления взаимосвязи курса «Алгебра и начала анализа» с курсом физики 9-10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Э. К. Розенов. Статьи о музы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. Тейлор. Физика музыкаль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Н. Я. Виленкин. Специализированные учебные пос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Л. В. Тарасов. Математический анализ. Беседы об основных пон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685800"/>
            <a:ext cx="828036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99cc"/>
                </a:solidFill>
                <a:latin typeface="Gill Sans Ultra Bold"/>
              </a:rPr>
              <a:t>Способ решения задач с помощью                                            применения производной, есть своего рода универсальный способ, так как он распространяется на любой  из видов задач, независимо от содер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3657600"/>
            <a:ext cx="87631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Научиться решать задачи с применением производной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-   Разработать алгоритм решения задач на экстрем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2280" y="5410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Систематизация и обобщ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762120"/>
            <a:ext cx="5334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ТЕЗА: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3886200"/>
            <a:ext cx="26668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ЦЕЛЬ:      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5410080"/>
            <a:ext cx="269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ТОДЫ: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8088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МОЁ 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52280" y="457200"/>
            <a:ext cx="84582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Рассмотрим ряд текстовых задач, при решении которых будем использовать механический смысл производ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Мама с своей дочкой гуляла в парке. Девочка захотела      покататься на каруселях, а мама решила сфотографировать очку. Вращение карусели совершается по закону </a:t>
            </a:r>
            <a:r>
              <a:rPr b="0" i="1" lang="el-GR" sz="2000" spc="-1" strike="noStrike">
                <a:solidFill>
                  <a:srgbClr val="4c6d4e"/>
                </a:solidFill>
                <a:latin typeface="Arial"/>
              </a:rPr>
              <a:t>φ</a:t>
            </a: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4c6d4e"/>
                </a:solidFill>
                <a:latin typeface="Arial"/>
              </a:rPr>
              <a:t>t)=t³⁄9-5t²⁄2</a:t>
            </a:r>
            <a:r>
              <a:rPr b="0" i="1" lang="ru-RU" sz="2000" spc="-1" strike="noStrike">
                <a:solidFill>
                  <a:srgbClr val="4c6d4e"/>
                </a:solidFill>
                <a:latin typeface="Arial"/>
              </a:rPr>
              <a:t>. Фотография может быть хорошего качества только при ускорении равном 3 м/с². В какой момент времени необходимо сделать сним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3171" r="16341" b="17995"/>
          <a:stretch/>
        </p:blipFill>
        <p:spPr>
          <a:xfrm>
            <a:off x="3429000" y="3543480"/>
            <a:ext cx="533412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19971600">
            <a:off x="61560" y="3754080"/>
            <a:ext cx="4267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             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движения карусе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=t²/3-5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кор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(t)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=2t/3-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ак как фотография будет хорошего качества при ускорении 3 м/с² ,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3-5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t-15=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t=2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1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 фотографировать девочку необходимо на 12 секу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12 секун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52480" y="30492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РЕШЕНИЕ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1440400">
            <a:off x="762120" y="525744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твет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                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1426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пункта А по двум лучам, угол между которыми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вижется два тела: первое равномерно со скоростью 10 км/ч, второе – по закон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t)=2t²+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ак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тдаляются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22860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Содержимое 3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одержимое 3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724280"/>
          </a:xfrm>
          <a:prstGeom prst="rect">
            <a:avLst/>
          </a:prstGeom>
          <a:ln w="572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       </a:t>
            </a: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РЕШЕНИЕ ЗАДАЧИ: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19720" y="11426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я теорему косинусов имее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²=АВ²+АС²-2АВ А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60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=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т.к.ВС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t)=S’(t)= (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(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91t-24t²+8t³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a8a2d"/>
                </a:solidFill>
                <a:latin typeface="Arial"/>
              </a:rPr>
              <a:t>ОТВЕТ:</a:t>
            </a:r>
            <a:r>
              <a:rPr b="0" lang="ru-RU" sz="2600" spc="-1" strike="noStrike">
                <a:solidFill>
                  <a:srgbClr val="8a8a2d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1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4t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t³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10"/>
          <p:cNvSpPr/>
          <p:nvPr/>
        </p:nvSpPr>
        <p:spPr>
          <a:xfrm>
            <a:off x="5562720" y="44956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2133720" cy="42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10"/>
          <p:cNvSpPr/>
          <p:nvPr/>
        </p:nvSpPr>
        <p:spPr>
          <a:xfrm>
            <a:off x="5562720" y="44956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5562720" y="4572000"/>
            <a:ext cx="213336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6"/>
          <a:stretch/>
        </p:blipFill>
        <p:spPr>
          <a:xfrm>
            <a:off x="6477120" y="5943600"/>
            <a:ext cx="2133360" cy="428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7220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114800"/>
            <a:ext cx="403884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880" y="2286000"/>
            <a:ext cx="2438640" cy="1828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286000"/>
            <a:ext cx="1600200" cy="1828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22600">
            <a:off x="819720" y="2511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(t);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191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(t);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30"/>
          <p:cNvSpPr/>
          <p:nvPr/>
        </p:nvSpPr>
        <p:spPr>
          <a:xfrm>
            <a:off x="685800" y="3809880"/>
            <a:ext cx="304920" cy="6098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28600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   </a:t>
            </a:r>
            <a:r>
              <a:rPr b="1" i="1" lang="en-US" sz="4200" spc="-1" strike="noStrike">
                <a:solidFill>
                  <a:srgbClr val="003399"/>
                </a:solidFill>
                <a:latin typeface="Garamond"/>
              </a:rPr>
              <a:t>Текстовые задачи на экстремум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6d4e"/>
                </a:solidFill>
                <a:latin typeface="Arial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Корабль находится от точки А берега на расстоянии 3 км. С корабля отправлен гонец  с донесением в штаб В, находящийся от точки А на расстоянии 10 км по берегу.  Лодка движется со скоростью  4 км/ч, а гонец, выйдя из лодки может в час пройти 5 км. К какому пункту берега должна пристать лодка, чтобы донесение в штаб было доставлено в кротчайше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ка 120 из 2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ЕШЕНИЕ ЗАДАЧИ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разим время, затраченное на путь КВМ, через  х. Тогда из прямоугольного треугольника АКМ, по теореме Пифагора, име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М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ремя, затраченное на путь КВМ, будет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t(x)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йдем критические точки функции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а [0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he-IL" sz="1600" spc="-1" strike="noStrike">
                <a:solidFill>
                  <a:srgbClr val="0000ff"/>
                </a:solidFill>
                <a:latin typeface="Arial"/>
              </a:rPr>
              <a:t>י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x) =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ый треугольник 3"/>
          <p:cNvSpPr/>
          <p:nvPr/>
        </p:nvSpPr>
        <p:spPr>
          <a:xfrm rot="5400000">
            <a:off x="1752120" y="1752480"/>
            <a:ext cx="1371600" cy="2590920"/>
          </a:xfrm>
          <a:prstGeom prst="rtTriangle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0"/>
          </a:gradFill>
          <a:ln w="399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733920" y="1752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6212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838080" y="3581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75248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808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781200" cy="39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1714680" cy="628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3"/>
          <a:stretch/>
        </p:blipFill>
        <p:spPr>
          <a:xfrm>
            <a:off x="1523880" y="5486400"/>
            <a:ext cx="3057480" cy="676440"/>
          </a:xfrm>
          <a:prstGeom prst="rect">
            <a:avLst/>
          </a:prstGeom>
          <a:ln w="0">
            <a:noFill/>
          </a:ln>
        </p:spPr>
      </p:pic>
      <p:sp>
        <p:nvSpPr>
          <p:cNvPr id="153" name="PubHalfFrame"/>
          <p:cNvSpPr/>
          <p:nvPr/>
        </p:nvSpPr>
        <p:spPr>
          <a:xfrm rot="10800000">
            <a:off x="5790960" y="152280"/>
            <a:ext cx="2971800" cy="6400800"/>
          </a:xfrm>
          <a:custGeom>
            <a:avLst/>
            <a:gdLst>
              <a:gd name="textAreaLeft" fmla="*/ 0 w 2971800"/>
              <a:gd name="textAreaRight" fmla="*/ 2785680 w 2971800"/>
              <a:gd name="textAreaTop" fmla="*/ 0 h 6400800"/>
              <a:gd name="textAreaBottom" fmla="*/ 40140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769" y="18831"/>
                </a:lnTo>
                <a:lnTo>
                  <a:pt x="2769" y="1355"/>
                </a:lnTo>
                <a:lnTo>
                  <a:pt x="20245" y="1355"/>
                </a:lnTo>
                <a:lnTo>
                  <a:pt x="21600" y="0"/>
                </a:lnTo>
              </a:path>
            </a:pathLst>
          </a:custGeom>
          <a:gradFill rotWithShape="0">
            <a:gsLst>
              <a:gs pos="0">
                <a:srgbClr val="33cccc">
                  <a:alpha val="82352"/>
                </a:srgbClr>
              </a:gs>
              <a:gs pos="50000">
                <a:srgbClr val="175e5e"/>
              </a:gs>
              <a:gs pos="100000">
                <a:srgbClr val="33cccc">
                  <a:alpha val="82352"/>
                </a:srgbClr>
              </a:gs>
            </a:gsLst>
            <a:lin ang="162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457200" y="304920"/>
            <a:ext cx="8381880" cy="66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дная всюду существует, так как знаменатель дроби не обращается в нуль ни при каких значениях х. Следовательно, критическими точками могут быть те, в которых производная равна нулю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;                          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5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²=16;        х=4        или         х=- 4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чку х=-4 проверять не нужно, так как она не принадлежит промежутку [0;10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йдем значения функции в точке х=4 и на концах отрезка х=0 и х=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(4)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 t(0)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;     t(10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им образом наименьшее значение функция достигает а   точке х=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: донесение будет доставлено в штаб в кратчайший промежуток времени, если лодка пристанет к берегу в месте, отстоящем от точки А на расстоянии, равном 4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1438200" cy="67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93348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145728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152280" cy="523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6"/>
          <a:stretch/>
        </p:blipFill>
        <p:spPr>
          <a:xfrm>
            <a:off x="6400800" y="4038480"/>
            <a:ext cx="523800" cy="6098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5</cp:lastModifiedBy>
  <dcterms:modified xsi:type="dcterms:W3CDTF">2007-09-22T07:41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