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08E19-C7B1-4F2A-8FB7-62E16C28B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573E9-F96E-44BD-9600-6B1A01E4A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D112C-FDCD-49B3-9FD4-B03D8E786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EFAC8-C8BA-4A92-9447-57E3F8AD2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D89F8-85AE-4EC9-904E-208D59D9A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EE86F-9517-49CC-AE1E-92FFD5B89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E7E1D-E8BF-4797-8CFA-5CA7EDA6E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67365-0CFC-4D9A-A53E-9C24CA7CE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99EB4-AC12-475A-A6F3-F924C4D8A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E2ADD-593E-4B8B-A946-9A674733B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169A1-EA0A-46FC-B76B-8DBF5E7DD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8B8BE-5D9A-44A1-8F58-AF165377D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EE7EA-FD93-4B1E-9EA0-6689CEA11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4A95F-427E-4E21-A751-38E4F42C3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40B43-554C-43C1-8D44-6C3FD2EC9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84C2B-3440-4CEA-A311-60263E0D7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8C9D8-A5D9-4774-93DB-4078C15BA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8B911-9159-4B54-A03D-CBC15BED3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82E56-6C67-43CF-ABF9-2718D6036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6CC89-FE92-427F-9802-042B33C67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7188B-CB40-4D12-9044-6E1813088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E249C-DAD7-4B3D-909D-03B9649D0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37A36-032F-41B9-84F0-057A65800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3614D-06EA-4199-A6C7-E67042263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FA27F-8397-4090-B917-CACD0CBC9E3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F420A-81A4-4A24-9049-CB34B8FDA16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762120" y="2742840"/>
            <a:ext cx="71625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835280" y="4581360"/>
            <a:ext cx="5715000" cy="151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Д.С.Лихачев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755640" y="404640"/>
            <a:ext cx="2394000" cy="3602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ПИСЬМА О ДОБРОМ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 Большое в мало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Молодость – вся жизн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 Самое большо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Молодость – вся жизнь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Молодость – это время сближения. И об этом следует помнить и друзей беречь, ибо настоящая дружба очень помогает и в горе и в радости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 радости ведь тоже нужна помощь, чтобы ощутить счастье до глубины души, ощутить и поделиться им. Неразделенная радость – не радость. Человека портит счастье, если он переживает его один. Когда же наступит пора несчастий, пора утрат – опять – таки нельзя быть одному. Горе человеку, если он один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Молодость – вся жизнь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оэтому берегите молодость до глубокой старости. Цените все хорошее, что приобрели в молодые годы, не растрачивайте богатств молодост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Ничто из приобретенного в молодости не проходит бесследно. Привычки, воспитанные в молодости, сохраняются на всю жизнь. Навыки в труде- тож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ривык к работе – и работа вечно будет доставлять радость. А как важно это для человеческого счастья! Нет несчастнее человека ленивого, вечно избегающего труда, усилий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Молодость – вся жизнь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ак в молодости, так и в старости… Хорошие навыки молодости облегчают жизнь, дурные – усложняют ее и затрудняют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 еще. Есть русская пословица: «Береги честь смолоду». В памяти остаются все поступки, совершенные в молодости. Хорошие будут радовать  - дурные не давать  спать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Второй этап урок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4360" y="1915920"/>
            <a:ext cx="80071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Задания   для работы с тексто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.    Составить план текст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.    Выявить его основную проблем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.    Определить позицию автора текст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.    Прочитав 2 других письма, найдите общее. Выскажите собственные аргументы в защиту или против авторской позици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b7"/>
                </a:solidFill>
                <a:latin typeface="Arial Black"/>
              </a:rPr>
              <a:t>КАКИЕ ПОСЛОВИЦЫ  и ПОГОВОРКИ близки теме нашего разговора?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Жизнь дана на добрые дел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ек долог, да час дорог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е тот живет больше, чей век дольш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Живи не прошлым, а завтрашним дне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Жизнь прожить  - не поле перейт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 молоду учиться – навек пригодитьс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«Наставь юношу при начале пути его: он не уклонится от него, когда состарится» (Притча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Чему в молодости не научился, того в старости не добудешь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«Чего не собрал  ты в юности, как же можешь приобрести в старости твоей»(Притча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b7"/>
                </a:solidFill>
                <a:latin typeface="Arial Black"/>
              </a:rPr>
              <a:t>Честь, совесть, достоинство – основное богатство молодости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              « Между совестью и честью есть одно существенное различие. Совесть всегда исходит из глубины души. Совесть не бывает ложной. Она может быть приглушенной или слишком преувеличенной. Но представления о чести могут быть совершенно ложными. Я имею в виду то, что называется «честью мундира». Честь истинная всегда в соответствии с совестью. Честь ложная - мираж в пустыне.»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Д.С.Лихаче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Мартынов, убивший на дуэли Лермонтова, завещал не писать на могиле его имени и не ставить себе никакого памятник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Дантес до конца своей долгой и благополучной жизни убеждён в том, что у него не было другого выхода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Честь и совесть (по книге Д. С. Лихачёва «Заветное»)</a:t>
            </a: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Честь обязывает человека думать о чести того общественного института, который он представляет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Есть честь рабочего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честь инженера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честь врача, но 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честь учащегося определенной школы, честь полка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честь завода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честь учрежде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835280" y="0"/>
            <a:ext cx="6337080" cy="6742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7720" y="-360"/>
            <a:ext cx="4094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митрий Сергеевич Лихачев родился 28(15) ноября 1906 года в Санкт-Петербург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тец - Сергей Михайлович Лихачев, инженер-электрик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ать - Вера Семеновна Лихачева, урожденная Коняева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Ученик гимназии Императорского Человеколюбивого общества (1914-1915), гимназии и реального училищ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. И. Мая (1915-1917), Советской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трудовой школы и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Л. Лентовской (1918-1923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Picture 5" descr="19-30"/>
          <p:cNvPicPr/>
          <p:nvPr/>
        </p:nvPicPr>
        <p:blipFill>
          <a:blip r:embed="rId1"/>
          <a:stretch/>
        </p:blipFill>
        <p:spPr>
          <a:xfrm>
            <a:off x="5029200" y="0"/>
            <a:ext cx="41148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50920" y="1197000"/>
            <a:ext cx="4176720" cy="35560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4500720" y="404640"/>
            <a:ext cx="2022480" cy="30243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6588000" y="981000"/>
            <a:ext cx="2374920" cy="36003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1547640" y="5300640"/>
            <a:ext cx="48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Петроградский  университе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4"/>
          <p:cNvSpPr/>
          <p:nvPr/>
        </p:nvSpPr>
        <p:spPr>
          <a:xfrm>
            <a:off x="0" y="49680"/>
            <a:ext cx="563868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1923 - 1928 </a:t>
            </a:r>
            <a:br>
              <a:rPr sz="32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Студент романо-германской и славяно-русской секции отделения языкознания и литературы факультета общественных наук Ленинградского государственного университет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Picture 5" descr="19-162"/>
          <p:cNvPicPr/>
          <p:nvPr/>
        </p:nvPicPr>
        <p:blipFill>
          <a:blip r:embed="rId1"/>
          <a:stretch/>
        </p:blipFill>
        <p:spPr>
          <a:xfrm>
            <a:off x="5410080" y="0"/>
            <a:ext cx="3733920" cy="281952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6"/>
          <p:cNvSpPr/>
          <p:nvPr/>
        </p:nvSpPr>
        <p:spPr>
          <a:xfrm>
            <a:off x="0" y="3714840"/>
            <a:ext cx="9144000" cy="27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1928 </a:t>
            </a:r>
            <a:br>
              <a:rPr sz="32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Окончил Ленинградский государственный университет.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8 февраля - арестован за участие в студенческом кружке "Космическая академия наук", где незадолго до ареста сделал доклад о старой русской орфографии; осужден н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5 лет за контрреволюционную деятельность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826920" y="1197000"/>
            <a:ext cx="3529080" cy="29653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5076720" y="2133720"/>
            <a:ext cx="3059280" cy="18684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2124000" y="5516640"/>
            <a:ext cx="525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Соловки,   Беломоркана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 1936 году, 27 июля, по ходатайству президента Академии наук А.П.Карпинского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нята судимос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остановлением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равительства ЦИК ССС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755640" y="765000"/>
            <a:ext cx="7416720" cy="489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900000" y="378000"/>
            <a:ext cx="7632720" cy="619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митрий Сергеевич Лихачев скончался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30 сентября 1999 года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Санкт - Петербурге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хоронен на  семейном кладбище в Комаров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0T20:02:42Z</dcterms:created>
  <dc:creator>home</dc:creator>
  <dc:description/>
  <dc:language>en-US</dc:language>
  <cp:lastModifiedBy>lena</cp:lastModifiedBy>
  <dcterms:modified xsi:type="dcterms:W3CDTF">2009-12-14T00:29:28Z</dcterms:modified>
  <cp:revision>16</cp:revision>
  <dc:subject/>
  <dc:title>Слайд 1</dc:title>
</cp:coreProperties>
</file>