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890-1CC8-421E-BF71-6AFCB160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DD0-ECBD-4444-83D1-B40E574C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36F-AA07-49A8-A841-13F5FADB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8A3-7F04-43FD-927F-FB0292B6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1862-5A87-4553-9D60-DA13F84D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BBC7-73A0-4F28-9E7A-50A76AB6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A3A3-6FFE-4FEB-96FD-E07C03E2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3A04-1797-4C76-86F2-655ADE3E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A2A5-C42A-4980-892B-D7B50E48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F2C6-1FC1-4559-9081-1C6D8D8C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132D-3097-44CB-AC8B-36F2909F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0F2-73F4-4EE3-90D3-F45BA098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825E-32E5-4C27-9DB7-730936A4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7F15-2CE0-476C-8E12-0600BDA5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0F20-CBE0-4130-8244-FF763BB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311C-0684-42EF-BB31-8D04343F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22CC-F643-48A0-8353-DBE262E8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02F-13EC-4BE3-8176-6836D780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8FA-9EE3-424B-8CAA-27CBAA73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A3D-E6DA-4FD1-8FB4-33627EF5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60C-182F-41B8-A475-27D94854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D94-EAD1-40CB-A62E-D1857341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E39-273F-4268-B129-099054CF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11B-DE76-439D-A1C3-9BDD83BA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7AB3-B3CB-43E9-B2B6-9986D7342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E2C7-477B-4ADC-BE18-95EDD2CB4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2840"/>
            <a:ext cx="71625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4581360"/>
            <a:ext cx="5715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Д.С.Лихачев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23940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СЬМА О ДОБР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ольшое в ма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Молодость – вся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Самое больш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ость – вся жиз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лодость – это время сближения. И об этом следует помнить и друзей беречь, ибо настоящая дружба очень помогает и в горе и в радости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адости ведь тоже нужна помощь, чтобы ощутить счастье до глубины души, ощутить и поделиться им. Неразделенная радость – не радость. Человека портит счастье, если он переживает его один. Когда же наступит пора несчастий, пора утрат – опять – таки нельзя быть одному. Горе человеку, если он од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ость – вся жиз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этому берегите молодость до глубокой старости. Цените все хорошее, что приобрели в молодые годы, не растрачивайте богатств молод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что из приобретенного в молодости не проходит бесследно. Привычки, воспитанные в молодости, сохраняются на всю жизнь. Навыки в труде- то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ык к работе – и работа вечно будет доставлять радость. А как важно это для человеческого счастья! Нет несчастнее человека ленивого, вечно избегающего труда, усили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ость – вся жиз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в молодости, так и в старости… Хорошие навыки молодости облегчают жизнь, дурные – усложняют ее и затрудняю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еще. Есть русская пословица: «Береги честь смолоду». В памяти остаются все поступки, совершенные в молодости. Хорошие будут радовать  - дурные не давать  сп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торой этап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ания   для работы с текс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   Составить план тек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   Выявить его основную пробл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   Определить позицию автора тек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   Прочитав 2 других письма, найдите общее. Выскажите собственные аргументы в защиту или против авторской пози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КИЕ ПОСЛОВИЦЫ  и ПОГОВОРКИ близки теме нашего разговора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знь дана на добрые д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к долог, да час доро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тот живет больше, чей век доль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и не прошлым, а завтрашним дн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знь прожить  - не поле перей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молоду учиться – навек пригоди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Наставь юношу при начале пути его: он не уклонится от него, когда состарится» (Притч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му в молодости не научился, того в старости не добуде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Чего не собрал  ты в юности, как же можешь приобрести в старости твоей»(Притч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Честь, совесть, достоинство – основное богатство молодост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             « Между совестью и честью есть одно существенное различие. Совесть всегда исходит из глубины души. Совесть не бывает ложной. Она может быть приглушенной или слишком преувеличенной. Но представления о чести могут быть совершенно ложными. Я имею в виду то, что называется «честью мундира». Честь истинная всегда в соответствии с совестью. Честь ложная - мираж в пустыне.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.С.Лиха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тынов, убивший на дуэли Лермонтова, завещал не писать на могиле его имени и не ставить себе никакого памят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нтес до конца своей долгой и благополучной жизни убеждён в том, что у него не было другого вых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Честь и совесть (по книге Д. С. Лихачёва «Заветное»)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обязывает человека думать о чести того общественного института, который он представл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честь рабочег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инженер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врача, но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учащегося определенной школы, честь пол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заво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сть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33708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-360"/>
            <a:ext cx="4094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митрий Сергеевич Лихачев родился 28(15) ноября 1906 года в Санкт-Петербур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ец - Сергей Михайлович Лихачев, инженер-электрик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ь - Вера Семеновна Лихачева, урожденная Коняе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к гимназии Императорского Человеколюбивого общества (1914-1915), гимназии и реального училищ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. И. Мая (1915-1917), Совет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овой школы 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. Лентовской (1918-192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19-30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176720" cy="355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2022480" cy="302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588000" y="981000"/>
            <a:ext cx="2374920" cy="360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47640" y="530064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троградский  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49680"/>
            <a:ext cx="5638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23 - 1928 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удент романо-германской и славяно-русской секции отделения языкознания и литературы факультета общественных наук Ленинградского государственного университ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19-162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28195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0" y="371484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28 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ончил Ленинградский государственный университет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февраля - арестован за участие в студенческом кружке "Космическая академия наук", где незадолго до ареста сделал доклад о старой русской орфографии; осужден 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лет за контрреволюционную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3529080" cy="2965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059280" cy="1868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24000" y="5516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ловки,   Беломоркан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36 году, 27 июля, по ходатайству президента Академии наук А.П.Карпинск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ята суд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ановлени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тельства ЦИК ССС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416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378000"/>
            <a:ext cx="7632720" cy="61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митрий Сергеевич Лихачев скончал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 сентября 1999 г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анкт - Петербург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хоронен на  семейном кладбище в Комар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0:02:42Z</dcterms:created>
  <dc:creator>home</dc:creator>
  <dc:description/>
  <dc:language>en-US</dc:language>
  <cp:lastModifiedBy>lena</cp:lastModifiedBy>
  <dcterms:modified xsi:type="dcterms:W3CDTF">2009-12-14T00:29:28Z</dcterms:modified>
  <cp:revision>16</cp:revision>
  <dc:subject/>
  <dc:title>Слайд 1</dc:title>
</cp:coreProperties>
</file>