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347-1A4B-4FAD-9CFA-49E4D4D1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534-1436-4DA0-906F-EC35FA48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D01-2180-4AF5-A3FE-9FD439DE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92C-85AF-452A-AC3E-9776DB8C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B2B-D0A0-4826-A373-5DA1421C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EF1-8A51-4449-9BFC-93726084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8F9-879D-4197-9E4D-A1D7E040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772-1304-4585-BC74-3A2CDC5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239-10F8-4BA6-A691-04C7322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65A-7AA1-4A4F-8FC1-28F69A9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EEE-5C7E-4A65-AC3B-EEA5229C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1A3-10E5-40FC-BCA6-D2DF2DE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C530-4E86-49E9-AF2D-34F556B37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28880" y="870336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Виктор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7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8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6566040" cy="71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Компьютер</cp:lastModifiedBy>
  <dcterms:modified xsi:type="dcterms:W3CDTF">2017-02-01T08:11:29Z</dcterms:modified>
  <cp:revision>204</cp:revision>
  <dc:subject/>
  <dc:title>Слайд 1</dc:title>
</cp:coreProperties>
</file>