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7096-CC99-4D7F-BDE1-DDA7D7FA3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152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1480"/>
            <a:ext cx="712152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63CF-D875-4FF3-AE2D-67D0F17C2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912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59120" y="392148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AD64-18A6-46C1-8711-9A07DE192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7840" y="180612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5520" y="180612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148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7840" y="392148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5520" y="3921480"/>
            <a:ext cx="229284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3995-5FCF-4047-B240-93EA241DD3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120"/>
            <a:ext cx="71215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3448-2B47-480F-A297-894BE59518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152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0830-D7DE-4265-ABDE-D54A576E6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08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806120"/>
            <a:ext cx="347508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0DEB-6BC6-4057-9836-D5D004572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0070-500F-4650-8997-78BA55E57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03000"/>
            <a:ext cx="7121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984A-1D16-4271-B3F8-5E6DED4DB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9120" y="1806120"/>
            <a:ext cx="347508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11BB-73A2-46A5-A894-BEB9B7BEC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08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912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59120" y="392148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0F79-E690-40BD-8806-04D9868E3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9120" y="1806120"/>
            <a:ext cx="347508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712152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2A4F-2C39-4215-879A-147DD8BA9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248760" cy="6854760"/>
            <a:chOff x="0" y="0"/>
            <a:chExt cx="9248760" cy="6854760"/>
          </a:xfrm>
        </p:grpSpPr>
        <p:grpSp>
          <p:nvGrpSpPr>
            <p:cNvPr id="1" name="Group 2"/>
            <p:cNvGrpSpPr/>
            <p:nvPr/>
          </p:nvGrpSpPr>
          <p:grpSpPr>
            <a:xfrm>
              <a:off x="7920" y="419040"/>
              <a:ext cx="9069480" cy="5910480"/>
              <a:chOff x="7920" y="419040"/>
              <a:chExt cx="9069480" cy="5910480"/>
            </a:xfrm>
          </p:grpSpPr>
          <p:pic>
            <p:nvPicPr>
              <p:cNvPr id="2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0" y="457200"/>
                <a:ext cx="1511280" cy="13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96960"/>
                <a:ext cx="1422360" cy="12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6200"/>
                <a:ext cx="1511280" cy="14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Pictur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8840" y="419040"/>
                <a:ext cx="1798560" cy="167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Pictur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9920" y="3416400"/>
                <a:ext cx="1861920" cy="167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Pictur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7640" y="4844880"/>
                <a:ext cx="1632240" cy="148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9"/>
            <p:cNvGrpSpPr/>
            <p:nvPr/>
          </p:nvGrpSpPr>
          <p:grpSpPr>
            <a:xfrm>
              <a:off x="0" y="241200"/>
              <a:ext cx="9140760" cy="6613560"/>
              <a:chOff x="0" y="241200"/>
              <a:chExt cx="9140760" cy="661356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600" y="241200"/>
                <a:ext cx="1622520" cy="158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3200" y="615960"/>
                <a:ext cx="1116000" cy="114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12"/>
              <p:cNvSpPr/>
              <p:nvPr/>
            </p:nvSpPr>
            <p:spPr>
              <a:xfrm rot="1560000">
                <a:off x="7041960" y="3757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" name="Picture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2600" cy="116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Pictur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4560"/>
                <a:ext cx="131436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Picture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5600"/>
                <a:ext cx="1062000" cy="138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6440" y="5610240"/>
                <a:ext cx="1868400" cy="12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080" y="1623960"/>
                <a:ext cx="1363680" cy="170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8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6480" y="5869080"/>
                <a:ext cx="1351080" cy="95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19"/>
            <p:cNvGrpSpPr/>
            <p:nvPr/>
          </p:nvGrpSpPr>
          <p:grpSpPr>
            <a:xfrm>
              <a:off x="0" y="0"/>
              <a:ext cx="9248760" cy="6784920"/>
              <a:chOff x="0" y="0"/>
              <a:chExt cx="9248760" cy="6784920"/>
            </a:xfrm>
          </p:grpSpPr>
          <p:pic>
            <p:nvPicPr>
              <p:cNvPr id="19" name="Picture 20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5400" y="2747880"/>
                <a:ext cx="1452600" cy="340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Picture 21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3000" y="5738760"/>
                <a:ext cx="1125360" cy="10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Picture 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6800" y="993600"/>
                <a:ext cx="168588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Picture 23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0240" y="3700440"/>
                <a:ext cx="965160" cy="84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Picture 24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2280" cy="14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Picture 25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6040"/>
                <a:ext cx="1204920" cy="134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Picture 26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8400" y="0"/>
                <a:ext cx="1279800" cy="9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Picture 27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8600" y="976320"/>
                <a:ext cx="830160" cy="1050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03000"/>
            <a:ext cx="712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120"/>
            <a:ext cx="712152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2000"/>
          </a:bodyPr>
          <a:p>
            <a:pPr marL="315360" indent="-315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7204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Text Box 30"/>
          <p:cNvSpPr/>
          <p:nvPr/>
        </p:nvSpPr>
        <p:spPr>
          <a:xfrm>
            <a:off x="6437160" y="5948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Text Box 31"/>
          <p:cNvSpPr/>
          <p:nvPr/>
        </p:nvSpPr>
        <p:spPr>
          <a:xfrm>
            <a:off x="1181160" y="5948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sldNum" idx="1"/>
          </p:nvPr>
        </p:nvSpPr>
        <p:spPr>
          <a:xfrm>
            <a:off x="573120" y="5946840"/>
            <a:ext cx="604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4E55C6-B8F2-481C-82C3-2FD16D943E9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 </a:t>
            </a:r>
            <a:br>
              <a:rPr sz="3200"/>
            </a:br>
            <a:r>
              <a:rPr b="1" lang="ru-RU" sz="2000" spc="-1" strike="noStrike" u="sng">
                <a:solidFill>
                  <a:srgbClr val="404040"/>
                </a:solidFill>
                <a:uFillTx/>
                <a:latin typeface="Verdana"/>
              </a:rPr>
              <a:t>МЕТОДИЧЕСКАЯ РАЗРАБОТКА ПРОЕКТА НА ТЕМУ:</a:t>
            </a:r>
            <a:br>
              <a:rPr sz="2000"/>
            </a:br>
            <a:r>
              <a:rPr b="1" lang="ru-RU" sz="2000" spc="-1" strike="noStrike" u="sng">
                <a:solidFill>
                  <a:srgbClr val="404040"/>
                </a:solidFill>
                <a:uFillTx/>
                <a:latin typeface="Verdana"/>
              </a:rPr>
              <a:t>«Формирование представлений о сенсорных эталонах  цвета  у детей  раннего возраста через дидактическую игру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Выполнил: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404040"/>
                </a:solidFill>
                <a:latin typeface="Verdana"/>
              </a:rPr>
              <a:t>Беспалова Наталья Ивановна 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воспитатель первой  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квалификационной категории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МБДОУ</a:t>
            </a:r>
            <a:r>
              <a:rPr b="0" lang="en-US" sz="16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детский сад №3 «Рябинушка»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Verdana"/>
              </a:rPr>
              <a:t>р.п.Вача</a:t>
            </a:r>
            <a:endParaRPr b="0" lang="en-US" sz="16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               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6696000" y="2303640"/>
            <a:ext cx="2232000" cy="41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608360" y="2448000"/>
            <a:ext cx="1944720" cy="4176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376360" y="2448000"/>
            <a:ext cx="2016360" cy="4176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1280" y="2232000"/>
            <a:ext cx="2160720" cy="4392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952720" y="71280"/>
            <a:ext cx="3382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Основной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бот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 flipH="1">
            <a:off x="1004400" y="1800360"/>
            <a:ext cx="1806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 flipH="1">
            <a:off x="3236760" y="1944720"/>
            <a:ext cx="5097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5040360" y="1944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5759280" y="1871640"/>
            <a:ext cx="151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49440" y="1155600"/>
            <a:ext cx="74865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епосредственно — образовательная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0" y="2340000"/>
            <a:ext cx="20718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Позн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 страну синей крас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Комната куклы Кат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Чаепитие у матрешек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Купание малыш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376360" y="2664000"/>
            <a:ext cx="20163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Рис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Разноцветные клубоч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Мячи в корзине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Зеленые елоч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оздушные шары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535640" y="2685960"/>
            <a:ext cx="216036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Леп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ишен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Яблоко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Зеленый и желтый столби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Оладуш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840360" y="2592360"/>
            <a:ext cx="1944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Конструир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Разноцветные ворот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Дорож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Гаражи для машин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5076720" y="4076640"/>
            <a:ext cx="1800360" cy="244800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808360" y="4032360"/>
            <a:ext cx="1800000" cy="244764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184720" y="1657440"/>
            <a:ext cx="1870200" cy="244620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199280" y="792000"/>
            <a:ext cx="1800360" cy="46371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376360" y="1655640"/>
            <a:ext cx="1800360" cy="244800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1280" y="792000"/>
            <a:ext cx="2160720" cy="4392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881440" y="144360"/>
            <a:ext cx="33829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16000" y="936720"/>
            <a:ext cx="186984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Родительские собр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Что такое сенсорное развитие? Почему его необходимо развив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Дидактические игры — серьезная форма воспитания дете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376360" y="1812960"/>
            <a:ext cx="172908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Консульт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- «Развивающие игры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Arial"/>
              </a:rPr>
              <a:t>- «Играем вместе в дидактические игры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199280" y="1036800"/>
            <a:ext cx="180036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Советы родител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Как организовать художественную изобразительную деятельность ребенка в раннем возрасте дом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184720" y="1800360"/>
            <a:ext cx="1870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амя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«Руководство дидактической игрой ребенка дом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879640" y="4319640"/>
            <a:ext cx="165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апка — раскладу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«Разноцветный мир иг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111640" y="4248000"/>
            <a:ext cx="1366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Анкетирование: «цвет, форма, велич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H="1">
            <a:off x="2301480" y="863640"/>
            <a:ext cx="870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904000" y="863640"/>
            <a:ext cx="1152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3308400" y="1087560"/>
            <a:ext cx="727200" cy="4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5327640" y="1087560"/>
            <a:ext cx="792000" cy="56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4317480" y="1087560"/>
            <a:ext cx="7812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>
            <a:off x="4967280" y="1087560"/>
            <a:ext cx="7128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5256360" y="2016000"/>
            <a:ext cx="3240000" cy="30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60360" y="2016000"/>
            <a:ext cx="3311640" cy="30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79640" y="287280"/>
            <a:ext cx="33829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бота со специалис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04720" y="2303640"/>
            <a:ext cx="259092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Консультация психолог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«Сенсорное развитие детей раннего возраст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256360" y="2160720"/>
            <a:ext cx="3309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Консультация специалиста по изобразительной деятель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«Волшебница Кисточк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3163680" y="1231920"/>
            <a:ext cx="726840" cy="78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5256360" y="1231920"/>
            <a:ext cx="792000" cy="78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009800" y="228600"/>
            <a:ext cx="7124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Ожидаемые результаты после проект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04920" y="1039680"/>
            <a:ext cx="8610480" cy="59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У детей должен вырасти уровень сформированности     представлений о сенсорных эталонах цв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Дети познакомятся с эталонами цв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Дети научатся играть в дидактические иг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После создания определенных условий, у детей формирование представлений о сенсорных эталонах будет успеш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Verdana"/>
              </a:rPr>
              <a:t>Ожидаемые результаты работы с роди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У родителей должен вырасти уровень знаний по сенсорному развити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Родители научатся создавать дома условия для дидактических игр и подбирать и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Родители будут заинтересованы в дальнейшем развитии своих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152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Результаты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57200" y="83808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В ходе проекта были созданы условия, обеспечивающие эффективное использование дидактических игр, апробированы дидактические игры; т.о. гипотеза проекта верна и формирование представлений о сенсорных эталонах цвета стало успешным у детей раннего возрас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У детей вырос уровень знаний, вырос уровень знаний и у родителей по сенсорному развити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Родители получили методические рекомендации по созданию условий для проведения дидактических игр, консультации по приобретению дидактических и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14200" y="4143240"/>
            <a:ext cx="2737080" cy="20005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8" descr="DSC_0591.JPG"/>
          <p:cNvPicPr/>
          <p:nvPr/>
        </p:nvPicPr>
        <p:blipFill>
          <a:blip r:embed="rId2"/>
          <a:stretch/>
        </p:blipFill>
        <p:spPr>
          <a:xfrm>
            <a:off x="5851440" y="4138560"/>
            <a:ext cx="2586240" cy="1938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914400" y="111240"/>
            <a:ext cx="71247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              </a:t>
            </a: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Calibri"/>
              </a:rPr>
              <a:t>Актуальность проек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009800" y="1260360"/>
            <a:ext cx="71244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Процесс восприятия лежит в основе интеллектуального развития ребёнка и создаёт прочный фундамент для развития его познавательной и личностной сферы, необходимый для успешного освоения  программы детского сада и социальной адаптации в детском коллектив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Успешность познавательного развития определяется уровнем развития сенсорных процесс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Дидактические игры способствуют умственному, эстетическому и нравственному воспитанию де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Дидактические игры выполняют функцию – контроль за состоянием сенсорного развития де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Педагогами и психологами установлено, что усвоение сенсорных эталонов цвета включено в общую систему образования и воспитания в детском саду.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1009800" y="304920"/>
            <a:ext cx="712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         </a:t>
            </a: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Verdana"/>
              </a:rPr>
              <a:t>Цель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1009800" y="1295280"/>
            <a:ext cx="7124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Создание условий, обеспечивающих эффективное использование дидактических игр для формирования представлений о сенсорных эталонах ц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413320" y="2511360"/>
            <a:ext cx="3578400" cy="2017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9" descr="DSC_0566.JPG"/>
          <p:cNvPicPr/>
          <p:nvPr/>
        </p:nvPicPr>
        <p:blipFill>
          <a:blip r:embed="rId2"/>
          <a:stretch/>
        </p:blipFill>
        <p:spPr>
          <a:xfrm>
            <a:off x="536400" y="2773440"/>
            <a:ext cx="279720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1143000" y="228600"/>
            <a:ext cx="7124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      </a:t>
            </a: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Verdana"/>
              </a:rPr>
              <a:t>Задачи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1009800" y="1208160"/>
            <a:ext cx="712440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Проанализировать психолого-педагогическую, методическую литературу по данной тем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Составить перспективное планир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Создать условия, обеспечивающие эффективное использование дидактических игр для формирования представлений о сенсорных эталонах цв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Подобрать и апробировать комплекс дидактических иг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Выявить уровень сформированности представлений о сенсорных эталонах цв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Выявить уровень знаний родителей о сенсорном развит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Разработать методические рекомендации для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Выступить с темой проекта на педсове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Verdana"/>
              </a:rPr>
              <a:t>Оценить результаты проделанн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1009800" y="380880"/>
            <a:ext cx="7124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Verdana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6094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d2d0a"/>
                </a:solidFill>
                <a:latin typeface="Verdana"/>
              </a:rPr>
              <a:t>Отсутствие упорядоченной системы дидактических игр, направленных на формирование представлений  о сенсорных эталонах ц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57200" y="2746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                          </a:t>
            </a: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Verdana"/>
              </a:rPr>
              <a:t>Гипоте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45720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Если будет подобран комплекс дидактических игр и созданы условия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эффективного их использования, то формирование представлений 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5d0da5"/>
                </a:solidFill>
                <a:latin typeface="Verdana"/>
              </a:rPr>
              <a:t>сенсорных эталонах цвета будет успеш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Рисунок 8" descr="DSC_0541.JPG"/>
          <p:cNvPicPr/>
          <p:nvPr/>
        </p:nvPicPr>
        <p:blipFill>
          <a:blip r:embed="rId1"/>
          <a:stretch/>
        </p:blipFill>
        <p:spPr>
          <a:xfrm>
            <a:off x="676440" y="3925800"/>
            <a:ext cx="2657160" cy="2371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1" descr="DSC_0560.1.jpg"/>
          <p:cNvPicPr/>
          <p:nvPr/>
        </p:nvPicPr>
        <p:blipFill>
          <a:blip r:embed="rId2"/>
          <a:stretch/>
        </p:blipFill>
        <p:spPr>
          <a:xfrm>
            <a:off x="4925880" y="3852720"/>
            <a:ext cx="2754360" cy="2352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1295280" y="9360"/>
            <a:ext cx="674208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b84700"/>
                </a:solidFill>
                <a:uFillTx/>
                <a:latin typeface="Arial"/>
              </a:rPr>
              <a:t>Этапы и сроки реализации проек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2664000" y="1728720"/>
            <a:ext cx="44146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Подготовительный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47640" y="3024360"/>
            <a:ext cx="812484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Знакомство с темой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Изучение литератур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Выявление проблемы, цели, задач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Составление перспективного плана работ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Создание условий для эффективного использования игр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Подбор дидактического материала и игр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323dc"/>
                </a:solidFill>
                <a:latin typeface="Arial"/>
              </a:rPr>
              <a:t>- Диагностика уровня сформированности представлений о цвете с деть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6912000" y="1368360"/>
            <a:ext cx="2016000" cy="48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680000" y="1511280"/>
            <a:ext cx="2016000" cy="48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448000" y="1511280"/>
            <a:ext cx="2016000" cy="48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1280" y="1295280"/>
            <a:ext cx="2160720" cy="4824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177920" y="85680"/>
            <a:ext cx="6742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Основной эта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бот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084400" y="1015920"/>
            <a:ext cx="79848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3887640" y="1152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5688000" y="1079640"/>
            <a:ext cx="7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6191280" y="100800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44360" y="1440000"/>
            <a:ext cx="18702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идактические игры в режимных момент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Чудесные коробоч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«Разноцветные бочонки с клубочк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Ежики со скрепк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Цветные вареж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Втулочки - втыкалочк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592360" y="1800360"/>
            <a:ext cx="1913040" cy="34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Физкультурные досу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Мой веселый синий мяч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- «В гости к Дедушке Мороз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711680" y="1728720"/>
            <a:ext cx="1839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идактические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Во саду ли, в огород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Собери листочки желтого цве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Красивые бабоч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056360" y="1676520"/>
            <a:ext cx="1839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Игры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ра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Наш веселый теремо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Путешествие в зимний лес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Arial"/>
              </a:rPr>
              <a:t>- «В гости к колобк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ad3c"/>
            </a:gs>
            <a:gs pos="100000">
              <a:srgbClr val="bfee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696000" y="2303640"/>
            <a:ext cx="2232000" cy="41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608360" y="2448000"/>
            <a:ext cx="1944720" cy="4176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376360" y="2448000"/>
            <a:ext cx="2016360" cy="4176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1280" y="2232000"/>
            <a:ext cx="2160720" cy="4392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8080"/>
            </a:solidFill>
            <a:round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944720" y="144360"/>
            <a:ext cx="5038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Основной эта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бот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1004400" y="1800360"/>
            <a:ext cx="1806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3236760" y="1944720"/>
            <a:ext cx="5097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5040360" y="194472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5759280" y="1871640"/>
            <a:ext cx="151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49440" y="1155600"/>
            <a:ext cx="74865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епосредственно — образовательная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0" y="2340000"/>
            <a:ext cx="194472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Позн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 страну синей крас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Комната куклы Кат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Чаепитие у матришек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Купание малыш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376360" y="2664000"/>
            <a:ext cx="20163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Рис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Разноцветные клубоч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Мячи в корзине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Зеленые елоч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оздушные шары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535640" y="2685960"/>
            <a:ext cx="216036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Леп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Вишен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Яблоко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Зеленый и желтый столби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Оладуш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6840360" y="2592360"/>
            <a:ext cx="1944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Конструирова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Разноцветные ворот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Дорожки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c0000"/>
                </a:solidFill>
                <a:latin typeface="Arial"/>
              </a:rPr>
              <a:t>- «Гаражи для машин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0:24Z</dcterms:created>
  <dc:creator>Артём</dc:creator>
  <dc:description/>
  <dc:language>en-US</dc:language>
  <cp:lastModifiedBy>User</cp:lastModifiedBy>
  <dcterms:modified xsi:type="dcterms:W3CDTF">2017-02-20T06:46:48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