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7AB-DD48-4894-9C0F-CDB2F458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6DD-3498-4B45-B173-716E6B7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12BCB-6F5F-454D-86FA-22793F90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5486C-7266-4987-91A0-0FC1D1CD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95AA9-4AA9-4C1C-B58B-A9B32E44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3007A-51DB-492F-A3AF-D9BFF79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39EFD-6DD8-4873-A858-FAE36C5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35362-FAB6-41D2-A706-7A9B627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CEF2E-BD08-48BA-ACAC-CC219BBC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F43AA-8C98-4588-9061-55359753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6E774-4E6F-424F-BB70-2B56DB7F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DA3B1-98F3-4F37-A1F5-5049E1F7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E72-B289-4B85-801B-DE3B257C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A368F-E12D-49E9-9E25-B53C20CD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C45B2-72A1-4C06-9441-44FA5589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17996-6ADC-4692-9933-9C89EA41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12AA0-E632-4BD3-A226-A9E3F44C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395BF-A0CF-49C0-AFF9-F64306E0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8A6C1-1E8C-4122-9506-CEB9D25F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3E063-3E92-4037-B4DC-1AD153A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80A33-93A1-4B75-B502-97BB618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15886-C490-4614-96AF-6E9BC83C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36739-20CE-408A-9E9D-7C41926F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166-9542-44E0-BFAA-03484634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053C8-FD59-41A1-89E8-70C0D83D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B67A2-22A1-4CE8-A0E1-ED4EDBE7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A5037-289D-47E7-B6DB-0585155D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DF4D2-5CFE-4066-B0EF-D0ACDE2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4B1B5-9601-4BC8-93A1-A9156F4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EF947-745F-4526-94B1-99EF357D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5F3F3-00C7-4519-B78F-8FD66759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C25B2-CCE4-4E5F-9295-F55474C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71018-03ED-493C-8D67-C7B295D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C35E5-B3CC-4F07-9D24-A69D6B2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FF5-4A46-4A10-8B90-F0941827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2A2E3-5F1F-48AE-A820-8E271DA6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65D54-01F0-4509-B154-D5A9EF45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BAE23-3CB3-4C82-B044-1415A637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F1C11-2CA0-41A8-A873-0C2564BE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4142F-3C0E-4716-A59F-F43C5309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F7276-A4DC-4ACB-8C08-09D0FF95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00831-8471-4481-BA02-4D68A56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A52F2-8E9B-49B8-9D55-7BDB33BE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C58F5-59C0-4EDB-AA42-1B84A5A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D308A-2912-40BD-B1F1-8A6ED6F7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CE8A-9BEA-473E-B4D2-44D74F0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79234-E51D-4446-B4A2-A8E01365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22CDC-C51C-4B65-94D9-5A16ADD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6B6AB-0C96-454A-9922-FBD641F9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D0D67-ED78-481F-805C-661C8A17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C9AA1-78A1-4836-A1EA-1CF00190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FB656-BCA6-4755-94ED-1C1D6DD0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3EDF8-39F9-434A-893C-A2391C95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D9998-E3D5-4A40-8A76-301FF74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B7F05-335B-4B81-A153-96C32582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8771B-EBF6-4624-B43A-50F61E1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408F-D065-45E4-A4B9-22F9ACB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8134B-3170-4C7C-999C-BB5F16F6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8DE4D-C18C-4B5C-BA8D-8731652D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F5B32-8DCE-47AE-BCA5-FD3DB0A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84C9C-178A-4B34-976E-0993447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2BC80-CC24-4351-B8AF-CBD7938A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C498C-DBF9-47F7-A34D-1EEAEA04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5A837-70CE-4DAC-BA36-5A23B60C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ED76B-4D20-455D-A080-05C61611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6914C-77C2-4AC0-A5B2-F64E2E6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3A35D-1936-41EE-898C-D37AB097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92A5-EB8B-47C4-9779-82734D77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EF84C-3758-4DBA-861D-BAD5160A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91B29-F084-43BA-B37B-B1F7EA6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D039F-67FE-4FDD-BC35-793925A8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BFB45-FCE0-4B81-AAB5-F6EB657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3E7D2-F5A7-48BE-A5D4-BAD4F5C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2907E-F5B6-477E-B4CC-42FB48E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64CB6-6013-4C97-8DF0-5165E663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2D9E6-F984-4167-BCF3-EB308A28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91932-8294-4CCD-9B32-3B57ED20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08B39-8BF6-44EE-B290-0E96119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08E5-7EE8-47E6-9C9F-7EFDD4B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A18C0-B248-4A2F-A18E-CD2EFC18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F7E84-D23F-4313-9B00-FCEFB66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0D51C-C16B-40DA-A586-DB0F012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D7E04-599A-4A10-A6E7-5D5D969F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4A14A-BAFA-47E9-927A-CD98D91F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DF674-850C-457F-A15E-744D3ACB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FDC24-8990-4413-AF54-5E45133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D0EA3-F315-4185-8194-90C71FE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184DE-2420-4C0D-B4FE-F7947C1B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68DFA-3706-4BC7-A38C-30217971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628A-AAB3-436E-8E55-3B35521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DA53E-963A-49AA-BB5E-0586B6A6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0F219-B960-4D0F-811B-2F2ECAA2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F731E-E155-4E17-AEA8-C682F12D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1B673-9B15-447D-97F6-E8301CF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ECC43-0CEB-4AF2-9DFD-BFB1DC65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7CEC6-739A-4A63-9209-42A7EEAD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EAD2F-D625-4A22-9CE8-793DFED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78337-F89F-41EF-A4C9-09EA0B31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BA8B2-D568-4D8F-BFA1-B8C246A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E58B0-AAA1-40A7-ACCA-F38A2DC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235C-DADB-4C6F-ABF9-3ADDD527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375C8-63CF-48F7-AAC6-238DEB1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AD6C4-52DE-49C4-9A38-AE65C465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F9247-D12A-4D3D-B6E6-B1D2292E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724F7-EF19-4024-89A4-560CB153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ACB74-F6FD-4BCF-A23C-6928E7A9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05DA6-54DC-42C9-B576-2C3C9617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3B4F4-9B70-4102-94FB-1675365E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8AE0F-1587-415D-9932-EEE3F8ED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65FE4-A0CC-4E31-BE86-FF993D47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6DA0C-7218-437C-97D2-D2D3CB6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851-A439-406A-8D6B-93D5E5A7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6D5F-1C4B-4E03-83F9-9ABC62B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C6DDC-83BB-45A6-95DD-0FF878C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65C8E-10E9-40A0-850E-83A1F90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C799D-280D-4AC0-8D00-B4492DE0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25830-B197-491A-A05A-BD513C89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A10C4-6A8D-4E12-9D6D-C836A88D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AB04-92BA-4CFF-963F-CF1BC6D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7294-FA2C-46B1-9403-7BA4ECA7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1FE0-E542-4C6F-B4E4-378D73BA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D98A-F331-47A3-9252-D6B6FF16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71BB-B1F0-43BD-91CE-D489C106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00E9-0382-422F-A61E-B357F9B7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411CB-7C68-4E9F-AD1A-0466B3B1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CDE1-AEB6-4746-B4A6-F93B5B4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8975-C7A1-4700-ABD8-B0292D8C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9AC-0C68-4FC3-A36B-6B8E627F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9799-FA39-413E-A690-64A7E45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574A-9DF5-48ED-AD1A-CB1D2B8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5F27-4BD0-4638-AA78-EB6BCE07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BED8-D383-47CA-9C8A-DB545C8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9812F-6E0D-41DF-98EE-BA6984C2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2D2F-F3B9-4AD8-B79B-37C02E38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EB7B-DD95-48ED-AFB0-D55BDCCB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60B1-ED2D-4AAC-ACF0-665251B0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49B0-982E-4348-B61C-8DB291B8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00C3-8C45-438F-83AB-930F87B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D36-55C8-46AC-8109-0384BD98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308B-A89C-47AA-84C0-9D59AFEE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12CE4-C570-4E0E-A6EE-3E81E4B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9595-9093-49B9-AE6F-1DAA487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FE998-180D-47F1-8BA6-1C3F87C1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33F3-5DC0-40D2-962C-D0AF873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9992-C91E-48A2-851B-DB04899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CE3A-B978-4E04-9A03-D38C6DF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CA30-08E0-4DDB-ACB4-71D90287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29EA5-DBB1-4F06-BAB0-97075162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49F78-C806-4B97-9BBE-7E2F69F2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27C-1BE0-4088-9653-A481F6F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96FD-7D6A-4E2D-8FA9-55738AB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19FA-83BB-444F-B97B-CE75A5A4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63CC8-D714-4248-A6DA-378C0AE4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162C-DACB-49E4-AB4D-E2800500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5A6A-CC98-4B3A-91D2-326239EB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6DA2E-43BB-4870-977D-759694E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106B-FBFA-4DCC-844B-5B449CA8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1092-2D06-4659-AD2C-0EB3BE1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42544-DADB-49D7-98B8-07881475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D3CCC-20C6-4F5D-930D-B2EF69C7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31B-BB3E-45EE-B52A-A5601640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638F-0455-4CF1-B808-5CF82BFA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3639A-8B48-41B3-92DB-D2905877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12F0-8B58-4194-86C1-82CEA3A0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9700D-0E3B-43D5-9D6B-0C470360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77DC3-EF94-4E95-A34E-46939B02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0BC5F-3041-489A-9873-F353F70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5C0B-7A45-4E0C-93CE-BDE7CB0F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8AEB5-1433-4F75-B9FE-1A5E3C3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C578-8CCF-4412-AA63-01A5728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24E7-E976-455B-B96C-C42184DB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2B2-D9B5-4872-84C6-2F19FD2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337F-9472-4158-849F-19C072F9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9164-2EFD-46A2-AD58-F70B1B2F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C407-2101-45F8-ADF1-C2717953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975E-AF65-43C7-9FB4-BC7C295F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F1F0-2EB6-40B1-8343-27FD660D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9462-64BC-4772-82F1-3D8BAE4A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A7E6B-116F-4CCC-8285-5AE76D60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6EF3-55FE-4147-B351-1AEA80B5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FB61-7072-47D7-AC63-C9C53B8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E277-4C10-4442-BAA4-73AD03E5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E62-6F26-4F85-9735-A213E6D6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5897-B8EB-4187-BFA2-988FFE8E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5E49E-1403-443E-8D34-0EEF858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B8D3-276B-4BD4-8D73-EC9FA7AB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0B2E-8670-4C1E-A6F8-ED01B7ED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57E0-9F67-445C-AC4A-E8CF721E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4F425-5AA8-4805-AB59-D019A23D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8903-8BFD-490D-98C4-EB8843E2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6F4D-8FAE-4756-8EC8-0E447ED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2143-7219-4912-9582-B3E85A16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71C09-F55F-4ACB-B774-0517DEC2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D37-1781-4D47-96DF-8C56B02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C90D1-77CF-4C71-93B7-81D20E1E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1309C-5B8F-442E-8C36-35D60A8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31933-4C31-4530-8C32-E2E4C625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25532-C5A4-4C5A-B3C6-0827D67F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BD75D-1618-459C-9598-E0E76F2B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EC05-4D93-4C37-93A0-20C73EA7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CF34-FDA1-4144-AF2F-07E47753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8D9E9-802F-496D-B4F8-6C608537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1475C-0D7C-4B1C-84ED-C8EA744C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6E054-C385-43FA-ADF1-DA4CFB14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56D-2EA8-4D91-A4FD-B11C1798446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715-1B15-4C16-A517-8F561D5655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D563-AE42-464E-B549-7B821CDE3E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5438-A830-4717-A887-3DA5F52EEE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24A-B23D-49C3-825E-F36BF4C07F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693E-64E8-4962-8F67-F0A36CEF69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AD1-1196-49C6-8F96-D26A4900DC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976-660A-4844-92C0-815C7C5424C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20A5-9AE4-41C3-9BFA-75463D205A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DEFE-8380-407C-A271-138E55100EA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7B6-FBAE-4183-909A-C5AFEFCCF4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904D-1BB1-490C-9123-852129923E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28E-FCF6-4521-A042-1378AA8BD5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B34-D5DE-4882-9C0C-63E9788AFA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F0BC-E676-494F-AF04-3560D3E04D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98A7-4F4F-44B3-A59B-0193F288BFD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EF5-9285-48AA-8243-2601024BD1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осударственное бюджет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редняя общеобразовательная школа № 21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асилеостровского района Санкт-Петербурга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4376880" y="1844640"/>
            <a:ext cx="4424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роект для учащихся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Сервировка новогоднего стол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Руководитель проекта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                        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учитель  технологии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Лапцевич Ирина Михайловн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Picture 3" descr="118679928_4278666_205"/>
          <p:cNvPicPr/>
          <p:nvPr/>
        </p:nvPicPr>
        <p:blipFill>
          <a:blip r:embed="rId1"/>
          <a:stretch/>
        </p:blipFill>
        <p:spPr>
          <a:xfrm>
            <a:off x="0" y="2625840"/>
            <a:ext cx="414828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1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4" name="Picture 2" descr="1-servirovka-stola-5"/>
          <p:cNvPicPr/>
          <p:nvPr/>
        </p:nvPicPr>
        <p:blipFill>
          <a:blip r:embed="rId1"/>
          <a:stretch/>
        </p:blipFill>
        <p:spPr>
          <a:xfrm>
            <a:off x="1898640" y="1270080"/>
            <a:ext cx="644544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2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6" name="Picture 2" descr="IR3bSKW"/>
          <p:cNvPicPr/>
          <p:nvPr/>
        </p:nvPicPr>
        <p:blipFill>
          <a:blip r:embed="rId1"/>
          <a:stretch/>
        </p:blipFill>
        <p:spPr>
          <a:xfrm>
            <a:off x="1604880" y="1555920"/>
            <a:ext cx="6804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3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Picture 2" descr="72"/>
          <p:cNvPicPr/>
          <p:nvPr/>
        </p:nvPicPr>
        <p:blipFill>
          <a:blip r:embed="rId1"/>
          <a:stretch/>
        </p:blipFill>
        <p:spPr>
          <a:xfrm>
            <a:off x="2763720" y="1441440"/>
            <a:ext cx="47307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4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Picture 2" descr="151013152604"/>
          <p:cNvPicPr/>
          <p:nvPr/>
        </p:nvPicPr>
        <p:blipFill>
          <a:blip r:embed="rId1"/>
          <a:stretch/>
        </p:blipFill>
        <p:spPr>
          <a:xfrm>
            <a:off x="2324160" y="1457280"/>
            <a:ext cx="61992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5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2" name="Picture 2" descr="722540_m"/>
          <p:cNvPicPr/>
          <p:nvPr/>
        </p:nvPicPr>
        <p:blipFill>
          <a:blip r:embed="rId1"/>
          <a:stretch/>
        </p:blipFill>
        <p:spPr>
          <a:xfrm>
            <a:off x="939960" y="2106720"/>
            <a:ext cx="8070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Шаг 6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4" name="Picture 4" descr="Holidays_Christmas_361111"/>
          <p:cNvPicPr/>
          <p:nvPr/>
        </p:nvPicPr>
        <p:blipFill>
          <a:blip r:embed="rId1"/>
          <a:stretch/>
        </p:blipFill>
        <p:spPr>
          <a:xfrm>
            <a:off x="1817640" y="1752480"/>
            <a:ext cx="69501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Респондент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6" name="Диаграмма 5" descr=""/>
          <p:cNvPicPr/>
          <p:nvPr/>
        </p:nvPicPr>
        <p:blipFill>
          <a:blip r:embed="rId1"/>
          <a:stretch/>
        </p:blipFill>
        <p:spPr>
          <a:xfrm>
            <a:off x="554040" y="1243080"/>
            <a:ext cx="89186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Хотели бы выполнить такую работ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8" name="Диаграмма 3" descr=""/>
          <p:cNvPicPr/>
          <p:nvPr/>
        </p:nvPicPr>
        <p:blipFill>
          <a:blip r:embed="rId1"/>
          <a:stretch/>
        </p:blipFill>
        <p:spPr>
          <a:xfrm>
            <a:off x="1042920" y="2054160"/>
            <a:ext cx="7338960" cy="4559400"/>
          </a:xfrm>
          <a:prstGeom prst="rect">
            <a:avLst/>
          </a:prstGeom>
          <a:ln w="0">
            <a:noFill/>
          </a:ln>
        </p:spPr>
      </p:pic>
      <p:pic>
        <p:nvPicPr>
          <p:cNvPr id="1219" name="Диаграмма 4" descr=""/>
          <p:cNvPicPr/>
          <p:nvPr/>
        </p:nvPicPr>
        <p:blipFill>
          <a:blip r:embed="rId2"/>
          <a:stretch/>
        </p:blipFill>
        <p:spPr>
          <a:xfrm>
            <a:off x="-115920" y="1390680"/>
            <a:ext cx="99615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0" lang="ru-RU" sz="6000" spc="-1" strike="noStrike">
                <a:solidFill>
                  <a:srgbClr val="c00000"/>
                </a:solidFill>
                <a:latin typeface="Century Gothic"/>
              </a:rPr>
              <a:t>Спасибо за внимание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2076120" y="623520"/>
            <a:ext cx="9428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Цель проекта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ридумать и сервировать новогодний стол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215800" y="2133360"/>
            <a:ext cx="92883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дач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думать интересную идею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йти материалы и украшения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думать и выполнить элементы деко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entury Gothic"/>
              </a:rPr>
              <a:t>Как в старину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3" name="Picture 2" descr="396ad5bd"/>
          <p:cNvPicPr/>
          <p:nvPr/>
        </p:nvPicPr>
        <p:blipFill>
          <a:blip r:embed="rId1"/>
          <a:stretch/>
        </p:blipFill>
        <p:spPr>
          <a:xfrm>
            <a:off x="1298520" y="1670040"/>
            <a:ext cx="68976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entury Gothic"/>
              </a:rPr>
              <a:t>Скандинавский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5" name="Picture 2" descr="118679928_4278666_205"/>
          <p:cNvPicPr/>
          <p:nvPr/>
        </p:nvPicPr>
        <p:blipFill>
          <a:blip r:embed="rId1"/>
          <a:stretch/>
        </p:blipFill>
        <p:spPr>
          <a:xfrm>
            <a:off x="1932120" y="1411200"/>
            <a:ext cx="57909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Обезьяны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7" name="Picture 2" descr="ukrashenie-novogodnego-stola-2016-07"/>
          <p:cNvPicPr/>
          <p:nvPr/>
        </p:nvPicPr>
        <p:blipFill>
          <a:blip r:embed="rId1"/>
          <a:stretch/>
        </p:blipFill>
        <p:spPr>
          <a:xfrm>
            <a:off x="1514520" y="1703520"/>
            <a:ext cx="66308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Хай-тек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9" name="Picture 2" descr="fashionable-table-venis_karnoval-2"/>
          <p:cNvPicPr/>
          <p:nvPr/>
        </p:nvPicPr>
        <p:blipFill>
          <a:blip r:embed="rId1"/>
          <a:stretch/>
        </p:blipFill>
        <p:spPr>
          <a:xfrm>
            <a:off x="1965240" y="1523880"/>
            <a:ext cx="60199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77520" y="212760"/>
            <a:ext cx="859644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ыбор лучшей иде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147600" y="800280"/>
          <a:ext cx="11887200" cy="5897520"/>
        </p:xfrm>
        <a:graphic>
          <a:graphicData uri="http://schemas.openxmlformats.org/drawingml/2006/table">
            <a:tbl>
              <a:tblPr/>
              <a:tblGrid>
                <a:gridCol w="2131920"/>
                <a:gridCol w="2890800"/>
                <a:gridCol w="2287800"/>
                <a:gridCol w="2287440"/>
                <a:gridCol w="2289240"/>
              </a:tblGrid>
              <a:tr h="91800">
                <a:tc rowSpan="2"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к в стар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дина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ья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-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746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рас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746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кт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900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ст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згот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23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добство (затраты време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900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роговиз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ctr" pos="484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266760"/>
                          <a:tab algn="ctr" pos="484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900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ступность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23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глядит эффектно и торже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здает уют, соответствует модным теч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ьзуется главный символ приходящего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глядит эффек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9764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рогие элементы, непрактично при дальнейшем использов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глядит не очень торже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ракт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рогие элементы, не всегда сочетается с интерье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Овал 27"/>
          <p:cNvSpPr/>
          <p:nvPr/>
        </p:nvSpPr>
        <p:spPr>
          <a:xfrm>
            <a:off x="1176480" y="2301840"/>
            <a:ext cx="2725560" cy="86508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тиль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3" name="Овал 28"/>
          <p:cNvSpPr/>
          <p:nvPr/>
        </p:nvSpPr>
        <p:spPr>
          <a:xfrm>
            <a:off x="3440160" y="1095480"/>
            <a:ext cx="2496960" cy="8967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ригиналь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4" name="Овал 29"/>
          <p:cNvSpPr/>
          <p:nvPr/>
        </p:nvSpPr>
        <p:spPr>
          <a:xfrm>
            <a:off x="7672320" y="3970440"/>
            <a:ext cx="249732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Экономич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5" name="Овал 30"/>
          <p:cNvSpPr/>
          <p:nvPr/>
        </p:nvSpPr>
        <p:spPr>
          <a:xfrm>
            <a:off x="677880" y="4054320"/>
            <a:ext cx="24969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Ярк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Овал 31"/>
          <p:cNvSpPr/>
          <p:nvPr/>
        </p:nvSpPr>
        <p:spPr>
          <a:xfrm>
            <a:off x="2849400" y="519264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Уникаль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7" name="Овал 32"/>
          <p:cNvSpPr/>
          <p:nvPr/>
        </p:nvSpPr>
        <p:spPr>
          <a:xfrm>
            <a:off x="5937120" y="522612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овремен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Овал 33"/>
          <p:cNvSpPr/>
          <p:nvPr/>
        </p:nvSpPr>
        <p:spPr>
          <a:xfrm>
            <a:off x="7802640" y="254304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актич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9" name="Овал 34"/>
          <p:cNvSpPr/>
          <p:nvPr/>
        </p:nvSpPr>
        <p:spPr>
          <a:xfrm>
            <a:off x="6370560" y="1452600"/>
            <a:ext cx="2498760" cy="89856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аздничн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Овал 35"/>
          <p:cNvSpPr/>
          <p:nvPr/>
        </p:nvSpPr>
        <p:spPr>
          <a:xfrm>
            <a:off x="4352760" y="2782800"/>
            <a:ext cx="2868840" cy="1604880"/>
          </a:xfrm>
          <a:prstGeom prst="ellipse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кандинав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Экономическое обоснование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(сервировка на 4 человека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677880" y="1930320"/>
          <a:ext cx="8466120" cy="4714920"/>
        </p:xfrm>
        <a:graphic>
          <a:graphicData uri="http://schemas.openxmlformats.org/drawingml/2006/table">
            <a:tbl>
              <a:tblPr/>
              <a:tblGrid>
                <a:gridCol w="841320"/>
                <a:gridCol w="2905200"/>
                <a:gridCol w="2295360"/>
                <a:gridCol w="2424240"/>
              </a:tblGrid>
              <a:tr h="6732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ат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алф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уп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в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39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р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уп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536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ерстяная н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клу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39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и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536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ловые ве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74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ласная л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ме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536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лая бумага (А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239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олотая кр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449280">
                <a:tc gridSpan="4"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того                                                   598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8:15:44Z</dcterms:created>
  <dc:creator>Ольга</dc:creator>
  <dc:description/>
  <dc:language>en-US</dc:language>
  <cp:lastModifiedBy>Ольга</cp:lastModifiedBy>
  <cp:lastPrinted>2017-02-20T17:22:44Z</cp:lastPrinted>
  <dcterms:modified xsi:type="dcterms:W3CDTF">2017-02-20T17:23:13Z</dcterms:modified>
  <cp:revision>11</cp:revision>
  <dc:subject/>
  <dc:title>Государственное бюджетное общеобразовательное учреждение  средняя общеобразовательная школа № 21  Василеостровского района Санкт-Петербурга</dc:title>
</cp:coreProperties>
</file>