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BBA-1F11-4504-AD4E-D352B74F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5D1-CD91-4F04-974C-307DD7D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D4A84-7E24-48DB-A474-39A126D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AF9C3-E377-428E-8CDA-8739365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10A91-5F1B-4930-B096-FB3039B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E44AA-157B-4105-B1AB-EF58FDB8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A5650-4A28-413C-9265-BE1F353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76F88-CD87-42FC-BEB0-57A84E0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1C427-D021-48AF-9E30-3F725CD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70A85-C30B-4491-A35B-F945ABE7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58BD5-CFBF-4F8B-AE32-D98A8C78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CEF20-9933-4714-AFF3-C778660B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BF5-E228-489D-8860-38533912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AF015-6C58-4EAD-B7BC-932369E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F6334-094F-47E6-B76F-E148603E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3643E-E3F2-41E9-9828-ED7DB3F5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425AC-A10C-4ADE-940A-2E7FB0AE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6D89B-FC08-4DF2-8346-08D4176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B1E0E-4DC8-4078-AD76-47D48BE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02ABE-8D68-4C7F-A458-7221B1B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9DF1E-560B-40FD-A495-0FB2417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6902C-BCD3-4941-B866-914FF69D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4F9B8-ACF0-4A77-AC75-E252246F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6A5-EFCA-4216-A8A4-47F35F9B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E0CB6-D4D6-4F18-8216-C7183D98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6069F-19FA-4232-BA81-F2DF5584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3BF04-D14E-445B-B755-8AC4DA7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CD677-D872-4688-AC0B-9C432293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17CFF-DB4D-40E1-98AF-FEC03E2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B906A-5907-49D1-96F5-FD57837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01D4E-6863-46BD-AA43-8321AEA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A204-602D-43D3-9952-DE0632C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F2CD5-8523-4111-960B-47C0937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22D59-D24B-4554-9428-7A4746F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67E-3C1E-4BB6-ACF2-BFAA3899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16501-F1C4-477B-8A9E-66DF47B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0AFEA-43C4-4A8E-9CBD-40EB8C74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E0B3E-DAC3-4DDD-9CB5-8FF4B2A0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BD7D5-1E4C-4455-B4D8-5B6DBA1F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76257-E0B5-43CA-8A1E-E9CC0C05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09179-5AEC-4C18-B48A-CAB0605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CDB54-1DC1-40A7-B4AB-D43A8F5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2B404-EECA-4D02-8212-A8A2FF6E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3D0FB-AB70-4E77-B83B-B509B07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8B596-184C-492A-AA8E-A0F9DA1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816-E089-451C-83E6-02EA338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97139-31FC-45C0-BECA-073834A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EA8BF-9F7E-4D06-8933-D30AB20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AC1A2-AF8B-4F0A-BEEE-CC55360B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772D0-D2CC-476A-9982-7B6AD7EF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F379-AD80-4EB9-9720-6157B2F1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53052-B345-4462-8914-E0901133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EBCF3-AF7E-43EE-8E23-77946C28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82AAA-241C-4EFE-BFA4-A25F949B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79F8C-4F7E-4FE7-A9D7-E6D6E8E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559BD-8110-4E86-81A0-7C4B31AA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0635-4173-4C36-8E3C-A6CFEE4E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97CFC-F4D8-455D-838E-7909381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9E64A-A3F0-42EA-AF08-B49E87F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754BD-D60C-4891-8251-0B70759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BEAAA-98CA-43AA-9050-3281BB8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181A6-7629-4FBA-8E6E-15CB57B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9927E-D9C4-4183-B1B8-2C0DA750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9375B-C0A0-45EE-96CF-1B6A6178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C0569-8A0B-4912-8885-3023A76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88599-AB36-4F87-A618-938AB37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E1D16-24B5-40B5-904E-F16BE90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D2D-F6CC-40FA-9DF6-A0468E95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B39C0-F9C1-474F-8E8A-670A4B66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33C9F-6ED4-49A4-8C49-B839F45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BF29F-3A4A-46FE-8CC2-5CAC879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0A89C-9030-4FF9-AC00-32B64FD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19038-27AD-41E1-8474-272BAEA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19D8C-8FA9-4363-8354-FF46079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0BBBE-7274-4148-8292-676BB80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A459D-FC19-4FAD-ACF9-E627F4AD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33005-CB6E-4056-A4F7-80A30AF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0115B-D450-4B63-B0EC-8F0A79F1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49AB-476D-40BF-B263-481537A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21E43-1AD6-468A-8313-E2F6C546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A9D34-8D2E-467A-93B5-8234279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34B18-C623-451F-A135-33DBFBA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20436-BD64-4128-824F-E52640C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0E9E9-D0DB-4D09-9497-7E17F73A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EE768-1683-4198-8632-C181612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2066D-E0FD-4479-B800-0181CE1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B3303-88C5-49F7-9828-0F8559F6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45AEA-CCE0-4A32-AFBF-7F16BD2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1D14E-6A29-4234-9EF1-61D6438E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36A7-1F92-4164-99C4-4EE7CA84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12646-CB8F-46B4-93AE-004404DC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8BA75-0909-444A-B799-ABEF4A4B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064AF-1E61-4240-B3AE-7351171A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9397D-F6D6-443C-AD73-B3796BB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51B7C-D541-4E0C-93E5-C27C422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77B7B-D9AE-4F54-A644-6B1CD27A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0B8E3-BE89-46B6-B703-01E9F63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1C159-3F41-4DDD-B48D-33F09F6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F9607-5F82-4D78-BD21-D1BD8F4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4250E-80B5-4777-8BEA-B76CD53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A02E-1F4A-4E0F-B0C4-9D5D8B2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92120-B142-466F-87F1-807AE7F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739AE-2168-4952-BFCD-C454F306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144D4-9E22-4503-9EBF-35EDAD68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9D38F-96CF-4E76-9A51-31D9AB83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B143A-5D21-4C31-91BB-8BC6EC3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29E59-7EAF-4FE2-9C4E-7A0CD36A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66FD6-E961-47E9-9161-F8142A6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08284-2519-445A-BE8F-CD78BCB3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59806-C110-4F67-8C02-BFDD1C4C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E235B-2542-4DFA-B633-AC5A756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4A6-8767-4BEE-A756-6E17012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E905-F866-41BA-A05E-7CDD71B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4F7BD-9A0C-4DC1-8F13-4FDB1155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21A65-4516-4389-AB8E-8322996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AB164-7CAF-45A3-9B42-F53B79DA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4BE79-E596-4C00-B124-C0D4F4B1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B7189-B86D-4A7D-8B9B-26F6DE85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97BA-418D-4429-84FF-83DCCBC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6DB4-61B6-4C61-B6EE-B8FFB70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E35-FCB4-4311-9C5F-F8C4A46D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842D-AA24-45C0-B486-7E3016AC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9ED7-A12F-4F44-A8DF-FD8AECF9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732B-278D-4864-B1CC-BCBECE57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0149-0637-4DFA-B6B1-5089E55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6BFA-971B-4942-8B75-AC87850F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DA03-5E26-470F-8B64-2454D93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561-0518-4ECF-BC72-E31BC78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811D-34BE-4195-8FF2-EA61786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2E2B-CB66-461A-AA4C-72478C8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1695-6A94-4F54-8D0F-82343FF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DF82-D8D5-4AA2-8B76-51F278B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1842-C157-4EBF-B12D-CABF78B6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335D-5D29-44A2-ABD2-2FD3BF92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3051-AF7E-403A-9261-559DAA6F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BDC9-641F-4F24-AE0D-2FE9811A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9280-6A3D-4212-8828-E0C5DB6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6238-81FB-4D1A-923C-C1D9A8D4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A21-DEC9-49B4-8D35-6E08391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36F2-461E-4E7B-BFC5-B9B65703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F953-04AC-468E-9B41-4AED816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4094-290D-45DD-92B5-F0BBE5E2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D832-AA88-480E-90E7-B21547D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CFC6-3F7A-4541-AB77-3699FFE7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6FD7-3344-4B95-9A6A-769F884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5586-4693-4676-91F6-257981FA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1E8F-AEBC-4983-9C87-E2E08778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85F1B-8E11-491E-9ABD-C0448C6F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406D-AA59-4AEA-8CBE-2C5924CA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F79-7B78-4501-A78C-4F9F5F9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5943-FD29-4B1B-ADC4-D288B10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850D5-C5F0-48B2-867B-3DDC470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9F41B-FBC3-438E-8756-28FB363F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51CE-E2F7-444B-A02E-53A5ADE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45B8-6B73-480A-B724-E8ED059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0A14-C2DE-47DC-94DE-E833383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BF23-1CFE-4C58-B6F2-F42BE704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5E35-41B7-4BBD-A4FC-9F1AAC4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D158-7CDF-488F-92BE-F7C3BFA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2975-AB78-4E49-8B47-029B6D62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6F3-F856-4E50-9E94-EA2489F8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0CBA-47BF-41BF-B5FE-9BA02DC2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8CC2E-99B7-45DA-91F6-F7F37CE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9989-AA6E-4197-946A-37285554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A1C9A-E7A4-4EF1-9DFC-34CDCB45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1E0B-32C7-4590-B49A-898F692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9E16-299A-4E74-BA41-FA5BA1E2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1B969-AD00-433A-917F-FC533E2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ED0C-75A3-4CB7-8EDE-EAE08BF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01034-8A90-4AE8-9139-79F74FE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9D9F-A195-49AA-B8EF-E295041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035-826C-468C-858E-51F95827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D033-1CA5-415C-94E8-0219EFD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07201-6E59-42E2-9FE5-42D4ADE5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C61B-C46B-4D66-9D73-79E5DF3B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FA58-724D-47FE-B401-4C31A606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2A1B-8DA6-4727-8DCA-A857179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D5E8D-7DBB-471B-BC21-212B2E03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507AD-7F04-43FC-9C39-BE4C75BF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4567-2E26-4FFC-BD27-A61D9A8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5CA4-AE4D-4DC8-AEA2-DB22396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4313-92B8-4FAE-8F87-633AB96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A04-A690-4632-899E-B0B2D5B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93A5-0C2A-49E4-A9D7-9AD59A2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37093-9722-4C1E-8DF8-2EBCBCE9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8D99F-2C28-4E92-9206-FCCB29A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776E8-BF71-4B11-8CDF-E734AAF9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A13D-D0D1-4B86-8F9A-39EBD0D2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67A4-75DD-4B60-AA3F-72322857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403B0-6FAD-471F-A1AC-957D881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0FE48-1181-479C-B169-181DC527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21AB-693C-455C-B317-A9FD4D81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42458-2ACC-4448-AC62-9CB5D965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814-1942-4BBC-B916-3D69478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142C-2D53-4DDE-A190-AB41758C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42F4D-1B16-4AF1-9290-E646767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1B6F-3507-430B-8270-2213526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4ADF-5942-4A64-849C-0A32A0E6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D0102-B25B-4ABC-9931-1E74B65B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8859-8136-435D-A382-68DCDC9A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F84C-7365-4BAD-BAA6-D60F3F5D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387AF-DBF0-48AE-8E3E-0B1945EC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34FE-11C6-483F-99CD-9F4A4BC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44369-F8FF-4C95-AD49-B6E5633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C57-AE47-41EF-8B99-5B95A0FB76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664A-5D63-458A-AD8F-D14555B78B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1484-4DBB-4883-A3A6-F86467B35A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1772-610F-4E19-9ECB-9F2045C0C6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796-508E-48A9-8A8A-C4AF654C6B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A8A-E185-4689-B809-9CD5AA9EE1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0CA2-02A3-475E-AEE8-F696ECAD48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DC00-11C4-4DE2-A6D3-000AE61764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710-29C8-4981-ADF0-D31DC2304B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FB31-284E-43EA-838C-59DDF2C9E9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489-7941-456F-A704-1772280466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F868-0F2B-4EB2-A4D3-76930203C3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956-A40F-44B0-9C47-CCCEB56758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7DC-AE7D-4C0C-802D-0846514F2F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6DB-728C-4451-8987-DCA4C981C1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589-7F3B-42AE-8BAB-5C0BE00307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BAE-0F87-4200-ADF6-067A828E2A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осударствен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редняя общеобразовательная школа № 21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асилеостровского района Санкт-Петербурга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4376880" y="1844640"/>
            <a:ext cx="4424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роект для учащихс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Сервировка новогоднего стол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Руководитель проекта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                    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учитель  технологии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Лапцевич Ирина Михайловн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Picture 3" descr="118679928_4278666_205"/>
          <p:cNvPicPr/>
          <p:nvPr/>
        </p:nvPicPr>
        <p:blipFill>
          <a:blip r:embed="rId1"/>
          <a:stretch/>
        </p:blipFill>
        <p:spPr>
          <a:xfrm>
            <a:off x="0" y="2625840"/>
            <a:ext cx="414828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1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4" name="Picture 2" descr="1-servirovka-stola-5"/>
          <p:cNvPicPr/>
          <p:nvPr/>
        </p:nvPicPr>
        <p:blipFill>
          <a:blip r:embed="rId1"/>
          <a:stretch/>
        </p:blipFill>
        <p:spPr>
          <a:xfrm>
            <a:off x="1898640" y="1270080"/>
            <a:ext cx="644544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2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Picture 2" descr="IR3bSKW"/>
          <p:cNvPicPr/>
          <p:nvPr/>
        </p:nvPicPr>
        <p:blipFill>
          <a:blip r:embed="rId1"/>
          <a:stretch/>
        </p:blipFill>
        <p:spPr>
          <a:xfrm>
            <a:off x="1604880" y="1555920"/>
            <a:ext cx="6804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3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Picture 2" descr="72"/>
          <p:cNvPicPr/>
          <p:nvPr/>
        </p:nvPicPr>
        <p:blipFill>
          <a:blip r:embed="rId1"/>
          <a:stretch/>
        </p:blipFill>
        <p:spPr>
          <a:xfrm>
            <a:off x="2763720" y="1441440"/>
            <a:ext cx="47307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4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Picture 2" descr="151013152604"/>
          <p:cNvPicPr/>
          <p:nvPr/>
        </p:nvPicPr>
        <p:blipFill>
          <a:blip r:embed="rId1"/>
          <a:stretch/>
        </p:blipFill>
        <p:spPr>
          <a:xfrm>
            <a:off x="2324160" y="1457280"/>
            <a:ext cx="61992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5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2" name="Picture 2" descr="722540_m"/>
          <p:cNvPicPr/>
          <p:nvPr/>
        </p:nvPicPr>
        <p:blipFill>
          <a:blip r:embed="rId1"/>
          <a:stretch/>
        </p:blipFill>
        <p:spPr>
          <a:xfrm>
            <a:off x="939960" y="2106720"/>
            <a:ext cx="8070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6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4" name="Picture 4" descr="Holidays_Christmas_361111"/>
          <p:cNvPicPr/>
          <p:nvPr/>
        </p:nvPicPr>
        <p:blipFill>
          <a:blip r:embed="rId1"/>
          <a:stretch/>
        </p:blipFill>
        <p:spPr>
          <a:xfrm>
            <a:off x="1817640" y="1752480"/>
            <a:ext cx="69501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Респонден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6" name="Диаграмма 5" descr=""/>
          <p:cNvPicPr/>
          <p:nvPr/>
        </p:nvPicPr>
        <p:blipFill>
          <a:blip r:embed="rId1"/>
          <a:stretch/>
        </p:blipFill>
        <p:spPr>
          <a:xfrm>
            <a:off x="554040" y="1243080"/>
            <a:ext cx="89186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Хотели бы выполнить такую работ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8" name="Диаграмма 3" descr=""/>
          <p:cNvPicPr/>
          <p:nvPr/>
        </p:nvPicPr>
        <p:blipFill>
          <a:blip r:embed="rId1"/>
          <a:stretch/>
        </p:blipFill>
        <p:spPr>
          <a:xfrm>
            <a:off x="1042920" y="2054160"/>
            <a:ext cx="7338960" cy="4559400"/>
          </a:xfrm>
          <a:prstGeom prst="rect">
            <a:avLst/>
          </a:prstGeom>
          <a:ln w="0">
            <a:noFill/>
          </a:ln>
        </p:spPr>
      </p:pic>
      <p:pic>
        <p:nvPicPr>
          <p:cNvPr id="1219" name="Диаграмма 4" descr=""/>
          <p:cNvPicPr/>
          <p:nvPr/>
        </p:nvPicPr>
        <p:blipFill>
          <a:blip r:embed="rId2"/>
          <a:stretch/>
        </p:blipFill>
        <p:spPr>
          <a:xfrm>
            <a:off x="-115920" y="1390680"/>
            <a:ext cx="9961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0" lang="ru-RU" sz="6000" spc="-1" strike="noStrike">
                <a:solidFill>
                  <a:srgbClr val="c00000"/>
                </a:solidFill>
                <a:latin typeface="Century Gothic"/>
              </a:rPr>
              <a:t>Спасибо за внимание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076120" y="623520"/>
            <a:ext cx="9428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Цель проекта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ридумать и сервировать новогодний стол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215800" y="2133360"/>
            <a:ext cx="92883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дач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думать интересную идею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йти материалы и украшения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думать и выполнить элементы деко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Как в старину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3" name="Picture 2" descr="396ad5bd"/>
          <p:cNvPicPr/>
          <p:nvPr/>
        </p:nvPicPr>
        <p:blipFill>
          <a:blip r:embed="rId1"/>
          <a:stretch/>
        </p:blipFill>
        <p:spPr>
          <a:xfrm>
            <a:off x="1298520" y="1670040"/>
            <a:ext cx="68976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Скандинавский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5" name="Picture 2" descr="118679928_4278666_205"/>
          <p:cNvPicPr/>
          <p:nvPr/>
        </p:nvPicPr>
        <p:blipFill>
          <a:blip r:embed="rId1"/>
          <a:stretch/>
        </p:blipFill>
        <p:spPr>
          <a:xfrm>
            <a:off x="1932120" y="1411200"/>
            <a:ext cx="5790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Обезьяны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7" name="Picture 2" descr="ukrashenie-novogodnego-stola-2016-07"/>
          <p:cNvPicPr/>
          <p:nvPr/>
        </p:nvPicPr>
        <p:blipFill>
          <a:blip r:embed="rId1"/>
          <a:stretch/>
        </p:blipFill>
        <p:spPr>
          <a:xfrm>
            <a:off x="1514520" y="1703520"/>
            <a:ext cx="66308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Хай-тек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9" name="Picture 2" descr="fashionable-table-venis_karnoval-2"/>
          <p:cNvPicPr/>
          <p:nvPr/>
        </p:nvPicPr>
        <p:blipFill>
          <a:blip r:embed="rId1"/>
          <a:stretch/>
        </p:blipFill>
        <p:spPr>
          <a:xfrm>
            <a:off x="1965240" y="1523880"/>
            <a:ext cx="60199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77520" y="212760"/>
            <a:ext cx="859644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ыбор лучшей иде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147600" y="800280"/>
          <a:ext cx="11887200" cy="5897520"/>
        </p:xfrm>
        <a:graphic>
          <a:graphicData uri="http://schemas.openxmlformats.org/drawingml/2006/table">
            <a:tbl>
              <a:tblPr/>
              <a:tblGrid>
                <a:gridCol w="2131920"/>
                <a:gridCol w="2890800"/>
                <a:gridCol w="2287800"/>
                <a:gridCol w="2287440"/>
                <a:gridCol w="2289240"/>
              </a:tblGrid>
              <a:tr h="91800">
                <a:tc rowSpan="2"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 в стар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на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ья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-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746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746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кт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900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ст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згот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23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добство (затраты време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900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овиз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ctr" pos="484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266760"/>
                          <a:tab algn="ctr" pos="484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900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ступность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23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глядит эффектно и торже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здает уют, соответствует модным теч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ьзуется главный символ приходящего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глядит эффек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9764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ие элементы, непрактично при дальнейшем использов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глядит не очень торже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ракт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ие элементы, не всегда сочетается с интерье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Овал 27"/>
          <p:cNvSpPr/>
          <p:nvPr/>
        </p:nvSpPr>
        <p:spPr>
          <a:xfrm>
            <a:off x="1176480" y="2301840"/>
            <a:ext cx="2725560" cy="86508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тиль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3" name="Овал 28"/>
          <p:cNvSpPr/>
          <p:nvPr/>
        </p:nvSpPr>
        <p:spPr>
          <a:xfrm>
            <a:off x="3440160" y="1095480"/>
            <a:ext cx="2496960" cy="8967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ригиналь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4" name="Овал 29"/>
          <p:cNvSpPr/>
          <p:nvPr/>
        </p:nvSpPr>
        <p:spPr>
          <a:xfrm>
            <a:off x="7672320" y="3970440"/>
            <a:ext cx="249732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Экономич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5" name="Овал 30"/>
          <p:cNvSpPr/>
          <p:nvPr/>
        </p:nvSpPr>
        <p:spPr>
          <a:xfrm>
            <a:off x="677880" y="4054320"/>
            <a:ext cx="24969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Ярк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Овал 31"/>
          <p:cNvSpPr/>
          <p:nvPr/>
        </p:nvSpPr>
        <p:spPr>
          <a:xfrm>
            <a:off x="2849400" y="519264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никаль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7" name="Овал 32"/>
          <p:cNvSpPr/>
          <p:nvPr/>
        </p:nvSpPr>
        <p:spPr>
          <a:xfrm>
            <a:off x="5937120" y="522612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овремен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Овал 33"/>
          <p:cNvSpPr/>
          <p:nvPr/>
        </p:nvSpPr>
        <p:spPr>
          <a:xfrm>
            <a:off x="7802640" y="254304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ктич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9" name="Овал 34"/>
          <p:cNvSpPr/>
          <p:nvPr/>
        </p:nvSpPr>
        <p:spPr>
          <a:xfrm>
            <a:off x="6370560" y="145260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зднич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Овал 35"/>
          <p:cNvSpPr/>
          <p:nvPr/>
        </p:nvSpPr>
        <p:spPr>
          <a:xfrm>
            <a:off x="4352760" y="2782800"/>
            <a:ext cx="2868840" cy="160488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кандинав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Экономическое обоснование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(сервировка на 4 человека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677880" y="1930320"/>
          <a:ext cx="8466120" cy="4714920"/>
        </p:xfrm>
        <a:graphic>
          <a:graphicData uri="http://schemas.openxmlformats.org/drawingml/2006/table">
            <a:tbl>
              <a:tblPr/>
              <a:tblGrid>
                <a:gridCol w="841320"/>
                <a:gridCol w="2905200"/>
                <a:gridCol w="2295360"/>
                <a:gridCol w="2424240"/>
              </a:tblGrid>
              <a:tr h="6732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ат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лф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уп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в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39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р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уп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536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ерстяная н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клу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39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и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536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ловые ве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74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ласная л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ме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536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лая бумага (А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39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олотая кр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 gridSpan="4"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того                                                   598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8:15:44Z</dcterms:created>
  <dc:creator>Ольга</dc:creator>
  <dc:description/>
  <dc:language>en-US</dc:language>
  <cp:lastModifiedBy>Ольга</cp:lastModifiedBy>
  <cp:lastPrinted>2017-02-20T17:22:44Z</cp:lastPrinted>
  <dcterms:modified xsi:type="dcterms:W3CDTF">2017-02-20T17:23:13Z</dcterms:modified>
  <cp:revision>11</cp:revision>
  <dc:subject/>
  <dc:title>Государственное бюджетное общеобразовательное учреждение  средняя общеобразовательная школа № 21  Василеостровского района Санкт-Петербурга</dc:title>
</cp:coreProperties>
</file>