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1FA-56DB-439F-ABB1-A15914FD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5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83B-4A54-4BEC-B9C1-383F04F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A10-1BD7-4108-A3A9-51A8221B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283-551C-420E-8280-524FCD71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F8B-9EF1-482F-96DB-67CD7C0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586-C502-4427-8A0A-E459879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10A-00DD-4A44-BFD2-CF409189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CDB-0059-469A-AFB9-4AEE257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3CF-6681-41FE-AAA3-47D6334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0E4-7F56-4F62-B6DA-09FFD70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7D7-4143-4396-85F0-F38C116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F53-EC18-414E-A970-E9E6CE9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189-96B0-4BEF-B132-49FA8939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роект: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След войны в моей сем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чащийся 3 класса «Б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БОУ СОШ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смеянов Ник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. Усмань, ул. Комарова 1-а, кв.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ешкова Надежда Анато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8-915-556-70-6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Когда началась война, моя прабабушка жила в Ленинграде. Рано утром 22 июня 1941 года она увидела в окно, что на улице  необычно людно. Включив приёмник, они с родителями  услышали страшную весть. Что почувствовала она тогда? Страх и  ужас. В тот момент её казалось, что страшнее уже ничего не будет.  Но она ошибалас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 сентябре 1941 года  немецкими, финскими и испанскими  войсками город был окружен и началась блокада. В городе не имелось достаточного количества продовольствия и начался массовый голод. Прабабушка часто рассказывала маме, как было страшно, так как город постоянно бомбили, и нечего было есть. А ещё они ходили рыть окопы для солдат. Её отца забрали на фронт и он пропал без вести.  А моей прабабушке и её маме повезло- они покинули город  зимой 1941 года по «дороге жизни», которая пролегала через Ладожское озеро. Ехали на грузовых машинах.  Начался обстрел. В соседнюю машину попал снаряд и она ушла под воду. А прабабушка и её мама приехали к родственникам в село Верхняя Мосоловка Усманского района. Целая варёная картошка, которой угощали родственники, показалась им лучшим лакомством в мире. Мама прабабушки сильно опухла от голода и долго бол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 спустя год бабушку забрали на фронт. Она служила радис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АГРАД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адедушка и прабабушка были награждены орденами и медалями.  Вот некоторые из них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рден Славы трех степеней - Награды и звания СССР - Награды и звания - Генеалогия - личный"/>
          <p:cNvPicPr/>
          <p:nvPr/>
        </p:nvPicPr>
        <p:blipFill>
          <a:blip r:embed="rId1"/>
          <a:stretch/>
        </p:blipFill>
        <p:spPr>
          <a:xfrm>
            <a:off x="539640" y="2276640"/>
            <a:ext cx="1548000" cy="309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627280" y="2276640"/>
            <a:ext cx="2274840" cy="30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Первый Парад в честь Победы СССР в Великой Отечественной вой…"/>
          <p:cNvPicPr/>
          <p:nvPr/>
        </p:nvPicPr>
        <p:blipFill>
          <a:blip r:embed="rId3"/>
          <a:srcRect l="7559" t="7559" r="7559" b="7559"/>
          <a:stretch/>
        </p:blipFill>
        <p:spPr>
          <a:xfrm>
            <a:off x="5580000" y="1700280"/>
            <a:ext cx="2208240" cy="22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Мир наград. Сайт российских коллекционеров."/>
          <p:cNvPicPr/>
          <p:nvPr/>
        </p:nvPicPr>
        <p:blipFill>
          <a:blip r:embed="rId4"/>
          <a:stretch/>
        </p:blipFill>
        <p:spPr>
          <a:xfrm>
            <a:off x="5508720" y="4005360"/>
            <a:ext cx="24112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 вот, наконец, 9 мая 1945 года настал ДЕНЬ ПОБЕДЫ. День, который так ждали все жители нашей огромной страны. Совершенно незнакомые люди на улицах поздравляли друг друга, обнимались, целовались и плакали. А вечером в Москве был дан Салют Победы. Из тысячи орудий было дано тридцать зал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Мама рассказывала, что прабабушка часто вспоминала об этом д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 Никогда потом я не чувствовала такой огромной радости и счастья,  - говорила 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9 мая был самый любимый праздник для моих прадедушки и прабабушки. Их больше нет в живых. Но каждый год в этот день мы едем на их могилы с цветами и благодарим за их вклад в ПОБЕ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971640" y="62064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 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мните! Через века, через года,- помните!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О тех, кто уже не придет никогда,- помните!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Не плачьте! В горле сдержите стоны, горькие стоны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амяти павших будьте достойны! Вечно достой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знать о своих предках- защитниках Родины, воевавших в Великую Отечественную вой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казать важность знания истории своей семьи в годы Великой Отечественной вой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охранить память об участниках Великой Отечественной войны : Якимове А. М. и Якимовой А.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следить историю семьи в годы Великой Отечественной вой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зучить семейные архивы и фотографии родствен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пределить вклад моей семьи в дело победы над фашистской Герм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68360" y="765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  <a:ea typeface="Calibri"/>
              </a:rPr>
              <a:t>Актуальность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Calibri"/>
              </a:rPr>
              <a:t>: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мы обязаны помнить, какой ценой завоевана Победа, помнить своих героев, павших на полях сражений, отдать дань уважения живым и гордиться ими. Память о дедах и прадедах мы обязаны передать грядущим поколениям  и должны объединиться в борьбе за мир.  Нельзя допустить новую военную катастроф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не знал своих прадедушку и прабабушку, они умерли задолго до моего рождения. Но мама рассказывала мне, что они- участники Великой Отечественной войны. И на себе испытали все её тяготы. Этот проект я хочу посвятить им.  Они защищали нашу страну от врагов и внесли свой вклад в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еликая Отечественная война началась 22 июня 1941г. Фашисты вероломно напали на нашу Родину. Весь многонациональный народ нашей страны встал на её защиту и победил. Победа в Великой Отечественной войне — одна из самых ярких страниц нашей ис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о за неё страна заплатила огромную цену: около 27 миллионов  человек погибло, миллионы остались калеками и инвалидами, была уничтожена треть национального достоя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ОЙ ПРАД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его прадеда Якимова Александра Михайловича призвали на войну в 1941 году, совсем мальчишкой, ему едва исполнилось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 (1)"/>
          <p:cNvPicPr/>
          <p:nvPr/>
        </p:nvPicPr>
        <p:blipFill>
          <a:blip r:embed="rId1"/>
          <a:stretch/>
        </p:blipFill>
        <p:spPr>
          <a:xfrm>
            <a:off x="4500720" y="170028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ЙНА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войне прадедушка выполнял должность связного 169 стрелкового полка, 86 стрелковой дивизии Ленинградского фронта. Сражаясь за местечко Невская –Дубровка Ленинградской области  12 сентября 1942г. был ранен осколком  снаряда в правое предплечье и попал в госпиталь.  А в  октябре 1942 года снова вернулся на фронт в 147 стрелковый полк,  43 стрелковой дивизии, 55 армии Ленинградского фронта. При отражении 4 контратаки противника был серьёзно ранен  в левое плечо крупнокалиберной пулей и контужен. Рана была очень глубокая и туда попала инфекция. Началась гангрена. Руку ампутировали. Операцию делали 3 раза, почти не обезболивая. Он еле выжил.  И в  20 лет остался без руки. Да и всё его здоровье было подорвано войной. Прадедушка вернулся  домой в ноябре 194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 помнит, что он не любил говорить о войне. Слишком много было пережито, слишком много погибло друзей, родных и сослужив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А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37432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огда началась война, моей прабабушке Якимовой Анне Аникандровне было 18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age"/>
          <p:cNvPicPr/>
          <p:nvPr/>
        </p:nvPicPr>
        <p:blipFill>
          <a:blip r:embed="rId1"/>
          <a:srcRect l="19893" t="19893" r="19893" b="0"/>
          <a:stretch/>
        </p:blipFill>
        <p:spPr>
          <a:xfrm>
            <a:off x="4572000" y="1413000"/>
            <a:ext cx="3419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9:57Z</dcterms:created>
  <dc:creator/>
  <dc:description/>
  <cp:keywords>фон для трезентации</cp:keywords>
  <dc:language>en-US</dc:language>
  <cp:lastModifiedBy>надежда</cp:lastModifiedBy>
  <dcterms:modified xsi:type="dcterms:W3CDTF">2015-03-26T13:42:12Z</dcterms:modified>
  <cp:revision>23</cp:revision>
  <dc:subject/>
  <dc:title>Слайд 1</dc:title>
</cp:coreProperties>
</file>