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8E9-4A4C-4B86-A38B-9B7391E1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3E7-D111-4AD3-A24F-2D2F18DE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062-31B9-4237-A88B-DD796450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550-6DA7-4946-B7A2-31B986C9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B0C-D50A-432D-8D79-813289D4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559-35E6-42FA-879E-6A9B58C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8A96-C0DB-4B41-AFE9-577FDE0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9417-FB30-4AFE-B02B-A5404B8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2CFD-9EF8-4957-A6C4-2551EA34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952-3E33-4297-BAC8-F3EA8A45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418A-7958-4319-9567-3E0CE72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EBC-18A6-4DC7-AA49-B0AF4817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1AD0-9703-4E11-A619-638A140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4148-ECEF-4363-AED0-11CD78F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F925-2031-49BD-B884-20F42B1C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ACFE-8827-46C1-94E0-F9548945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FE5A-E5C1-4F65-8236-E5DCE3A2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271-1BE8-4EA0-AC02-AF5D17A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289-D077-4332-A359-5F57C12F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4B0-E563-45AF-9790-04B6FBB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5C3-23D5-44DD-B89B-7C87381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DC8-3D74-4C58-8F21-AE6F11F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E6A-BC51-41AD-AE1D-1329EED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586-0157-48D9-8C77-2E04F42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694F-8661-49D2-94EF-CFF12D4F5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0045-0E93-4D33-90B4-A84541315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70;&#1086;&#1085;,_&#1050;&#1086;&#1085;&#1089;&#1090;&#1072;&#1085;&#1090;&#1080;&#1085;_&#1060;&#1105;&#1076;&#1086;&#1088;&#1086;&#1074;&#1080;&#1095;" TargetMode="External"/><Relationship Id="rId3" Type="http://schemas.openxmlformats.org/officeDocument/2006/relationships/hyperlink" Target="https://yandex.ru/images/search?text=&#1050;&#1086;&#1085;&#1089;&#1090;&#1072;&#1085;&#1090;&#1080;&#1085;%20&#1070;&#1086;&#1085;&amp;img_url=https%3A%2F%2Fuploads6.wikiart.org%2Fimages%2Fkonstantin-yuon%2Fthe-winter-little-bridge-1914.jpg&amp;pos=14&amp;rpt=simage" TargetMode="External"/><Relationship Id="rId4" Type="http://schemas.openxmlformats.org/officeDocument/2006/relationships/hyperlink" Target="http://www.art-portrets.ru/art20veka/hudozhnik-yuon.html" TargetMode="External"/><Relationship Id="rId5" Type="http://schemas.openxmlformats.org/officeDocument/2006/relationships/hyperlink" Target="http://www.artcontext.info/pictures-of-great-artists/55-2010-12-14-08-01-06/373-kartini-yuon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Сочинение-описание по картине К.Ф.Юона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«Конец зимы. Полдень»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3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Учитель МБОУ СОШ №2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г. Дубны Московской области Новик Светлана Анатоль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864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10 Троицкая лавра зимой. Холст, масло. 125x19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656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упола и ласт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пенский собор Троице-Сергиевой лавры. Х., м. 71x89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127640" cy="578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929 Конец зимы. Полдень. Лигачево. Холст, масло. 89x112. ГТ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920000" cy="6164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Беседа по картин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ово ваше впечатление от карти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ие чувства она у вас вызыв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 каким признакам видно, что это конец зим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Что видите на переднем плане, на заднем план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ую местность изобразил художн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чему же так ясно видны близкие и далёкие предме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ие  краски преобладают в картин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ое настроение у художн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Развитие творческого воображения. Вхождение в картину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1492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дставьте, что вы оказались в этих мес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бы вам захотелось сделать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бы вы могли там услыш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Что бы вы могли  почувствов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Какое впечатление произвела карт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«Конец зим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Цвет и настроение карти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Моё отношение к карти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Орфографическая рабо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д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вн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не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ж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я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яна, 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аг; х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мы,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е густым лес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; з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,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н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ца дро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олн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ч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ые лучи, стройные б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ёзы, з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ёные ел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бые ел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бые тени на сн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, мя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й пор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ый сне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л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ы, куры, кр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вый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х, гру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п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лы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ж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нтерент-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s://ru.wikipedia.org/wiki/%D0%AE%D0%BE%D0%BD,_%D0%9A%D0%BE%D0%BD%D1%81%D1%82%D0%B0%D0%BD%D1%82%D0%B8%D0%BD_%D0%A4%D1%91%D0%B4%D0%BE%D1%80%D0%BE%D0%B2%D0%B8%D1%8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s://yandex.ru/images/search?text=%D0%9A%D0%BE%D0%BD%D1%81%D1%82%D0%B0%D0%BD%D1%82%D0%B8%D0%BD%20%D0%AE%D0%BE%D0%BD&amp;img_url=https%3A%2F%2Fuploads6.wikiart.org%2Fimages%2Fkonstantin-yuon%2Fthe-winter-little-bridge-1914.jpg&amp;pos=14&amp;rpt=sim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art-portrets.ru/art20veka/hudozhnik-yuon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http://www.artcontext.info/pictures-of-great-artists/55-2010-12-14-08-01-06/373-kartini-yuon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96000" y="476280"/>
            <a:ext cx="334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imes New Roman"/>
              </a:rPr>
              <a:t>Юон Константин Федорович (1875-1958) – русский живописец, мастер пейзажа, театральный художник, теоретик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1" descr="http://www.artsait.ru/art/y/uon/img/1sm.jpg"/>
          <p:cNvPicPr/>
          <p:nvPr/>
        </p:nvPicPr>
        <p:blipFill>
          <a:blip r:embed="rId2"/>
          <a:stretch/>
        </p:blipFill>
        <p:spPr>
          <a:xfrm>
            <a:off x="179280" y="404640"/>
            <a:ext cx="5491440" cy="6093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Биография К.Ф.Юон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0464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удожник Юон Константин Федорович родился в 1875 году 12 октября в городе Москве. Отец был директором компании по страхованию имущества, мать занималась музы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. Ф. Юон с детства любил Москву и Подмосковье, их удивительную крас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юности Юон отличился в пристрастии к рисованию и В 17-летнем возрасте его родители направляют в художественное училище в Москве. Его первыми наставниками в данном заведении на то время были хорошо зарекомендовавшие себя в обществе художники: Константин Аполлонович Савицкий, Николай Алексеевич Касаткин, Валентин Александрович Се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тины Юона стали привлекать внимание зрителей, еще на студенческих выставках и быстро раскупались. На деньги от продажи своих произведений, молодой человек мог посетить многие места в России, и даже некоторые европейские страны. Полотна художника выставлялись на всех крупных российских выстав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удожник безмерно любил проявление всего красивого как в природе так и в жизни. Возможно, его чувство и понимание способствовало тому, что его картины были безупречны, показывающие настроение, вот вам ярко светит солнце, сверкает только что выпавший на землю снег, яркие наряды женщин, русские древние архитектурные памятники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имой темой художника Юона была красота русской зимы. Вот что он сам писал об этом «Сияние утренних и вечерних зорь и белизна снежных покровов родной зимы дают самые дорогие для меня переживания и краск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 конца своих дней Юон работает с пейзажной те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191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 К. Юона Весенний солнечный день. 1910 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713800" cy="5608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225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 Юона «Волшебница – зима» 191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090440"/>
            <a:ext cx="8747280" cy="5376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1926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14 Зима. Мостик. Холст, масло. 68.6x10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20360" cy="561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81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 К. Юона «Мартовское солнце» 191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810560" cy="5819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95640" y="1562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.Юон автопортрет фо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227480" cy="6237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53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12 Портрет Бори Юона, сына художника. 87,7х69,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205520" cy="5396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4716360" y="13464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24 Портрет К.А.Юон, жены художника. X., м. 50х55. Собрание О.И.Юона. Моск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86320" y="1628640"/>
            <a:ext cx="4657680" cy="4456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17:10:50Z</dcterms:created>
  <dc:creator>Acer</dc:creator>
  <dc:description/>
  <dc:language>en-US</dc:language>
  <cp:lastModifiedBy>Acer</cp:lastModifiedBy>
  <dcterms:modified xsi:type="dcterms:W3CDTF">2017-02-20T16:59:20Z</dcterms:modified>
  <cp:revision>5</cp:revision>
  <dc:subject/>
  <dc:title>Сочинение-описание по картине К.Ф.Юона  «Конец зимы. Полдень» 3 класс</dc:title>
</cp:coreProperties>
</file>