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AAC-70F5-4EA0-94EE-3FFCE0D6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257-E8A0-48F6-A6D9-47A94C46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AB9-C966-4C80-B283-9501E912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CFF-9C85-47E1-9EF8-24395A7A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60F3-6B57-4D42-A0D5-F75F11FF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3A65-3C19-4054-9BEB-8BB95D51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B483-1565-435D-B922-D10DB81E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74E2-6DDE-42B0-9596-3C505E60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EA45-0D1E-494A-B2B4-A88A6DE7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1E43-58BA-4A52-A033-397979C1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0E11-EA3F-40F4-958F-F2D0CAC1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77A-1FB2-4299-B0FE-9E925B9B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C3C9-74DA-4010-B423-C884750D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CB01-45E5-4485-9725-F5FAA7E8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BD2E-05A9-479A-8C16-0678BBB4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6F16-4A56-48C6-BA67-F30E1020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8D95-3EF0-4A55-8B4A-085652A2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545-C54C-4A65-BCFC-FDDFE60B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7C9-C73B-4210-A988-D6FAA39E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2EB-EAAF-4D52-BBAB-FB2A5E53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479-5562-4BAB-8C07-53FCB5E0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C6F-DB73-4541-B216-7BCAD89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EB5-04CD-417A-8395-EA177858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E24-5C88-4E63-8585-E1869A28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93A2-7930-4406-9A4F-FCA57060D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DD0D-0EC6-4ED3-BB9B-25052CA14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70;&#1086;&#1085;,_&#1050;&#1086;&#1085;&#1089;&#1090;&#1072;&#1085;&#1090;&#1080;&#1085;_&#1060;&#1105;&#1076;&#1086;&#1088;&#1086;&#1074;&#1080;&#1095;" TargetMode="External"/><Relationship Id="rId3" Type="http://schemas.openxmlformats.org/officeDocument/2006/relationships/hyperlink" Target="https://yandex.ru/images/search?text=&#1050;&#1086;&#1085;&#1089;&#1090;&#1072;&#1085;&#1090;&#1080;&#1085;%20&#1070;&#1086;&#1085;&amp;img_url=https%3A%2F%2Fuploads6.wikiart.org%2Fimages%2Fkonstantin-yuon%2Fthe-winter-little-bridge-1914.jpg&amp;pos=14&amp;rpt=simage" TargetMode="External"/><Relationship Id="rId4" Type="http://schemas.openxmlformats.org/officeDocument/2006/relationships/hyperlink" Target="http://www.art-portrets.ru/art20veka/hudozhnik-yuon.html" TargetMode="External"/><Relationship Id="rId5" Type="http://schemas.openxmlformats.org/officeDocument/2006/relationships/hyperlink" Target="http://www.artcontext.info/pictures-of-great-artists/55-2010-12-14-08-01-06/373-kartini-yuon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Сочинение-описание по картине К.Ф.Юона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«Конец зимы. Полдень»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3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Учитель МБОУ СОШ №2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г. Дубны Московской области Новик Светлана Анатоль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1864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10 Троицкая лавра зимой. Холст, масло. 125x198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656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упола и ласточ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пенский собор Троице-Сергиевой лавры. Х., м. 71x89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127640" cy="5786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929 Конец зимы. Полдень. Лигачево. Холст, масло. 89x112. ГТ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920000" cy="6164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Беседа по картин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ово ваше впечатление от картин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акие чувства она у вас вызыва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 каким признакам видно, что это конец зим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Что видите на переднем плане, на заднем план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акую местность изобразил художн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Почему же так ясно видны близкие и далёкие предмет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акие  краски преобладают в картин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Какое настроение у художни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Развитие творческого воображения. Вхождение в картину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1492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дставьте, что вы оказались в этих мес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бы вам захотелось сделать?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бы вы могли там услыш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Что бы вы могли  почувствов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Какое впечатление произвела карт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«Конец зим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Цвет и настроение карти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Моё отношение к картин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Орфографическая работ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д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вн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не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ж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я п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яна, 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аг; х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мы, п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е густым лес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; з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, п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н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ца дро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олн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ч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ые лучи, стройные б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ёзы, з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ёные ел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убые ел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убые тени на сн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, мя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й пор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ый сне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л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ы, куры, кр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вый п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ух, гру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пп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лы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ж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нтерент-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s://ru.wikipedia.org/wiki/%D0%AE%D0%BE%D0%BD,_%D0%9A%D0%BE%D0%BD%D1%81%D1%82%D0%B0%D0%BD%D1%82%D0%B8%D0%BD_%D0%A4%D1%91%D0%B4%D0%BE%D1%80%D0%BE%D0%B2%D0%B8%D1%8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s://yandex.ru/images/search?text=%D0%9A%D0%BE%D0%BD%D1%81%D1%82%D0%B0%D0%BD%D1%82%D0%B8%D0%BD%20%D0%AE%D0%BE%D0%BD&amp;img_url=https%3A%2F%2Fuploads6.wikiart.org%2Fimages%2Fkonstantin-yuon%2Fthe-winter-little-bridge-1914.jpg&amp;pos=14&amp;rpt=sim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art-portrets.ru/art20veka/hudozhnik-yuon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http://www.artcontext.info/pictures-of-great-artists/55-2010-12-14-08-01-06/373-kartini-yuon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96000" y="476280"/>
            <a:ext cx="334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imes New Roman"/>
              </a:rPr>
              <a:t>Юон Константин Федорович (1875-1958) – русский живописец, мастер пейзажа, театральный художник, теоретик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1" descr="http://www.artsait.ru/art/y/uon/img/1sm.jpg"/>
          <p:cNvPicPr/>
          <p:nvPr/>
        </p:nvPicPr>
        <p:blipFill>
          <a:blip r:embed="rId2"/>
          <a:stretch/>
        </p:blipFill>
        <p:spPr>
          <a:xfrm>
            <a:off x="179280" y="404640"/>
            <a:ext cx="5491440" cy="6093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Биография К.Ф.Юон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404640"/>
            <a:ext cx="8642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удожник Юон Константин Федорович родился в 1875 году 12 октября в городе Москве. Отец был директором компании по страхованию имущества, мать занималась музы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. Ф. Юон с детства любил Москву и Подмосковье, их удивительную красо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юности Юон отличился в пристрастии к рисованию и В 17-летнем возрасте его родители направляют в художественное училище в Москве. Его первыми наставниками в данном заведении на то время были хорошо зарекомендовавшие себя в обществе художники: Константин Аполлонович Савицкий, Николай Алексеевич Касаткин, Валентин Александрович Се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тины Юона стали привлекать внимание зрителей, еще на студенческих выставках и быстро раскупались. На деньги от продажи своих произведений, молодой человек мог посетить многие места в России, и даже некоторые европейские страны. Полотна художника выставлялись на всех крупных российских выстав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удожник безмерно любил проявление всего красивого как в природе так и в жизни. Возможно, его чувство и понимание способствовало тому, что его картины были безупречны, показывающие настроение, вот вам ярко светит солнце, сверкает только что выпавший на землю снег, яркие наряды женщин, русские древние архитектурные памятники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бимой темой художника Юона была красота русской зимы. Вот что он сам писал об этом «Сияние утренних и вечерних зорь и белизна снежных покровов родной зимы дают самые дорогие для меня переживания и краск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 конца своих дней Юон работает с пейзажной тем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191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ина К. Юона Весенний солнечный день. 1910 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8713800" cy="5608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2257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ина Юона «Волшебница – зима» 1912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090440"/>
            <a:ext cx="8747280" cy="5376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6920" y="1926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914 Зима. Мостик. Холст, масло. 68.6x10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20360" cy="5616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181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ина К. Юона «Мартовское солнце» 1915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7810560" cy="5819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95640" y="1562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.Юон автопортрет фо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227480" cy="6237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534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12 Портрет Бори Юона, сына художника. 87,7х69,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205520" cy="5396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4716360" y="13464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24 Портрет К.А.Юон, жены художника. X., м. 50х55. Собрание О.И.Юона. Моск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86320" y="1628640"/>
            <a:ext cx="4657680" cy="4456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17:10:50Z</dcterms:created>
  <dc:creator>Acer</dc:creator>
  <dc:description/>
  <dc:language>en-US</dc:language>
  <cp:lastModifiedBy>Acer</cp:lastModifiedBy>
  <dcterms:modified xsi:type="dcterms:W3CDTF">2017-02-20T16:59:20Z</dcterms:modified>
  <cp:revision>5</cp:revision>
  <dc:subject/>
  <dc:title>Сочинение-описание по картине К.Ф.Юона  «Конец зимы. Полдень» 3 класс</dc:title>
</cp:coreProperties>
</file>