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F8E-5358-438E-B1A8-F5A498DE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C7C-58EB-4AD1-BFB8-0192F9B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007-B2DA-4C34-AEF5-DC3692B4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F28-14B1-4C32-9F9C-BB2B440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2A5-2EC8-4BEC-ABAD-8C62B0D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B87-23E1-4787-92EC-F605D3EF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246-3AAF-47E6-90DA-2D6A115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B36-E5AE-4195-98CA-1257D92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0AB-AF55-4E6F-8BA3-DCA8C41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1A0-8FC2-4994-9D3E-DAD63AC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170-7E05-468C-B487-1217FF2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4B6-403D-4DA6-B738-1AC732C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9C7-8631-4A31-981C-C54402731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Calibri"/>
              </a:rPr>
              <a:t>Суд над сигарето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5564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бедительным подтверждением вредных последствий для здоровья являю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анные Всемирной организации здравоохране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лайд № 29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роятность инфаркта миокарда у курильщиков в 10-12 раз выше, чем у некурящих, а смертность от инфарктов выше в 5 ра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гарета уменьшает продолжительность жизни на 5-15 м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мертность от онкологических заболеваний в 10-15 раз выше у курящих, чем у некурящи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ый пятый погибший ребенок остался бы жить, если бы их матери не курили или не окуривались бы окружающи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жегодно отмечается 300 тыс. преждевременных смертей в США и 100 тыс. в Великобритании, причиной которых являются: рак легких, болезни, связанные с курение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оссии от курения умирает 375 тыс.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900" spc="-1" strike="noStrike">
                <a:solidFill>
                  <a:srgbClr val="c00000"/>
                </a:solidFill>
                <a:latin typeface="Calibri"/>
              </a:rPr>
              <a:t>Курение или здоровье – выбирайте сами!!!</a:t>
            </a: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04:40:21Z</dcterms:created>
  <dc:creator>Dom</dc:creator>
  <dc:description/>
  <dc:language>en-US</dc:language>
  <cp:lastModifiedBy>Dom</cp:lastModifiedBy>
  <dcterms:modified xsi:type="dcterms:W3CDTF">2017-02-20T03:56:01Z</dcterms:modified>
  <cp:revision>5</cp:revision>
  <dc:subject/>
  <dc:title>Суд над сигаретой</dc:title>
</cp:coreProperties>
</file>