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9BF-6DA8-4BA4-8BA2-F10BDD03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9CC-EF40-4D40-8B5B-BECC2F4D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A9E-2B85-47F6-8D03-562EA500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23C-921B-4468-985E-B00D8AD9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937-56C0-45BA-B6F2-067D516D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D87-5DA4-49C6-92FA-329D47C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C23-FFB6-43A2-A84F-63BE09A3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ECB-C7E4-49AC-83E2-A1D69AF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204-10FD-4379-9A1A-55B9781A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028-92A5-445C-ADDA-BDED478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D2B-A969-4E47-BD5F-C0BBC48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827-9903-461F-998A-C1D7C50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D08-065E-40CA-82CC-B5718C5B6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Суд над сигарето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5564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бедительным подтверждением вредных последствий для здоровья являю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анные Всемирной организации здравоохране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лайд № 29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роятность инфаркта миокарда у курильщиков в 10-12 раз выше, чем у некурящих, а смертность от инфарктов выше в 5 ра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гарета уменьшает продолжительность жизни на 5-15 м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мертность от онкологических заболеваний в 10-15 раз выше у курящих, чем у некурящи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ый пятый погибший ребенок остался бы жить, если бы их матери не курили или не окуривались бы окружающи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жегодно отмечается 300 тыс. преждевременных смертей в США и 100 тыс. в Великобритании, причиной которых являются: рак легких, болезни, связанные с курение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оссии от курения умирает 375 тыс.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00000"/>
                </a:solidFill>
                <a:latin typeface="Calibri"/>
              </a:rPr>
              <a:t>Курение или здоровье – выбирайте сами!!!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04:40:21Z</dcterms:created>
  <dc:creator>Dom</dc:creator>
  <dc:description/>
  <dc:language>en-US</dc:language>
  <cp:lastModifiedBy>Dom</cp:lastModifiedBy>
  <dcterms:modified xsi:type="dcterms:W3CDTF">2017-02-20T03:56:01Z</dcterms:modified>
  <cp:revision>5</cp:revision>
  <dc:subject/>
  <dc:title>Суд над сигаретой</dc:title>
</cp:coreProperties>
</file>