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14DD-6961-4AAF-A84A-A9C50BA4F83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37F45-E60F-4CCA-8871-E24E4045E2C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3948-0786-48F0-A2A2-85FCE4282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3413-462C-439D-94FE-EB2A39D30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F07326-A00A-4434-A445-0A7911B25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B81BA2-B60B-442C-9135-4CBE35543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90D801-2B0E-43D6-B18D-F986824A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35B2B7-7FB2-4BE7-8702-105E0575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DECF05-D77A-49C9-B315-93D1E892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AB3FAC-5834-4BCD-A749-26457320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D8178F-9C81-4282-A152-44809DE5F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88FE5A-F172-4EF2-AFE9-F72B4153C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02AF9C-426C-40D2-8DA9-763D569FA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21A551-EEE3-4C0F-A992-D9BB1E189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1596-6487-4031-B21F-03005D4EA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AB52D9-8326-4300-A7AB-FF263AD3A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1491E0-A994-4DC7-8A83-6957E9AC3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BB6326-3471-43E3-B641-22A2BDE1B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1B7201-670B-498B-ABDC-73BD7CA9F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080536-7782-4315-96BD-F2B8F25B0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57DBBF-4524-47DD-A793-B0119C57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A0D57C-5521-4168-A1BF-1C45E3D5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A59446-CE6C-43B2-BF9B-79817853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F9F7CB-0E30-4FFE-81EE-C04C5BE6C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5DAE45-963A-4C4E-A6B3-FE79E2E62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6D36-EE72-41BD-A33E-37F4051F5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7A2DCD-A632-4E48-A3F2-5F7FCF3B9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D11530-B2F2-4D82-9B22-054982293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2DE8BC-B0B9-4D78-A96D-80E128B5F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85D89A-0181-4B65-B629-8E9A99DA2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A3CBDA-0E97-43BE-9B32-F4EBF355C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56D536-1E5E-4BB3-82B0-BFE4ADFFA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E65139-842B-4046-B972-461C308D2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62707E-4758-444C-B5E2-BD432EEF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E7A4AA-7DC9-460A-A029-D0C96B80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280A3E-7A4E-425D-82FB-94C45308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6E544-E7E1-485A-9927-C6D6D359C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F9B6E5-C364-4FED-8E08-F91DEA004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A38515-D784-44B1-A701-A7B5C85C6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D100C0-BAD7-4D31-8373-91E5AF604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BAF476-7BAC-4092-8A54-D37800AF5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895744-6EE8-4073-8ABE-E22C96AA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F0238C-F7BC-488B-B11C-602BD6F07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109377-B615-4A65-8C17-61A19903D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E8092C-D83E-42CF-8A6C-657555775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29F52A-32E9-4C12-959B-E1C545E8C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28F283-9313-4A75-B6EC-7FD19AE8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5E032-A062-4A8E-B350-67D818BDB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8C867C-8E79-49BD-AB33-C0E2001D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3B9853-9EA4-49B0-A174-763FCD37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A5EDDD-D408-48B1-8258-9066B6100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FE56E7-BD42-4DE6-AB55-183B83E05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F9A5F3-9A5A-4FD7-BEDB-4BF0CA937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0BFAD-A262-4629-9E4E-B5B193341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DF4ED-5798-4067-9A60-D3920BB92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C134B-02CA-4186-957F-D0BC0C3DE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0FD2F-E640-484C-AEA5-F2FD3E692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3D1C1-9F24-44EC-90F2-75F71F44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8B61-4512-4F2F-88DC-B7358550D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49364-E904-4086-84EA-1D57F8F2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A23FC-F643-4B80-919D-341375F1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3BA89-E5B4-436D-B762-8D3CC178D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090C8-6371-48C4-A563-AED97C54B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912DB-D762-4780-8A8F-00F35731E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BE99D-7A2C-486C-A4FC-2310E46EA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98B1B-2473-4248-A295-F6742ABC9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1D633-427E-4AA5-9940-B51CCF4E2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45A21-4584-4571-88DB-4BC6FD268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2CFEB-FB43-401B-A99F-C2CFE68F5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237C-7436-4EB9-9374-5A6A4636B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C3ADE-5F10-4D45-8CF2-33782F874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21CD4-27F6-43DD-9346-2D88684B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8DCCA-8290-401C-ADB0-150B6A75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6182E-5F71-4724-8CBE-2167E8AA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3868B-4A8B-482F-A535-9CCBCB156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5A1E4-3FC2-4E0B-B51A-8D161C696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12C5B-1419-46C9-9BB8-780EECE10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844FA-6AE0-440C-9770-AB77F835C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67FD1-BE65-4B62-B229-64D1D7E20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91232-5DE4-4E4C-9090-B177B2780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D94A-EC9E-40E7-8D35-0A2CF4725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78A89-FB79-455A-9E17-B9D80E134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8C1C4-1FCC-4FFA-9F82-50004FB38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2BBB6-4722-43B8-86DD-235DBE7DE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5B737-0C63-4E82-BEC6-E74F3BC8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08B24-C1A4-4B4D-87FF-01406FD3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695C0-026B-412E-B454-56921A01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28CCB-8FE0-49F9-981E-F8A15C1DD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681B4-8F9E-4F1C-9BFE-11DA095CC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12B4F-DC73-41CF-9827-29894B29A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BB0D7-BA99-4C79-82E3-6B3476E1E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0B31-5366-480B-BE04-B81753DDD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9DC43-EF94-4D7E-A3F6-0B56005F6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4E2E8-FFB8-493A-93B5-97C662598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C9367-B45F-4579-88A7-27826F1D9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8664A-8A1C-4BB9-8C40-4894A71F5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0E3E8-3C61-4305-A1D0-6F8E5551E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6B5F1-05C5-4F72-BB6A-51E95536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5728E-E54B-4FB1-B6CB-A3D17CE2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DB2D4-BFA1-4FFA-BE5C-2F1E7965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BD5B1-CDE3-4AEC-AFA6-7E05FFFC4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E12E0-1ED8-4356-9F89-F0D38DCDE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E0AC-5352-4760-9FA8-0A2857769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EE91B-A98E-4E0C-A983-8E95FC81A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B40BC-936C-4A2B-8629-9FB47FB78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9C913-A0CA-4C4D-A1C2-D8EFFF397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309A9-8700-4D68-94E4-B5EE9447F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F209DE-577C-4871-AFD4-509828BCC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7BE33-F8AF-4A71-A327-169049979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F4E5E-6A02-4FC4-B3D0-AEED80F27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49DAAF-2AF6-4A7B-AD86-0D7FCE2A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2C603-AA7A-4A25-B281-9DF31F9E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6F73E-B342-4E34-9180-DDDDF34A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CB2C-6C70-4C1B-8C6D-DC0400C5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F2D66-F141-4B61-BFA3-F7B709A2C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8FE45B-4AAE-4002-9467-D04688AA9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66632-B1FC-4A4E-86AC-2766C1750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96E8BE-A6B5-4C43-BB00-6AC695F9E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41735-B399-48B9-9083-C683E8A09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257A0-3E00-48AA-9F13-A3982ADE4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F4236-58E0-43F0-BD69-A65F51865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716010-84E0-4F70-B272-4FEBC8A1F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DC2A79-5048-4EAA-8B8E-F2A5908B3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68045-6925-480D-BF88-E6DD88B1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911B-38B6-4A1D-A7A9-D7FA26B7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03D461-F53B-4C15-A9FD-A7EC4C40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3C08E8-B419-44B2-85CB-C1694E7A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E1A7B-048D-48B0-9480-5E3F69809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AC0DD-F3CE-4A8F-95C4-AF2E569A6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668446-C353-4030-A5D2-AA67E482D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38006B-699A-4A96-B739-978ED0ACD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29C34-788C-4DEB-82CE-047183137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A52B40-A3D6-4CA0-81D2-16E1F3BF4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1766CA-67EB-4512-ACDA-B83F8129A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467AE6-8529-475B-94EF-D0F6BD1E6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B6C3-540F-427A-9BDF-765A388A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B1D78F-8DD4-4783-BCC1-F29CF50B6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0D4922-0AC3-41AF-B78D-01DA6CD99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E29C9E-D7F4-4CF1-860B-CF024D5C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2B432A-F787-4AEA-90C9-9383B322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A4A5AD-404F-4547-8F16-3FF571D36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B61B24-9007-4B62-B0E8-CA7B7AE59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DC6A70-883C-4640-AEA4-AA1981579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D6CDD5-0490-418C-9C4B-804BF3BFA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1FAF7E-59EF-4C29-A0CE-D12D64EC6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D1E448-FE9D-4E99-8F0C-9C6BD97A5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38C6C-C8A6-4F10-8AA4-EAACA9D6B7F9}" type="datetime">
              <a:rPr b="0" lang="ru-RU" sz="1000" spc="-1" strike="noStrike">
                <a:solidFill>
                  <a:srgbClr val="f4e7ed"/>
                </a:solidFill>
                <a:latin typeface="Trebuchet MS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4E24E-560E-479C-9EA8-F26E0EF67629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B1A1B-B106-4E1C-8685-2A5D32AA9590}" type="datetime">
              <a:rPr b="0" lang="ru-RU" sz="1000" spc="-1" strike="noStrike">
                <a:solidFill>
                  <a:srgbClr val="f4e7ed"/>
                </a:solidFill>
                <a:latin typeface="Trebuchet MS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37517-9CE0-48FD-AEAE-B56B311E7AB9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3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0CCB7-4D16-42B1-AB0F-E688898A26E2}" type="datetime">
              <a:rPr b="0" lang="ru-RU" sz="1000" spc="-1" strike="noStrike">
                <a:solidFill>
                  <a:srgbClr val="f4e7ed"/>
                </a:solidFill>
                <a:latin typeface="Trebuchet MS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3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689E4-3B42-4712-B2C2-E6E8018B756E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4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2A207-BC23-4033-B5E1-A6E5E464227A}" type="datetime">
              <a:rPr b="0" lang="ru-RU" sz="1000" spc="-1" strike="noStrike">
                <a:solidFill>
                  <a:srgbClr val="f4e7ed"/>
                </a:solidFill>
                <a:latin typeface="Trebuchet MS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5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6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99651-B5C1-450E-89B3-57A5F6C9C937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8F371-2A31-488F-9904-3C0EAAA584E2}" type="datetime">
              <a:rPr b="0" lang="ru-RU" sz="1000" spc="-1" strike="noStrike">
                <a:solidFill>
                  <a:srgbClr val="ffffff"/>
                </a:solidFill>
                <a:latin typeface="Trebuchet MS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05781-ED3F-4C0D-B6FE-E241A646A821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0773A-56E8-455B-B426-77C56248675E}" type="datetime">
              <a:rPr b="0" lang="ru-RU" sz="1000" spc="-1" strike="noStrike">
                <a:solidFill>
                  <a:srgbClr val="f4e7ed"/>
                </a:solidFill>
                <a:latin typeface="Trebuchet MS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4F4A-538C-4A88-81BF-FE8D0A7B05F0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3E281-16AE-454F-8865-450BDDDE1BCB}" type="datetime">
              <a:rPr b="0" lang="ru-RU" sz="1000" spc="-1" strike="noStrike">
                <a:solidFill>
                  <a:srgbClr val="f4e7ed"/>
                </a:solidFill>
                <a:latin typeface="Trebuchet MS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A2DDC-66E9-4A2C-AF01-55A45754D8A3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3B1C0-8B85-4AE4-A539-66A70E5C971F}" type="datetime">
              <a:rPr b="0" lang="ru-RU" sz="1000" spc="-1" strike="noStrike">
                <a:solidFill>
                  <a:srgbClr val="f4e7ed"/>
                </a:solidFill>
                <a:latin typeface="Trebuchet MS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4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5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6C0F7-CC68-4739-9840-F71E7F0DDDC1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5A3BF-9855-4891-873F-41933FE0B5C1}" type="datetime">
              <a:rPr b="0" lang="ru-RU" sz="1000" spc="-1" strike="noStrike">
                <a:solidFill>
                  <a:srgbClr val="f4e7ed"/>
                </a:solidFill>
                <a:latin typeface="Trebuchet MS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860FA-21D5-419C-A150-D3E239FA53CD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A836E-4188-457C-A7A4-1A22CCB0F3EF}" type="datetime">
              <a:rPr b="0" lang="ru-RU" sz="1000" spc="-1" strike="noStrike">
                <a:solidFill>
                  <a:srgbClr val="f4e7ed"/>
                </a:solidFill>
                <a:latin typeface="Trebuchet MS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0A1B0-7BDD-4CED-B702-B09B79A4A1AA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102B5-D2F7-4737-9E42-557DF4636521}" type="datetime">
              <a:rPr b="0" lang="ru-RU" sz="1000" spc="-1" strike="noStrike">
                <a:solidFill>
                  <a:srgbClr val="f4e7ed"/>
                </a:solidFill>
                <a:latin typeface="Trebuchet MS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43969-713C-4606-88FB-E2958D312B70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5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C5EE6-7D1B-46EB-BBA2-2967010B2E3A}" type="datetime">
              <a:rPr b="0" lang="ru-RU" sz="1000" spc="-1" strike="noStrike">
                <a:solidFill>
                  <a:srgbClr val="f4e7ed"/>
                </a:solidFill>
                <a:latin typeface="Trebuchet MS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6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7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3F37E-C578-4EBD-A4FF-9C216EF01997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476360" y="1052280"/>
            <a:ext cx="7416720" cy="4537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О сколько нам открытий чудных </a:t>
            </a:r>
            <a:br>
              <a:rPr sz="3400"/>
            </a:b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Готовят просвещенья дух</a:t>
            </a:r>
            <a:br>
              <a:rPr sz="3400"/>
            </a:b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И опыт, сын ошибок трудных,</a:t>
            </a:r>
            <a:br>
              <a:rPr sz="3400"/>
            </a:b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И гений, парадоксов друг…</a:t>
            </a: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endParaRPr b="1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9" name="Rectangle 4"/>
          <p:cNvSpPr/>
          <p:nvPr/>
        </p:nvSpPr>
        <p:spPr>
          <a:xfrm>
            <a:off x="6804000" y="4437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А.С. Пушк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Нижний колонтитул 1"/>
          <p:cNvSpPr/>
          <p:nvPr/>
        </p:nvSpPr>
        <p:spPr>
          <a:xfrm>
            <a:off x="2819520" y="6558120"/>
            <a:ext cx="2927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Номер слайда 2"/>
          <p:cNvSpPr/>
          <p:nvPr/>
        </p:nvSpPr>
        <p:spPr>
          <a:xfrm>
            <a:off x="7880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37C01-9E18-4FA0-B618-FAC87D00ADA5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 txBox="1"/>
          <p:nvPr/>
        </p:nvSpPr>
        <p:spPr>
          <a:xfrm>
            <a:off x="457200" y="620280"/>
            <a:ext cx="829152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гном..ка был ключ..к,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открывал чуланч..к,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тором находились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оч..к и кирпич..к,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оч..к и футлярч..к,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ш..к и огурч..к,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раш..к и бананч..к.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3" name="Нижний колонтитул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Номер слайда 4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54D49-63BD-45D5-92C6-94A1FE28018F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457200" y="620280"/>
            <a:ext cx="829152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6" name="Нижний колонтитул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Номер слайда 4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CC1C8-14B4-4D28-910A-E76E6E925861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Содержимое 2"/>
          <p:cNvSpPr/>
          <p:nvPr/>
        </p:nvSpPr>
        <p:spPr>
          <a:xfrm>
            <a:off x="468360" y="1197000"/>
            <a:ext cx="8496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4100" spc="-1" strike="noStrike">
                <a:solidFill>
                  <a:srgbClr val="000000"/>
                </a:solidFill>
                <a:latin typeface="Trebuchet MS"/>
              </a:rPr>
              <a:t>СыночЕк, подарочЕк, мячИк,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Trebuchet MS"/>
              </a:rPr>
              <a:t>самолётИк, звоночЕк, дружочЕк,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Trebuchet MS"/>
              </a:rPr>
              <a:t>ключИк,карандашИк, орешЕк,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Trebuchet MS"/>
              </a:rPr>
              <a:t>пузырёчЕк, кирпичИк,  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Trebuchet MS"/>
              </a:rPr>
              <a:t>василёчЕк, огонёчЕк, кусочЕк,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Trebuchet MS"/>
              </a:rPr>
              <a:t>ларчИк.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23640" y="76500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что прошел дождич..к. Всё в природе сразу ожило, зазеленело, маленький ручеёч..к превратился в говорливый ручей. Солнечный луч..к коснулся колокольч..ка, и сиреневый цветоч..к закивал своей головкой. Запел мелкой трелью кузнеч..к, а жёлтый бутонч..к лют..ка тихо закачался.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0" name="Нижний колонтитул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Номер слайда 4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22AC3-DF57-4876-9BBF-512AA12ACE85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42440" y="26640"/>
            <a:ext cx="8363160" cy="733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rebuchet MS"/>
              </a:rPr>
              <a:t>Самоконтроль по теме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0" y="759960"/>
            <a:ext cx="914400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1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ом слове пропущена буква И? 1) звоноч…к, 2) денёч…к, 3) калач…к, 4) ножич…к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 каком слове пропущена буква Е? 1) молоточ...к, 2) бубенч…к, 3) карандаш…к, 4) чертёж…к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 каком слове пропущена буква Е? 1) велосипед…к, 2) халат…к, 3) бегемот…к, 4) бережоч…к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В каком слове пропущена не такая буква, как в трёх остальных? 1) рисуноч…к, 2) манеж…к, 3) песоч…к, 4) полушубоч…к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В каком слове пишется не такая гласная, как в трёх остальных? 1) салат...к ; 2) клубоч..к, 3) карниз…к, 4) паркет…к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В каком слове нет суффикса –ЕК? 1) козлёноч…к, 2) телёноч…к, 3) ребёноч…к, 4)кирпич…к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В каком слове один суффикс? 1) чайничек, 2) подарочек, 3) огонечек, 4) чулочек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В каком слове нет суффикса –ИК? 1) ящик, 2) прыщик, 3) клещик 4) борщик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В каком слове есть суффикс –ИК-? 1) финик, 2) веник, 3) блокнотик, 4) дворник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В каком слове есть суффикс – ИК? 1) супчик, 2) укропчик, 3) перчик, 4) помидорчик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4" name="Нижний колонтитул 1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Номер слайда 2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06A83-8F3D-4B13-8C98-0389E620C0FF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67" name="Нижний колонтитул 1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Номер слайда 2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C59FB-5A7D-4677-B72D-89BE7EC0AF4D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179280" y="1886040"/>
          <a:ext cx="8640720" cy="2182680"/>
        </p:xfrm>
        <a:graphic>
          <a:graphicData uri="http://schemas.openxmlformats.org/drawingml/2006/table">
            <a:tbl>
              <a:tblPr/>
              <a:tblGrid>
                <a:gridCol w="1152720"/>
                <a:gridCol w="419040"/>
                <a:gridCol w="784080"/>
                <a:gridCol w="785880"/>
                <a:gridCol w="785880"/>
                <a:gridCol w="785880"/>
                <a:gridCol w="785880"/>
                <a:gridCol w="785520"/>
                <a:gridCol w="784440"/>
                <a:gridCol w="785880"/>
                <a:gridCol w="785520"/>
              </a:tblGrid>
              <a:tr h="1013400"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c0c0c0"/>
                      </a:solidFill>
                    </a:lnL>
                    <a:lnR w="4320">
                      <a:solidFill>
                        <a:srgbClr val="c0c0c0"/>
                      </a:solidFill>
                    </a:lnR>
                    <a:lnT w="4320">
                      <a:solidFill>
                        <a:srgbClr val="c0c0c0"/>
                      </a:solidFill>
                    </a:lnT>
                    <a:lnB w="4320">
                      <a:solidFill>
                        <a:srgbClr val="c0c0c0"/>
                      </a:solidFill>
                    </a:lnB>
                    <a:solidFill>
                      <a:srgbClr val="99cd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c0c0c0"/>
                      </a:solidFill>
                    </a:lnL>
                    <a:lnR w="4320">
                      <a:solidFill>
                        <a:srgbClr val="c0c0c0"/>
                      </a:solidFill>
                    </a:lnR>
                    <a:lnT w="4320">
                      <a:solidFill>
                        <a:srgbClr val="c0c0c0"/>
                      </a:solidFill>
                    </a:lnT>
                    <a:lnB w="4320">
                      <a:solidFill>
                        <a:srgbClr val="c0c0c0"/>
                      </a:solidFill>
                    </a:lnB>
                    <a:solidFill>
                      <a:srgbClr val="99cd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c0c0c0"/>
                      </a:solidFill>
                    </a:lnL>
                    <a:lnR w="4320">
                      <a:solidFill>
                        <a:srgbClr val="c0c0c0"/>
                      </a:solidFill>
                    </a:lnR>
                    <a:lnT w="4320">
                      <a:solidFill>
                        <a:srgbClr val="c0c0c0"/>
                      </a:solidFill>
                    </a:lnT>
                    <a:lnB w="4320">
                      <a:solidFill>
                        <a:srgbClr val="c0c0c0"/>
                      </a:solidFill>
                    </a:lnB>
                    <a:solidFill>
                      <a:srgbClr val="99cd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c0c0c0"/>
                      </a:solidFill>
                    </a:lnL>
                    <a:lnR w="4320">
                      <a:solidFill>
                        <a:srgbClr val="c0c0c0"/>
                      </a:solidFill>
                    </a:lnR>
                    <a:lnT w="4320">
                      <a:solidFill>
                        <a:srgbClr val="c0c0c0"/>
                      </a:solidFill>
                    </a:lnT>
                    <a:lnB w="4320">
                      <a:solidFill>
                        <a:srgbClr val="c0c0c0"/>
                      </a:solidFill>
                    </a:lnB>
                    <a:solidFill>
                      <a:srgbClr val="99cd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c0c0c0"/>
                      </a:solidFill>
                    </a:lnL>
                    <a:lnR w="4320">
                      <a:solidFill>
                        <a:srgbClr val="c0c0c0"/>
                      </a:solidFill>
                    </a:lnR>
                    <a:lnT w="4320">
                      <a:solidFill>
                        <a:srgbClr val="c0c0c0"/>
                      </a:solidFill>
                    </a:lnT>
                    <a:lnB w="4320">
                      <a:solidFill>
                        <a:srgbClr val="c0c0c0"/>
                      </a:solidFill>
                    </a:lnB>
                    <a:solidFill>
                      <a:srgbClr val="99cd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c0c0c0"/>
                      </a:solidFill>
                    </a:lnL>
                    <a:lnR w="4320">
                      <a:solidFill>
                        <a:srgbClr val="c0c0c0"/>
                      </a:solidFill>
                    </a:lnR>
                    <a:lnT w="4320">
                      <a:solidFill>
                        <a:srgbClr val="c0c0c0"/>
                      </a:solidFill>
                    </a:lnT>
                    <a:lnB w="4320">
                      <a:solidFill>
                        <a:srgbClr val="c0c0c0"/>
                      </a:solidFill>
                    </a:lnB>
                    <a:solidFill>
                      <a:srgbClr val="99cd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c0c0c0"/>
                      </a:solidFill>
                    </a:lnL>
                    <a:lnR w="4320">
                      <a:solidFill>
                        <a:srgbClr val="c0c0c0"/>
                      </a:solidFill>
                    </a:lnR>
                    <a:lnT w="4320">
                      <a:solidFill>
                        <a:srgbClr val="c0c0c0"/>
                      </a:solidFill>
                    </a:lnT>
                    <a:lnB w="4320">
                      <a:solidFill>
                        <a:srgbClr val="c0c0c0"/>
                      </a:solidFill>
                    </a:lnB>
                    <a:solidFill>
                      <a:srgbClr val="99cd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c0c0c0"/>
                      </a:solidFill>
                    </a:lnL>
                    <a:lnR w="4320">
                      <a:solidFill>
                        <a:srgbClr val="c0c0c0"/>
                      </a:solidFill>
                    </a:lnR>
                    <a:lnT w="4320">
                      <a:solidFill>
                        <a:srgbClr val="c0c0c0"/>
                      </a:solidFill>
                    </a:lnT>
                    <a:lnB w="4320">
                      <a:solidFill>
                        <a:srgbClr val="c0c0c0"/>
                      </a:solidFill>
                    </a:lnB>
                    <a:solidFill>
                      <a:srgbClr val="99cd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c0c0c0"/>
                      </a:solidFill>
                    </a:lnL>
                    <a:lnR w="4320">
                      <a:solidFill>
                        <a:srgbClr val="c0c0c0"/>
                      </a:solidFill>
                    </a:lnR>
                    <a:lnT w="4320">
                      <a:solidFill>
                        <a:srgbClr val="c0c0c0"/>
                      </a:solidFill>
                    </a:lnT>
                    <a:lnB w="4320">
                      <a:solidFill>
                        <a:srgbClr val="c0c0c0"/>
                      </a:solidFill>
                    </a:lnB>
                    <a:solidFill>
                      <a:srgbClr val="99cd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c0c0c0"/>
                      </a:solidFill>
                    </a:lnL>
                    <a:lnR w="4320">
                      <a:solidFill>
                        <a:srgbClr val="c0c0c0"/>
                      </a:solidFill>
                    </a:lnR>
                    <a:lnT w="4320">
                      <a:solidFill>
                        <a:srgbClr val="c0c0c0"/>
                      </a:solidFill>
                    </a:lnT>
                    <a:lnB w="4320">
                      <a:solidFill>
                        <a:srgbClr val="c0c0c0"/>
                      </a:solidFill>
                    </a:lnB>
                    <a:solidFill>
                      <a:srgbClr val="99cd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c0c0c0"/>
                      </a:solidFill>
                    </a:lnL>
                    <a:lnR w="4320">
                      <a:solidFill>
                        <a:srgbClr val="c0c0c0"/>
                      </a:solidFill>
                    </a:lnR>
                    <a:lnT w="4320">
                      <a:solidFill>
                        <a:srgbClr val="c0c0c0"/>
                      </a:solidFill>
                    </a:lnT>
                    <a:lnB w="4320">
                      <a:solidFill>
                        <a:srgbClr val="c0c0c0"/>
                      </a:solidFill>
                    </a:lnB>
                    <a:solidFill>
                      <a:srgbClr val="99cdff"/>
                    </a:solidFill>
                  </a:tcPr>
                </a:tc>
              </a:tr>
              <a:tr h="116928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4320">
                      <a:solidFill>
                        <a:srgbClr val="c0c0c0"/>
                      </a:solidFill>
                    </a:lnL>
                    <a:lnR w="4320">
                      <a:solidFill>
                        <a:srgbClr val="c0c0c0"/>
                      </a:solidFill>
                    </a:lnR>
                    <a:lnT w="4320">
                      <a:solidFill>
                        <a:srgbClr val="c0c0c0"/>
                      </a:solidFill>
                    </a:lnT>
                    <a:lnB w="432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4320">
                      <a:solidFill>
                        <a:srgbClr val="c0c0c0"/>
                      </a:solidFill>
                    </a:lnL>
                    <a:lnR w="4320">
                      <a:solidFill>
                        <a:srgbClr val="c0c0c0"/>
                      </a:solidFill>
                    </a:lnR>
                    <a:lnT w="4320">
                      <a:solidFill>
                        <a:srgbClr val="c0c0c0"/>
                      </a:solidFill>
                    </a:lnT>
                    <a:lnB w="432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4320">
                      <a:solidFill>
                        <a:srgbClr val="c0c0c0"/>
                      </a:solidFill>
                    </a:lnL>
                    <a:lnR w="4320">
                      <a:solidFill>
                        <a:srgbClr val="c0c0c0"/>
                      </a:solidFill>
                    </a:lnR>
                    <a:lnT w="4320">
                      <a:solidFill>
                        <a:srgbClr val="c0c0c0"/>
                      </a:solidFill>
                    </a:lnT>
                    <a:lnB w="432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4320">
                      <a:solidFill>
                        <a:srgbClr val="c0c0c0"/>
                      </a:solidFill>
                    </a:lnL>
                    <a:lnR w="4320">
                      <a:solidFill>
                        <a:srgbClr val="c0c0c0"/>
                      </a:solidFill>
                    </a:lnR>
                    <a:lnT w="4320">
                      <a:solidFill>
                        <a:srgbClr val="c0c0c0"/>
                      </a:solidFill>
                    </a:lnT>
                    <a:lnB w="432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4320">
                      <a:solidFill>
                        <a:srgbClr val="c0c0c0"/>
                      </a:solidFill>
                    </a:lnL>
                    <a:lnR w="4320">
                      <a:solidFill>
                        <a:srgbClr val="c0c0c0"/>
                      </a:solidFill>
                    </a:lnR>
                    <a:lnT w="4320">
                      <a:solidFill>
                        <a:srgbClr val="c0c0c0"/>
                      </a:solidFill>
                    </a:lnT>
                    <a:lnB w="432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4320">
                      <a:solidFill>
                        <a:srgbClr val="c0c0c0"/>
                      </a:solidFill>
                    </a:lnL>
                    <a:lnR w="4320">
                      <a:solidFill>
                        <a:srgbClr val="c0c0c0"/>
                      </a:solidFill>
                    </a:lnR>
                    <a:lnT w="4320">
                      <a:solidFill>
                        <a:srgbClr val="c0c0c0"/>
                      </a:solidFill>
                    </a:lnT>
                    <a:lnB w="432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4320">
                      <a:solidFill>
                        <a:srgbClr val="c0c0c0"/>
                      </a:solidFill>
                    </a:lnL>
                    <a:lnR w="4320">
                      <a:solidFill>
                        <a:srgbClr val="c0c0c0"/>
                      </a:solidFill>
                    </a:lnR>
                    <a:lnT w="4320">
                      <a:solidFill>
                        <a:srgbClr val="c0c0c0"/>
                      </a:solidFill>
                    </a:lnT>
                    <a:lnB w="432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4320">
                      <a:solidFill>
                        <a:srgbClr val="c0c0c0"/>
                      </a:solidFill>
                    </a:lnL>
                    <a:lnR w="4320">
                      <a:solidFill>
                        <a:srgbClr val="c0c0c0"/>
                      </a:solidFill>
                    </a:lnR>
                    <a:lnT w="4320">
                      <a:solidFill>
                        <a:srgbClr val="c0c0c0"/>
                      </a:solidFill>
                    </a:lnT>
                    <a:lnB w="432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4320">
                      <a:solidFill>
                        <a:srgbClr val="c0c0c0"/>
                      </a:solidFill>
                    </a:lnL>
                    <a:lnR w="4320">
                      <a:solidFill>
                        <a:srgbClr val="c0c0c0"/>
                      </a:solidFill>
                    </a:lnR>
                    <a:lnT w="4320">
                      <a:solidFill>
                        <a:srgbClr val="c0c0c0"/>
                      </a:solidFill>
                    </a:lnT>
                    <a:lnB w="432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4320">
                      <a:solidFill>
                        <a:srgbClr val="c0c0c0"/>
                      </a:solidFill>
                    </a:lnL>
                    <a:lnR w="4320">
                      <a:solidFill>
                        <a:srgbClr val="c0c0c0"/>
                      </a:solidFill>
                    </a:lnR>
                    <a:lnT w="4320">
                      <a:solidFill>
                        <a:srgbClr val="c0c0c0"/>
                      </a:solidFill>
                    </a:lnT>
                    <a:lnB w="432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4320">
                      <a:solidFill>
                        <a:srgbClr val="c0c0c0"/>
                      </a:solidFill>
                    </a:lnL>
                    <a:lnR w="4320">
                      <a:solidFill>
                        <a:srgbClr val="c0c0c0"/>
                      </a:solidFill>
                    </a:lnR>
                    <a:lnT w="4320">
                      <a:solidFill>
                        <a:srgbClr val="c0c0c0"/>
                      </a:solidFill>
                    </a:lnT>
                    <a:lnB w="4320">
                      <a:solidFill>
                        <a:srgbClr val="c0c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704880" y="135360"/>
            <a:ext cx="34099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ответов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роблемный вопрос: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402920" y="1844280"/>
            <a:ext cx="723924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ff"/>
                </a:solidFill>
                <a:latin typeface="Times New Roman"/>
              </a:rPr>
              <a:t>Почему в слове «ключик»  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ff"/>
                </a:solidFill>
                <a:latin typeface="Times New Roman"/>
              </a:rPr>
              <a:t>в суффиксе пишется 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ff"/>
                </a:solidFill>
                <a:latin typeface="Times New Roman"/>
              </a:rPr>
              <a:t>И, а не Е?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573" name="Содержимое 3" descr="1525067-c3a859224e7f8d4a.png"/>
          <p:cNvPicPr/>
          <p:nvPr/>
        </p:nvPicPr>
        <p:blipFill>
          <a:blip r:embed="rId1"/>
          <a:stretch/>
        </p:blipFill>
        <p:spPr>
          <a:xfrm>
            <a:off x="6405480" y="3141720"/>
            <a:ext cx="2738520" cy="3716280"/>
          </a:xfrm>
          <a:prstGeom prst="rect">
            <a:avLst/>
          </a:prstGeom>
          <a:ln w="0">
            <a:noFill/>
          </a:ln>
        </p:spPr>
      </p:pic>
      <p:sp>
        <p:nvSpPr>
          <p:cNvPr id="574" name="Нижний колонтитул 1"/>
          <p:cNvSpPr/>
          <p:nvPr/>
        </p:nvSpPr>
        <p:spPr>
          <a:xfrm>
            <a:off x="2819520" y="6558120"/>
            <a:ext cx="2927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Номер слайда 2"/>
          <p:cNvSpPr/>
          <p:nvPr/>
        </p:nvSpPr>
        <p:spPr>
          <a:xfrm>
            <a:off x="7880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4A586-8C8A-4828-AB16-FC462CEF63F4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Рефлексия</a:t>
            </a:r>
            <a:endParaRPr b="1" lang="en-US" sz="51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одня на уроке я узнал…</a:t>
            </a:r>
            <a:endParaRPr b="0" lang="en-US" sz="43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ерь я умею…</a:t>
            </a:r>
            <a:endParaRPr b="0" lang="en-US" sz="43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звало затруднение…</a:t>
            </a:r>
            <a:endParaRPr b="0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8" name="Нижний колонтитул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Номер слайда 4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D3136-EED7-442F-90C0-96782D1AF22F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Заголовок 1" descr=""/>
          <p:cNvPicPr/>
          <p:nvPr/>
        </p:nvPicPr>
        <p:blipFill>
          <a:blip r:embed="rId1"/>
          <a:stretch/>
        </p:blipFill>
        <p:spPr>
          <a:xfrm>
            <a:off x="476280" y="334800"/>
            <a:ext cx="8259840" cy="97020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 txBox="1"/>
          <p:nvPr/>
        </p:nvSpPr>
        <p:spPr>
          <a:xfrm>
            <a:off x="456840" y="1609200"/>
            <a:ext cx="81154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П. 45, выучить правило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Задание на выбор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пр.252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составить кроссворд  по теме «Суффиксы имён существительных»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написать сказку, детективную историю на тему «Приключения суффиксов – ек и –ик»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2" name="Нижний колонтитул 2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Номер слайда 3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D07EA-F903-4FBE-B7FD-E344FDB2D1E2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547280" y="115560"/>
            <a:ext cx="723924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верка домашнего задания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3" name="Выноска-облако 4"/>
          <p:cNvSpPr/>
          <p:nvPr/>
        </p:nvSpPr>
        <p:spPr>
          <a:xfrm>
            <a:off x="285840" y="1143000"/>
            <a:ext cx="4573440" cy="2357280"/>
          </a:xfrm>
          <a:prstGeom prst="cloudCallout">
            <a:avLst>
              <a:gd name="adj1" fmla="val -9634"/>
              <a:gd name="adj2" fmla="val 80439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Когда пише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суффикс–ЧИК- , а когда - -ЩИК-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4" name="Рисунок 7" descr="69261094_05.png"/>
          <p:cNvPicPr/>
          <p:nvPr/>
        </p:nvPicPr>
        <p:blipFill>
          <a:blip r:embed="rId1"/>
          <a:stretch/>
        </p:blipFill>
        <p:spPr>
          <a:xfrm>
            <a:off x="6143760" y="3308400"/>
            <a:ext cx="2143080" cy="3549600"/>
          </a:xfrm>
          <a:prstGeom prst="rect">
            <a:avLst/>
          </a:prstGeom>
          <a:ln w="0">
            <a:noFill/>
          </a:ln>
        </p:spPr>
      </p:pic>
      <p:pic>
        <p:nvPicPr>
          <p:cNvPr id="515" name="Содержимое 9" descr="69261035_04.png"/>
          <p:cNvPicPr/>
          <p:nvPr/>
        </p:nvPicPr>
        <p:blipFill>
          <a:blip r:embed="rId2"/>
          <a:stretch/>
        </p:blipFill>
        <p:spPr>
          <a:xfrm>
            <a:off x="285840" y="3521160"/>
            <a:ext cx="1928880" cy="3336840"/>
          </a:xfrm>
          <a:prstGeom prst="rect">
            <a:avLst/>
          </a:prstGeom>
          <a:ln w="0">
            <a:noFill/>
          </a:ln>
        </p:spPr>
      </p:pic>
      <p:pic>
        <p:nvPicPr>
          <p:cNvPr id="516" name="Рисунок 14" descr="d318df269036.png"/>
          <p:cNvPicPr/>
          <p:nvPr/>
        </p:nvPicPr>
        <p:blipFill>
          <a:blip r:embed="rId3"/>
          <a:stretch/>
        </p:blipFill>
        <p:spPr>
          <a:xfrm>
            <a:off x="5143680" y="5715000"/>
            <a:ext cx="1342800" cy="1017720"/>
          </a:xfrm>
          <a:prstGeom prst="rect">
            <a:avLst/>
          </a:prstGeom>
          <a:ln w="0">
            <a:noFill/>
          </a:ln>
        </p:spPr>
      </p:pic>
      <p:sp>
        <p:nvSpPr>
          <p:cNvPr id="517" name="TextBox 8"/>
          <p:cNvSpPr/>
          <p:nvPr/>
        </p:nvSpPr>
        <p:spPr>
          <a:xfrm>
            <a:off x="6572160" y="1643040"/>
            <a:ext cx="257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Нижний колонтитул 1"/>
          <p:cNvSpPr/>
          <p:nvPr/>
        </p:nvSpPr>
        <p:spPr>
          <a:xfrm>
            <a:off x="2819520" y="6558120"/>
            <a:ext cx="2927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Номер слайда 2"/>
          <p:cNvSpPr/>
          <p:nvPr/>
        </p:nvSpPr>
        <p:spPr>
          <a:xfrm>
            <a:off x="7880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C9AD5-40F7-4E93-B84D-FB1C1EA6A432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626920" y="333000"/>
            <a:ext cx="60152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Trebuchet MS"/>
              </a:rPr>
              <a:t>Буквенный диктант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1" name="Rectangle 4"/>
          <p:cNvSpPr/>
          <p:nvPr/>
        </p:nvSpPr>
        <p:spPr>
          <a:xfrm>
            <a:off x="0" y="31561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2" name=""/>
          <p:cNvGraphicFramePr/>
          <p:nvPr/>
        </p:nvGraphicFramePr>
        <p:xfrm>
          <a:off x="971640" y="2205000"/>
          <a:ext cx="7740720" cy="2087640"/>
        </p:xfrm>
        <a:graphic>
          <a:graphicData uri="http://schemas.openxmlformats.org/drawingml/2006/table">
            <a:tbl>
              <a:tblPr/>
              <a:tblGrid>
                <a:gridCol w="2066760"/>
                <a:gridCol w="527040"/>
                <a:gridCol w="528840"/>
                <a:gridCol w="528480"/>
                <a:gridCol w="527040"/>
                <a:gridCol w="528840"/>
                <a:gridCol w="528480"/>
                <a:gridCol w="679320"/>
                <a:gridCol w="379440"/>
                <a:gridCol w="525600"/>
                <a:gridCol w="920880"/>
              </a:tblGrid>
              <a:tr h="104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№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зада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99cd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99cd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99cd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99cd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99cd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99cd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99cd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99cd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99cd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99cd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99cdff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35"/>
                          </a:solidFill>
                          <a:latin typeface="Times New Roman"/>
                          <a:ea typeface="MS Mincho"/>
                        </a:rPr>
                        <a:t>Отве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35"/>
                          </a:solidFill>
                          <a:latin typeface="Times New Roman"/>
                          <a:ea typeface="MS Mincho"/>
                        </a:rPr>
                        <a:t>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35"/>
                          </a:solidFill>
                          <a:latin typeface="Times New Roman"/>
                          <a:ea typeface="MS Mincho"/>
                        </a:rPr>
                        <a:t>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35"/>
                          </a:solidFill>
                          <a:latin typeface="Times New Roman"/>
                          <a:ea typeface="MS Mincho"/>
                        </a:rPr>
                        <a:t>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35"/>
                          </a:solidFill>
                          <a:latin typeface="Times New Roman"/>
                          <a:ea typeface="MS Mincho"/>
                        </a:rPr>
                        <a:t>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35"/>
                          </a:solidFill>
                          <a:latin typeface="Times New Roman"/>
                          <a:ea typeface="MS Mincho"/>
                        </a:rPr>
                        <a:t>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35"/>
                          </a:solidFill>
                          <a:latin typeface="Times New Roman"/>
                          <a:ea typeface="MS Mincho"/>
                        </a:rPr>
                        <a:t>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35"/>
                          </a:solidFill>
                          <a:latin typeface="Times New Roman"/>
                          <a:ea typeface="MS Mincho"/>
                        </a:rPr>
                        <a:t>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35"/>
                          </a:solidFill>
                          <a:latin typeface="Times New Roman"/>
                          <a:ea typeface="MS Mincho"/>
                        </a:rPr>
                        <a:t>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35"/>
                          </a:solidFill>
                          <a:latin typeface="Times New Roman"/>
                          <a:ea typeface="MS Mincho"/>
                        </a:rPr>
                        <a:t>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35"/>
                          </a:solidFill>
                          <a:latin typeface="Times New Roman"/>
                          <a:ea typeface="MS Mincho"/>
                        </a:rPr>
                        <a:t>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23" name="Нижний колонтитул 1"/>
          <p:cNvSpPr/>
          <p:nvPr/>
        </p:nvSpPr>
        <p:spPr>
          <a:xfrm>
            <a:off x="2819520" y="6558120"/>
            <a:ext cx="2927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Номер слайда 2"/>
          <p:cNvSpPr/>
          <p:nvPr/>
        </p:nvSpPr>
        <p:spPr>
          <a:xfrm>
            <a:off x="7880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CE66A-E353-41B8-9B33-3BF754263478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2340000" y="1609200"/>
            <a:ext cx="53560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Times New Roman"/>
                <a:ea typeface="HG丸ｺﾞｼｯｸM-PRO"/>
              </a:rPr>
              <a:t>Ключ.?.к</a:t>
            </a:r>
            <a:r>
              <a:rPr b="0" lang="ru-RU" sz="6600" spc="-1" strike="noStrike">
                <a:solidFill>
                  <a:srgbClr val="ffffff"/>
                </a:solidFill>
                <a:latin typeface="Times New Roman"/>
                <a:ea typeface="HG丸ｺﾞｼｯｸM-PRO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6" name="Rectangle 4"/>
          <p:cNvSpPr/>
          <p:nvPr/>
        </p:nvSpPr>
        <p:spPr>
          <a:xfrm>
            <a:off x="5581440" y="952560"/>
            <a:ext cx="77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Times New Roman"/>
                <a:ea typeface="HG丸ｺﾞｼｯｸM-PRO"/>
              </a:rPr>
              <a:t>И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Rectangle 5"/>
          <p:cNvSpPr/>
          <p:nvPr/>
        </p:nvSpPr>
        <p:spPr>
          <a:xfrm>
            <a:off x="5580000" y="2565360"/>
            <a:ext cx="622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Times New Roman"/>
                <a:ea typeface="HG丸ｺﾞｼｯｸM-PRO"/>
              </a:rPr>
              <a:t>Е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Содержимое 7" descr="69261136_09.png"/>
          <p:cNvPicPr/>
          <p:nvPr/>
        </p:nvPicPr>
        <p:blipFill>
          <a:blip r:embed="rId1"/>
          <a:stretch/>
        </p:blipFill>
        <p:spPr>
          <a:xfrm>
            <a:off x="900000" y="1700280"/>
            <a:ext cx="2232000" cy="4457520"/>
          </a:xfrm>
          <a:prstGeom prst="rect">
            <a:avLst/>
          </a:prstGeom>
          <a:ln w="0">
            <a:noFill/>
          </a:ln>
        </p:spPr>
      </p:pic>
      <p:sp>
        <p:nvSpPr>
          <p:cNvPr id="529" name="Нижний колонтитул 1"/>
          <p:cNvSpPr/>
          <p:nvPr/>
        </p:nvSpPr>
        <p:spPr>
          <a:xfrm>
            <a:off x="2819520" y="6558120"/>
            <a:ext cx="2927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Номер слайда 2"/>
          <p:cNvSpPr/>
          <p:nvPr/>
        </p:nvSpPr>
        <p:spPr>
          <a:xfrm>
            <a:off x="7880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0D538-01FC-42D3-B156-AE2B9957A39E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роблемный вопрос: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402920" y="1844280"/>
            <a:ext cx="723924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ff"/>
                </a:solidFill>
                <a:latin typeface="Times New Roman"/>
              </a:rPr>
              <a:t>Почему в слове «ключик»  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ff"/>
                </a:solidFill>
                <a:latin typeface="Times New Roman"/>
              </a:rPr>
              <a:t>в суффиксе пишется 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ff"/>
                </a:solidFill>
                <a:latin typeface="Times New Roman"/>
              </a:rPr>
              <a:t>И, а не Е?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533" name="Содержимое 3" descr="1525067-c3a859224e7f8d4a.png"/>
          <p:cNvPicPr/>
          <p:nvPr/>
        </p:nvPicPr>
        <p:blipFill>
          <a:blip r:embed="rId1"/>
          <a:stretch/>
        </p:blipFill>
        <p:spPr>
          <a:xfrm>
            <a:off x="6405480" y="3141720"/>
            <a:ext cx="2738520" cy="3716280"/>
          </a:xfrm>
          <a:prstGeom prst="rect">
            <a:avLst/>
          </a:prstGeom>
          <a:ln w="0">
            <a:noFill/>
          </a:ln>
        </p:spPr>
      </p:pic>
      <p:sp>
        <p:nvSpPr>
          <p:cNvPr id="534" name="Нижний колонтитул 1"/>
          <p:cNvSpPr/>
          <p:nvPr/>
        </p:nvSpPr>
        <p:spPr>
          <a:xfrm>
            <a:off x="2819520" y="6558120"/>
            <a:ext cx="2927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Номер слайда 2"/>
          <p:cNvSpPr/>
          <p:nvPr/>
        </p:nvSpPr>
        <p:spPr>
          <a:xfrm>
            <a:off x="7880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0171D-4627-43C1-BECF-6FDE025F771D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Рисунок 9" descr="0_6ef66_f56d8bb8_L.png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 rot="21307800">
            <a:off x="1185840" y="2341080"/>
            <a:ext cx="719136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Гласные в суффиксах существительных –ЕК и –ИК</a:t>
            </a:r>
            <a:r>
              <a:rPr b="1" lang="ru-RU" sz="3800" spc="-1" strike="noStrike">
                <a:solidFill>
                  <a:srgbClr val="000000"/>
                </a:solidFill>
                <a:latin typeface="Trebuchet MS"/>
                <a:ea typeface="HG丸ｺﾞｼｯｸM-PRO"/>
              </a:rPr>
              <a:t> 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8" name="Нижний колонтитул 1"/>
          <p:cNvSpPr/>
          <p:nvPr/>
        </p:nvSpPr>
        <p:spPr>
          <a:xfrm>
            <a:off x="2819520" y="6558120"/>
            <a:ext cx="2927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Номер слайда 2"/>
          <p:cNvSpPr/>
          <p:nvPr/>
        </p:nvSpPr>
        <p:spPr>
          <a:xfrm>
            <a:off x="7880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9E38B-AC67-4E8A-8B5B-4AC716AD1444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627280" y="115560"/>
            <a:ext cx="6375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HG丸ｺﾞｼｯｸM-PRO"/>
              </a:rPr>
              <a:t>Формулировка  цели:</a:t>
            </a:r>
            <a:r>
              <a:rPr b="1" lang="ru-RU" sz="3800" spc="-1" strike="noStrike">
                <a:solidFill>
                  <a:srgbClr val="ffffff"/>
                </a:solidFill>
                <a:latin typeface="Trebuchet MS"/>
                <a:ea typeface="HG丸ｺﾞｼｯｸM-PRO"/>
              </a:rPr>
              <a:t>  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116000" y="1628640"/>
            <a:ext cx="723888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-п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знакомиться с …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-научиться …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542" name="Рисунок 3" descr="0_503b5_f304d148_L.png"/>
          <p:cNvPicPr/>
          <p:nvPr/>
        </p:nvPicPr>
        <p:blipFill>
          <a:blip r:embed="rId1"/>
          <a:stretch/>
        </p:blipFill>
        <p:spPr>
          <a:xfrm>
            <a:off x="6977160" y="4356000"/>
            <a:ext cx="1952640" cy="2359080"/>
          </a:xfrm>
          <a:prstGeom prst="rect">
            <a:avLst/>
          </a:prstGeom>
          <a:ln w="0">
            <a:noFill/>
          </a:ln>
        </p:spPr>
      </p:pic>
      <p:sp>
        <p:nvSpPr>
          <p:cNvPr id="543" name="Нижний колонтитул 1"/>
          <p:cNvSpPr/>
          <p:nvPr/>
        </p:nvSpPr>
        <p:spPr>
          <a:xfrm>
            <a:off x="2819520" y="6558120"/>
            <a:ext cx="2927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Номер слайда 2"/>
          <p:cNvSpPr/>
          <p:nvPr/>
        </p:nvSpPr>
        <p:spPr>
          <a:xfrm>
            <a:off x="7880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F1A06-66FE-471E-A8E3-A296C14CF452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1905120" y="141264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И.п.   луч</a:t>
            </a:r>
            <a:r>
              <a:rPr b="1" lang="ru-RU" sz="3600" spc="-1" strike="noStrike">
                <a:solidFill>
                  <a:srgbClr val="ff0000"/>
                </a:solidFill>
                <a:latin typeface="Trebuchet MS"/>
              </a:rPr>
              <a:t>ик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,         ореш</a:t>
            </a:r>
            <a:r>
              <a:rPr b="1" lang="ru-RU" sz="3600" spc="-1" strike="noStrike">
                <a:solidFill>
                  <a:srgbClr val="ff0000"/>
                </a:solidFill>
                <a:latin typeface="Trebuchet MS"/>
              </a:rPr>
              <a:t>ек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Р.п.</a:t>
            </a: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луч</a:t>
            </a: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ик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а</a:t>
            </a: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,       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ореш</a:t>
            </a:r>
            <a:r>
              <a:rPr b="1" lang="ru-RU" sz="3600" spc="-1" strike="noStrike">
                <a:solidFill>
                  <a:srgbClr val="ff0000"/>
                </a:solidFill>
                <a:latin typeface="Trebuchet MS"/>
              </a:rPr>
              <a:t>к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а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Д.п.    луч</a:t>
            </a: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ик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у,      ореш</a:t>
            </a:r>
            <a:r>
              <a:rPr b="1" lang="ru-RU" sz="3600" spc="-1" strike="noStrike">
                <a:solidFill>
                  <a:srgbClr val="ff0000"/>
                </a:solidFill>
                <a:latin typeface="Trebuchet MS"/>
              </a:rPr>
              <a:t>к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у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В.п.    луч</a:t>
            </a: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ик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,        ореш</a:t>
            </a:r>
            <a:r>
              <a:rPr b="1" lang="ru-RU" sz="3600" spc="-1" strike="noStrike">
                <a:solidFill>
                  <a:srgbClr val="ff0000"/>
                </a:solidFill>
                <a:latin typeface="Trebuchet MS"/>
              </a:rPr>
              <a:t>ек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Т.п.    луч</a:t>
            </a:r>
            <a:r>
              <a:rPr b="1" lang="ru-RU" sz="3600" spc="-1" strike="noStrike">
                <a:solidFill>
                  <a:srgbClr val="ff0000"/>
                </a:solidFill>
                <a:latin typeface="Trebuchet MS"/>
              </a:rPr>
              <a:t>ик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ом,    ореш</a:t>
            </a:r>
            <a:r>
              <a:rPr b="1" lang="ru-RU" sz="3600" spc="-1" strike="noStrike">
                <a:solidFill>
                  <a:srgbClr val="ff0000"/>
                </a:solidFill>
                <a:latin typeface="Trebuchet MS"/>
              </a:rPr>
              <a:t>к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ом,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П.п о  луч</a:t>
            </a:r>
            <a:r>
              <a:rPr b="1" lang="ru-RU" sz="3600" spc="-1" strike="noStrike">
                <a:solidFill>
                  <a:srgbClr val="ff0000"/>
                </a:solidFill>
                <a:latin typeface="Trebuchet MS"/>
              </a:rPr>
              <a:t>ик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е,       об  ореш</a:t>
            </a:r>
            <a:r>
              <a:rPr b="1" lang="ru-RU" sz="3600" spc="-1" strike="noStrike">
                <a:solidFill>
                  <a:srgbClr val="ff0000"/>
                </a:solidFill>
                <a:latin typeface="Trebuchet MS"/>
              </a:rPr>
              <a:t>к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е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6" name="Text Box 4"/>
          <p:cNvSpPr/>
          <p:nvPr/>
        </p:nvSpPr>
        <p:spPr>
          <a:xfrm>
            <a:off x="3400560" y="568440"/>
            <a:ext cx="35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Наблюдае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Нижний колонтитул 1"/>
          <p:cNvSpPr/>
          <p:nvPr/>
        </p:nvSpPr>
        <p:spPr>
          <a:xfrm>
            <a:off x="2819520" y="6558120"/>
            <a:ext cx="2927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Номер слайда 2"/>
          <p:cNvSpPr/>
          <p:nvPr/>
        </p:nvSpPr>
        <p:spPr>
          <a:xfrm>
            <a:off x="7880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F39B4-35CA-4DAD-8A56-1F369A91D8A3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2627280" y="1609200"/>
            <a:ext cx="506880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HG丸ｺﾞｼｯｸM-PRO"/>
              </a:rPr>
              <a:t>Физкультминутка. 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0" name="Нижний колонтитул 1"/>
          <p:cNvSpPr/>
          <p:nvPr/>
        </p:nvSpPr>
        <p:spPr>
          <a:xfrm>
            <a:off x="2819520" y="6558120"/>
            <a:ext cx="2927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Номер слайда 2"/>
          <p:cNvSpPr/>
          <p:nvPr/>
        </p:nvSpPr>
        <p:spPr>
          <a:xfrm>
            <a:off x="7880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A1998-90E8-4BF4-B24C-DEE408A033DE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09:48:21Z</dcterms:created>
  <dc:creator>Захарьина</dc:creator>
  <dc:description/>
  <dc:language>en-US</dc:language>
  <cp:lastModifiedBy>Марина Моисеева</cp:lastModifiedBy>
  <dcterms:modified xsi:type="dcterms:W3CDTF">2017-02-20T17:03:34Z</dcterms:modified>
  <cp:revision>56</cp:revision>
  <dc:subject/>
  <dc:title>Слайд 1</dc:title>
</cp:coreProperties>
</file>