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2603-6F92-41C4-AEEB-C774A35143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B9A9-7102-4E56-800D-48E641E7AA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D34-8D6F-4D47-B6F3-CFD0A827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F77-510E-47C7-8733-65B5FA5A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20DE9-E5E9-4072-8D60-C19CAD94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2DAA0-9CF7-4E7B-B7C2-5849823B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39464-1624-4102-B8CA-F3F6B5DC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B5443-DD3C-43D7-9191-60C4436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EBD54-F57C-4F01-BE43-8979FE0E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3268F-43DA-4269-B221-213C9F3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58F0C-C660-4EEC-A48F-AED0653D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FFE02-46E0-4431-8046-3CA932BC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17C35-F9C2-4652-83F1-018497A0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36D65-53A5-4372-8F9D-F06A4379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8A3-B1DA-4B50-9CBC-0451BDA8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249FF-75B9-4741-8378-4A15177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570A-F6F7-47EC-8A45-2A3BF92C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6B315-96A7-44E5-8961-9BBBB9B9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C832B-DF11-40FE-9BB9-DD6B4528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65CFA-93CD-49D4-A4AF-C93AC50E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1A9DE-7A66-4644-8831-9345A75B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6DB28-FCE8-45DC-87D8-64008517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7A987-C0AD-424D-84AB-5D04D96C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A73D4-6D8B-443A-96C1-56F15A45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0BB3B-4E95-46C0-85AC-C060FF1B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ABF-2A81-4189-9874-FC37E1BF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7677C-89A0-487D-8F7A-D84F6319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F1CEB-31BA-45E9-9703-9EAEE4B2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2359A-F64A-4AD4-ADE0-82EC0B2D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C2D3E-72D9-4A76-A506-0A6344C3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D4865-EF4E-4779-A283-781A984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FD1CC-F409-4DD2-843B-A278D284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476B5-81EC-4E5A-AE93-2B26244E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D4BA5-41F0-4FB4-AA51-75D413A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226AB-1C55-4911-9590-90399F3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D93DE-6F7A-475B-AD67-120CC5E5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5233-C15C-4761-AB49-9F03BE09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B8C8F-A191-48B0-A232-A3836A3A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EB6E2-4F0E-4268-B6B3-A8A3E2AD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59AFE-C270-456D-9B63-81788623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E496E-2149-4D20-A81E-403FB9D5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24CB9-DE69-437B-AC79-2B1FD91F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BF0F6-E3B6-4E3D-9F0D-1A421FF6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2AC1F-E111-4F4B-A1D9-0C1D475B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C9F94-7E27-4BB7-A9CF-3D11800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99DDD-F74A-4187-AEFB-9E054AAE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5ED2C-6C40-4571-B7DB-7D2C062B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6300-9391-4605-882E-B82C208B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C02C7-4943-46EA-B8D5-42230C63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C4AC4-2B9C-46A4-93F4-926F099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0FA1C-4DFB-4E4F-8926-93A0160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6CC7D-BF35-4353-BC7F-BE1570E6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ED80E-5740-4AF6-A3A7-2C05C50B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1818-51EF-4959-9C51-C905E36A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3842-2511-4D72-B5C3-5399D739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98CB-D5FA-445B-89F2-F8912405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C081-23CE-4AA2-9C37-505AB374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1205-045C-4D7D-963B-AFA5B15F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A05-3F88-49C5-8DA3-BD7ED0D4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F60A-EBC9-4C24-9774-8EE34E7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01D-2475-4E00-847B-7F00938D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0B76-4167-482E-A80B-4A81734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22FA-A183-46DC-AD30-69F8412E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B901-15A6-4B69-982B-FEFAF1E1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778F-EBE2-4D6B-B1D9-91E8CC68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85CC-BB46-4494-BE7A-ED6B8EC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E3BC-7026-4136-8ACF-A5E4EE48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70F2-5A24-495E-B19C-91CA5B43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86D0-12B5-413A-A6EE-0FF731C3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13D-BF3D-4C59-BA9C-D0784529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0570-36BE-41CD-BE33-24CB352A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3A5E1-CAAE-45B0-94EE-AEFCDC76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3F85E-B06A-4001-B14A-4BC280B8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44B9-6971-45BA-A0A6-1927C789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0C89-9D48-48FD-AEA4-1A94DB12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CDCD-62F8-45DB-B949-335F9FD6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03C4-9350-4D00-A274-EE7DEC6C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B399-6610-4249-A219-E62930DE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A6C1-C3C3-4DAA-BCDA-7723E65E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44BC2-6947-4C52-BFAB-C4D62118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1EB-8743-4B08-A163-9554978F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F14F-9289-4A20-B9CB-13AF1BE0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CAD7D-9A6E-4DAF-81FF-32621CDF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BDD2-39D2-4E4B-82A6-85097D4A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85D11-6DF4-4B82-BF07-49F9546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27665-1BC0-47CA-B63E-0692BCF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2280-0F4D-434A-975B-E6363215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1E4C-973C-488C-A435-3986E47E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31A6-331B-4F1A-8909-74F9898B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F46B-0AFD-4FAC-B135-D5746F76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A1BC0-91F9-40E5-8793-4C9B9732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D47-9270-4E3E-A290-6F30D6C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E74E1-F29B-40CA-9677-ADA1479F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4765C-2862-43EC-87AE-5DC67BC1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71D1-72D3-4E94-A997-98E0C140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FE79D-E8B5-48BC-8654-C27384B7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5870-D088-49CF-B694-83C7C242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757A4-DF01-4A32-8C9B-2BD0E3D2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B5EA9-B77D-4932-8423-C92E1828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B9C5E-DE8D-4C9F-AA35-07FB008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550C8-4F71-45ED-A988-C61C2B8E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83DD4-B631-4144-AEFE-EB5BA2A9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162-47ED-4176-96D0-3E834723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A352-5725-477F-9340-39DE938D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0926-9556-4654-AC20-79A8787F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17106-5CE4-492B-BFB3-F2F94498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B2EA9-B40A-4007-8B1B-1C7CDDEF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D65C8-3036-4126-B4CC-4D248897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64134-30FD-4D66-B385-D09AE0D2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C3E0-D125-45A6-ABB7-740D576F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68B65-70D6-43CA-B10C-0341209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CBE67-60AF-40DE-95EB-3F450947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35BC-EC3F-498D-AC39-9FE3CB9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69C-35A1-48AD-B4E6-12A7E36D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7D69-0E89-4B1F-8E24-DB1C9C08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2331-C822-42B2-B84F-E2654CBC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4991E-1113-475D-8C32-FBFBFD0A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5BAFA-BC41-4665-8E51-AB104F90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13AE4-7448-4009-9A9B-4B55FEE7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9429E-6382-405D-8E09-90D06438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CA5E-E50F-4080-82D2-59299828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FB1E-0C06-48C3-A15A-FE94267A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FE125-11A7-4592-AEE9-625C3276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10DCD-43F9-46BF-A0C0-D8EA1F9C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9B5-0622-4FE9-A603-5B1F2D6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08481-D90A-477F-A255-D3F303A4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A115A-F85A-4CCD-AC2F-D3E0D98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CA16A-0A07-4C71-AA24-F58DBE2D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D0D03-DB1D-4A92-A9E2-F48645D9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5C98-6286-47EB-BB3A-BE0A9A19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26E67-F2B3-4D72-ACD1-70D3B6BC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71A6-EFED-40FB-A8E7-A13BB9D0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D821-6260-453F-AD3A-7A0FDE66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914F4-0E73-4AEA-97AB-61B56C57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F949C-35A7-4CAC-8AC0-1E521836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4FE-280F-4410-8147-58D2E1C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719AD-D9B8-4DFB-8A31-E4296101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DDA6E-B705-4BB5-B69A-EB8FF64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A3056-E1A9-49C7-A49B-C2E61AB6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D006E-BE24-432A-A5A7-70AF794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BBCB-780D-4E01-AF18-6D0DD90E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40C52-0A70-44B4-A44E-15754580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B3B2B-DE07-4F7D-80F1-1A84221D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0B23C-A8E9-4981-9BB3-EA175728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5DA6A-A456-4D9C-9F1C-D882C3B9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A17BC-5A40-4F09-8E15-92DBB951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6585-899B-4449-9E43-E434266C9E3E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383F-F429-4F7A-B6EC-15D6DF753AF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7843-8CB4-4C1E-B7AC-2617122746DA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0224-5710-4454-B88A-1F19E062080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598A-E6F8-47A9-8E30-FDD5539F8A7B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6D5D-6D83-44B0-A65D-A0A54D264DD7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F100-BFAD-4095-A055-80DD754FC85B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689A-EC72-471A-B580-DFC2FC181A5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24EA-6C43-43C9-90E8-82FB96295599}" type="datetime">
              <a:rPr b="0" lang="ru-RU" sz="1000" spc="-1" strike="noStrike">
                <a:solidFill>
                  <a:srgbClr val="ffffff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1ECF-9181-4796-8521-21BC5C532F4C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66AF-3167-4E36-81F0-8B222A35DE62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3BA1-05A8-4733-9AF8-9739F8A6DE9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D678-5AC5-4E74-9AD6-02BF51131E19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CA6-F696-4A56-9D5E-8093F7E3518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402E-AD2B-4F43-83E8-8E4FCF80D7DF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BEC6-6D6B-4939-972D-453765769BD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B16C-A647-46E1-8C59-67C637C57048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A9E-FB2D-4664-9EB3-FEFDD170553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5B73-A73B-4755-BA94-4B09F607D0D4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A526-9560-401A-ACD3-BA68936169C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B0FD-301C-4B54-B558-D8FBA9619B4B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836C-BB2B-4B39-9390-97B5400686A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A7FC-06EA-462C-95F3-062E2C77D47A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ECA-7E97-4B27-8C97-85F4FCBF2DF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О сколько нам открытий чудных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отовят просвещенья дух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И опыт, сын ошибок трудных,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И гений, парадоксов друг…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6804000" y="4437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.С. 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FD4C-99E1-444F-9BB5-6D20D276B2E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620280"/>
            <a:ext cx="8291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ном..ка был клю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ткрывал чулан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находились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ч..к и кирпи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ч..к и футляр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ш..к и огур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ш..к и бананч..к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1EB6-121E-4F57-9D14-24C55BA8041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620280"/>
            <a:ext cx="8291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4BBD-0B53-4635-B07D-CF1813407F2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Содержимое 2"/>
          <p:cNvSpPr/>
          <p:nvPr/>
        </p:nvSpPr>
        <p:spPr>
          <a:xfrm>
            <a:off x="468360" y="1197000"/>
            <a:ext cx="8496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СыночЕк, подарочЕк, мячИк,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самолётИк, звоночЕк, дружочЕк,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ключИк,карандашИк, орешЕк,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пузырёчЕк, кирпичИк,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василёчЕк, огонёчЕк, кусочЕк,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ларчИк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23640" y="765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что прошел дождич..к. Всё в природе сразу ожило, зазеленело, маленький ручеёч..к превратился в говорливый ручей. Солнечный луч..к коснулся колокольч..ка, и сиреневый цветоч..к закивал своей головкой. Запел мелкой трелью кузнеч..к, а жёлтый бутонч..к лют..ка тихо закачался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796-C65B-4D38-91BA-DAD254FB905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440" y="26640"/>
            <a:ext cx="8363160" cy="73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Самоконтроль по теме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759960"/>
            <a:ext cx="9144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слове пропущена буква И? 1) звоноч…к, 2) денёч…к, 3) калач…к, 4) ножич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каком слове пропущена буква Е? 1) молоточ...к, 2) бубенч…к, 3) карандаш…к, 4) чертёж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каком слове пропущена буква Е? 1) велосипед…к, 2) халат…к, 3) бегемот…к, 4) бережоч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ом слове пропущена не такая буква, как в трёх остальных? 1) рисуноч…к, 2) манеж…к, 3) песоч…к, 4) полушубоч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каком слове пишется не такая гласная, как в трёх остальных? 1) салат...к ; 2) клубоч..к, 3) карниз…к, 4) паркет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каком слове нет суффикса –ЕК? 1) козлёноч…к, 2) телёноч…к, 3) ребёноч…к, 4)кирпич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ом слове один суффикс? 1) чайничек, 2) подарочек, 3) огонечек, 4) чулоче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 каком слове нет суффикса –ИК? 1) ящик, 2) прыщик, 3) клещик 4) борщи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 каком слове есть суффикс –ИК-? 1) финик, 2) веник, 3) блокнотик, 4) дворни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каком слове есть суффикс – ИК? 1) супчик, 2) укропчик, 3) перчик, 4) помидорчи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Нижний колонтитул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Номер слайда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5B3A-DB80-4EAB-8538-26E4139ED96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7" name="Нижний колонтитул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Номер слайда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4768-4E0D-40BC-9359-7E1C96F5862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79280" y="1886040"/>
          <a:ext cx="8640720" cy="2182680"/>
        </p:xfrm>
        <a:graphic>
          <a:graphicData uri="http://schemas.openxmlformats.org/drawingml/2006/table">
            <a:tbl>
              <a:tblPr/>
              <a:tblGrid>
                <a:gridCol w="1152720"/>
                <a:gridCol w="419040"/>
                <a:gridCol w="784080"/>
                <a:gridCol w="785880"/>
                <a:gridCol w="785880"/>
                <a:gridCol w="785880"/>
                <a:gridCol w="785880"/>
                <a:gridCol w="785520"/>
                <a:gridCol w="784440"/>
                <a:gridCol w="785880"/>
                <a:gridCol w="785520"/>
              </a:tblGrid>
              <a:tr h="101340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</a:tr>
              <a:tr h="1169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04880" y="135360"/>
            <a:ext cx="3409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тветов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блемный вопрос: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02920" y="1844280"/>
            <a:ext cx="72392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Почему в слове «ключик»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в суффиксе пишется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И, а не Е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73" name="Содержимое 3" descr="1525067-c3a859224e7f8d4a.png"/>
          <p:cNvPicPr/>
          <p:nvPr/>
        </p:nvPicPr>
        <p:blipFill>
          <a:blip r:embed="rId1"/>
          <a:stretch/>
        </p:blipFill>
        <p:spPr>
          <a:xfrm>
            <a:off x="6405480" y="3141720"/>
            <a:ext cx="2738520" cy="371628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1270-BEBA-49FA-8DDB-1F03DDFBE73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флексия</a:t>
            </a:r>
            <a:endParaRPr b="1" lang="en-US" sz="5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узнал…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умею…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ло затруднение…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F716-51E6-4E7A-97F9-4A2BCA8FFD8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Заголовок 1" descr=""/>
          <p:cNvPicPr/>
          <p:nvPr/>
        </p:nvPicPr>
        <p:blipFill>
          <a:blip r:embed="rId1"/>
          <a:stretch/>
        </p:blipFill>
        <p:spPr>
          <a:xfrm>
            <a:off x="476280" y="334800"/>
            <a:ext cx="8259840" cy="9702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456840" y="1609200"/>
            <a:ext cx="81154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. 45, выучить правило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Задание на выбор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.252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ставить кроссворд  по теме «Суффиксы имён существительных»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написать сказку, детективную историю на тему «Приключения суффиксов – ек и –ик»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913F-B9FC-42C5-9D1A-D6B21383374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392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машнего задания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Выноска-облако 4"/>
          <p:cNvSpPr/>
          <p:nvPr/>
        </p:nvSpPr>
        <p:spPr>
          <a:xfrm>
            <a:off x="285840" y="1143000"/>
            <a:ext cx="4573440" cy="2357280"/>
          </a:xfrm>
          <a:prstGeom prst="cloudCallout">
            <a:avLst>
              <a:gd name="adj1" fmla="val -9634"/>
              <a:gd name="adj2" fmla="val 8043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Когда пиш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суффикс–ЧИК- , а когда - -ЩИК-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Рисунок 7" descr="69261094_05.png"/>
          <p:cNvPicPr/>
          <p:nvPr/>
        </p:nvPicPr>
        <p:blipFill>
          <a:blip r:embed="rId1"/>
          <a:stretch/>
        </p:blipFill>
        <p:spPr>
          <a:xfrm>
            <a:off x="6143760" y="3308400"/>
            <a:ext cx="2143080" cy="3549600"/>
          </a:xfrm>
          <a:prstGeom prst="rect">
            <a:avLst/>
          </a:prstGeom>
          <a:ln w="0">
            <a:noFill/>
          </a:ln>
        </p:spPr>
      </p:pic>
      <p:pic>
        <p:nvPicPr>
          <p:cNvPr id="515" name="Содержимое 9" descr="69261035_04.png"/>
          <p:cNvPicPr/>
          <p:nvPr/>
        </p:nvPicPr>
        <p:blipFill>
          <a:blip r:embed="rId2"/>
          <a:stretch/>
        </p:blipFill>
        <p:spPr>
          <a:xfrm>
            <a:off x="285840" y="3521160"/>
            <a:ext cx="1928880" cy="333684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4" descr="d318df269036.png"/>
          <p:cNvPicPr/>
          <p:nvPr/>
        </p:nvPicPr>
        <p:blipFill>
          <a:blip r:embed="rId3"/>
          <a:stretch/>
        </p:blipFill>
        <p:spPr>
          <a:xfrm>
            <a:off x="5143680" y="5715000"/>
            <a:ext cx="1342800" cy="101772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6572160" y="1643040"/>
            <a:ext cx="25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8437-D9C0-437E-B433-AD5190DEB86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015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rebuchet MS"/>
              </a:rPr>
              <a:t>Буквенный диктант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3156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71640" y="2205000"/>
          <a:ext cx="7740720" cy="2087640"/>
        </p:xfrm>
        <a:graphic>
          <a:graphicData uri="http://schemas.openxmlformats.org/drawingml/2006/table">
            <a:tbl>
              <a:tblPr/>
              <a:tblGrid>
                <a:gridCol w="2066760"/>
                <a:gridCol w="527040"/>
                <a:gridCol w="528840"/>
                <a:gridCol w="528480"/>
                <a:gridCol w="527040"/>
                <a:gridCol w="528840"/>
                <a:gridCol w="528480"/>
                <a:gridCol w="679320"/>
                <a:gridCol w="379440"/>
                <a:gridCol w="525600"/>
                <a:gridCol w="920880"/>
              </a:tblGrid>
              <a:tr h="10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№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3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FE3D-1D89-4F11-BD45-6D50168B9A71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340000" y="1609200"/>
            <a:ext cx="535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Ключ.?.к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5581440" y="95256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HG丸ｺﾞｼｯｸM-PRO"/>
              </a:rPr>
              <a:t>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5580000" y="2565360"/>
            <a:ext cx="6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HG丸ｺﾞｼｯｸM-PRO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Содержимое 7" descr="69261136_09.png"/>
          <p:cNvPicPr/>
          <p:nvPr/>
        </p:nvPicPr>
        <p:blipFill>
          <a:blip r:embed="rId1"/>
          <a:stretch/>
        </p:blipFill>
        <p:spPr>
          <a:xfrm>
            <a:off x="900000" y="1700280"/>
            <a:ext cx="2232000" cy="44575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878-9429-49C7-83D6-4E6882902AA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блемный вопрос: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02920" y="1844280"/>
            <a:ext cx="72392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Почему в слове «ключик»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в суффиксе пишется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И, а не Е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33" name="Содержимое 3" descr="1525067-c3a859224e7f8d4a.png"/>
          <p:cNvPicPr/>
          <p:nvPr/>
        </p:nvPicPr>
        <p:blipFill>
          <a:blip r:embed="rId1"/>
          <a:stretch/>
        </p:blipFill>
        <p:spPr>
          <a:xfrm>
            <a:off x="6405480" y="3141720"/>
            <a:ext cx="2738520" cy="3716280"/>
          </a:xfrm>
          <a:prstGeom prst="rect">
            <a:avLst/>
          </a:prstGeom>
          <a:ln w="0">
            <a:noFill/>
          </a:ln>
        </p:spPr>
      </p:pic>
      <p:sp>
        <p:nvSpPr>
          <p:cNvPr id="534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9910-4770-4AB7-8644-31B8B393495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9" descr="0_6ef66_f56d8bb8_L.pn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 rot="21307800">
            <a:off x="1185840" y="2341080"/>
            <a:ext cx="71913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Гласные в суффиксах существительных –ЕК и –ИК</a:t>
            </a:r>
            <a:r>
              <a:rPr b="1" lang="ru-RU" sz="3800" spc="-1" strike="noStrike">
                <a:solidFill>
                  <a:srgbClr val="000000"/>
                </a:solidFill>
                <a:latin typeface="Trebuchet MS"/>
                <a:ea typeface="HG丸ｺﾞｼｯｸM-PRO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EBB3-7B62-4B0F-BE6A-54EA0C7E559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6375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Формулировка  цели:</a:t>
            </a:r>
            <a:r>
              <a:rPr b="1" lang="ru-RU" sz="3800" spc="-1" strike="noStrike">
                <a:solidFill>
                  <a:srgbClr val="ffffff"/>
                </a:solidFill>
                <a:latin typeface="Trebuchet MS"/>
                <a:ea typeface="HG丸ｺﾞｼｯｸM-PRO"/>
              </a:rPr>
              <a:t>  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2388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-п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знакомиться с …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научиться …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42" name="Рисунок 3" descr="0_503b5_f304d148_L.png"/>
          <p:cNvPicPr/>
          <p:nvPr/>
        </p:nvPicPr>
        <p:blipFill>
          <a:blip r:embed="rId1"/>
          <a:stretch/>
        </p:blipFill>
        <p:spPr>
          <a:xfrm>
            <a:off x="6977160" y="4356000"/>
            <a:ext cx="1952640" cy="235908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E991-9EBA-4F8F-BB84-CF770A39A9F9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905120" y="1412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.п.   луч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,       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ек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.п.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луч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,  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.п.    луч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у,    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.п.    луч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,      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ек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.п.    луч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м,  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м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.п о  луч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е,       об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3400560" y="568440"/>
            <a:ext cx="35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блюда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D90E-0BB3-4A10-80C7-6C8DD7533F81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2627280" y="1609200"/>
            <a:ext cx="5068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Физкультминутка.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0A3E-ED10-41C6-BB48-AC96F7D9DDA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9:48:21Z</dcterms:created>
  <dc:creator>Захарьина</dc:creator>
  <dc:description/>
  <dc:language>en-US</dc:language>
  <cp:lastModifiedBy>Марина Моисеева</cp:lastModifiedBy>
  <dcterms:modified xsi:type="dcterms:W3CDTF">2017-02-20T17:03:34Z</dcterms:modified>
  <cp:revision>56</cp:revision>
  <dc:subject/>
  <dc:title>Слайд 1</dc:title>
</cp:coreProperties>
</file>