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png" ContentType="image/pn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D82-EE94-46F9-9053-3D8724837A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13D-5FEE-44BB-BE47-3D0817093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9BF-7443-4207-8008-6291061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89E-D54B-4D52-9451-6B47A7C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802-423B-4E7C-A51E-B56C36F0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81D-AD46-4375-BEA8-DEDD77F5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960-C3BE-4584-BD18-310EF4CB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BA07-015F-480E-9D0C-DA09CD0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E7E-F2E7-49CF-B922-C231C6B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447A-EEBE-4325-B250-7BBF19F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334E-337E-478B-99D4-9255D4B1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BCF3-AED4-46A6-95C2-D8EBA37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26C7-29E6-4F93-864E-5FB67EA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698-5459-4666-9D8E-94512A4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350E-E3B0-4AD7-86B6-798AE1B5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4A1C-B70E-4144-A01C-CD4612F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4EC5-E964-4355-B80A-9CD7BA8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D939-40B4-437C-9402-92CB3F11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29F-F96E-4F4B-8240-3BBAA69A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CBE5-7527-4C18-A464-549CB076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25D5-2E98-4730-B688-3085E68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33AF-1DE4-4E6F-83F0-FDBC0E1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A90A-E6A5-4B77-8A15-DAFE0C2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A5A9-6BEE-44D6-9464-4F05FF4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A85-C425-47A3-898B-1356620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818A-A200-4D8A-8F71-F43590E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6013-6E5D-45FF-AEE4-6CB056C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A01A-B50A-404B-B2BB-A92AED9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FA07-D599-42EB-BB7F-01FCAB7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3DCB-C968-407A-8DD3-84F09C4D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0534-B987-440E-91F6-0193AB38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0712-B111-49B8-AD89-ED208E13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BE1-5DB3-442A-A143-FEB9A7D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BB8-0C9A-4B28-8145-C41DC1F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B88-248D-4A8A-93FA-03DB409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9B1-1D14-45E2-81C3-598184B7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084-A9DE-41F4-ABC1-1F1F845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310-575B-4804-AB0D-045EB68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021-C0FC-41DF-8E53-B86711F1B7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C4BB-5F25-45F1-81E0-33EB4113A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Скругленный прямоугольник 7"/>
          <p:cNvGrpSpPr/>
          <p:nvPr/>
        </p:nvGrpSpPr>
        <p:grpSpPr>
          <a:xfrm>
            <a:off x="195120" y="195120"/>
            <a:ext cx="8826480" cy="6540480"/>
            <a:chOff x="195120" y="195120"/>
            <a:chExt cx="8826480" cy="6540480"/>
          </a:xfrm>
        </p:grpSpPr>
        <p:pic>
          <p:nvPicPr>
            <p:cNvPr id="45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88264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1720" y="531720"/>
              <a:ext cx="815184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Нижний колонтитул 4"/>
          <p:cNvSpPr/>
          <p:nvPr/>
        </p:nvSpPr>
        <p:spPr>
          <a:xfrm>
            <a:off x="5429160" y="6492960"/>
            <a:ext cx="285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блон презентации: Лазовская С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128\Desktop\Рисунок1.png"/>
          <p:cNvPicPr/>
          <p:nvPr/>
        </p:nvPicPr>
        <p:blipFill>
          <a:blip r:embed="rId5"/>
          <a:stretch/>
        </p:blipFill>
        <p:spPr>
          <a:xfrm>
            <a:off x="4429080" y="285840"/>
            <a:ext cx="4229280" cy="315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School Book Scheme - canovee national school"/>
          <p:cNvPicPr/>
          <p:nvPr/>
        </p:nvPicPr>
        <p:blipFill>
          <a:blip r:embed="rId6"/>
          <a:stretch/>
        </p:blipFill>
        <p:spPr>
          <a:xfrm>
            <a:off x="7358040" y="557208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2kinder.ru/image/data/kids_2-1979px.png"/>
          <p:cNvPicPr/>
          <p:nvPr/>
        </p:nvPicPr>
        <p:blipFill>
          <a:blip r:embed="rId7"/>
          <a:stretch/>
        </p:blipFill>
        <p:spPr>
          <a:xfrm>
            <a:off x="0" y="4643280"/>
            <a:ext cx="1428840" cy="2111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36F-6BCB-4051-BAE5-DD6C9D100E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37F-FC23-40FE-A035-766859A44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9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7"/>
          <p:cNvGrpSpPr/>
          <p:nvPr/>
        </p:nvGrpSpPr>
        <p:grpSpPr>
          <a:xfrm>
            <a:off x="195120" y="195120"/>
            <a:ext cx="8826480" cy="6540480"/>
            <a:chOff x="195120" y="195120"/>
            <a:chExt cx="8826480" cy="6540480"/>
          </a:xfrm>
        </p:grpSpPr>
        <p:pic>
          <p:nvPicPr>
            <p:cNvPr id="96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5120" y="195120"/>
              <a:ext cx="88264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31720" y="531720"/>
              <a:ext cx="815184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Нижний колонтитул 4"/>
          <p:cNvSpPr/>
          <p:nvPr/>
        </p:nvSpPr>
        <p:spPr>
          <a:xfrm>
            <a:off x="5429160" y="6492960"/>
            <a:ext cx="285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блон презентации: Лазовская С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img-fotki.yandex.ru/get/6508/20573769.f/0_82ae5_a174c715_L.png"/>
          <p:cNvPicPr/>
          <p:nvPr/>
        </p:nvPicPr>
        <p:blipFill>
          <a:blip r:embed="rId5"/>
          <a:stretch/>
        </p:blipFill>
        <p:spPr>
          <a:xfrm>
            <a:off x="7143840" y="0"/>
            <a:ext cx="2328840" cy="454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7A23-5001-4692-8C14-9322183608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74D-C357-4C80-9D71-6025D66B6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5643720" y="571680"/>
            <a:ext cx="3267000" cy="561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324000" y="2133720"/>
            <a:ext cx="49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« В 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80"/>
                </a:solidFill>
                <a:latin typeface="Calibri"/>
              </a:rPr>
              <a:t>СКАЗК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24000" y="587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ла: Пташинская Е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F97-4819-450E-89D0-58EDD85F2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195640" y="630864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сад «Рябинушка» 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50920" y="69228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Интегрирова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за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050920" y="4653000"/>
            <a:ext cx="4410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-я младшая группа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ПОСЕДЫ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РЕФЛЕКСИВНО-ОЦЕНОЧ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P1020775"/>
          <p:cNvPicPr/>
          <p:nvPr/>
        </p:nvPicPr>
        <p:blipFill>
          <a:blip r:embed="rId1"/>
          <a:stretch/>
        </p:blipFill>
        <p:spPr>
          <a:xfrm>
            <a:off x="5357880" y="150012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1020777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1773000" cy="2017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1773000" cy="201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P1020774"/>
          <p:cNvPicPr/>
          <p:nvPr/>
        </p:nvPicPr>
        <p:blipFill>
          <a:blip r:embed="rId5"/>
          <a:stretch/>
        </p:blipFill>
        <p:spPr>
          <a:xfrm>
            <a:off x="571680" y="1500120"/>
            <a:ext cx="3404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1020780"/>
          <p:cNvPicPr/>
          <p:nvPr/>
        </p:nvPicPr>
        <p:blipFill>
          <a:blip r:embed="rId1"/>
          <a:stretch/>
        </p:blipFill>
        <p:spPr>
          <a:xfrm>
            <a:off x="2071800" y="1749600"/>
            <a:ext cx="5072040" cy="38052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ЧТЕНИЕ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1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16000" cy="16099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" descr=""/>
          <p:cNvPicPr/>
          <p:nvPr/>
        </p:nvPicPr>
        <p:blipFill>
          <a:blip r:embed="rId3"/>
          <a:stretch/>
        </p:blipFill>
        <p:spPr>
          <a:xfrm>
            <a:off x="7236000" y="4840200"/>
            <a:ext cx="17730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072200" cy="46404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5"/>
          <p:cNvSpPr/>
          <p:nvPr/>
        </p:nvSpPr>
        <p:spPr>
          <a:xfrm>
            <a:off x="1214280" y="4643280"/>
            <a:ext cx="6357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500" spc="-1" strike="noStrike">
                <a:solidFill>
                  <a:srgbClr val="c00000"/>
                </a:solidFill>
                <a:latin typeface="Calibri"/>
              </a:rPr>
              <a:t>Спасибо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юрпризный момент и создание проблемной ситуаци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ходит в группу заяц, просит ему помочь.(нес нам новую книгу сказок, а злой волшебник похитил ее, что же делать?!)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дин, и два, и пять, и восемь, в сказку всех мы переносим 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P1020736"/>
          <p:cNvPicPr/>
          <p:nvPr/>
        </p:nvPicPr>
        <p:blipFill>
          <a:blip r:embed="rId1"/>
          <a:stretch/>
        </p:blipFill>
        <p:spPr>
          <a:xfrm>
            <a:off x="179280" y="134136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P1020737"/>
          <p:cNvPicPr/>
          <p:nvPr/>
        </p:nvPicPr>
        <p:blipFill>
          <a:blip r:embed="rId2"/>
          <a:stretch/>
        </p:blipFill>
        <p:spPr>
          <a:xfrm>
            <a:off x="4572000" y="428760"/>
            <a:ext cx="4073400" cy="3054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-1800" y="404280"/>
            <a:ext cx="41918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ация по областям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навательное, речевое, художественно-эстетическое и физическое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D22-B7D9-423E-B595-5D0424E04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395280" y="4005360"/>
            <a:ext cx="83026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уч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общить и закрепить полученные знания, расширять словарный запас; учить отгадывать загадки, продолжать учить работать в команде;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азвив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креплять знания о цвете и форме, развивать интерес к сказкам и играм; познавательные способности, развивать координацию движений;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юща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оспитывать в детях желание делать добро, любовь к книг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6836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коммуникативные навы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уждать детей к активному участию, используя все пространство групп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речь, обогащение активного словар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1. НАШИ ГЕОМЕТРИЧЕСКИЕ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3AF-62C3-4BD4-AEFF-C13078C9D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P1020740"/>
          <p:cNvPicPr/>
          <p:nvPr/>
        </p:nvPicPr>
        <p:blipFill>
          <a:blip r:embed="rId1"/>
          <a:stretch/>
        </p:blipFill>
        <p:spPr>
          <a:xfrm>
            <a:off x="5286240" y="40006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1914480" cy="21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P1020741"/>
          <p:cNvPicPr/>
          <p:nvPr/>
        </p:nvPicPr>
        <p:blipFill>
          <a:blip r:embed="rId3"/>
          <a:stretch/>
        </p:blipFill>
        <p:spPr>
          <a:xfrm>
            <a:off x="3714840" y="142884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1020747"/>
          <p:cNvPicPr/>
          <p:nvPr/>
        </p:nvPicPr>
        <p:blipFill>
          <a:blip r:embed="rId4"/>
          <a:stretch/>
        </p:blipFill>
        <p:spPr>
          <a:xfrm>
            <a:off x="928800" y="4000680"/>
            <a:ext cx="3357360" cy="2517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EE15-DBA1-42B5-8CDB-0CDC13585C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ТРОПИНК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"/>
          <p:cNvPicPr/>
          <p:nvPr/>
        </p:nvPicPr>
        <p:blipFill>
          <a:blip r:embed="rId1"/>
          <a:stretch/>
        </p:blipFill>
        <p:spPr>
          <a:xfrm>
            <a:off x="6500880" y="1928880"/>
            <a:ext cx="2333520" cy="3674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P1020750"/>
          <p:cNvPicPr/>
          <p:nvPr/>
        </p:nvPicPr>
        <p:blipFill>
          <a:blip r:embed="rId2"/>
          <a:stretch/>
        </p:blipFill>
        <p:spPr>
          <a:xfrm>
            <a:off x="1428840" y="1428840"/>
            <a:ext cx="4857840" cy="3641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3"/>
          <a:stretch/>
        </p:blipFill>
        <p:spPr>
          <a:xfrm>
            <a:off x="0" y="4132440"/>
            <a:ext cx="9144000" cy="2725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5"/>
          <p:cNvSpPr/>
          <p:nvPr/>
        </p:nvSpPr>
        <p:spPr>
          <a:xfrm>
            <a:off x="324000" y="18900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ТРОПИНК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3600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от у нас бежит тропин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весело петляет,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 здоровья всем ребятам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Точно добавл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Заголовок 3"/>
          <p:cNvSpPr/>
          <p:nvPr/>
        </p:nvSpPr>
        <p:spPr>
          <a:xfrm>
            <a:off x="755640" y="44370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P1020751"/>
          <p:cNvPicPr/>
          <p:nvPr/>
        </p:nvPicPr>
        <p:blipFill>
          <a:blip r:embed="rId1"/>
          <a:stretch/>
        </p:blipFill>
        <p:spPr>
          <a:xfrm>
            <a:off x="539640" y="54936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1020757"/>
          <p:cNvPicPr/>
          <p:nvPr/>
        </p:nvPicPr>
        <p:blipFill>
          <a:blip r:embed="rId2"/>
          <a:stretch/>
        </p:blipFill>
        <p:spPr>
          <a:xfrm>
            <a:off x="857160" y="357192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P1020753"/>
          <p:cNvPicPr/>
          <p:nvPr/>
        </p:nvPicPr>
        <p:blipFill>
          <a:blip r:embed="rId3"/>
          <a:stretch/>
        </p:blipFill>
        <p:spPr>
          <a:xfrm>
            <a:off x="4929120" y="40719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ЗАБОРЧИК С ЗАГАД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1020758"/>
          <p:cNvPicPr/>
          <p:nvPr/>
        </p:nvPicPr>
        <p:blipFill>
          <a:blip r:embed="rId1"/>
          <a:stretch/>
        </p:blipFill>
        <p:spPr>
          <a:xfrm>
            <a:off x="4643280" y="1428840"/>
            <a:ext cx="3354480" cy="251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1020759"/>
          <p:cNvPicPr/>
          <p:nvPr/>
        </p:nvPicPr>
        <p:blipFill>
          <a:blip r:embed="rId2"/>
          <a:stretch/>
        </p:blipFill>
        <p:spPr>
          <a:xfrm>
            <a:off x="500040" y="1500120"/>
            <a:ext cx="3286080" cy="246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P1020764"/>
          <p:cNvPicPr/>
          <p:nvPr/>
        </p:nvPicPr>
        <p:blipFill>
          <a:blip r:embed="rId3"/>
          <a:stretch/>
        </p:blipFill>
        <p:spPr>
          <a:xfrm>
            <a:off x="5148360" y="41497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"/>
          <p:cNvPicPr/>
          <p:nvPr/>
        </p:nvPicPr>
        <p:blipFill>
          <a:blip r:embed="rId4"/>
          <a:stretch/>
        </p:blipFill>
        <p:spPr>
          <a:xfrm>
            <a:off x="2071800" y="4357800"/>
            <a:ext cx="19288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40000" y="549360"/>
            <a:ext cx="28954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л в лесу на пене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съесть пирожок, Вдруг раздался голосо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адись на пене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ешь пирож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1476360" y="4076640"/>
            <a:ext cx="28954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дороге в лес кат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ежать от всех стрем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вою беду в лесу, Встретил хитрую лис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ернулся  он дом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 он съеден той ли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P1020765"/>
          <p:cNvPicPr/>
          <p:nvPr/>
        </p:nvPicPr>
        <p:blipFill>
          <a:blip r:embed="rId1"/>
          <a:stretch/>
        </p:blipFill>
        <p:spPr>
          <a:xfrm>
            <a:off x="571680" y="64296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P1020767"/>
          <p:cNvPicPr/>
          <p:nvPr/>
        </p:nvPicPr>
        <p:blipFill>
          <a:blip r:embed="rId2"/>
          <a:stretch/>
        </p:blipFill>
        <p:spPr>
          <a:xfrm>
            <a:off x="4357800" y="2928960"/>
            <a:ext cx="35733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1487-CF83-47B2-8CBF-44A411C5B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250920" y="260280"/>
            <a:ext cx="8569080" cy="1081080"/>
          </a:xfrm>
          <a:prstGeom prst="rect">
            <a:avLst/>
          </a:prstGeom>
          <a:solidFill>
            <a:srgbClr val="ffffff">
              <a:alpha val="62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ПОЛЯНА С ЦВ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5357880" y="164304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 нам пора на полянку вы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цветочки поса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будьте внимательны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адить надо 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ый цветок будет цве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 желтым его посадишь ты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P1020770"/>
          <p:cNvPicPr/>
          <p:nvPr/>
        </p:nvPicPr>
        <p:blipFill>
          <a:blip r:embed="rId1"/>
          <a:stretch/>
        </p:blipFill>
        <p:spPr>
          <a:xfrm>
            <a:off x="142920" y="150012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2"/>
          <a:stretch/>
        </p:blipFill>
        <p:spPr>
          <a:xfrm>
            <a:off x="3286080" y="1428840"/>
            <a:ext cx="2154240" cy="2452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1020773"/>
          <p:cNvPicPr/>
          <p:nvPr/>
        </p:nvPicPr>
        <p:blipFill>
          <a:blip r:embed="rId3"/>
          <a:stretch/>
        </p:blipFill>
        <p:spPr>
          <a:xfrm>
            <a:off x="928800" y="3929040"/>
            <a:ext cx="36766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3:12:10Z</dcterms:created>
  <dc:creator>User</dc:creator>
  <dc:description/>
  <dc:language>en-US</dc:language>
  <cp:lastModifiedBy>DNA7 X86</cp:lastModifiedBy>
  <dcterms:modified xsi:type="dcterms:W3CDTF">2017-02-20T20:38:01Z</dcterms:modified>
  <cp:revision>23</cp:revision>
  <dc:subject/>
  <dc:title>Слайд 1</dc:title>
</cp:coreProperties>
</file>