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EEA-F282-4D1C-BEF3-F85E0A41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7EA-A909-450D-9086-E9B9EAA7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4E4-E153-4A8A-9A66-64468B3D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4B9-DC6C-4E79-A8AC-201FD50F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5EB3-0596-4520-9D29-872A1CFE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F48A-BF8A-4386-992C-393472C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464F-9467-47F0-A412-CF340841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BBF8-A49D-4077-AF35-A3E47045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B11F-DBF0-4533-9DBC-87EC57E6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C521-DBA9-4E5B-A64E-F1239400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FADC-7E04-47BB-A83E-0BEB23B2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FCC-E9F0-4527-B2C1-18555E0A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C9D2-84C7-4586-9F0E-E2287693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E704-08C9-4579-A9CD-F10B56EC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596E-FAC1-473B-81C1-E0E645AD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9832-92F8-4B17-8ADA-A8484A4B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7B5F-A8C8-4271-B058-C147FB0B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C37-A60C-4896-8ADD-6B5B3D56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25E-A90F-4E91-B5DA-E0164FCE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CE0-81FE-4F8C-ADBD-8565547E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0FE-BE4D-44D5-9DDA-7D73EAC2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DE8-BF67-48F8-BF00-F22F6F16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19A-02D9-4322-AE74-F2CF1EF6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E22-199E-4DF4-84B0-F0053D4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E26B-4632-4F06-A2FE-BD3976EADF0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0907-0610-496B-9BE9-E222814826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ubOvalCallout"/>
          <p:cNvSpPr/>
          <p:nvPr/>
        </p:nvSpPr>
        <p:spPr>
          <a:xfrm>
            <a:off x="755640" y="1125360"/>
            <a:ext cx="7345440" cy="4537080"/>
          </a:xfrm>
          <a:custGeom>
            <a:avLst/>
            <a:gdLst>
              <a:gd name="textAreaLeft" fmla="*/ 1075680 w 7345440"/>
              <a:gd name="textAreaRight" fmla="*/ 6269760 w 7345440"/>
              <a:gd name="textAreaTop" fmla="*/ 498600 h 4537080"/>
              <a:gd name="textAreaBottom" fmla="*/ 2906280 h 45370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249228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"/>
              </a:rPr>
              <a:t>Welcome to Englis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lonna MT"/>
              </a:rPr>
              <a:t>Today is the 1(first) of Januar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lonna MT"/>
              </a:rPr>
              <a:t>Today is Wednesda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Чтение буквосочета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81456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O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er,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2000" y="1700280"/>
            <a:ext cx="3778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Three, th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s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me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he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j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ooper Black"/>
              </a:rPr>
              <a:t>Do you know English numeral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84464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436572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184464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350028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530064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414972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551664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1916280"/>
            <a:ext cx="1295280" cy="86328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508464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78136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335772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292428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95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oper Black"/>
              </a:rPr>
              <a:t>Make up the dialogu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699920"/>
            <a:ext cx="4348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773360"/>
            <a:ext cx="3240000" cy="5032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ы любишь суп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1773360"/>
            <a:ext cx="3240000" cy="50328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like soup?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421000"/>
            <a:ext cx="4788000" cy="57636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т,спасибо.Я не люблю су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0000" y="2421000"/>
            <a:ext cx="4464000" cy="57636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,thanks.I do not like soup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213000"/>
            <a:ext cx="3456000" cy="5050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6360" y="3284640"/>
            <a:ext cx="4176720" cy="50472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252360" y="4437000"/>
            <a:ext cx="4032360" cy="4320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6360" y="43657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т. Угощ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437000"/>
            <a:ext cx="4356000" cy="50328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e you are. Help yourself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157720"/>
            <a:ext cx="3240000" cy="4320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асиб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5084640"/>
            <a:ext cx="3240000" cy="50328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90480" y="508464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5877000"/>
            <a:ext cx="3240000" cy="4316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5805360"/>
            <a:ext cx="3240360" cy="43200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wel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3789360"/>
            <a:ext cx="3241440" cy="4316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. Пожалуй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3860640"/>
            <a:ext cx="3240360" cy="43200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92640" y="38149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800" y="32130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ы бы не хотел мё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91960" y="328464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uld you like some h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333360"/>
            <a:ext cx="5364000" cy="50328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336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то ты любишь есть на завтр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197000"/>
            <a:ext cx="644364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800" y="119700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you like to eat for break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16280"/>
            <a:ext cx="5292720" cy="50292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91628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Я люблю кашу, хлеб, ветч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492280"/>
            <a:ext cx="525780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57720"/>
            <a:ext cx="5473800" cy="50292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4292640"/>
            <a:ext cx="651672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600" y="3357720"/>
            <a:ext cx="55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то ты любишь пить на завтр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05640" y="2492280"/>
            <a:ext cx="51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like porridge, bread and bu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39320" y="4292640"/>
            <a:ext cx="62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you like to drink for break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229360"/>
            <a:ext cx="5364000" cy="50328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3200" y="515772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Я люблю молоко, чай и 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3640" y="5877000"/>
            <a:ext cx="536400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14120" y="5830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like milk, tea and coff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385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9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1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3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85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1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38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0" dur="385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2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4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385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38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0" dur="385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2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4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385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9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1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3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333360"/>
            <a:ext cx="424836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99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0160" y="40464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брое утро. Я голо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68280"/>
            <a:ext cx="4788000" cy="648000"/>
          </a:xfrm>
          <a:prstGeom prst="cloudCallout">
            <a:avLst>
              <a:gd name="adj1" fmla="val -44462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28800" y="1268280"/>
            <a:ext cx="49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брое утро. Вы любите ча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27640" y="404640"/>
            <a:ext cx="4248000" cy="64800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000" y="5493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morning. I am hu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4720" y="1628640"/>
            <a:ext cx="4859280" cy="648000"/>
          </a:xfrm>
          <a:prstGeom prst="cloudCallout">
            <a:avLst>
              <a:gd name="adj1" fmla="val -48986"/>
              <a:gd name="adj2" fmla="val 2352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1680" y="170028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morning. Do you like t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276640"/>
            <a:ext cx="4859280" cy="647640"/>
          </a:xfrm>
          <a:prstGeom prst="cloudCallout">
            <a:avLst>
              <a:gd name="adj1" fmla="val -44546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" y="234936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а. И бутерброд, пожалуй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2708280"/>
            <a:ext cx="4824360" cy="647640"/>
          </a:xfrm>
          <a:prstGeom prst="cloudCallout">
            <a:avLst>
              <a:gd name="adj1" fmla="val -44504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2806560"/>
            <a:ext cx="48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. And a sandwich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284640"/>
            <a:ext cx="424836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82040" y="34290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4360" y="3429000"/>
            <a:ext cx="424800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3400" y="35020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4292640"/>
            <a:ext cx="5113440" cy="647640"/>
          </a:xfrm>
          <a:prstGeom prst="cloudCallout">
            <a:avLst>
              <a:gd name="adj1" fmla="val -49037"/>
              <a:gd name="adj2" fmla="val 2352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1120" y="436572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. Можно мне варен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4724280"/>
            <a:ext cx="4897440" cy="648000"/>
          </a:xfrm>
          <a:prstGeom prst="cloudCallout">
            <a:avLst>
              <a:gd name="adj1" fmla="val -44587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13640" y="479736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ank you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have some j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373720"/>
            <a:ext cx="4248000" cy="647640"/>
          </a:xfrm>
          <a:prstGeom prst="cloudCallout">
            <a:avLst>
              <a:gd name="adj1" fmla="val -48842"/>
              <a:gd name="adj2" fmla="val 2352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7280" y="537372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нечно. Угощ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5516640"/>
            <a:ext cx="4679640" cy="647640"/>
          </a:xfrm>
          <a:prstGeom prst="cloudCallout">
            <a:avLst>
              <a:gd name="adj1" fmla="val -48949"/>
              <a:gd name="adj2" fmla="val 2352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36720" y="554184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course. Help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5280" y="54936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2360" y="62064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ы бы не хотел рыб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765000"/>
            <a:ext cx="4248000" cy="648000"/>
          </a:xfrm>
          <a:prstGeom prst="wedgeEllipseCallout">
            <a:avLst>
              <a:gd name="adj1" fmla="val -44282"/>
              <a:gd name="adj2" fmla="val 7009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30080" y="90792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uld you like some f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1700280"/>
            <a:ext cx="6121440" cy="647640"/>
          </a:xfrm>
          <a:prstGeom prst="wedgeEllipseCallout">
            <a:avLst>
              <a:gd name="adj1" fmla="val -46032"/>
              <a:gd name="adj2" fmla="val 70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0360" y="17733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а. Пожалуйста. Можно мне хле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3640" y="2637000"/>
            <a:ext cx="5940360" cy="647640"/>
          </a:xfrm>
          <a:prstGeom prst="wedgeEllipseCallout">
            <a:avLst>
              <a:gd name="adj1" fmla="val -30143"/>
              <a:gd name="adj2" fmla="val 7009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86520" y="2708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, please. May I have some br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000" y="371808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67280" y="371628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80320" y="38149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443700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33840" y="45338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84720" y="450864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00200" y="45813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445000"/>
            <a:ext cx="3889080" cy="648000"/>
          </a:xfrm>
          <a:prstGeom prst="wedgeEllipseCallout">
            <a:avLst>
              <a:gd name="adj1" fmla="val -49305"/>
              <a:gd name="adj2" fmla="val 367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7680" y="551664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ы любишь капус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5516640"/>
            <a:ext cx="3889440" cy="647640"/>
          </a:xfrm>
          <a:prstGeom prst="wedgeEllipseCallout">
            <a:avLst>
              <a:gd name="adj1" fmla="val -49305"/>
              <a:gd name="adj2" fmla="val 3676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8320" y="558972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like cabb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6093000"/>
            <a:ext cx="3889440" cy="576000"/>
          </a:xfrm>
          <a:prstGeom prst="wedgeEllipseCallout">
            <a:avLst>
              <a:gd name="adj1" fmla="val -49305"/>
              <a:gd name="adj2" fmla="val 351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58760" y="60930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т, спас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6237360"/>
            <a:ext cx="3889080" cy="431640"/>
          </a:xfrm>
          <a:prstGeom prst="wedgeEllipseCallout">
            <a:avLst>
              <a:gd name="adj1" fmla="val -43754"/>
              <a:gd name="adj2" fmla="val 801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89280" y="626256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, 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14:06Z</dcterms:created>
  <dc:creator>XTreme</dc:creator>
  <dc:description/>
  <dc:language>en-US</dc:language>
  <cp:lastModifiedBy>XTreme</cp:lastModifiedBy>
  <dcterms:modified xsi:type="dcterms:W3CDTF">2009-01-20T20:53:19Z</dcterms:modified>
  <cp:revision>9</cp:revision>
  <dc:subject/>
  <dc:title> Welcome to English</dc:title>
</cp:coreProperties>
</file>