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724-3B8F-4109-A062-745052D7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A8B-12BF-479B-9EF6-47DA6362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5C7-3403-46BC-8C8F-7D31F12E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77B-756E-4D14-A383-74AC2373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0B7-6FEC-4874-8C1C-21CCE292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0D6-31D6-47D7-83DF-7AAB67D4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356F-7949-4BDF-8102-F1A00701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8D7-4A18-4800-B98A-9AD72AD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532-DE1B-4DA5-93ED-8F17AD3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CAB-1284-4FEA-9D8C-951598B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583D-2B64-41C9-804C-38303270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FED-06D1-4612-A711-318B69C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E576-057F-4191-8D00-0197753B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84A1-18B3-4AD4-B09F-D60B319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CC51-B9DC-48BB-ABF0-591308D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3055-4940-4C8C-9A3F-12D1E18C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C94A-F885-4F1B-9112-E10020B6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513-8C13-419A-A108-BD334F1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165-7E02-49D1-AE47-A62D1DB6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93A-7B8A-457B-A3E2-312A49FC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1B0-EC92-4AA3-8289-099D1284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D75-46AF-45B0-8215-2F0D4B7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EF8-5067-43FB-9EAA-73AB08C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A34-B7D8-4234-97B4-2DEADB4B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0BB-6A9A-4514-A6D9-15EC3CF384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558-A613-46A8-9805-7E99367737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bOvalCallout"/>
          <p:cNvSpPr/>
          <p:nvPr/>
        </p:nvSpPr>
        <p:spPr>
          <a:xfrm>
            <a:off x="755640" y="1125360"/>
            <a:ext cx="7345440" cy="4537080"/>
          </a:xfrm>
          <a:custGeom>
            <a:avLst/>
            <a:gdLst>
              <a:gd name="textAreaLeft" fmla="*/ 1075680 w 7345440"/>
              <a:gd name="textAreaRight" fmla="*/ 6269760 w 7345440"/>
              <a:gd name="textAreaTop" fmla="*/ 498600 h 4537080"/>
              <a:gd name="textAreaBottom" fmla="*/ 2906280 h 4537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92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"/>
              </a:rPr>
              <a:t>Welcome to Englis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the 1(first) of Janua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Wednes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ение буквосочета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814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r,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700280"/>
            <a:ext cx="377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Three, 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j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oper Black"/>
              </a:rPr>
              <a:t>Do you know English numer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84464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36572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1844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50028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300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414972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5516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916280"/>
            <a:ext cx="1295280" cy="86328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084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78136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35772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92428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oper Black"/>
              </a:rPr>
              <a:t>Make up the dialogu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434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773360"/>
            <a:ext cx="3240000" cy="503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любишь суп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773360"/>
            <a:ext cx="3240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like soup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21000"/>
            <a:ext cx="4788000" cy="57636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,спасибо.Я не люблю су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2421000"/>
            <a:ext cx="4464000" cy="57636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thanks.I do not like soup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213000"/>
            <a:ext cx="3456000" cy="5050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284640"/>
            <a:ext cx="4176720" cy="50472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252360" y="4437000"/>
            <a:ext cx="403236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360" y="43657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437000"/>
            <a:ext cx="4356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you are. Help yourself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57720"/>
            <a:ext cx="324000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ас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5084640"/>
            <a:ext cx="3240000" cy="50328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0480" y="50846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877000"/>
            <a:ext cx="324000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80536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3789360"/>
            <a:ext cx="324144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86064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38149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800" y="3213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бы не хотел мё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91960" y="32846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uld you like some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33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3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ес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197000"/>
            <a:ext cx="644364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800" y="11970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eat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16280"/>
            <a:ext cx="529272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16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кашу, хлеб, вет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92280"/>
            <a:ext cx="52578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547380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292640"/>
            <a:ext cx="651672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0" y="335772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пи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5640" y="249228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porridge, bread and b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39320" y="429264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drink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29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3200" y="5157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молоко, чай и 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5877000"/>
            <a:ext cx="53640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4120" y="5830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milk, tea and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85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85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8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33336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160" y="40464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Я гол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68280"/>
            <a:ext cx="4788000" cy="648000"/>
          </a:xfrm>
          <a:prstGeom prst="cloudCallout">
            <a:avLst>
              <a:gd name="adj1" fmla="val -44462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28800" y="1268280"/>
            <a:ext cx="49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Вы любите ч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04640"/>
            <a:ext cx="4248000" cy="64800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000" y="5493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I am hu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1628640"/>
            <a:ext cx="4859280" cy="648000"/>
          </a:xfrm>
          <a:prstGeom prst="cloudCallout">
            <a:avLst>
              <a:gd name="adj1" fmla="val -48986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1680" y="17002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Do you like 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76640"/>
            <a:ext cx="4859280" cy="647640"/>
          </a:xfrm>
          <a:prstGeom prst="cloudCallout">
            <a:avLst>
              <a:gd name="adj1" fmla="val -44546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234936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И бутерброд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708280"/>
            <a:ext cx="4824360" cy="647640"/>
          </a:xfrm>
          <a:prstGeom prst="cloudCallout">
            <a:avLst>
              <a:gd name="adj1" fmla="val -44504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80656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. And a sandwich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28464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820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3429000"/>
            <a:ext cx="424800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400" y="35020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292640"/>
            <a:ext cx="5113440" cy="647640"/>
          </a:xfrm>
          <a:prstGeom prst="cloudCallout">
            <a:avLst>
              <a:gd name="adj1" fmla="val -49037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20" y="4365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 Можно мне вар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724280"/>
            <a:ext cx="4897440" cy="648000"/>
          </a:xfrm>
          <a:prstGeom prst="cloudCallout">
            <a:avLst>
              <a:gd name="adj1" fmla="val -44587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13640" y="4797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ve some j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73720"/>
            <a:ext cx="4248000" cy="647640"/>
          </a:xfrm>
          <a:prstGeom prst="cloudCallout">
            <a:avLst>
              <a:gd name="adj1" fmla="val -48842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80" y="537372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ечно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5516640"/>
            <a:ext cx="4679640" cy="647640"/>
          </a:xfrm>
          <a:prstGeom prst="cloudCallout">
            <a:avLst>
              <a:gd name="adj1" fmla="val -48949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6720" y="55418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course. Help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549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360" y="62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бы не хотел ры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765000"/>
            <a:ext cx="4248000" cy="648000"/>
          </a:xfrm>
          <a:prstGeom prst="wedgeEllipseCallout">
            <a:avLst>
              <a:gd name="adj1" fmla="val -44282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080" y="9079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ld you like some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700280"/>
            <a:ext cx="6121440" cy="647640"/>
          </a:xfrm>
          <a:prstGeom prst="wedgeEllipseCallout">
            <a:avLst>
              <a:gd name="adj1" fmla="val -46032"/>
              <a:gd name="adj2" fmla="val 70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" y="17733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Можно мне хл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2637000"/>
            <a:ext cx="5940360" cy="647640"/>
          </a:xfrm>
          <a:prstGeom prst="wedgeEllipseCallout">
            <a:avLst>
              <a:gd name="adj1" fmla="val -30143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6520" y="2708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, please. May I have some br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000" y="371808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371628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80320" y="3814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443700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840" y="45338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50864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0200" y="4581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445000"/>
            <a:ext cx="3889080" cy="64800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7680" y="55166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любишь капус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5516640"/>
            <a:ext cx="3889440" cy="64764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8320" y="5589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like cabb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6093000"/>
            <a:ext cx="3889440" cy="576000"/>
          </a:xfrm>
          <a:prstGeom prst="wedgeEllipseCallout">
            <a:avLst>
              <a:gd name="adj1" fmla="val -49305"/>
              <a:gd name="adj2" fmla="val 351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58760" y="609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т,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6237360"/>
            <a:ext cx="3889080" cy="431640"/>
          </a:xfrm>
          <a:prstGeom prst="wedgeEllipseCallout">
            <a:avLst>
              <a:gd name="adj1" fmla="val -43754"/>
              <a:gd name="adj2" fmla="val 80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9280" y="62625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14:06Z</dcterms:created>
  <dc:creator>XTreme</dc:creator>
  <dc:description/>
  <dc:language>en-US</dc:language>
  <cp:lastModifiedBy>XTreme</cp:lastModifiedBy>
  <dcterms:modified xsi:type="dcterms:W3CDTF">2009-01-20T20:53:19Z</dcterms:modified>
  <cp:revision>9</cp:revision>
  <dc:subject/>
  <dc:title> Welcome to English</dc:title>
</cp:coreProperties>
</file>