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27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C06-A99C-43F0-943A-9FD19043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443-5FAB-493C-9462-0E950D0F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784-3AB0-43F2-B7F8-2DBF0751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320-ECB5-4952-94A5-AA71FB6C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0F8-2418-4804-8610-FAC3C633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7C8-E344-48AB-AA24-DB871436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29A-FA35-4D61-9845-2EA18F58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5CD-DD8A-498A-9B1E-F6850253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DED-3C50-4C78-BB8F-503EFA4F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6ED-DED6-4542-8C42-378B8D5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C8F-FC7D-472A-B86C-45BDB529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A84-8696-446A-8CEB-B07C2F1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981-25BE-40D4-8825-85D3F9EA0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http://naruto-wolf.ucoz.ru/_fr/0/9609581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live4fun.ru/pictures/img_23893766_33_6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musafromwinx.apbb.ru/uploads/0004/f9/1c/2770-2-f.jpg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fl-m.ru/produkts/models/view/03.jpg" TargetMode="External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kill.ru/images/2006/09/01/157553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roller-kherson.clan.su/_ph/1/72116950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ucho-dyke.narod.ru/kick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Georgia"/>
              </a:rPr>
              <a:t>Агрессивный реб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3066840" cy="3313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2265480" cy="230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533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Georgia"/>
              </a:rPr>
              <a:t>Личные пр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Подсознательное ожидание 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Чаще всего мать ребенка во время беременности не чувствовала достаточной защищенности, чрезвычайно тревожилась и беспокоилась за себя и за своего будущего ребенка. Все эти ощущения передавались ребенку, и он родился, не имея базовой уверенности в безопасности мира. Потому он все время подсознательно ждет нападения, видит во всем потенциальную опасность и старается защититься от нее, как может и как умеет. Такой ребенок способен ответить агрессией на неожиданное прикосновение, даже самое ласковое и исходящее от родного ему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Неуверенность в собственной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гда родители заняты собой или выяснением собственных отношений, а ребенок предоставлен самому себе, у него может возникнуть неуверенность в собственной безопасности. Он начинает видеть опасность даже там, где ее нет, становится недоверчивым и подозрительным. Семья и дом не дают ему необходимой степени защиты и гарантии стабильности. А результатом становится проявляемая к месту и не к месту агрессивност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Личный отрицательны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Эмоциональная нестаби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4680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о 7 лет многие дети подвержены колебаниям эмоций, которые взрослые часто называют капризами. Настроение малыша может меняться под влиянием усталости или плохого самочувствия. В этом случае ребенок переносит свою агрессивность не на "обидчика", а на все, что под руку подверн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7735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Недовольство с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4608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ызывается не объективными причинами, а отсутствием эмоционального поощрения от родителей, которое приводит к тому, что дети не научаются любви к себе. Если ребенок не любит себя, считает себя недостойным любви, то он не любит и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321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Повышенная раздражи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88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Такие личностные особенности, как повышенная раздражительность, устойчивая тенденция обижаться даже на нейтральные, казалось бы, высказывания и действия других людей, также могут являться провокаторами проявления агрессивност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4308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Чувство в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16000" y="1052640"/>
            <a:ext cx="4103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ни испытывают чувство вины и чувство стыда по отношению к тем, с кем поступили нехорошо или кому причинили вред. Поскольку оба эти чувства довольно неприятны и не приносят радости, они и у взрослых нередко перенаправляются в адрес тех, к кому они испытывают эти чув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5720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eorgia"/>
              </a:rPr>
              <a:t>Ситуативные 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Плохое самочувствие, переуто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Чаще всего дети ведут себя агрессивно в те дни, когда они не выспались, плохо себя чувствуют или обиделись на что-то или кого-т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745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Влияние продуктов 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оказана взаимосвязь между повышением тревожности, нервозности и агрессивности и употреблением шоколада. За рубежом проводятся исследования, изучающие взаимосвязь между употреблением чипсов, гамбургеров, сладкой газированной воды и повышенной агрессивностью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51640" y="3284640"/>
            <a:ext cx="102240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Картинка 11 из 762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213000"/>
            <a:ext cx="2455920" cy="240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Картинка 6 из 74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6000" y="907920"/>
            <a:ext cx="164448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6 из 539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88000" y="5013360"/>
            <a:ext cx="2322720" cy="1595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9 из 935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907920"/>
            <a:ext cx="22114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Влияние шума, вибрации, тесноты, температуры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ы становимся особенно раздражительны и возбудимы именно в 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Теснота - еще один могучий провокатор нашей агрессивности. На ребенка теснота действует не менее сильно, чем на нас, взросл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У детей, живущих рядом с оживленными автострадами, проживающих в домах, находящихся над туннелями метрополитена или в непосредственной близости от железнодорожных путей, уровень агрессивности, согласно проведенным исследованиям, как правило, повыш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Georgia"/>
              </a:rPr>
              <a:t>Семейные пр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Неприятие детей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Некоторые родители бывают не готовы к тому, чтобы у них появился ребенок, но аборт по медицинским показаниям делать нежелательно, и ребенок все-таки появляется на свет. Хотя родители могут не говорить ему напрямую, что его не ждали и не хотели, он прекрасно осведомлен об этом, так как "считывает" информацию с их жестов и интонации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Georgia"/>
              </a:rPr>
              <a:t>Тип темперамента и особенности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енее всего склонны к акти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агрессии меланхолики и флег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ангвиник по природе своей не агрессивен и чаще всего предпочитает решать проблемные и даже конфликтные ситуации ми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Естественной склонностью к активной агрессии обладают холерики вследствие их крайней неуравновешенности как нервной, так и эмоциональной. Холерики чрезмерно раздражительны, вспыльчивы, их очень легко вывести из терп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08720" y="620640"/>
            <a:ext cx="1460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eorgia"/>
              </a:rPr>
              <a:t>Социально-биологические 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176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альчики чаще проявляют активную агрессию, чем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вышенная агрессивность может быть обусловлена также биологическими, половыми, психологическими и социальными прич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Чаще проявляется в дошкольном и подростковом возрас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6087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Физическ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Использование физической силы против другого 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Косвен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действия, как окольными путями направленные на другое лицо (сплетни, злобные шутки), так и ни на кого не направленные взрывы ярости (крик, топанье ногами, битье кулаками по столу, хлопанье дверьми и др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4578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Вербаль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ыражение негативных чувств как через форму (крик, визг, ссора), так и через содержание словесных ответов (угрозы, проклятия, ругань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22 из 95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50770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Склонность к раздраж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3671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Готовность к проявлению при малейшем возбуждении вспыльчивости, резкости, груб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4130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Нега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4835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ппозиционная манера поведения, обычно направленная против авторитета или руководства. Может нарастать от пассивного сопротивления до активной борьбы против установившихся законов и обычае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19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Типы человеческой аг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Доброкачест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Биологически адаптивная агрессивность – это реакция на угрозу витальным интересам индивида. Возникает спонтанно как реакция на угрозу; а следствие ее – устранение либо самой угрозы, либо ее пр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Злокачест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Главные ее проявления – жестокое истязание или убийство – не имеют никакой иной цели, кроме получения удовольств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Картинка 126 из 11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24280"/>
            <a:ext cx="5077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Псевдо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ействие, в результате которого может быть нанесен ущерб, но которым не предшествовали злые намерения (случайный выстрел с ранением человека, самоутверждение, игровая псевдоагрессия во время игр, тренингов и др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Разрушение эмоциональных связей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55640" y="134100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упруги сосуществуют в постоянных ссорах. Жизнь в такой семье становится для ребенка настоящим испытанием, особенно, если родители используют его как аргумент в споре между собой. Ребенок либо живет в постоянном напряжении, страдая от нестабильности в доме и конфликта между двумя самыми близкими ему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543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Оборонитель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 ситуации, когда возникает угроза жизни, здоровью, свободе или собственности проявляется так называемая оборонительная агресс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Картинка 7 из 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3048120"/>
            <a:ext cx="3876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Georgia"/>
              </a:rPr>
              <a:t>Симптомы неблагополу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Эмоционально-оценочные: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 понимают чувств и переживаний других люд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 могут разобраться в собственных чувствах и переживаниях, затрудняются их назв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чрезмерно подозрительны, все время ожидают физического и морального зла, удара, оскорбления от любого человека, сверстника или взросл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щущают себя отверженными, одинокими во враждебном мире; эгоцентрич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бладают крайностью самооценки (либо «я лучше всех», либо «я хуже всех»), неадекватно оценивают свое повед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 всех своих ошибках и неприятностях обвиняют окружающих, а собственные агрессивные действия считают правомерными, вынужденными или защит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Поведен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легко теряют контроль над соб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роявляют физическую агрессию (драчливы) и вербальную (угрозы, грубость, бран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емонстрируют вспышки ярости (кричат, визжат, топают ногами, катаются по полу, хлопают дверьми, швыряют и ломают предмет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аздражительны, вспыльчивы, гневливы, упрямы, завистливы, обидчивы, подозрительны, мститель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отличаются «оппозиционной» манерой поведения, направленной против того или иного авторитета (учителя, ученика-лидер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меренно создают конфликтные ситуации, провоцируют сс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Физ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традают головными болями, мускульным напряж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тличаются угрюмым, тоскливым настро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Georgia"/>
              </a:rPr>
              <a:t>Рекомендации по общению с агрессивным ребен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Georgia"/>
              </a:rPr>
              <a:t>Спокойное отношение в случае незначительной а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лное игнорирование реакций ребенка - весьма мощный способ  прекращения нежелательного повед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ыражение понимания чувств ребенка ("Конечно, тебе обидно...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ереключение внимания, предложение какого-либо задания ("Помоги мне, пожалуйста, достать посуду с верхней полки, ты ведь выше меня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зитивное обозначение поведения ("Ты злишься потому, что ты устал"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Georgia"/>
              </a:rPr>
              <a:t>2. Акцентирование внимания на поступках (поведении), а не на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нстатация факта ("ты ведешь себя агрессивно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нстатирующий вопрос ("ты злишься?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аскрытие мотивов агрессивного поведения ("Ты хочешь меня обидеть?", "Ты хочешь продемонстрировать силу?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обнаружение своих собственных чувств по отношению к нежелательному поведению ("Мне не нравится, когда со мной говорят в таком тоне", "Я сержусь, когда на меня кто-то громко кричит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апелляция к правилам ("Мы же с тобой договаривались!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3. Контроль над собственными негативными эмо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огда взрослый человек управляет своими отрицательными эмоциями, то он не подкрепляет агрессивное поведение ребенка, сохраняет с ним хорошие отношения и демонстрирует, как нужно взаимодействовать с агрессивным челове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8000" y="4221000"/>
            <a:ext cx="1655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40464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Georgia"/>
              </a:rPr>
              <a:t>4. Снижение напряжения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повышать голос, не менять тон на угрожающ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демонстрировать власть ("Будет так, как я скажу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кри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принимать агрессивные позы и жесты: сжатые челюсти, перекрещенные или сцепленные руки, разговор "сквозь зубы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использовать сарказм, насмешки, высмеивание и передразни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использовать негативную оценку личности ребенка, его близких или друз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использовать физическую си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втягивать в конфликт посторонних люд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настаивать на своей прав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читать нотации, проповед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делать обобщения типа: "Вы все одинаковые", "Ты, как всегда...", "Ты никогда не...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сравнивать ребенка с другими детьми - не в его пользу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000"/>
            </a:br>
            <a:br>
              <a:rPr sz="800"/>
            </a:br>
            <a:r>
              <a:rPr b="1" i="1" lang="en-US" sz="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5. Обсуждение проступ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Анализировать поведение в момент проявления агрессии не нужно, этим стоит заниматься только после того, как ситуация разрешится и все успокоятс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60872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6. Сохранение положительной репутаци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ублично минимизировать вину ребенка ("Ты не важно себя чувствуешь", "Ты не хотел его обидеть"), но в беседе с глазу на глаз показать ист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 требовать полного подчинения, позволить ребенку выполнить ваше требование по-св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едложить ребенку компромисс, договор с взаимными уступ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Безразличие или враждебность со стороны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2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7. Демонстрация модели неагрессив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ауза, дающая возможность ребенку успокои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нушение спокойствия невербаль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ояснение ситуации с помощью наводящих вопро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использование юм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изнание чувств ребенк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Georgia"/>
              </a:rPr>
              <a:t>8. Предупреждение агрессивных действий детей</a:t>
            </a:r>
            <a:r>
              <a:rPr b="0" lang="en-US" sz="2400" spc="-1" strike="noStrike">
                <a:solidFill>
                  <a:srgbClr val="d6009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икогда не следует поощрять ребенка за проявленную агресс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 необходимых случаях такого ребенка успокаивает временная изоляция с кратким разъяснением прич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если конфликт возникает среди детей, то стоит его временно оставить среди них: пусть почувствует, что такое проявить агрессивность без явной причины на 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если ребенок готов к нанесению удара (укусу и т.д.), то лучше быстро остановить его и резко предупредить его “Нельзя!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изредка стоит дать ребенку почувствовать и испытать подобное действие со стороны близких с последующим разъясн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Georgia"/>
              </a:rPr>
              <a:t>9. Обращение с ребенком после агрессивного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одыскать адекватную форму наказания после четкого объяснения его проступ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искать выход по переориентации его энергии по социально правильному рус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ледует помнить: частые наказания неэффективны, а безнаказанность еще больше пор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ридумать новые при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ереключения ребенка на новые в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отношений (игра, самообслуживание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308720" y="3068640"/>
            <a:ext cx="1654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Georgia"/>
              </a:rPr>
              <a:t>10. Обучение ребенка техникам и способам управления собственным гневом. Развитие контроля над деструктивными эмо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мкать и рвать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Бить подушку или боксерскую гру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Топать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писать на бумаге все слова, которые хочется сказать, скомкать и выбросить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тирать пластилин в картонку или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осчитать до дес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амое конструктивное - спортивные игры, б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ода хорошо снимает агре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Неуважение к личности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87640" y="981000"/>
            <a:ext cx="4105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Агрессивные реакции могут быть вызваны некорректной и нетактичной критикой, оскорбительными и унизительными замеч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443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Чрезмерный контроль или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отсутствие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824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давляемый гнев, как джинн из бутылки, в какой-то момент обязательно вырвется наружу. И его последствия, с точки зрения стороннего наблюдателя, будут тем страшнее и неадекватнее, чем дольше он коп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Жестокий характер матери ил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10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одители стремятся во всем управлять своим ребенком, подавляя его волю, не допуская никакого проявления его личной инициативы и не предоставляя ему возможности быть собой. Они вызывают у ребенка не столько любовь, сколько ст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106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Запрет на физическую ак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0720" y="981000"/>
            <a:ext cx="431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Если ребенок целый день не имел возможности открыто проявлять свои эмоции, как положительные, так и отрицательные, не мог физически разрядиться, то его агрессия будет обусловлена накопившимся переизбытком энергии, которая, как известно, не имеет свойства исчезать бессле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680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Отказ в праве на личную своб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9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ногие родители совершенно ошибочно полагают, что у ребенка не может быть от них секретов, забывая о том, что им самим такое вмешательство вряд ли понравилось бы. Ребенку необходима свобода, чтобы он научился самостоятельно принимать свои решения и отвечать за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21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04:49:18Z</dcterms:created>
  <dc:creator>Майоровы</dc:creator>
  <dc:description/>
  <dc:language>en-US</dc:language>
  <cp:lastModifiedBy>Admin</cp:lastModifiedBy>
  <dcterms:modified xsi:type="dcterms:W3CDTF">2011-03-10T06:55:49Z</dcterms:modified>
  <cp:revision>5</cp:revision>
  <dc:subject/>
  <dc:title>Агрессивный ребенок</dc:title>
</cp:coreProperties>
</file>