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E36-6C14-4FB5-B6C1-2BC43833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322-C9DF-4039-AF13-AF41826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D64-F5D4-4D08-BF20-8356057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B55-547E-4459-B00B-1C505766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8E7-035E-4739-A7DE-593282F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4C6-5401-4449-BF35-9A6EFFB8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C6D-B795-4BB6-850C-8479BA15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82E-5EA9-44C3-A1C6-DBE6BB7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D61-C848-4736-80B0-04E957B3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C9B-F045-4A40-9A5D-C9C63B0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D44-8FC0-4861-A14A-6684525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259-1D6B-4DEC-8124-30CC1B45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5D6-350A-43A3-B471-D938DC03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2924280"/>
            <a:ext cx="76676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"ОТКУДА ХЛЕБ ПРИШЕЛ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45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Муниципальное  бюджетное  дошкольное  образовательное 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«Детский сад к №  2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Энгельсского муниципальн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дготовила: воспитатель Саламатина Е. М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3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74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ктуа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 наши дни существуют ценности, которые никогда не потеряют свою значимость – это солнце, воздух и вода. Но к таким ценным источникам жизни можно отнести и хлеб. Без него не обходится ни один стол, ни праздничный, ни каждодневный. Издавна, так повелось, у всех народов хлеб занимает особое место. У всех народов хлеб является символом благополучия, надежным источником от голода. Еще с детства мы учимся бережно относиться к хлебу, как к самому большому богат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оект призван познакомить детей, каким тяжелым трудом появляется хлеб на наших столах, воспитывать бережное отношение к хлебу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705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Формирование у детей представлений о выращивании и изготовлении хл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крепить знания детей  о хлебе как одном из величайших богатств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Рассказать детям, как на наших столах появился хлеб, какой путь он проходит, прежде чем мы его съе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крепить названия профессий людей, производящих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бережное отношение к хлебу, уважение к труду людей, которые выращивают и изготавливают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пражнять детей в согласовании прилагательных с существительными в роде, числе и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Активизация и обогащение сло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46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знавательно – исследователь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одолжитель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раткоср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Участник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ети подготовительной группы, воспитатели, родител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9540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азработка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оздавать развивающую среду, подобрать материалы, атрибуты для игры, дидактические игры, иллюст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8910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формировать у детей представления о хл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интерес к профессии пекаря, комбайнера и к труду людей, которые производят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бережное отношение к хлеб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6772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бор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пытно – экспериментальн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Анал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18:26:38Z</dcterms:created>
  <dc:creator>vasy</dc:creator>
  <dc:description/>
  <dc:language>en-US</dc:language>
  <cp:lastModifiedBy>vasy</cp:lastModifiedBy>
  <dcterms:modified xsi:type="dcterms:W3CDTF">2001-12-31T23:59:59Z</dcterms:modified>
  <cp:revision>4</cp:revision>
  <dc:subject/>
  <dc:title>Слайд 1</dc:title>
</cp:coreProperties>
</file>