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B49-3073-4639-99CF-7F2D38B3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2AA-5477-416C-95E2-D16E178A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A85-C7B1-4238-8069-4831CD30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F0D-6139-4BF7-856C-628BBA7D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26A-FCDE-4A87-B666-12CC5B58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B82-846A-4A93-83B0-38FF32FC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951-660F-4418-8BA6-10B208CC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DFB-70A2-4F93-AA02-B98F3C3E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30C-EB49-4C69-BCAA-802FF294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240-1A26-4611-9625-71663D6E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A57-03D1-43E2-85E6-EEBF89D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607-45F8-49E9-8FFB-F4FAC249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2A02-524C-4AAF-9F70-7CE458910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1280" y="2924280"/>
            <a:ext cx="766764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"ОТКУДА ХЛЕБ ПРИШЕЛ"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45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Муниципальное  бюджетное  дошкольное  образовательное 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«Детский сад к №  2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Энгельсского муниципального района Сарат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Подготовила: воспитатель Саламатина Е. М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43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974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Актуа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 наши дни существуют ценности, которые никогда не потеряют свою значимость – это солнце, воздух и вода. Но к таким ценным источникам жизни можно отнести и хлеб. Без него не обходится ни один стол, ни праздничный, ни каждодневный. Издавна, так повелось, у всех народов хлеб занимает особое место. У всех народов хлеб является символом благополучия, надежным источником от голода. Еще с детства мы учимся бережно относиться к хлебу, как к самому большому богат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роект призван познакомить детей, каким тяжелым трудом появляется хлеб на наших столах, воспитывать бережное отношение к хлебу.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-7056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Формирование у детей представлений о выращивании и изготовлении хл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Закрепить знания детей  о хлебе как одном из величайших богатств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Рассказать детям, как на наших столах появился хлеб, какой путь он проходит, прежде чем мы его съед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Закрепить названия профессий людей, производящих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Воспитывать бережное отношение к хлебу, уважение к труду людей, которые выращивают и изготавливают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Упражнять детей в согласовании прилагательных с существительными в роде, числе и пад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Активизация и обогащение слова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7462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Вид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Познавательно – исследователь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Продолжительност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раткосро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Участник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Дети подготовительной группы, воспитатели, родител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9540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Разработка проек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оздавать развивающую среду, подобрать материалы, атрибуты для игры, дидактические игры, иллюст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8910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формировать у детей представления о хл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Воспитывать интерес к профессии пекаря, комбайнера и к труду людей, которые производят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Воспитывать бережное отношение к хлеб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67724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бор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аблю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Опытно – экспериментальная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8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Анали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18:26:38Z</dcterms:created>
  <dc:creator>vasy</dc:creator>
  <dc:description/>
  <dc:language>en-US</dc:language>
  <cp:lastModifiedBy>vasy</cp:lastModifiedBy>
  <dcterms:modified xsi:type="dcterms:W3CDTF">2001-12-31T23:59:59Z</dcterms:modified>
  <cp:revision>4</cp:revision>
  <dc:subject/>
  <dc:title>Слайд 1</dc:title>
</cp:coreProperties>
</file>