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1513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148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25200" y="744120"/>
            <a:ext cx="49654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0760" y="4717800"/>
            <a:ext cx="54529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60280" y="943308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D0AD-889A-456B-A388-1681980DA6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60640" y="9433080"/>
            <a:ext cx="2953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EED8-1926-45C4-AC46-3FA13DB6D0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2556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0760" y="4717800"/>
            <a:ext cx="54529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EA0A2-1AE4-43BC-8B37-E86D18DB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311E5-FA7A-4686-82DA-11E3EEA4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8031D-FB3D-4810-9F80-A4030226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0ADF9-C1AD-4486-91C9-364EFC5B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C4C1-1422-44C4-B393-491B60D3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9140-222F-4556-8749-73FE0ECF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09C5-5A9F-4CCB-87B4-FEC3BB1E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EAE7-1376-48F3-A26B-9766AC28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DD12-E446-47A0-9BCC-00E20E93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2069-5417-4943-A027-15F1DB2B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4D70-DE2C-4FC3-A614-3D0002BD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B8855-8268-46D9-972C-7C4631CC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D7B0-9616-49CA-8458-A26B8A29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FA51-35FC-4092-B802-D7ADCCAB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843E-9934-4E9D-AF43-3D6E0CB8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CA70-6FE9-4157-91A5-03161346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E004-4E5A-4334-B083-0D7457A3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A69A3-4B32-4E0D-9B93-8DA1952A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1AE4F-47BC-40F0-AD61-B0FC96F1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C21EF-4EC4-4BB8-BAA5-BCA8CF94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775A7-EA67-4967-8A93-DC43E0A9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8479E-6182-4D53-91BA-924BB1A0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A9B0E-BA12-4FD6-A610-6C7570E5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CB1AF-2440-4D52-826D-B1A037D8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658E-EC12-4939-99EB-F195D42F026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6818-6E87-45F4-8915-058BC28A993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8"/>
          <p:cNvSpPr/>
          <p:nvPr/>
        </p:nvSpPr>
        <p:spPr>
          <a:xfrm>
            <a:off x="611280" y="119700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84360" y="184464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Мотивы плохого повед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помогать ученикам вносить свой собственный вклад в групповые от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600200"/>
          <a:ext cx="8229600" cy="4684680"/>
        </p:xfrm>
        <a:graphic>
          <a:graphicData uri="http://schemas.openxmlformats.org/drawingml/2006/table">
            <a:tbl>
              <a:tblPr/>
              <a:tblGrid>
                <a:gridCol w="3033720"/>
                <a:gridCol w="5195880"/>
              </a:tblGrid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ка личного вклада ученика в процесс улучшения жизни своего кл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глашайте учеников помогать Вам ежедневно в решение разных учебных зад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йте, чтобы ученики высказывали и обосновывали предпочтения в ходе учебного проце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имайте правила вместе с ученик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ывайте моральную поддержку ученикам, которые стараются помочь друг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ческое репетитор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и выражают признание и одобрение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лодис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щрительные утвер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сьменные посвя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обрительный пар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ы ошибаемся, когда в ответ на выходку в напряженной ситу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м голос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носим фразу типа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Учитель (родитель) здесь пока еще я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тавляем последнее слово за соб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инаем крич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ем такие позы и жесты, которые «давят»: напряженный по­зы сжатые челюсти и сцепленные руки, разговор «сквозь зубы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ем сарказ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щаемся к оценке характера ученик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йствуем как начальник ( с превосходством ), используем физи­ческую сил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тягиваем в конфликт других людей, непричастных к нем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стаиваем на своей правот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итаем проповед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вим учеников в уго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авдываемся, защищаемся или «даем взятку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лаем обобщения типа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Вы все одинаковы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лаем необоснованные изобличен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ображаем негодовани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дираемся, изводим кого-то придиркам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дразниваем ученик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авниваем одного ученика с други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уем, требуем, дави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ощряем ученика, награждая е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актеристики поведения, направленного на привлечение в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125360"/>
          <a:ext cx="8435880" cy="5516640"/>
        </p:xfrm>
        <a:graphic>
          <a:graphicData uri="http://schemas.openxmlformats.org/drawingml/2006/table">
            <a:tbl>
              <a:tblPr/>
              <a:tblGrid>
                <a:gridCol w="2633760"/>
                <a:gridCol w="58021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е поведение НП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ы: ученики делают то, что отвлекает внимание учителя и кла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ое поведение НП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ы: ученики демонстрируют поведение «в-час-по-чайной-ложке», т.е. все требуемые учителем действия выполняют очень и очень медлен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 педаго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вства: раздражение и возмущение. Действия: словесные замечания, выговоры, угроз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ы ученика на реакцию уч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но прекращают выход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хождение (причина) НП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230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 и учителя больше внимания уде­ляют детям, которые ведут себя плохо, а не хорош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30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не научены просить или требовать вни­мания в приемлемой форм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30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часто испытывают дефицит личного внимания к себе, чувствуют себя «пустым мес­том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ая сторона поведения НП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и нуждаются во взаимоотношениях с учител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ципы предотвраще­ния поведения НП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2271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 внимания уделять хорошему пове­дени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271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 учеников просить внимания, когда он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этом очень нуждают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гда цель — привлечение внимания: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ы экстренного педагогического воздейств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68360" y="1413000"/>
          <a:ext cx="8229600" cy="4941720"/>
        </p:xfrm>
        <a:graphic>
          <a:graphicData uri="http://schemas.openxmlformats.org/drawingml/2006/table">
            <a:tbl>
              <a:tblPr/>
              <a:tblGrid>
                <a:gridCol w="2127240"/>
                <a:gridCol w="6102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изация вним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230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норируйте демонстративное поведени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30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акт глазам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30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овитесь рядо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30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авляйте имя ученика в текст объяснения урок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30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ылайте секретный знак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30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ылайте письменные замеча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30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йте «Я-высказывание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ешающее пове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йте урок на основе вопиющего поведения. Доведите до предела демонстративную выходку. Весь класс присоединяется к выходке. «Разрешенная квот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йте неожиданности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ключите свет. Издайте музыкальный звук. Говорите тихим голосом. Измените голос. Говорите со стеной (или с портретом). Временно прекратите вести ур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леките студ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вайте прямые вопросы. Попросите об одолжении. Измените деятель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айте внимание группы на примеры хорошего по­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дарите учеников. Пишите имена примерных учеников на доск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аживайте уче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яйте учеников местами. «Стул размышлений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актеристики властолюбивого повед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052640"/>
          <a:ext cx="8229600" cy="5472000"/>
        </p:xfrm>
        <a:graphic>
          <a:graphicData uri="http://schemas.openxmlformats.org/drawingml/2006/table">
            <a:tbl>
              <a:tblPr/>
              <a:tblGrid>
                <a:gridCol w="2838600"/>
                <a:gridCol w="539100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е властолюбив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пышки негодования, словесное негодование: ученики идут на конфронтацию и нагнетают напряжен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ое властолюбив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хое непослушание: студенты обещают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жливо отвечают нам, но продолжают делать св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авдание ленью, плохим вниманием, забывчивостью, плохим слух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 педаго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и: гнев, негодование, может быть, стр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пульс: немедленно прекратить выходку с помощью физического воздействия (встряхнуть, ударить и т.п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ы ученика на реакцию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ответа: конфронтация («Вы мне ничего не сделаете»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: выходка продолжается, пока сам ученик не решит прекратить е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17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хождение властолюбивого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циальные установки изменились: 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й господства-подчинения в ролевом обществе прошлого к отношениям эмансипации и равных социальных пра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Мода на «сильную личность» учит  утверждению своей силы, а не конструктивному подчин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ые стороны властолюбивого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и демонстрируют лидерские способности: умение независимо мыслить и способность сопротивляться авторитет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ципы профилак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толюбивого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Уход от конфронтации и снижение напряжен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ередача ученику части своей организаторской вла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истики мстительного повед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125360"/>
          <a:ext cx="8435880" cy="5732640"/>
        </p:xfrm>
        <a:graphic>
          <a:graphicData uri="http://schemas.openxmlformats.org/drawingml/2006/table">
            <a:tbl>
              <a:tblPr/>
              <a:tblGrid>
                <a:gridCol w="2633760"/>
                <a:gridCol w="580212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е мстительно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ые физические и непрямые психологические акты насилия: ученик вредит всеми силами учителю, воспитателю или обои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ое мстительств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норируются всякие дружелюбные попытки конта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 учител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и: обида, боль, опустошение в дополнение к гневу, негодованию и страх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пульс: немедленно ответить силой, как равному, (подавить) или уйти из ситуации (убежать из класс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ы ученика на реакцию учител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ответа – вредить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 – выходка продолжается пока сам ученик не решит прекратить е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хождение мстительного повед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жение роста насилия в обществ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ространенный через средства массовой информации стиль «силового» разрешения конфли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ые стороны мстительного повед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и демонстрируют высокую жизнеспособность, умение защитить себя от бол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ципы профилактики мстительного повед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ь отношения о всеми учениками по принципу заботы о ни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 учеников выражать душевную боль и страдания приемлемыми способ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50752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 - власть или месть: меры экстренного педагогического вмешательств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8360" y="1197000"/>
          <a:ext cx="8229600" cy="5486400"/>
        </p:xfrm>
        <a:graphic>
          <a:graphicData uri="http://schemas.openxmlformats.org/drawingml/2006/table">
            <a:tbl>
              <a:tblPr/>
              <a:tblGrid>
                <a:gridCol w="2568600"/>
                <a:gridCol w="5661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щите «изящный у хо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йте власть уче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ерите зр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носите обсуждение вопро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йте запи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адачивайте учеников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глашайтесь с ученик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яйте те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йте уда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ие не выходя из класс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ие в другой клас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ие в специальное помещ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ляция в кабинете школьной адми­нист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ие с применением си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йте сан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шение или отлагательство права заниматься чем-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шение или отлагательство права пользования предме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шение доступа в различные поме­щения шко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кращение взаимодействия с дру­гими учени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е встречи с администраци­ей шко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е встречи с родит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е встречи с милици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ещение учеником убытк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инка, ремонт предметов, вещ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щение вещей на мест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на на равноц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604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арактеристика поведения, направленного на избегание неу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981000"/>
          <a:ext cx="8964720" cy="5761080"/>
        </p:xfrm>
        <a:graphic>
          <a:graphicData uri="http://schemas.openxmlformats.org/drawingml/2006/table">
            <a:tbl>
              <a:tblPr/>
              <a:tblGrid>
                <a:gridCol w="1860480"/>
                <a:gridCol w="71042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ая форма ИН-по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пышки негодования: ученик теряет кон­троль над собой, когда давление ответственно­сти становится слишком сильны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ая форма ИН-по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адывание на пото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доведение до конц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ная неспособность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ициальные диагноз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 уч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вств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профессиональной беспомощ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пульс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правдаться и объяснить поведе­ние ученика (с помощью специалиста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ная реакция уче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ответ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зависимо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одолжает ничего не дел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хождение ИН-по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по типу «красного карандаша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основанные ожидания родителей и учи­тел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а ученика, что ему подходит только перфекциониз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р на соревнование в класс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ые стороны Ин-по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и хотят успеха: все делать только от­лично, лучше всех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большинства учеников —сильных сторон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ципы профилактики ИН-по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ка ученика, чтобы его внутрен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ка «Я не могу» изменилась на «Я могу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ь в преодолении социальной изоляции путем включения ученика в отношения с другими людь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да цель – избегание неудачи: меры экстренного вмеш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5280" y="1197000"/>
          <a:ext cx="8229600" cy="5871960"/>
        </p:xfrm>
        <a:graphic>
          <a:graphicData uri="http://schemas.openxmlformats.org/drawingml/2006/table">
            <a:tbl>
              <a:tblPr/>
              <a:tblGrid>
                <a:gridCol w="2674800"/>
                <a:gridCol w="5554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ить методы объяс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осязаемый материал и компью­терные программы для формирования навыков. Учить за раз чему-то одн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сти дополнительные методы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ая помощь от учителя. Помощь компетентных взрослых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и-репетиторы. Классы корре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 позитивно рассказывать о том, что ты делаешь, и о себ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е плакаты с «заклинаниями».Ищите два «плюса» на каждый «минус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ларация «Я смогу» перед выполнением зад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ть ошибки нормальным и нужным явле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ывайте об ошибках. Показывайте ценность ошибки как попытки. Минимизируйте последствия от сделанных ошиб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ть веру в успе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еркивайте любые улучшения. Объявляйте о любых вкладах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рывайте сильные стороны своих учеников. Демонстрируйте веру в своих учеников. Признавайте трудность ваших заданий. Ограничивайте время ваших задан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ировать внимание учеников на уже достигнутых в прошлом успех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ируйте прошлый успех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яйте и закрепляйте успех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ть процесс обучения ощутим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лейки «Я могу». Альбомы достижений. Рассказы о вчера, сегодня и завт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чать дост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лодисменты. «Звезды и наклейки». Награды и медали. Выстав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тивная изоляция. Самопри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помогать ученикам устанавливать нормальные отношения с вами и чувствовать свою коммуникативную 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1639800"/>
                <a:gridCol w="3846600"/>
                <a:gridCol w="2743200"/>
              </a:tblGrid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говорит взросл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слышит ребен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 хорош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хорош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им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вижу теб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что-то знач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ж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асибо тебе за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и усилия замеч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обр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знаю о тебе что-то замеча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состояте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ые чув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 мне нравиш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-то заботится обо м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11:00:46Z</dcterms:created>
  <dc:creator>Helen</dc:creator>
  <dc:description/>
  <dc:language>en-US</dc:language>
  <cp:lastModifiedBy>Александра</cp:lastModifiedBy>
  <dcterms:modified xsi:type="dcterms:W3CDTF">2017-02-21T07:28:39Z</dcterms:modified>
  <cp:revision>35</cp:revision>
  <dc:subject/>
  <dc:title>Санкт-Петербургский Государственный Университет Факультет психологии</dc:title>
</cp:coreProperties>
</file>