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14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2520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60280" y="94330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A1A-0BE1-4CBC-932C-71B5BEE002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60640" y="943308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FA3-AE05-48CD-A5D3-194E569F1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4397-2A54-4057-B422-B4BB9B3A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35F7-EBCD-4B2F-8F55-19136293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4043-BA25-4582-87A7-9D702AFA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9F59-F091-443A-ACFE-1294A475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1967-3B65-45FB-84CD-77FD4EA6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A48-71DF-4477-AE2D-BA615E9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8825-42A5-4A08-A199-4D4F03B6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733C-E291-43C0-8F91-69EC58A1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C9C2-7397-47D3-ADBE-1EA0F05C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45E2-F105-42BD-A2FB-1D77856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11BC-8043-43C8-8CB6-B11553E8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67A9-216E-470D-A2E4-F8D4C8CA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427C-4A9A-4106-BE3E-711B995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1C74-EEF3-488F-A35D-928A9C7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A87A-B7BD-478C-BA00-D23DD97B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0742-25B0-49AC-91E4-ABF6F770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74CB-2BBF-4DA8-898B-B661287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BC7C-B7B7-496A-A422-AD7FAB8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F09D-0BC9-4EC7-9598-C876461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4919-01DB-4923-9467-572043DC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60A5-51DB-414A-82A3-8486EC5E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6CC2-CAC3-44CF-85B5-495FFA4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B82B-9357-421C-A9AC-B99CE45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A7B4-BD29-4102-86F9-B5189C1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1157-04F6-4043-AA4D-8AFAEE5532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180-F5DE-49AC-88AD-6CA44C5642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8"/>
          <p:cNvSpPr/>
          <p:nvPr/>
        </p:nvSpPr>
        <p:spPr>
          <a:xfrm>
            <a:off x="611280" y="119700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4360" y="184464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Мотивы плохого повед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помогать ученикам вносить свой собственный вклад в групповы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684680"/>
        </p:xfrm>
        <a:graphic>
          <a:graphicData uri="http://schemas.openxmlformats.org/drawingml/2006/table">
            <a:tbl>
              <a:tblPr/>
              <a:tblGrid>
                <a:gridCol w="3033720"/>
                <a:gridCol w="519588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личного вклада ученика в процесс улучшения жизни своего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айте учеников помогать Вам ежедневно в решение разных учеб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йте, чтобы ученики высказывали и обосновывали предпочтения в ходе учебного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йте правила вместе с уче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ывайте моральную поддержку ученикам, которые стараются помочь друг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ческое репетито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выражают признание и одобрение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ельные утвер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ые посвя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ительный 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ошибаемся, когда в ответ на выходку в напряженной 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м голо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носим фразу типа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Учитель (родитель) здесь пока еще я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вляем последнее слово за со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ем крич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м такие позы и жесты, которые «давят»: напряженный по­зы сжатые челюсти и сцепленные руки, разговор «сквозь зуб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м сарказ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аемся к оценке характера учени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уем как начальник ( с превосходством ), используем физи­ческую сил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ягиваем в конфликт других людей, непричастных к не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аиваем на своей право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таем проповед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вим учеников в уго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авдываемся, защищаемся или «даем взятку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м обобщения типа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Вы все одинаков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м необоснованные изоблич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аем негодов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дираемся, изводим кого-то придирк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разниваем учен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иваем одного ученика с други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уем, требуем, дави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ощряем ученика, награждая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и поведения, направленного на привлечени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125360"/>
          <a:ext cx="8435880" cy="5516640"/>
        </p:xfrm>
        <a:graphic>
          <a:graphicData uri="http://schemas.openxmlformats.org/drawingml/2006/table">
            <a:tbl>
              <a:tblPr/>
              <a:tblGrid>
                <a:gridCol w="2633760"/>
                <a:gridCol w="5802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поведение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: ученики делают то, что отвлекает внимание учителя и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поведение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: ученики демонстрируют поведение «в-час-по-чайной-ложке», т.е. все требуемые учителем действия выполняют очень и очень медле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педаг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а: раздражение и возмущение. Действия: словесные замечания, выговоры, угроз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ученика на реакцию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о прекращают выход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(причина)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30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учителя больше внимания уде­ляют детям, которые ведут себя плохо, а не хорош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не научены просить или требовать вни­мания в приемлемой фор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часто испытывают дефицит личного внимания к себе, чувствуют себя «пустым мес­том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сторона поведения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нуждаются во взаимоотношениях с учите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едотвраще­ния поведения НП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27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внимания уделять хорошему пове­де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71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учеников просить внимания, когда он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этом очень нуждаю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цель — привлечение вним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экстренного педагогического воздейст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1413000"/>
          <a:ext cx="8229600" cy="4941720"/>
        </p:xfrm>
        <a:graphic>
          <a:graphicData uri="http://schemas.openxmlformats.org/drawingml/2006/table">
            <a:tbl>
              <a:tblPr/>
              <a:tblGrid>
                <a:gridCol w="2127240"/>
                <a:gridCol w="610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изация вни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уйте демонстративное поведе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глаз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итесь ряд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вляйте имя ученика в текст объяснения уро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лайте секретный зна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лайте письменные замеч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30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«Я-высказывани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ающее п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те урок на основе вопиющего поведения. Доведите до предела демонстративную выходку. Весь класс присоединяется к выходке. «Разрешенная квот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те неожиданности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лючите свет. Издайте музыкальный звук. Говорите тихим голосом. Измените голос. Говорите со стеной (или с портретом). Временно прекратите вести ур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леките студ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вайте прямые вопросы. Попросите об одолжении. Измените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айте внимание группы на примеры хорошего по­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ите учеников. Пишите имена примерных учеников на дос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аживайте уче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йте учеников местами. «Стул размышлений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и властолюбивого повед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052640"/>
          <a:ext cx="8229600" cy="5472000"/>
        </p:xfrm>
        <a:graphic>
          <a:graphicData uri="http://schemas.openxmlformats.org/drawingml/2006/table">
            <a:tbl>
              <a:tblPr/>
              <a:tblGrid>
                <a:gridCol w="2838600"/>
                <a:gridCol w="5391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властолюби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ышки негодования, словесное негодование: ученики идут на конфронтацию и нагнетают напряжен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властолюби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хое непослушание: студенты обещают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жливо отвечают нам, но продолжают делать с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вдание ленью, плохим вниманием, забывчивостью, плохим слух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: гнев, негодование, может быть, ст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: немедленно прекратить выходку с помощью физического воздействия (встряхнуть, ударить и т.п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ученика на реакцию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ответа: конфронтация («Вы мне ничего не сделаете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: выходка продолжается, пока сам ученик не решит прекратить 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властолюбив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циальные установки изменились: 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й господства-подчинения в ролевом обществе прошлого к отношениям эмансипации и равных социальных пра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ода на «сильную личность» учит  утверждению своей силы, а не конструктивному подчи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властолюбив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демонстрируют лидерские способности: умение независимо мыслить и способность сопротивляться авторитет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олюбив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ход от конфронтации и снижение напряжен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дача ученику части своей организаторской в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и мстительного повед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125360"/>
          <a:ext cx="8435880" cy="5732640"/>
        </p:xfrm>
        <a:graphic>
          <a:graphicData uri="http://schemas.openxmlformats.org/drawingml/2006/table">
            <a:tbl>
              <a:tblPr/>
              <a:tblGrid>
                <a:gridCol w="2633760"/>
                <a:gridCol w="58021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мстительн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 физические и непрямые психологические акты насилия: ученик вредит всеми силами учителю, воспитателю или обои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мститель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уются всякие дружелюбные попытки конта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учите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и: обида, боль, опустошение в дополнение к гневу, негодованию и страх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: немедленно ответить силой, как равному, (подавить) или уйти из ситуации (убежать из класс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ученика на реакцию учите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ответа – вреди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– выходка продолжается пока сам ученик не решит прекратить е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мстительного 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роста насилия в обществ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енный через средства массовой информации стиль «силового» разрешения конфли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мстительного 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демонстрируют высокую жизнеспособность, умение защитить себя от бо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офилактики мстительного повед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ь отношения о всеми учениками по принципу заботы о н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учеников выражать душевную боль и страдания приемлемыми способ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- власть или месть: меры экстренного педагогического вмешатель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1197000"/>
          <a:ext cx="8229600" cy="5486400"/>
        </p:xfrm>
        <a:graphic>
          <a:graphicData uri="http://schemas.openxmlformats.org/drawingml/2006/table">
            <a:tbl>
              <a:tblPr/>
              <a:tblGrid>
                <a:gridCol w="2568600"/>
                <a:gridCol w="5661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щите «изящный у х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йте власть уче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рите зр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ите обсуждение вопро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те запи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адачивайте учеников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шайтесь с учени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яйте те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йте уда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не выходя из класс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в другой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в специальное поме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яция в кабинете школьной адми­нист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с применением с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йте са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ение или отлагательство права заниматься чем-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ение или отлагательство права пользования предме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ение доступа в различные поме­щения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ие взаимодействия с дру­гими уче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встречи с администраци­ей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встречи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е встречи с милиц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учеником убытк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инка, ремонт предметов, вещ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щение вещей на мест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на равноц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604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а поведения, направленного на избегание неу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981000"/>
          <a:ext cx="8964720" cy="5761080"/>
        </p:xfrm>
        <a:graphic>
          <a:graphicData uri="http://schemas.openxmlformats.org/drawingml/2006/table">
            <a:tbl>
              <a:tblPr/>
              <a:tblGrid>
                <a:gridCol w="1860480"/>
                <a:gridCol w="7104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форма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ышки негодования: ученик теряет кон­троль над собой, когда давление ответственно­сти становится слишком силь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ая форма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адывание на пот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ведение до конц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ая неспособно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иальные диагно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профессиональной беспомощ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ульс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равдаться и объяснить поведе­ние ученика (с помощью специалист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ная реакция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отве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зависим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должает ничего не дел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хождение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о типу «красного карандаш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снованные ожидания родителей и учи­те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а ученика, что ему подходит только перфекциониз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 на соревнование в клас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хотят успеха: все делать только от­лично, лучше все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ольшинства учеников —сильных сторон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ципы профилактики ИН-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ученика, чтобы его внутре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«Я не могу» изменилась на «Я могу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 в преодолении социальной изоляции путем включения ученика в отношения с другими люд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цель – избегание неудачи: меры экстренного вмеш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197000"/>
          <a:ext cx="8229600" cy="5871960"/>
        </p:xfrm>
        <a:graphic>
          <a:graphicData uri="http://schemas.openxmlformats.org/drawingml/2006/table">
            <a:tbl>
              <a:tblPr/>
              <a:tblGrid>
                <a:gridCol w="2674800"/>
                <a:gridCol w="555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ить методы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осязаемый материал и компью­терные программы для формирования навыков. Учить за раз чему-то одн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дополнительные методы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помощь от учителя. Помощь компетентных взрослы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-репетиторы. Классы корр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позитивно рассказывать о том, что ты делаешь, и о с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 плакаты с «заклинаниями».Ищите два «плюса» на каждый «минус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ация «Я смогу» перед выполнением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ошибки нормальным и нужным явл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вайте об ошибках. Показывайте ценность ошибки как попытки. Минимизируйте последствия от сделанных оши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ть веру в успе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йте любые улучшения. Объявляйте о любых вклад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йте сильные стороны своих учеников. Демонстрируйте веру в своих учеников. Признавайте трудность ваших заданий. Ограничивайте время ваших зад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ировать внимание учеников на уже достигнутых в прошлом успех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ируйте прошлый успе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яйте и закрепляйте успе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процесс обучения ощутим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ейки «Я могу». Альбомы достижений. Рассказы о вчера, сегодня и завт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чать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. «Звезды и наклейки». Награды и медали. Выста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ая изоляция. Самопри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помогать ученикам устанавливать нормальные отношения с вами и чувствовать свою коммуникативную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639800"/>
                <a:gridCol w="3846600"/>
                <a:gridCol w="274320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говорит взрос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лышит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 хорош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хорош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вижу теб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что-то зна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асибо тебе з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и усилия замеч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об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о тебе что-то замеч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состояте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ые чув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 мне нравиш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-то заботится обо м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1:00:46Z</dcterms:created>
  <dc:creator>Helen</dc:creator>
  <dc:description/>
  <dc:language>en-US</dc:language>
  <cp:lastModifiedBy>Александра</cp:lastModifiedBy>
  <dcterms:modified xsi:type="dcterms:W3CDTF">2017-02-21T07:28:39Z</dcterms:modified>
  <cp:revision>35</cp:revision>
  <dc:subject/>
  <dc:title>Санкт-Петербургский Государственный Университет Факультет психологии</dc:title>
</cp:coreProperties>
</file>