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8634-7AAB-453E-9A86-AABB9768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9520" y="409824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978-34AE-4168-8791-8F2C7069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2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DB8-99FB-4654-A223-D762829E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76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036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952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76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036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65C-93FA-4C64-8C81-0EBA51E8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EBBB-E6CC-4840-8565-37F0C8BB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1F44-1A1A-4FA5-BCC2-6E68D448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D989-C59B-4906-BCB3-C7AE31F0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2A94-99B3-4377-8015-1490F60E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E44D-0458-473A-A5CC-AF5C6E6E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7FCB-75B5-4652-BBE9-26525134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8921-C678-4F39-B551-CB4C7C8E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F11A-F900-40CF-8E8D-0FF1EE24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72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8521-B1DD-4CE9-A63A-9DF531C1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E85C-F4E5-4172-BD98-F4D85FAD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9520" y="409824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D4EB-B940-457C-9CAC-D4CEEBE8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72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DD0E-5873-49EA-8613-38F3CB67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3476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036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952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3476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036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3320-1C17-4E1E-8C3E-9D5457F9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095-4211-4A53-B006-48B7713B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8C1-449F-452A-8876-3EB3E4CE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3BA-592C-450C-97A3-CF68E6E2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0840-6741-40D4-A04D-C8F74548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B247-18EA-442A-9064-3DCB9619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2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656-84E1-40D5-88BE-E54D2EF9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F24E-4482-4EF1-956A-4747D1BF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22B7-EA50-4BAC-BAA2-6C9A47B60A82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3400" y="787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827840" y="2743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3FD1-A5FE-4538-AA85-7E8A0B707CAE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4920" y="642960"/>
            <a:ext cx="5545080" cy="21384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.Г.Паустовский </a:t>
            </a:r>
            <a:br>
              <a:rPr sz="4300"/>
            </a:br>
            <a:r>
              <a:rPr b="1" i="1" lang="ru-RU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быкновенная земля»</a:t>
            </a:r>
            <a:endParaRPr b="0" lang="en-US" sz="4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476280"/>
            <a:ext cx="8351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2581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Обобщение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59120" indent="25812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а) обобщение нескольких однородных мелких (частных, единичных) вопросов, фактов, примеров. (В этом случае нужно сначала найти в тексте эти однородные частные факты, вычленить в них общее, а затем  подобрать языковую форму их обобщенной передачи, то есть  переформулировать мысль своими словами. Например: В коробке лежали  синие, красные, зеленые и жёлтые шары. = В коробке лежали  разноцветные шары.)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59120" indent="25812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) образование сложного предложения путем слияния двух смежных предложений, повествующих об одном и том же предмете речи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59120" indent="258120">
              <a:lnSpc>
                <a:spcPct val="90000"/>
              </a:lnSpc>
              <a:spcBef>
                <a:spcPts val="751"/>
              </a:spcBef>
              <a:buClr>
                <a:srgbClr val="afc5b9"/>
              </a:buClr>
              <a:buFont typeface="Wingdings 3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23640" y="476280"/>
            <a:ext cx="8351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Упрощени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а) 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бивка сложного предложения на сокращенные простые;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) замена сложноподчинённого предложения простым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) перевод диалога или прямой речи в косвенную;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г) замена фрагмента текста синонимичным выражением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) формулирование мысли своими словам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afc5b9"/>
              </a:buClr>
              <a:buFont typeface="Wingdings 3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9880" y="499680"/>
            <a:ext cx="744696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И если мне хочется иногда жить до ста двадцати лет, то только потому, что мало одной жизни, чтобы испытать до конца все очарование и всю исцеляющую силу нашей русской природы. Любовь к родной природе – один из верных признаков любви к своей стороне»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 algn="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. Паустовский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4" descr="C:\Users\MSI FX603\Desktop\0_9074_mid2.jpeg"/>
          <p:cNvPicPr/>
          <p:nvPr/>
        </p:nvPicPr>
        <p:blipFill>
          <a:blip r:embed="rId2"/>
          <a:stretch/>
        </p:blipFill>
        <p:spPr>
          <a:xfrm>
            <a:off x="324000" y="654120"/>
            <a:ext cx="2762280" cy="26384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5" descr="C:\Users\MSI FX603\Desktop\30d7a1762a1b166b56a591cc6e92b479.jpg"/>
          <p:cNvPicPr/>
          <p:nvPr/>
        </p:nvPicPr>
        <p:blipFill>
          <a:blip r:embed="rId3"/>
          <a:stretch/>
        </p:blipFill>
        <p:spPr>
          <a:xfrm>
            <a:off x="5842080" y="5446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6" descr="C:\Users\MSI FX603\Desktop\smilik.jpg"/>
          <p:cNvPicPr/>
          <p:nvPr/>
        </p:nvPicPr>
        <p:blipFill>
          <a:blip r:embed="rId4"/>
          <a:stretch/>
        </p:blipFill>
        <p:spPr>
          <a:xfrm>
            <a:off x="3160800" y="654120"/>
            <a:ext cx="2635200" cy="249552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7"/>
          <p:cNvSpPr/>
          <p:nvPr/>
        </p:nvSpPr>
        <p:spPr>
          <a:xfrm>
            <a:off x="6157800" y="3292560"/>
            <a:ext cx="25178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атериал полностью усвоен мно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357120" y="3530520"/>
            <a:ext cx="272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атериал урока не понят мно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>
            <a:off x="3160800" y="3508200"/>
            <a:ext cx="292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 меня есть отдельные затруднения в овладении новым материа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23640" y="40428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4000" spc="-1" strike="noStrike">
                <a:solidFill>
                  <a:srgbClr val="005c00"/>
                </a:solidFill>
                <a:latin typeface="Times New Roman"/>
                <a:ea typeface="Times New Roman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2"/>
          <a:stretch/>
        </p:blipFill>
        <p:spPr>
          <a:xfrm>
            <a:off x="3240000" y="4508640"/>
            <a:ext cx="2627280" cy="21621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"/>
          <p:cNvSpPr/>
          <p:nvPr/>
        </p:nvSpPr>
        <p:spPr>
          <a:xfrm>
            <a:off x="0" y="115920"/>
            <a:ext cx="84247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ВСЁ В ТВОИХ РУКАХ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Жил мудрец, который знал все. Один человек захотел доказать, что мудрец знает не все. Зажав в ладонях бабочку, он спросил: «Скажи, мудрец, какая бабочка у меня в руках: мертвая или живая?» А сам думает: «Скажет живая - я ее умертвлю, скажет мертвая - выпущу». Мудрец, подумав, ответил: «Все в твоих руках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Monotype Corsiv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http://iralebedeva.ru/images/paustovsky_b.jpg"/>
          <p:cNvPicPr/>
          <p:nvPr/>
        </p:nvPicPr>
        <p:blipFill>
          <a:blip r:embed="rId2"/>
          <a:stretch/>
        </p:blipFill>
        <p:spPr>
          <a:xfrm>
            <a:off x="395280" y="333360"/>
            <a:ext cx="2905200" cy="3513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3419640" y="549000"/>
            <a:ext cx="429552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62720">
              <a:lnSpc>
                <a:spcPct val="1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Самое большое, простое и бесхитростное счастье я нашел в Мещерском крае. Счастье близости к своей земле, сосредоточенности и внутренней свободы, любимых дум и напряженного труда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62720" indent="-162720">
              <a:lnSpc>
                <a:spcPct val="1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редней России – и только ей – я обязан большинством написанных мною вещей.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62720" indent="-162720" algn="r">
              <a:lnSpc>
                <a:spcPct val="17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.Пауст</a:t>
            </a:r>
            <a:r>
              <a:rPr b="0" i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вский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214280" y="404280"/>
            <a:ext cx="74296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дготовиться к написанию сжатого изложения К. Паустовского «Обыкновенная земля»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вивать речь, память, кругозор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формировать умение видеть прекрасное в обыкновенном, обыденном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оспитывать любовь к природ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Содержимое 2"/>
          <p:cNvSpPr/>
          <p:nvPr/>
        </p:nvSpPr>
        <p:spPr>
          <a:xfrm>
            <a:off x="4356000" y="404640"/>
            <a:ext cx="4392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571680" y="500040"/>
            <a:ext cx="82296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Цели и задачи уро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749160" y="334800"/>
            <a:ext cx="7791480" cy="1951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post-6773-1163190993"/>
          <p:cNvPicPr/>
          <p:nvPr/>
        </p:nvPicPr>
        <p:blipFill>
          <a:blip r:embed="rId2"/>
          <a:stretch/>
        </p:blipFill>
        <p:spPr>
          <a:xfrm rot="21318600">
            <a:off x="1118880" y="3395520"/>
            <a:ext cx="2735280" cy="129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ost-6773-1163190993"/>
          <p:cNvPicPr/>
          <p:nvPr/>
        </p:nvPicPr>
        <p:blipFill>
          <a:blip r:embed="rId3"/>
          <a:stretch/>
        </p:blipFill>
        <p:spPr>
          <a:xfrm flipH="1" rot="240600">
            <a:off x="5398560" y="3387600"/>
            <a:ext cx="2980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38"/>
          <p:cNvGrpSpPr/>
          <p:nvPr/>
        </p:nvGrpSpPr>
        <p:grpSpPr>
          <a:xfrm>
            <a:off x="718920" y="50400"/>
            <a:ext cx="1369800" cy="1356120"/>
            <a:chOff x="718920" y="50400"/>
            <a:chExt cx="1369800" cy="1356120"/>
          </a:xfrm>
        </p:grpSpPr>
        <p:sp>
          <p:nvSpPr>
            <p:cNvPr id="97" name="AutoShape 28"/>
            <p:cNvSpPr/>
            <p:nvPr/>
          </p:nvSpPr>
          <p:spPr>
            <a:xfrm>
              <a:off x="90000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AutoShape 32"/>
            <p:cNvSpPr/>
            <p:nvPr/>
          </p:nvSpPr>
          <p:spPr>
            <a:xfrm rot="2241600">
              <a:off x="89964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42"/>
          <p:cNvGrpSpPr/>
          <p:nvPr/>
        </p:nvGrpSpPr>
        <p:grpSpPr>
          <a:xfrm>
            <a:off x="6983280" y="3363480"/>
            <a:ext cx="1369800" cy="1356120"/>
            <a:chOff x="6983280" y="3363480"/>
            <a:chExt cx="1369800" cy="1356120"/>
          </a:xfrm>
        </p:grpSpPr>
        <p:sp>
          <p:nvSpPr>
            <p:cNvPr id="100" name="AutoShape 43"/>
            <p:cNvSpPr/>
            <p:nvPr/>
          </p:nvSpPr>
          <p:spPr>
            <a:xfrm>
              <a:off x="7164360" y="357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AutoShape 44"/>
            <p:cNvSpPr/>
            <p:nvPr/>
          </p:nvSpPr>
          <p:spPr>
            <a:xfrm rot="2241600">
              <a:off x="7164000" y="357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Group 48"/>
          <p:cNvGrpSpPr/>
          <p:nvPr/>
        </p:nvGrpSpPr>
        <p:grpSpPr>
          <a:xfrm>
            <a:off x="5112000" y="3008160"/>
            <a:ext cx="1369440" cy="1355760"/>
            <a:chOff x="5112000" y="3008160"/>
            <a:chExt cx="1369440" cy="1355760"/>
          </a:xfrm>
        </p:grpSpPr>
        <p:sp>
          <p:nvSpPr>
            <p:cNvPr id="103" name="AutoShape 49"/>
            <p:cNvSpPr/>
            <p:nvPr/>
          </p:nvSpPr>
          <p:spPr>
            <a:xfrm>
              <a:off x="5292720" y="321804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50"/>
            <p:cNvSpPr/>
            <p:nvPr/>
          </p:nvSpPr>
          <p:spPr>
            <a:xfrm rot="2241600">
              <a:off x="5292360" y="321768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51"/>
          <p:cNvGrpSpPr/>
          <p:nvPr/>
        </p:nvGrpSpPr>
        <p:grpSpPr>
          <a:xfrm>
            <a:off x="1330200" y="2420640"/>
            <a:ext cx="1369800" cy="1356120"/>
            <a:chOff x="1330200" y="2420640"/>
            <a:chExt cx="1369800" cy="1356120"/>
          </a:xfrm>
        </p:grpSpPr>
        <p:sp>
          <p:nvSpPr>
            <p:cNvPr id="106" name="AutoShape 52"/>
            <p:cNvSpPr/>
            <p:nvPr/>
          </p:nvSpPr>
          <p:spPr>
            <a:xfrm>
              <a:off x="1511280" y="26305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53"/>
            <p:cNvSpPr/>
            <p:nvPr/>
          </p:nvSpPr>
          <p:spPr>
            <a:xfrm rot="2241600">
              <a:off x="1510920" y="26301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Group 57"/>
          <p:cNvGrpSpPr/>
          <p:nvPr/>
        </p:nvGrpSpPr>
        <p:grpSpPr>
          <a:xfrm>
            <a:off x="718920" y="5235120"/>
            <a:ext cx="1369800" cy="1356120"/>
            <a:chOff x="718920" y="5235120"/>
            <a:chExt cx="1369800" cy="1356120"/>
          </a:xfrm>
        </p:grpSpPr>
        <p:sp>
          <p:nvSpPr>
            <p:cNvPr id="109" name="AutoShape 58"/>
            <p:cNvSpPr/>
            <p:nvPr/>
          </p:nvSpPr>
          <p:spPr>
            <a:xfrm>
              <a:off x="900000" y="544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AutoShape 59"/>
            <p:cNvSpPr/>
            <p:nvPr/>
          </p:nvSpPr>
          <p:spPr>
            <a:xfrm rot="2241600">
              <a:off x="899640" y="544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Group 60"/>
          <p:cNvGrpSpPr/>
          <p:nvPr/>
        </p:nvGrpSpPr>
        <p:grpSpPr>
          <a:xfrm>
            <a:off x="4174920" y="4731840"/>
            <a:ext cx="1369800" cy="1356120"/>
            <a:chOff x="4174920" y="4731840"/>
            <a:chExt cx="1369800" cy="1356120"/>
          </a:xfrm>
        </p:grpSpPr>
        <p:sp>
          <p:nvSpPr>
            <p:cNvPr id="112" name="AutoShape 61"/>
            <p:cNvSpPr/>
            <p:nvPr/>
          </p:nvSpPr>
          <p:spPr>
            <a:xfrm>
              <a:off x="4356000" y="4941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AutoShape 62"/>
            <p:cNvSpPr/>
            <p:nvPr/>
          </p:nvSpPr>
          <p:spPr>
            <a:xfrm rot="2241600">
              <a:off x="4355640" y="49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Group 63"/>
          <p:cNvGrpSpPr/>
          <p:nvPr/>
        </p:nvGrpSpPr>
        <p:grpSpPr>
          <a:xfrm>
            <a:off x="5111640" y="1131480"/>
            <a:ext cx="1369800" cy="1356120"/>
            <a:chOff x="5111640" y="1131480"/>
            <a:chExt cx="1369800" cy="1356120"/>
          </a:xfrm>
        </p:grpSpPr>
        <p:sp>
          <p:nvSpPr>
            <p:cNvPr id="115" name="AutoShape 64"/>
            <p:cNvSpPr/>
            <p:nvPr/>
          </p:nvSpPr>
          <p:spPr>
            <a:xfrm>
              <a:off x="529272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AutoShape 65"/>
            <p:cNvSpPr/>
            <p:nvPr/>
          </p:nvSpPr>
          <p:spPr>
            <a:xfrm rot="2241600">
              <a:off x="529236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Group 66"/>
          <p:cNvGrpSpPr/>
          <p:nvPr/>
        </p:nvGrpSpPr>
        <p:grpSpPr>
          <a:xfrm>
            <a:off x="3743280" y="50400"/>
            <a:ext cx="1369800" cy="1356120"/>
            <a:chOff x="3743280" y="50400"/>
            <a:chExt cx="1369800" cy="1356120"/>
          </a:xfrm>
        </p:grpSpPr>
        <p:sp>
          <p:nvSpPr>
            <p:cNvPr id="118" name="AutoShape 67"/>
            <p:cNvSpPr/>
            <p:nvPr/>
          </p:nvSpPr>
          <p:spPr>
            <a:xfrm>
              <a:off x="392436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AutoShape 68"/>
            <p:cNvSpPr/>
            <p:nvPr/>
          </p:nvSpPr>
          <p:spPr>
            <a:xfrm rot="2241600">
              <a:off x="392400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Group 72"/>
          <p:cNvGrpSpPr/>
          <p:nvPr/>
        </p:nvGrpSpPr>
        <p:grpSpPr>
          <a:xfrm>
            <a:off x="7270560" y="50400"/>
            <a:ext cx="1369800" cy="1356120"/>
            <a:chOff x="7270560" y="50400"/>
            <a:chExt cx="1369800" cy="1356120"/>
          </a:xfrm>
        </p:grpSpPr>
        <p:sp>
          <p:nvSpPr>
            <p:cNvPr id="121" name="AutoShape 73"/>
            <p:cNvSpPr/>
            <p:nvPr/>
          </p:nvSpPr>
          <p:spPr>
            <a:xfrm>
              <a:off x="745164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74"/>
            <p:cNvSpPr/>
            <p:nvPr/>
          </p:nvSpPr>
          <p:spPr>
            <a:xfrm rot="2241600">
              <a:off x="745128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Group 75"/>
          <p:cNvGrpSpPr/>
          <p:nvPr/>
        </p:nvGrpSpPr>
        <p:grpSpPr>
          <a:xfrm>
            <a:off x="3287880" y="2265120"/>
            <a:ext cx="1369440" cy="1355760"/>
            <a:chOff x="3287880" y="2265120"/>
            <a:chExt cx="1369440" cy="1355760"/>
          </a:xfrm>
        </p:grpSpPr>
        <p:sp>
          <p:nvSpPr>
            <p:cNvPr id="124" name="AutoShape 76"/>
            <p:cNvSpPr/>
            <p:nvPr/>
          </p:nvSpPr>
          <p:spPr>
            <a:xfrm>
              <a:off x="3468600" y="247500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AutoShape 77"/>
            <p:cNvSpPr/>
            <p:nvPr/>
          </p:nvSpPr>
          <p:spPr>
            <a:xfrm rot="2241600">
              <a:off x="3468240" y="247464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521 -0.28856 0.2757 -0.14936 0.2757 0.02196 C 0.2757 0.19306 0.15521 0.33295 0.00764 0.33295 C -0.1401 0.33295 -0.25989 0.19306 -0.25989 0.02196 C -0.25989 -0.14936 -0.1401 -0.28856 0.00764 -0.28856 Z">
                                      <p:cBhvr>
                                        <p:cTn id="210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2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434 -0.28856 0.27413 -0.14752 0.27413 0.0259 C 0.27413 0.19954 0.15434 0.34058 0.00764 0.34058 C -0.13889 0.34058 -0.25764 0.19954 -0.25764 0.0259 C -0.25764 -0.14752 -0.13889 -0.28856 0.00764 -0.28856 Z">
                                      <p:cBhvr>
                                        <p:cTn id="21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2"/>
          <p:cNvSpPr/>
          <p:nvPr/>
        </p:nvSpPr>
        <p:spPr>
          <a:xfrm>
            <a:off x="2050920" y="692280"/>
            <a:ext cx="4824720" cy="475272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3"/>
          <p:cNvSpPr/>
          <p:nvPr/>
        </p:nvSpPr>
        <p:spPr>
          <a:xfrm>
            <a:off x="7000920" y="2214720"/>
            <a:ext cx="431640" cy="43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7 -0.25179 C -0.1625 -0.25179 -0.04722 -0.09896 -0.04722 0.08902 C -0.04722 0.277 -0.1625 0.43006 -0.30347 0.43006 C -0.44462 0.43006 -0.55903 0.277 -0.55903 0.08902 C -0.55903 -0.09896 -0.44462 -0.25179 -0.30347 -0.25179 Z">
                                      <p:cBhvr>
                                        <p:cTn id="22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8 -0.25179 C -0.16268 -0.25179 -0.04757 -0.09896 -0.04757 0.08902 C -0.04757 0.277 -0.16268 0.43006 -0.30348 0.43006 C -0.44479 0.43006 -0.55938 0.277 -0.55938 0.08902 C -0.55938 -0.09896 -0.44479 -0.25179 -0.30348 -0.25179 Z">
                                      <p:cBhvr>
                                        <p:cTn id="22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34 0.09305 L -0.57275 0.09305 E">
                                      <p:cBhvr>
                                        <p:cTn id="23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7 -0.25185 C -0.15833 -0.25185 -0.03941 -0.10139 -0.03941 0.08403 C -0.03941 0.26921 -0.15833 0.42014 -0.30347 0.42014 C -0.44844 0.42014 -0.56649 0.26921 -0.56649 0.08403 C -0.56649 -0.10139 -0.44844 -0.25185 -0.30347 -0.25185 Z">
                                      <p:cBhvr>
                                        <p:cTn id="234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7 -0.25185 C -0.16545 -0.25185 -0.05226 -0.09676 -0.05226 0.09421 C -0.05226 0.28518 -0.16545 0.4412 -0.30347 0.4412 C -0.44167 0.4412 -0.554 0.28518 -0.554 0.09421 C -0.554 -0.09676 -0.44167 -0.25185 -0.30347 -0.25185 Z">
                                      <p:cBhvr>
                                        <p:cTn id="237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9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8 -0.25185 C -0.16285 -0.25185 -0.04809 -0.09931 -0.04809 0.08842 C -0.04809 0.27592 -0.16285 0.42893 -0.30348 0.42893 C -0.44393 0.42893 -0.55816 0.27592 -0.55816 0.08842 C -0.55816 -0.09931 -0.44393 -0.25185 -0.30348 -0.25185 Z">
                                      <p:cBhvr>
                                        <p:cTn id="24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324000" y="3716280"/>
            <a:ext cx="8280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428760" y="500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пособы сжатия текста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сключение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бобще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прощение.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Содержимое 2" descr=""/>
          <p:cNvPicPr/>
          <p:nvPr/>
        </p:nvPicPr>
        <p:blipFill>
          <a:blip r:embed="rId2"/>
          <a:stretch/>
        </p:blipFill>
        <p:spPr>
          <a:xfrm>
            <a:off x="317520" y="341280"/>
            <a:ext cx="8515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</dc:creator>
  <dc:description/>
  <dc:language>en-US</dc:language>
  <cp:lastModifiedBy>Марина</cp:lastModifiedBy>
  <dcterms:modified xsi:type="dcterms:W3CDTF">2016-02-29T16:20:09Z</dcterms:modified>
  <cp:revision>68</cp:revision>
  <dc:subject/>
  <dc:title>Слайд 1</dc:title>
</cp:coreProperties>
</file>