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203-8B1F-4F10-BAE9-A7FD3A48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7F2-15F1-4954-A0B6-660C5D61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6AF-7936-439B-8838-111F74B9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7B9-6C0E-4C4F-9605-FAB7DD2B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9483-21C3-4950-8B0E-82C3DC94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1D0F-C4A3-4242-9CBE-7D5FFFED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5CAD-839F-4C7D-A9E9-C43383B9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0835-B15C-4E59-A11F-D5BE2E2F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996A-2675-4164-8C42-F7667160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C7EF-53D6-425B-B598-091637F3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0A53-9C32-47B0-9432-4C33A11F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9DA-04E0-422D-AAE6-EDA464A5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44E5-7B64-4B4C-B02B-11822994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2314-9CA9-4902-B81A-149F7D97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EB30-ABDC-4294-855C-50488B4C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5C01-27AC-4782-B37E-1C5BCA56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A262-289C-4F92-B2B8-44E42050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982-A74A-4BFD-8D92-BC1FB9C7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C10-169F-41C4-A160-17EC5E9E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40B-CF12-4C6C-B959-5D26861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953-2B85-4AB6-BFAE-29522564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E2F-4D99-42DB-8846-D13E746B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837-DDD0-44A4-8AE3-0C1B608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493-CC41-44F6-B536-53FF360C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0BB1-8FFF-4F22-9A43-C381B5E7FE7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3400" y="787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827840" y="2743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0687-2BF1-4A0A-871A-8CA356E722EA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4920" y="642960"/>
            <a:ext cx="5545080" cy="2138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.Г.Паустовский </a:t>
            </a:r>
            <a:br>
              <a:rPr sz="4300"/>
            </a:br>
            <a:r>
              <a:rPr b="1" i="1" lang="ru-RU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ыкновенная земля»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476280"/>
            <a:ext cx="8351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25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Обобщение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59120" indent="2581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) обобщение нескольких однородных мелких (частных, единичных) вопросов, фактов, примеров. (В этом случае нужно сначала найти в тексте эти однородные частные факты, вычленить в них общее, а затем  подобрать языковую форму их обобщенной передачи, то есть  переформулировать мысль своими словами. Например: В коробке лежали  синие, красные, зеленые и жёлтые шары. = В коробке лежали  разноцветные шары.)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59120" indent="2581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) образование сложного предложения путем слияния двух смежных предложений, повествующих об одном и том же предмете реч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59120" indent="258120">
              <a:lnSpc>
                <a:spcPct val="90000"/>
              </a:lnSpc>
              <a:spcBef>
                <a:spcPts val="751"/>
              </a:spcBef>
              <a:buClr>
                <a:srgbClr val="afc5b9"/>
              </a:buClr>
              <a:buFont typeface="Wingdings 3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3640" y="476280"/>
            <a:ext cx="8351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Упрощени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)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бивка сложного предложения на сокращенные простые;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) замена сложноподчинённого предложения простым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) перевод диалога или прямой речи в косвенную;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) замена фрагмента текста синонимичным выражением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) формулирование мысли своими слова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afc5b9"/>
              </a:buClr>
              <a:buFont typeface="Wingdings 3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9880" y="499680"/>
            <a:ext cx="744696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И если мне хочется иногда жить до ста двадцати лет, то только потому, что мало одной жизни, чтобы испытать до конца все очарование и всю исцеляющую силу нашей русской природы. Любовь к родной природе – один из верных признаков любви к своей стороне»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 Паустовский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C:\Users\MSI FX603\Desktop\0_9074_mid2.jpeg"/>
          <p:cNvPicPr/>
          <p:nvPr/>
        </p:nvPicPr>
        <p:blipFill>
          <a:blip r:embed="rId2"/>
          <a:stretch/>
        </p:blipFill>
        <p:spPr>
          <a:xfrm>
            <a:off x="324000" y="654120"/>
            <a:ext cx="2762280" cy="26384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C:\Users\MSI FX603\Desktop\30d7a1762a1b166b56a591cc6e92b479.jpg"/>
          <p:cNvPicPr/>
          <p:nvPr/>
        </p:nvPicPr>
        <p:blipFill>
          <a:blip r:embed="rId3"/>
          <a:stretch/>
        </p:blipFill>
        <p:spPr>
          <a:xfrm>
            <a:off x="5842080" y="544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C:\Users\MSI FX603\Desktop\smilik.jpg"/>
          <p:cNvPicPr/>
          <p:nvPr/>
        </p:nvPicPr>
        <p:blipFill>
          <a:blip r:embed="rId4"/>
          <a:stretch/>
        </p:blipFill>
        <p:spPr>
          <a:xfrm>
            <a:off x="3160800" y="654120"/>
            <a:ext cx="2635200" cy="24955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6157800" y="3292560"/>
            <a:ext cx="25178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териал полностью усвоен мн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357120" y="3530520"/>
            <a:ext cx="27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териал урока не понят мно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3160800" y="3508200"/>
            <a:ext cx="292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 меня есть отдельные затруднения в овладении новым материа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3640" y="404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000" spc="-1" strike="noStrike">
                <a:solidFill>
                  <a:srgbClr val="005c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2"/>
          <a:stretch/>
        </p:blipFill>
        <p:spPr>
          <a:xfrm>
            <a:off x="3240000" y="4508640"/>
            <a:ext cx="2627280" cy="2162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0" y="115920"/>
            <a:ext cx="84247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ВСЁ В ТВОИХ РУКАХ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Жил мудрец, который знал все. Один человек захотел доказать, что мудрец знает не все. Зажав в ладонях бабочку, он спросил: «Скажи, мудрец, какая бабочка у меня в руках: мертвая или живая?» А сам думает: «Скажет живая - я ее умертвлю, скажет мертвая - выпущу». Мудрец, подумав, ответил: «Все в твоих рука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http://iralebedeva.ru/images/paustovsky_b.jpg"/>
          <p:cNvPicPr/>
          <p:nvPr/>
        </p:nvPicPr>
        <p:blipFill>
          <a:blip r:embed="rId2"/>
          <a:stretch/>
        </p:blipFill>
        <p:spPr>
          <a:xfrm>
            <a:off x="395280" y="333360"/>
            <a:ext cx="2905200" cy="351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419640" y="549000"/>
            <a:ext cx="429552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Самое большое, простое и бесхитростное счастье я нашел в Мещерском крае. Счастье близости к своей земле, сосредоточенности и внутренней свободы, любимых дум и напряженного труд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62720" indent="-162720"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редней России – и только ей – я обязан большинством написанных мною вещей.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62720" indent="-162720" algn="r">
              <a:lnSpc>
                <a:spcPct val="17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Пауст</a:t>
            </a:r>
            <a:r>
              <a:rPr b="0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вский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14280" y="404280"/>
            <a:ext cx="74296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дготовиться к написанию сжатого изложения К. Паустовского «Обыкновенная земля»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ть речь, память, кругозор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ормировать умение видеть прекрасное в обыкновенном, обыденном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оспитывать любовь к приро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Содержимое 2"/>
          <p:cNvSpPr/>
          <p:nvPr/>
        </p:nvSpPr>
        <p:spPr>
          <a:xfrm>
            <a:off x="4356000" y="404640"/>
            <a:ext cx="4392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571680" y="500040"/>
            <a:ext cx="82296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Цели и задачи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749160" y="334800"/>
            <a:ext cx="7791480" cy="195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ost-6773-1163190993"/>
          <p:cNvPicPr/>
          <p:nvPr/>
        </p:nvPicPr>
        <p:blipFill>
          <a:blip r:embed="rId2"/>
          <a:stretch/>
        </p:blipFill>
        <p:spPr>
          <a:xfrm rot="21318600">
            <a:off x="1118880" y="3395520"/>
            <a:ext cx="2735280" cy="129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ost-6773-1163190993"/>
          <p:cNvPicPr/>
          <p:nvPr/>
        </p:nvPicPr>
        <p:blipFill>
          <a:blip r:embed="rId3"/>
          <a:stretch/>
        </p:blipFill>
        <p:spPr>
          <a:xfrm flipH="1" rot="240600">
            <a:off x="5398560" y="3387600"/>
            <a:ext cx="2980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38"/>
          <p:cNvGrpSpPr/>
          <p:nvPr/>
        </p:nvGrpSpPr>
        <p:grpSpPr>
          <a:xfrm>
            <a:off x="718920" y="50400"/>
            <a:ext cx="1369800" cy="1356120"/>
            <a:chOff x="718920" y="50400"/>
            <a:chExt cx="1369800" cy="1356120"/>
          </a:xfrm>
        </p:grpSpPr>
        <p:sp>
          <p:nvSpPr>
            <p:cNvPr id="97" name="AutoShape 28"/>
            <p:cNvSpPr/>
            <p:nvPr/>
          </p:nvSpPr>
          <p:spPr>
            <a:xfrm>
              <a:off x="90000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32"/>
            <p:cNvSpPr/>
            <p:nvPr/>
          </p:nvSpPr>
          <p:spPr>
            <a:xfrm rot="2241600">
              <a:off x="89964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100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48"/>
          <p:cNvGrpSpPr/>
          <p:nvPr/>
        </p:nvGrpSpPr>
        <p:grpSpPr>
          <a:xfrm>
            <a:off x="5112000" y="3008160"/>
            <a:ext cx="1369440" cy="1355760"/>
            <a:chOff x="5112000" y="3008160"/>
            <a:chExt cx="1369440" cy="1355760"/>
          </a:xfrm>
        </p:grpSpPr>
        <p:sp>
          <p:nvSpPr>
            <p:cNvPr id="103" name="AutoShape 49"/>
            <p:cNvSpPr/>
            <p:nvPr/>
          </p:nvSpPr>
          <p:spPr>
            <a:xfrm>
              <a:off x="5292720" y="321804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50"/>
            <p:cNvSpPr/>
            <p:nvPr/>
          </p:nvSpPr>
          <p:spPr>
            <a:xfrm rot="2241600">
              <a:off x="5292360" y="321768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51"/>
          <p:cNvGrpSpPr/>
          <p:nvPr/>
        </p:nvGrpSpPr>
        <p:grpSpPr>
          <a:xfrm>
            <a:off x="1330200" y="2420640"/>
            <a:ext cx="1369800" cy="1356120"/>
            <a:chOff x="1330200" y="2420640"/>
            <a:chExt cx="1369800" cy="1356120"/>
          </a:xfrm>
        </p:grpSpPr>
        <p:sp>
          <p:nvSpPr>
            <p:cNvPr id="106" name="AutoShape 52"/>
            <p:cNvSpPr/>
            <p:nvPr/>
          </p:nvSpPr>
          <p:spPr>
            <a:xfrm>
              <a:off x="1511280" y="26305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53"/>
            <p:cNvSpPr/>
            <p:nvPr/>
          </p:nvSpPr>
          <p:spPr>
            <a:xfrm rot="2241600">
              <a:off x="1510920" y="26301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109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112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115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118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121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75"/>
          <p:cNvGrpSpPr/>
          <p:nvPr/>
        </p:nvGrpSpPr>
        <p:grpSpPr>
          <a:xfrm>
            <a:off x="3287880" y="2265120"/>
            <a:ext cx="1369440" cy="1355760"/>
            <a:chOff x="3287880" y="2265120"/>
            <a:chExt cx="1369440" cy="1355760"/>
          </a:xfrm>
        </p:grpSpPr>
        <p:sp>
          <p:nvSpPr>
            <p:cNvPr id="124" name="AutoShape 76"/>
            <p:cNvSpPr/>
            <p:nvPr/>
          </p:nvSpPr>
          <p:spPr>
            <a:xfrm>
              <a:off x="3468600" y="24750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77"/>
            <p:cNvSpPr/>
            <p:nvPr/>
          </p:nvSpPr>
          <p:spPr>
            <a:xfrm rot="2241600">
              <a:off x="3468240" y="247464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10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1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3"/>
          <p:cNvSpPr/>
          <p:nvPr/>
        </p:nvSpPr>
        <p:spPr>
          <a:xfrm>
            <a:off x="7000920" y="2214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22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22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9305 L -0.57275 0.09305 E">
                                      <p:cBhvr>
                                        <p:cTn id="23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85 C -0.15833 -0.25185 -0.03941 -0.10139 -0.03941 0.08403 C -0.03941 0.26921 -0.15833 0.42014 -0.30347 0.42014 C -0.44844 0.42014 -0.56649 0.26921 -0.56649 0.08403 C -0.56649 -0.10139 -0.44844 -0.25185 -0.30347 -0.25185 Z">
                                      <p:cBhvr>
                                        <p:cTn id="23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85 C -0.16545 -0.25185 -0.05226 -0.09676 -0.05226 0.09421 C -0.05226 0.28518 -0.16545 0.4412 -0.30347 0.4412 C -0.44167 0.4412 -0.554 0.28518 -0.554 0.09421 C -0.554 -0.09676 -0.44167 -0.25185 -0.30347 -0.25185 Z">
                                      <p:cBhvr>
                                        <p:cTn id="23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85 C -0.16285 -0.25185 -0.04809 -0.09931 -0.04809 0.08842 C -0.04809 0.27592 -0.16285 0.42893 -0.30348 0.42893 C -0.44393 0.42893 -0.55816 0.27592 -0.55816 0.08842 C -0.55816 -0.09931 -0.44393 -0.25185 -0.30348 -0.25185 Z">
                                      <p:cBhvr>
                                        <p:cTn id="24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24000" y="3716280"/>
            <a:ext cx="8280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428760" y="500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особы сжатия текст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ключение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общ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прощение.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2" descr=""/>
          <p:cNvPicPr/>
          <p:nvPr/>
        </p:nvPicPr>
        <p:blipFill>
          <a:blip r:embed="rId2"/>
          <a:stretch/>
        </p:blipFill>
        <p:spPr>
          <a:xfrm>
            <a:off x="317520" y="341280"/>
            <a:ext cx="8515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Марина</cp:lastModifiedBy>
  <dcterms:modified xsi:type="dcterms:W3CDTF">2016-02-29T16:20:09Z</dcterms:modified>
  <cp:revision>68</cp:revision>
  <dc:subject/>
  <dc:title>Слайд 1</dc:title>
</cp:coreProperties>
</file>