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9A1-D345-4C46-8DF3-6F88D647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468-2B3A-4232-9415-ABB276FE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CC5D-F645-494B-846A-7710B2FB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3B51-511B-4E61-9177-C36E5C26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6D31-E1CB-4259-A0FB-3B7EBFED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53D7-693B-44FA-A8E5-F93C376F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8F4A-0C18-4B26-9674-EA29D834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395A-6A83-43EA-A013-191555E8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7685-90F8-4DED-9D2B-60D2707E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AD9C-7F94-4865-9A48-A2444065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13D4-6978-49CE-8DB5-56230E3D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94E7-06FA-404A-B8EE-573614D7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5B2F-0E89-4480-9820-685FF65C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BBE1-C403-4B0B-B9F9-2EAF3EB6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46F8-B902-46D9-9A46-11DA3F04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031E-8995-4894-A1C2-C228F9A8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CDF1-41B9-4D62-B3D8-3831F206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347-F83A-4970-A396-C97491C2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8E9-9A2D-4F03-B7B0-4BB18A4F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DCA-8338-43D2-8FB6-57C568F0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ECA-CAC4-48F4-A35B-43BAA19F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F89-9230-4563-93D7-E0E59D58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571-39BF-4DA1-84B8-78B30140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84A-72DE-425E-B695-F1671195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8316-B7BD-4488-AFFA-927E806FFF7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F4F8-738D-4227-8B92-52908E1FD83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458"/>
                </a:solidFill>
                <a:latin typeface="Verdana"/>
              </a:rPr>
              <a:t>Правильная осанка – </a:t>
            </a:r>
            <a:r>
              <a:rPr b="0" lang="en-US" sz="4400" spc="-1" strike="noStrike">
                <a:solidFill>
                  <a:srgbClr val="ffcc00"/>
                </a:solidFill>
                <a:latin typeface="Verdana"/>
              </a:rPr>
              <a:t>золотые</a:t>
            </a:r>
            <a:r>
              <a:rPr b="0" lang="en-US" sz="4400" spc="-1" strike="noStrike">
                <a:solidFill>
                  <a:srgbClr val="003458"/>
                </a:solidFill>
                <a:latin typeface="Verdana"/>
              </a:rPr>
              <a:t> совет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301920" y="2482920"/>
            <a:ext cx="2540160" cy="2689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553080" y="5774760"/>
            <a:ext cx="22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Чистя овощи, всегда сидите за столом, избегайте наклоняться над рабочей поверхностью, как правило, слишком низкой.</a:t>
            </a:r>
            <a:br>
              <a:rPr sz="2600"/>
            </a:br>
            <a:r>
              <a:rPr b="1" lang="en-US" sz="2600" spc="-1" strike="noStrike">
                <a:solidFill>
                  <a:srgbClr val="ffcc00"/>
                </a:solidFill>
                <a:latin typeface="Verdana"/>
              </a:rPr>
              <a:t>2.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Старайтесь приседать, а не наклоняться, загружая стиральную машину.</a:t>
            </a:r>
            <a:br>
              <a:rPr sz="2600"/>
            </a:br>
            <a:r>
              <a:rPr b="1" lang="en-US" sz="2600" spc="-1" strike="noStrike">
                <a:solidFill>
                  <a:srgbClr val="ffcc00"/>
                </a:solidFill>
                <a:latin typeface="Verdana"/>
              </a:rPr>
              <a:t>3.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При глажке белья доска должна находиться на высоте 10-15 см от локтя.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5401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586728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Когда пылесосите или вытираете пыль, старайтесь использовать приборы с как можно более длинными насадками: это позволит избежать постоянных наклонов и уменьшит нагрузку для спины. При уборке квартиры лучше пользоваться щеткой на длинной ручке, тогда легко избежать неправильных наклонов.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Чтобы поднять какой-нибудь легкий предмет с пола, согните ноги, обопритесь рукой о бедра - это облегчит сгибание и выпрямление туловища.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54016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53341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При поднятии большого груза большую часть работы должны выполнять мышцы ног и бедер, а не туловище. Спина, естественно, должна быть прямой, ноги слегка расставлены, согнуты в коленях под углом 90°. Предмет необходимо поднимать ближе к телу, благодаря чему уменьшится перегрузка на межпозвоночные диски. Женщины не должны поднимать предметы тяжелее 20 кг, мужчины - 50 кг. В процессе поднятия груза следует избегать вращательных движений. Лучше сначала груз поднять и только потом повернутьс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25398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53341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3000" spc="-1" strike="noStrike">
                <a:solidFill>
                  <a:srgbClr val="ffcc00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При чистке зубов или мытье посуды слегка согните ноги в коленях, тогда будет легче держать спину прямой.</a:t>
            </a:r>
            <a:br>
              <a:rPr sz="3000"/>
            </a:br>
            <a:r>
              <a:rPr b="1" lang="en-US" sz="3000" spc="-1" strike="noStrike">
                <a:solidFill>
                  <a:srgbClr val="ffcc00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При мытье головы под краном можно избежать согнутой спины, если слегка согнутые в коленях ноги немного расставить. Тогда затекшую спину можно время от времени расслабить и выпрямить.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172200" y="3581280"/>
            <a:ext cx="25401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4-10-16T06:12:0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