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35E9-E707-4F7D-B2EC-CC70EEA6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3D4B-3C48-433A-A62A-AB714992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13C0-FC66-47FD-9D6C-1AD42AFEC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3274-EBAE-47A0-BA71-254703F99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DDA9-3FD7-480D-93FA-70C8DE141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68A5-DA5C-4D84-85CD-26F17870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C89D-EE05-4B12-951F-F960B462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90DD-DFDA-4F12-AB4C-C52BE471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EB54-C992-4113-A2D3-ADF6F7EB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61CE-A3A8-4024-ADA6-E4950A53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E3A6-8D17-450F-A048-0467D1D8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87C8-0258-4E4B-BBA2-40CDFDA3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23A5-1549-416D-9263-184C41EC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A6B6-B8FC-4807-9F38-A887D155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1FDC-B210-489A-A359-DD9C40D6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307E-ECBE-47DB-81E8-52CA9F110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CBCB-9C67-4B52-8862-D0A19D958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EB38-61E0-4537-94B7-3B2221F5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55BB-6F4B-4534-B7DB-31CA9164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4581-864F-45B0-80DF-FE812FC4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F30E-B9A3-4547-8158-D8B8A344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7AD8-3055-43FE-AF2E-3EA38875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CB55-32EB-4FB1-A434-4B75E7D5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64AB-5917-40D1-911E-AF500F0E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5A4A-40C4-4EA1-96ED-4F67B7BB06BD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1D94-0B4C-47E4-B6E7-D0D6FF26590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458"/>
                </a:solidFill>
                <a:latin typeface="Verdana"/>
              </a:rPr>
              <a:t>Правильная осанка – </a:t>
            </a: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золотые</a:t>
            </a:r>
            <a:r>
              <a:rPr b="0" lang="en-US" sz="4400" spc="-1" strike="noStrike">
                <a:solidFill>
                  <a:srgbClr val="003458"/>
                </a:solidFill>
                <a:latin typeface="Verdana"/>
              </a:rPr>
              <a:t> совет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301920" y="2482920"/>
            <a:ext cx="2540160" cy="2689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553080" y="5774760"/>
            <a:ext cx="22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572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Чистя овощи, всегда сидите за столом, избегайте наклоняться над рабочей поверхностью, как правило, слишком низкой.</a:t>
            </a:r>
            <a:br>
              <a:rPr sz="2600"/>
            </a:br>
            <a:r>
              <a:rPr b="1" lang="en-US" sz="2600" spc="-1" strike="noStrike">
                <a:solidFill>
                  <a:srgbClr val="ffcc00"/>
                </a:solidFill>
                <a:latin typeface="Verdana"/>
              </a:rPr>
              <a:t>2.</a:t>
            </a: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Старайтесь приседать, а не наклоняться, загружая стиральную машину.</a:t>
            </a:r>
            <a:br>
              <a:rPr sz="2600"/>
            </a:br>
            <a:r>
              <a:rPr b="1" lang="en-US" sz="2600" spc="-1" strike="noStrike">
                <a:solidFill>
                  <a:srgbClr val="ffcc00"/>
                </a:solidFill>
                <a:latin typeface="Verdana"/>
              </a:rPr>
              <a:t>3.</a:t>
            </a: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При глажке белья доска должна находиться на высоте 10-15 см от локтя.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95880" y="3581280"/>
            <a:ext cx="254016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586728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Когда пылесосите или вытираете пыль, старайтесь использовать приборы с как можно более длинными насадками: это позволит избежать постоянных наклонов и уменьшит нагрузку для спины. При уборке квартиры лучше пользоваться щеткой на длинной ручке, тогда легко избежать неправильных наклонов.</a:t>
            </a: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Чтобы поднять какой-нибудь легкий предмет с пола, согните ноги, обопритесь рукой о бедра - это облегчит сгибание и выпрямление туловища.</a:t>
            </a: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172200" y="3733920"/>
            <a:ext cx="254016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533412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6.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При поднятии большого груза большую часть работы должны выполнять мышцы ног и бедер, а не туловище. Спина, естественно, должна быть прямой, ноги слегка расставлены, согнуты в коленях под углом 90°. Предмет необходимо поднимать ближе к телу, благодаря чему уменьшится перегрузка на межпозвоночные диски. Женщины не должны поднимать предметы тяжелее 20 кг, мужчины - 50 кг. В процессе поднятия груза следует избегать вращательных движений. Лучше сначала груз поднять и только потом повернуться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248520" y="3809880"/>
            <a:ext cx="253980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53341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en-US" sz="3000" spc="-1" strike="noStrike">
                <a:solidFill>
                  <a:srgbClr val="ffcc00"/>
                </a:solidFill>
                <a:latin typeface="Times New Roman"/>
              </a:rPr>
              <a:t>7.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 При чистке зубов или мытье посуды слегка согните ноги в коленях, тогда будет легче держать спину прямой.</a:t>
            </a:r>
            <a:br>
              <a:rPr sz="3000"/>
            </a:br>
            <a:r>
              <a:rPr b="1" lang="en-US" sz="3000" spc="-1" strike="noStrike">
                <a:solidFill>
                  <a:srgbClr val="ffcc00"/>
                </a:solidFill>
                <a:latin typeface="Times New Roman"/>
              </a:rPr>
              <a:t>8.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 При мытье головы под краном можно избежать согнутой спины, если слегка согнутые в коленях ноги немного расставить. Тогда затекшую спину можно время от времени расслабить и выпрямить.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172200" y="3581280"/>
            <a:ext cx="254016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</cp:lastModifiedBy>
  <dcterms:modified xsi:type="dcterms:W3CDTF">2014-10-16T06:12:0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