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D5829-A3BD-4AB5-A065-7B6471077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7AB14-E310-4A45-9ED4-0029299C8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4121F-1647-43C0-AC0A-40F156B3E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B499D-F848-461E-9670-54B7C6DAD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0A54E-B03A-48FD-8AEF-CC6A93E3D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7D994-4FB3-402F-818E-132371F3B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5A548-EF03-49A8-B0CD-CC42166A5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F8D4D-E44E-45EC-986D-E8ACC8695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B4032-5C8D-460A-8071-634F669B3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D25E2-C251-46CF-972E-EA8FE313A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86AD9-338C-4D33-8375-3AB03E64E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B015A-8307-4245-8A3C-4A55E3D5C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79706-1A36-4617-97BE-E8AEEBE1F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F50A4-6339-4AAB-ABDE-FD970D948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783F0-DCF5-4F0C-A4FB-4E9123DEE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7852A-E1DA-4CBA-BF02-C37D49B84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3E8DE-3034-4022-B7DC-B60D56EED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4BCF5F0-778B-47A1-840C-7DB773156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1AFC280-B040-4FFF-8FCB-03AC41437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5530A6F-1DBA-436F-8849-15EC97674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F5CA71C-6C38-4102-8D71-A48DD86CB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5D86F20-913C-443B-AE0E-582231DA1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67E2F-3D85-4D7F-BBD9-DE95EC0D7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C3CA8BC-B443-49B3-B344-7DA8AACA6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6C11202-3D43-4303-BE8E-7FB17BC78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0CC19A8-260B-46E6-838A-5B014B8A3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19A2A80-8DF8-4D0C-B517-B06CCA7F7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AB60434-9C93-4CE2-A3F7-3A33290CF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5C45A2-11D4-4446-8DA8-32F41D017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7CAD0AB-133A-4A6B-B352-8BD68114D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11E16A-335B-4560-8034-D944C2770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85BE80-5B13-43F6-942C-3BC68A84E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A86F7B-AD53-4320-9B1C-3394017D9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50219-DD96-41A3-B834-FCD28F7D2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66211F-1EC6-42B6-B529-CB46F3C34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FD36F3-8214-4019-B448-DB057BD5D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1FF841-7A0D-4203-A6A5-F9C407309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1483B9-0B03-47AF-A26D-A4158D8A0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DA1C51-FAF4-4EB6-9E8A-492D668EF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923FD4-BE6A-492F-8635-A654F96CC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D5CD8A-FCF5-4665-9A7E-234E2FDD5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2FC201-6C00-48CE-8FE4-6A6DF9CEE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4F1F61-195E-460A-8220-186E2C865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6058E-C289-41F4-BEBB-51489A025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E4824-AA66-4975-AD49-5C8869050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BE053-529A-4B09-91D7-121F81D42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A2A0E-F25B-4547-BE63-E53213FBB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E44FE-5531-49E6-9665-8AFF957B8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B3054-9BF0-4121-9AA1-C46DC135742F}" type="slidenum">
              <a:rPr b="0" lang="ru-RU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Прямоугольник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Прямоугольник 23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Прямоугольник 24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Прямоугольник 25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" name="Скругленный прямоугольник 26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Скругленный прямоугольник 40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Прямоугольник 41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" name="Прямоугольник 42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" name="Прямоугольник 43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Прямоугольник 44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F7ECE-E19A-4E60-A5D6-358E73227AB0}" type="slidenum">
              <a:rPr b="0" lang="ru-RU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2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6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7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216E7-E8B0-430F-8EA3-97FDE4AB5F5D}" type="slidenum">
              <a:rPr b="0" lang="ru-RU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9F782-7A9A-4F32-BE96-51E52702C540}" type="slidenum">
              <a:rPr b="0" lang="ru-RU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539640" y="98100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«Чтобы привести в движение все свои силы, человеку нужно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поместить впереди себя какую-нибудь благородную   цель, способную его воодушевить». 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                                                                                                                            </a:t>
            </a: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Э. Ренан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95280" y="62064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Опорные глаголы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Можно предложить учащимся готовый набор глаголов, при помощи которых осуществляется запись цели </a:t>
            </a:r>
            <a:r>
              <a:rPr b="1" i="1" lang="ru-RU" sz="2000" spc="-1" strike="noStrike">
                <a:solidFill>
                  <a:srgbClr val="000000"/>
                </a:solidFill>
                <a:latin typeface="Georgia"/>
              </a:rPr>
              <a:t>(изучить, знать, уметь, выяснить, обобщить, закрепить, доказать, сравнить, проанализировать, сделать вывод, разобраться, систематизировать...)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Пример №1 :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Тема урока «Обмен веществ — главный признак жизни»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Используемые глаголы: сравнить, доказать, изучить, уметь проанализировать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1. </a:t>
            </a: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сравнить,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чем отличается живой организм от неживого?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2.     </a:t>
            </a: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 доказать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что обмен веществ — главный признак жизни.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3.      </a:t>
            </a: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изучить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процесс обмена веществ.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4.      у</a:t>
            </a: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меть проанализировать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этот процесс и сделать вывод.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Цитаты, пословицы, поговорки, загадки.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ример № 1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«Петр Первый внедрял Европу как варвар»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А.И.Герцен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В чем смысл высказывания? Почему Герцен назвал Петра варваром? Были ли исторически прогрессивными или регрессивными преобразования Петра Первого? Найдите аргументы за и против?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Цитаты, пословицы, поговорки, загадки.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2249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В этом заведении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Все перебывали.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Двоечники, гении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Отметки получали.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Учились здесь артисты,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Певцы, артиллеристы.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Сюда хожу и я,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И вы, мои друзья. 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 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Я уроки посещаю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И всегда веду дневник.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Сам себя я называю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Школьник или... 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 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Он кричит: «На перемену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Торопитесь непременно.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А теперь вам на урок!» —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Сообщает нам... 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708000" y="2249280"/>
            <a:ext cx="497844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Школа, ученик, звонок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Rectangle 2"/>
          <p:cNvSpPr/>
          <p:nvPr/>
        </p:nvSpPr>
        <p:spPr>
          <a:xfrm>
            <a:off x="5003640" y="3724560"/>
            <a:ext cx="3492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Вопрос: какое понятие объединяет все? Это и есть тема нашего урока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На какие вопросы вы хотели бы ответить для себя, изучая эту тему?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" dur="20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Цитаты, пословицы, поговорки, загадки.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Пример  № 3.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Как вы понимаете смысл пословиц?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Дом невелик, да лежать не велит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Добрый хозяин — господин деньгам, а плохой — слуга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Не та хозяйка, которая говорит, а та, которая щи варит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Не дом хозяина красит, а хозяин дом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Вопрос: Что вы знаете о домашнем хозяйстве?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Создание проблемных ситуаций.</a:t>
            </a:r>
            <a:br>
              <a:rPr sz="3600"/>
            </a:b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68360" y="119664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Georgia"/>
              </a:rPr>
              <a:t>Пример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Georgia"/>
              </a:rPr>
              <a:t> № 1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Some people call this country England, some people say, “It is Great Britain”, others 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с</a:t>
            </a: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all it the UK. </a:t>
            </a:r>
            <a:r>
              <a:rPr b="0" i="1" lang="en-US" sz="2800" spc="-1" strike="noStrike">
                <a:solidFill>
                  <a:srgbClr val="000000"/>
                </a:solidFill>
                <a:latin typeface="Georgia"/>
              </a:rPr>
              <a:t>(</a:t>
            </a: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Проблемная ситуация</a:t>
            </a:r>
            <a:r>
              <a:rPr b="0" i="1" lang="en-US" sz="2800" spc="-1" strike="noStrike">
                <a:solidFill>
                  <a:srgbClr val="000000"/>
                </a:solidFill>
                <a:latin typeface="Georgia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Is it one country or three different countries? It is one country that has many names. </a:t>
            </a:r>
            <a:r>
              <a:rPr b="0" i="1" lang="en-US" sz="2800" spc="-1" strike="noStrike">
                <a:solidFill>
                  <a:srgbClr val="000000"/>
                </a:solidFill>
                <a:latin typeface="Georgia"/>
              </a:rPr>
              <a:t>(</a:t>
            </a: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Осознание противоречия</a:t>
            </a:r>
            <a:r>
              <a:rPr b="0" i="1" lang="en-US" sz="2800" spc="-1" strike="noStrike">
                <a:solidFill>
                  <a:srgbClr val="000000"/>
                </a:solidFill>
                <a:latin typeface="Georgia"/>
              </a:rPr>
              <a:t>.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What will we speak about today? – The United Kingdom of Great Britain and Northern Ireland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(Побуждение к определению темы и постановке цели)</a:t>
            </a:r>
            <a:r>
              <a:rPr b="0" i="1" lang="en-US" sz="28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Пример № 2.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В подкрашенную воду поставили веточку бальзамина, некоторое время спустя жилки листьев изменили цвет. Что это доказывает? Ставится цель урока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Создание проблемных ситуаций.</a:t>
            </a:r>
            <a:br>
              <a:rPr sz="3600"/>
            </a:b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«Яркое пятно»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859280" y="2249640"/>
            <a:ext cx="382752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Пример № 1 :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Что изображено на рисунках?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Что вы заметили ?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Назовите тему урока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Учитель конкретизирует тему урока «Виды корней. Типы корневых систем» и предлагает каждому ученику поставить для себя цели урока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58" name="Picture 2" descr="http://cdn01.ru/files/users/images/da/c2/dac2454f50c25941116153a03103bc9d.png"/>
          <p:cNvPicPr/>
          <p:nvPr/>
        </p:nvPicPr>
        <p:blipFill>
          <a:blip r:embed="rId1"/>
          <a:stretch/>
        </p:blipFill>
        <p:spPr>
          <a:xfrm>
            <a:off x="324000" y="2205000"/>
            <a:ext cx="4679640" cy="4038480"/>
          </a:xfrm>
          <a:prstGeom prst="rect">
            <a:avLst/>
          </a:prstGeom>
          <a:ln w="0">
            <a:noFill/>
          </a:ln>
        </p:spPr>
      </p:pic>
      <p:sp>
        <p:nvSpPr>
          <p:cNvPr id="259" name="Овал 4"/>
          <p:cNvSpPr/>
          <p:nvPr/>
        </p:nvSpPr>
        <p:spPr>
          <a:xfrm>
            <a:off x="2627280" y="5373720"/>
            <a:ext cx="1944720" cy="719280"/>
          </a:xfrm>
          <a:prstGeom prst="ellipse">
            <a:avLst/>
          </a:prstGeom>
          <a:solidFill>
            <a:srgbClr val="c00000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КОРЕНЬ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Список целей может выглядеть так:</a:t>
            </a:r>
            <a:br>
              <a:rPr sz="3600"/>
            </a:b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457200" y="2249280"/>
            <a:ext cx="8229600" cy="40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39480" indent="-237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        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Изучить материал учебника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39480" indent="-237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        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Усвоить основные понятия и темы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39480" indent="-237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        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Подготовить доклад по одной из предложенных проблем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39480" indent="-237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        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Качественно подготовиться к контрольной работе,  зачету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39480" indent="-237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Выполнить самостоятельное исследование по выбранной теме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39480" indent="-237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        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Научиться объяснять изучаемые в теме явления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39480" indent="-237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        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Углубленно рассмотреть конкретные вопросы темы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39480" indent="-237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        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Научиться выполнять опыты, работать с приборами и техническими средствами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39480" indent="-237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        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Проявить и развить свои способности (назвать их)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39480" indent="-237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Научиться аргументированно спорить в ходе изучения темы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39480" indent="-237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         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Научиться решать биологические задачи и проблемы по теме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39480" indent="-237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«Актуализация»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    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Вопрос обучающимся: Что вы знаете по теме урока? Что хотели бы узнать? Какую цель каждый из вас ставит на урок  по теме?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«Нерешенная домашняя задача»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57480" indent="-2502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В качестве одной из домашних задач, учитель преднамеренно указывает такую, в ходе решения которой у учащихся должны возникнуть трудности с ее выполнением из-за недостаточности знаний.         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     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Таким образом, проблемную ситуацию можно создать заранее, а на следующем уроке необходимо подвести учащихся к формулированию цели урока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6840" y="24015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rebuchet MS"/>
              </a:rPr>
              <a:t>«Целеполагание как этап современного урока в условиях реализации ФГОС»</a:t>
            </a:r>
            <a:br>
              <a:rPr sz="4000"/>
            </a:b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3900600"/>
            <a:ext cx="4952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24456"/>
                </a:solidFill>
                <a:latin typeface="Georgia"/>
              </a:rPr>
              <a:t>Заместитель директора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24456"/>
                </a:solidFill>
                <a:latin typeface="Georgia"/>
              </a:rPr>
              <a:t>Филоненко О.В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17" name="Рисунок 3" descr="F:\i.jpg"/>
          <p:cNvPicPr/>
          <p:nvPr/>
        </p:nvPicPr>
        <p:blipFill>
          <a:blip r:embed="rId1"/>
          <a:stretch/>
        </p:blipFill>
        <p:spPr>
          <a:xfrm>
            <a:off x="5867280" y="4292640"/>
            <a:ext cx="3087720" cy="227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39640" y="2349000"/>
            <a:ext cx="8229600" cy="10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24456"/>
                </a:solidFill>
                <a:latin typeface="Trebuchet MS"/>
              </a:rPr>
              <a:t>Цели урока необходимо записать на доске!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60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68" name="Picture 3" descr="C:\Documents and Settings\Учительская2\Рабочий стол\img1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Основные этапы урока 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2249640"/>
            <a:ext cx="8686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Целеполагание, 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Самостоятельная продуктивная деятельность,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Рефлексия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20" name="Рисунок 13" descr="http://medianet.yartel.ru/dou/dou16/images/stories/foto/bunakova/dsc00362.jpg"/>
          <p:cNvPicPr/>
          <p:nvPr/>
        </p:nvPicPr>
        <p:blipFill>
          <a:blip r:embed="rId1"/>
          <a:stretch/>
        </p:blipFill>
        <p:spPr>
          <a:xfrm>
            <a:off x="3875040" y="3286080"/>
            <a:ext cx="441972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Что же такое целеполагание? </a:t>
            </a:r>
            <a:br>
              <a:rPr sz="3600"/>
            </a:b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Georgia"/>
              </a:rPr>
              <a:t>Целеполагание в образовании 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– это процесс установления и формулирования учениками и учителем главных целей и задач обучения на определенных его этапах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Структура деятельности 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4" name="Прямоугольник 3"/>
          <p:cNvSpPr/>
          <p:nvPr/>
        </p:nvSpPr>
        <p:spPr>
          <a:xfrm>
            <a:off x="324000" y="2852640"/>
            <a:ext cx="1368360" cy="647640"/>
          </a:xfrm>
          <a:prstGeom prst="rect">
            <a:avLst/>
          </a:prstGeom>
          <a:solidFill>
            <a:srgbClr val="53548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мотив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Прямоугольник 4"/>
          <p:cNvSpPr/>
          <p:nvPr/>
        </p:nvSpPr>
        <p:spPr>
          <a:xfrm>
            <a:off x="2050920" y="2708280"/>
            <a:ext cx="1368720" cy="792000"/>
          </a:xfrm>
          <a:prstGeom prst="rect">
            <a:avLst/>
          </a:prstGeom>
          <a:solidFill>
            <a:srgbClr val="c00000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ЦЕЛЬ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Прямоугольник 5"/>
          <p:cNvSpPr/>
          <p:nvPr/>
        </p:nvSpPr>
        <p:spPr>
          <a:xfrm>
            <a:off x="3780000" y="2852640"/>
            <a:ext cx="1368360" cy="647640"/>
          </a:xfrm>
          <a:prstGeom prst="rect">
            <a:avLst/>
          </a:prstGeom>
          <a:solidFill>
            <a:srgbClr val="53548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Средства и методы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Прямоугольник 6"/>
          <p:cNvSpPr/>
          <p:nvPr/>
        </p:nvSpPr>
        <p:spPr>
          <a:xfrm>
            <a:off x="5508720" y="2852640"/>
            <a:ext cx="1366920" cy="647640"/>
          </a:xfrm>
          <a:prstGeom prst="rect">
            <a:avLst/>
          </a:prstGeom>
          <a:solidFill>
            <a:srgbClr val="53548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действия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Прямоугольник 7"/>
          <p:cNvSpPr/>
          <p:nvPr/>
        </p:nvSpPr>
        <p:spPr>
          <a:xfrm>
            <a:off x="7308720" y="2708280"/>
            <a:ext cx="1584360" cy="792000"/>
          </a:xfrm>
          <a:prstGeom prst="rect">
            <a:avLst/>
          </a:prstGeom>
          <a:solidFill>
            <a:srgbClr val="c00000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РЕЗУЛЬТАТ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cxnSp>
        <p:nvCxnSpPr>
          <p:cNvPr id="229" name="Прямая со стрелкой 9"/>
          <p:cNvCxnSpPr>
            <a:stCxn id="224" idx="3"/>
            <a:endCxn id="225" idx="1"/>
          </p:cNvCxnSpPr>
          <p:nvPr/>
        </p:nvCxnSpPr>
        <p:spPr>
          <a:xfrm flipV="1">
            <a:off x="1692360" y="3104280"/>
            <a:ext cx="358920" cy="72360"/>
          </a:xfrm>
          <a:prstGeom prst="straightConnector1">
            <a:avLst/>
          </a:prstGeom>
          <a:ln w="25560">
            <a:solidFill>
              <a:srgbClr val="53548a"/>
            </a:solidFill>
            <a:miter/>
            <a:tailEnd len="med" type="arrow" w="med"/>
          </a:ln>
        </p:spPr>
      </p:cxnSp>
      <p:cxnSp>
        <p:nvCxnSpPr>
          <p:cNvPr id="230" name="Прямая со стрелкой 11"/>
          <p:cNvCxnSpPr>
            <a:stCxn id="225" idx="3"/>
            <a:endCxn id="226" idx="1"/>
          </p:cNvCxnSpPr>
          <p:nvPr/>
        </p:nvCxnSpPr>
        <p:spPr>
          <a:xfrm>
            <a:off x="3419280" y="3104640"/>
            <a:ext cx="361080" cy="72360"/>
          </a:xfrm>
          <a:prstGeom prst="straightConnector1">
            <a:avLst/>
          </a:prstGeom>
          <a:ln w="25560">
            <a:solidFill>
              <a:srgbClr val="53548a"/>
            </a:solidFill>
            <a:miter/>
            <a:tailEnd len="med" type="arrow" w="med"/>
          </a:ln>
        </p:spPr>
      </p:cxnSp>
      <p:cxnSp>
        <p:nvCxnSpPr>
          <p:cNvPr id="231" name="Прямая со стрелкой 13"/>
          <p:cNvCxnSpPr>
            <a:stCxn id="226" idx="3"/>
            <a:endCxn id="227" idx="1"/>
          </p:cNvCxnSpPr>
          <p:nvPr/>
        </p:nvCxnSpPr>
        <p:spPr>
          <a:xfrm>
            <a:off x="5148000" y="3176280"/>
            <a:ext cx="361080" cy="1080"/>
          </a:xfrm>
          <a:prstGeom prst="straightConnector1">
            <a:avLst/>
          </a:prstGeom>
          <a:ln w="25560">
            <a:solidFill>
              <a:srgbClr val="53548a"/>
            </a:solidFill>
            <a:miter/>
            <a:tailEnd len="med" type="arrow" w="med"/>
          </a:ln>
        </p:spPr>
      </p:cxnSp>
      <p:cxnSp>
        <p:nvCxnSpPr>
          <p:cNvPr id="232" name="Прямая со стрелкой 15"/>
          <p:cNvCxnSpPr>
            <a:stCxn id="227" idx="3"/>
            <a:endCxn id="228" idx="1"/>
          </p:cNvCxnSpPr>
          <p:nvPr/>
        </p:nvCxnSpPr>
        <p:spPr>
          <a:xfrm flipV="1">
            <a:off x="6875280" y="3104280"/>
            <a:ext cx="433800" cy="72360"/>
          </a:xfrm>
          <a:prstGeom prst="straightConnector1">
            <a:avLst/>
          </a:prstGeom>
          <a:ln w="25560">
            <a:solidFill>
              <a:srgbClr val="53548a"/>
            </a:solidFill>
            <a:miter/>
            <a:tailEnd len="med" type="arrow" w="med"/>
          </a:ln>
        </p:spPr>
      </p:cxnSp>
      <p:sp>
        <p:nvSpPr>
          <p:cNvPr id="233" name="Прямоугольник 16"/>
          <p:cNvSpPr/>
          <p:nvPr/>
        </p:nvSpPr>
        <p:spPr>
          <a:xfrm>
            <a:off x="179280" y="4869000"/>
            <a:ext cx="856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«Как цель поставишь, таким и будет результат»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83628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Цели должны быть: </a:t>
            </a:r>
            <a:br>
              <a:rPr sz="3600"/>
            </a:b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7200" y="1557000"/>
            <a:ext cx="8229600" cy="501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понятными, четкими, точными, конкретными, не допускающими их двойной трактовки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реальны, достижимы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(с учетом тех ресурсов, которыми располагает учитель и ученик);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инструментальны, технологичны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(определяют конкретные действия по их достижению);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уместны в данной ситуации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диагностичны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(поддаются измерению, определению соответствия им результатов учебной деятельности);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должны быть достигнуты в ограниченное время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. Следует точно определить время или период для достижения выбранной цели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6836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Тема-вопрос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68360" y="1341000"/>
            <a:ext cx="822960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Пример вопроса: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«Как образуются степени сравнения прилагательных в английском языке?», «Что изучает история Средних веков?», «Было ли восстание декабристов обречено на провал?», «Что такое пропорция?», «Где мы встречаемся с масштабом?»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39640" y="6919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Работа с понятием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68360" y="2276640"/>
            <a:ext cx="8229600" cy="43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Пример № 1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Идет работа над понятием порядковых числительных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*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Что в формулировке темы известно? (Например, известно, что такое числительные.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* Какие слова в формулировке вопроса непонятны?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* Как вы думаете, что обозначает слово «порядковые»?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* Знаете ли вы, как образуются порядковые числительные в английском языке?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Работа с понятием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Пример № 2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Учащимся предлагается для зрительного восприятия название темы урока.(тема на доске или слайде ) Например, тема урока в 5 классе "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 МАСШТАБ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". Необходимо объяснить значение  слова или отыскать в "Толковом словаре". Далее, от значения слова определяем цель урока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10T12:08:54Z</dcterms:created>
  <dc:creator>Зам.директора по НМР         Королева А.В.</dc:creator>
  <dc:description/>
  <dc:language>en-US</dc:language>
  <cp:lastModifiedBy>Зам.директора по НМР         Королева А.В.</cp:lastModifiedBy>
  <dcterms:modified xsi:type="dcterms:W3CDTF">2017-01-10T13:36:38Z</dcterms:modified>
  <cp:revision>9</cp:revision>
  <dc:subject/>
  <dc:title>Слайд 1</dc:title>
</cp:coreProperties>
</file>