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DD8-EE0F-411D-878F-6C606E0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3F0-18C1-4C06-B62D-ED09660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57C-EA7C-4731-B49A-85BFC0D4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78B-3110-4C4D-BBDD-21BFE7FD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75E4-EEDB-4374-83BD-518FA3A0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457A-DAA4-44EA-B80C-AF2A30E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1A4C-C352-44B8-95CC-3E7DFC1D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F6FE-136C-4CA6-9384-1547339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CB0-AC81-4CB8-8522-962ED60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BE7-FF6D-4BD1-9F53-6A871DA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2A6-9175-469C-B0DE-9D75BA6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277-6E4F-453E-91D2-C3D9843D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47A6-307E-481D-9CA5-4B4398A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9C73-EB65-4569-BBA7-6167008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734-F33D-4D7C-ACB4-509AB7E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0D2B-41C9-49B0-80CE-EA671D16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81F-3BAF-466B-8698-FCF7152E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8855-7806-45A2-91A9-95D55339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C05A8-C028-4FFC-BEF4-CBE85CC8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6950E-ED39-4147-A43E-ACE1537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E38A3-FA57-4ADC-8D55-C8AE9D6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2A52A-F237-4017-B186-99B2C16E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99D-4E8E-4DAE-AF51-77141FDB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BADB9-89F4-40B2-8D5A-EDD2D8C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2AD83-B8FB-4009-96C4-93D117AD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1D59F-595C-4747-A856-CDB8D61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AB781-3006-4132-B9BD-16B6B92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57CE2-809A-4310-BB2C-596A4E4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E6142-E9D7-42AD-ADB0-26F04758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9829C-9ADD-454B-A2DF-16389E8C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126D-48E6-48FC-A4F4-11DAC624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ABEE-E01A-452D-AEFB-8D1FA410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D07F-3876-4120-B87B-7A2A011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8C8-64F3-47A6-986D-12E92D5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3D08-6AD0-4295-97D5-1A2CC5F6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5E18-AE54-40FE-9AD8-BD0567BE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24BD-198F-4625-A4D2-2C92DF0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1E7F-E238-4438-ACC4-82B13FE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75F1-8F23-460D-A0AC-DA2AAC0A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5CD7-FC61-42A2-9631-E2C3670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6A84-9617-42F2-AF99-E9E107A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3BB6-B91F-45AC-81B9-4C08705C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7E51-FD34-4868-A537-FD94EAC4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97C-FC79-4A59-AE8F-81EFC888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F3F-CF89-4803-A1FA-E7200973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CBB-7EDA-4B57-B476-7A34ACD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81E-BDD4-4A0E-80A8-38C0F35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E96-C994-461A-AAF5-0E247E1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007-51EA-49F2-B7E2-723D522C86D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00BF-B74C-406B-80D1-97D38E54D30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993C-0461-4E71-B775-C90F5F5E69F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30E8-3265-4248-BAD7-22E5A59441B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9640" y="981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Чтобы привести в движение все свои силы, человеку нуж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местить впереди себя какую-нибудь благородную   цель, способную его воодушевить»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. Рен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орные глагол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жно предложить учащимся готовый набор глаголов, при помощи которых осуществляется запись цел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(изучить, знать, уметь, выяснить, обобщить, закрепить, доказать, сравнить, проанализировать, сделать вывод, разобраться, систематизировать...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мер №1 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ма урока «Обмен веществ — главный признак жизни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спользуемые глаголы: сравнить, доказать, изучить, уметь проанализирова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равнить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чем отличается живой организм от неживого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    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оказа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что обмен веществ — главный признак жизн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     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зучи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цесс обмена вещест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      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еть проанализирова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этот процесс и сделать вывод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 №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Петр Первый внедрял Европу как варвар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.И.Герце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чем смысл высказывания? Почему Герцен назвал Петра варваром? Были ли исторически прогрессивными или регрессивными преобразования Петра Первого? Найдите аргументы за и против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этом заведен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се перебыва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воечники, ген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тметки получа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Учились здесь артисты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евцы, артиллеристы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юда хожу и я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ы, мои друзья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Я уроки посещаю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сегда веду дневник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ам себя я называю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Школьник или..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н кричит: «На перемену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оропитесь непрем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 теперь вам на урок!» —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общает нам..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08000" y="2249280"/>
            <a:ext cx="4978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а, ученик, звоно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3640" y="3724560"/>
            <a:ext cx="34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: какое понятие объединяет все? Это и есть тема нашего ур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е вопросы вы хотели бы ответить для себя, изучая эту тему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 № 3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понимаете смысл пословиц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м невелик, да лежать не вели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брый хозяин — господин деньгам, а плохой — слуг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та хозяйка, которая говорит, а та, которая щи вари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дом хозяина красит, а хозяин д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: Что вы знаете о домашнем хозяйств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здание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мер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 № 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me people call this country England, some people say, “It is Great Britain”, others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l it the UK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блемная ситуация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s it one country or three different countries? It is one country that has many names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противоречия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 will we speak about today? – The United Kingdom of Great Britain and Northern Ireland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Побуждение к определению темы и постановке цели)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одкрашенную воду поставили веточку бальзамина, некоторое время спустя жилки листьев изменили цвет. Что это доказывает? Ставится цель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здание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Яркое пятно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859280" y="2249640"/>
            <a:ext cx="382752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ер № 1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изображено на рисунках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вы заметили 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зовите тему уро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 конкретизирует тему урока «Виды корней. Типы корневых систем» и предлагает каждому ученику поставить для себя цели уро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http://cdn01.ru/files/users/images/da/c2/dac2454f50c25941116153a03103bc9d.png"/>
          <p:cNvPicPr/>
          <p:nvPr/>
        </p:nvPicPr>
        <p:blipFill>
          <a:blip r:embed="rId1"/>
          <a:stretch/>
        </p:blipFill>
        <p:spPr>
          <a:xfrm>
            <a:off x="324000" y="2205000"/>
            <a:ext cx="4679640" cy="403848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4"/>
          <p:cNvSpPr/>
          <p:nvPr/>
        </p:nvSpPr>
        <p:spPr>
          <a:xfrm>
            <a:off x="2627280" y="5373720"/>
            <a:ext cx="1944720" cy="7192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ОРЕН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исок целей может выглядеть так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28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ить материал учебн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воить основные понятия и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ить доклад по одной из предложенных проб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чественно подготовиться к контрольной работе,  заче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олнить самостоятельное исследование по выбранной тем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объяснять изучаемые в теме я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глубленно рассмотреть конкретные вопросы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выполнять опыты, работать с приборами и техническими средств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явить и развить свои способности (назвать их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аргументированно спорить в ходе изучения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решать биологические задачи и проблемы по тем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Актуализац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 обучающимся: Что вы знаете по теме урока? Что хотели бы узнать? Какую цель каждый из вас ставит на урок  по тем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Нерешенная домашняя задача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честве одной из домашних задач, учитель преднамеренно указывает такую, в ходе решения которой у учащихся должны возникнуть трудности с ее выполнением из-за недостаточности знаний.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 образом, проблемную ситуацию можно создать заранее, а на следующем уроке необходимо подвести учащихся к формулированию цели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«Целеполагание как этап современного урока в условиях реализации ФГОС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Заместитель директор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илоненко О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Рисунок 3" descr="F:\i.jpg"/>
          <p:cNvPicPr/>
          <p:nvPr/>
        </p:nvPicPr>
        <p:blipFill>
          <a:blip r:embed="rId1"/>
          <a:stretch/>
        </p:blipFill>
        <p:spPr>
          <a:xfrm>
            <a:off x="5867280" y="4292640"/>
            <a:ext cx="3087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и урока необходимо записать на доск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Picture 3" descr="C:\Documents and Settings\Учительская2\Рабочий стол\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ые этапы урок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еполагание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ая продуктивная деятельность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Рисунок 13" descr="http://medianet.yartel.ru/dou/dou16/images/stories/foto/bunakova/dsc00362.jpg"/>
          <p:cNvPicPr/>
          <p:nvPr/>
        </p:nvPicPr>
        <p:blipFill>
          <a:blip r:embed="rId1"/>
          <a:stretch/>
        </p:blipFill>
        <p:spPr>
          <a:xfrm>
            <a:off x="3875040" y="3286080"/>
            <a:ext cx="4419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Что же такое целеполагание?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Целеполагание в образовани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процесс установления и формулирования учениками и учителем главных целей и задач обучения на определенных его этап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руктура деятельност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324000" y="2852640"/>
            <a:ext cx="136836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оти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2050920" y="2708280"/>
            <a:ext cx="1368720" cy="792000"/>
          </a:xfrm>
          <a:prstGeom prst="rect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3780000" y="2852640"/>
            <a:ext cx="136836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едства и метод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5508720" y="2852640"/>
            <a:ext cx="136692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7308720" y="2708280"/>
            <a:ext cx="1584360" cy="792000"/>
          </a:xfrm>
          <a:prstGeom prst="rect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9" name="Прямая со стрелкой 9"/>
          <p:cNvCxnSpPr>
            <a:stCxn id="224" idx="3"/>
            <a:endCxn id="225" idx="1"/>
          </p:cNvCxnSpPr>
          <p:nvPr/>
        </p:nvCxnSpPr>
        <p:spPr>
          <a:xfrm flipV="1">
            <a:off x="1692360" y="3104280"/>
            <a:ext cx="35892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0" name="Прямая со стрелкой 11"/>
          <p:cNvCxnSpPr>
            <a:stCxn id="225" idx="3"/>
            <a:endCxn id="226" idx="1"/>
          </p:cNvCxnSpPr>
          <p:nvPr/>
        </p:nvCxnSpPr>
        <p:spPr>
          <a:xfrm>
            <a:off x="3419280" y="3104640"/>
            <a:ext cx="36108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1" name="Прямая со стрелкой 13"/>
          <p:cNvCxnSpPr>
            <a:stCxn id="226" idx="3"/>
            <a:endCxn id="227" idx="1"/>
          </p:cNvCxnSpPr>
          <p:nvPr/>
        </p:nvCxnSpPr>
        <p:spPr>
          <a:xfrm>
            <a:off x="5148000" y="3176280"/>
            <a:ext cx="361080" cy="108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2" name="Прямая со стрелкой 15"/>
          <p:cNvCxnSpPr>
            <a:stCxn id="227" idx="3"/>
            <a:endCxn id="228" idx="1"/>
          </p:cNvCxnSpPr>
          <p:nvPr/>
        </p:nvCxnSpPr>
        <p:spPr>
          <a:xfrm flipV="1">
            <a:off x="6875280" y="3104280"/>
            <a:ext cx="43380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33" name="Прямоугольник 16"/>
          <p:cNvSpPr/>
          <p:nvPr/>
        </p:nvSpPr>
        <p:spPr>
          <a:xfrm>
            <a:off x="179280" y="486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Как цель поставишь, таким и будет результат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ели должны быть: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нятными, четкими, точными, конкретными, не допускающими их двойной трактов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альны, достижим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 учетом тех ресурсов, которыми располагает учитель и ученик)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нструментальны, технологичн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пределяют конкретные действия по их достижению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местны в дан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агностичн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оддаются измерению, определению соответствия им результатов учебной деятельност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лжны быть достигнуты в ограниченное врем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Следует точно определить время или период для достижения выбранной цел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ма-вопр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34100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вопроса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Как образуются степени сравнения прилагательных в английском языке?», «Что изучает история Средних веков?», «Было ли восстание декабристов обречено на провал?», «Что такое пропорция?», «Где мы встречаемся с масштабом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оняти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276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1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дет работа над понятием порядковых числи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в формулировке темы известно? (Например, известно, что такое числительные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Какие слова в формулировке вопроса непонятн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Как вы думаете, что обозначает слово «порядковые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Знаете ли вы, как образуются порядковые числительные в английском язык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оняти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ащимся предлагается для зрительного восприятия название темы урока.(тема на доске или слайде ) Например, тема урока в 5 классе "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МАСШТАБ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". Необходимо объяснить значение  слова или отыскать в "Толковом словаре". Далее, от значения слова определяем цель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2:08:54Z</dcterms:created>
  <dc:creator>Зам.директора по НМР         Королева А.В.</dc:creator>
  <dc:description/>
  <dc:language>en-US</dc:language>
  <cp:lastModifiedBy>Зам.директора по НМР         Королева А.В.</cp:lastModifiedBy>
  <dcterms:modified xsi:type="dcterms:W3CDTF">2017-01-10T13:36:38Z</dcterms:modified>
  <cp:revision>9</cp:revision>
  <dc:subject/>
  <dc:title>Слайд 1</dc:title>
</cp:coreProperties>
</file>