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2.jpeg" ContentType="image/jpeg"/>
  <Override PartName="/ppt/media/image13.png" ContentType="image/png"/>
  <Override PartName="/ppt/media/image7.jpeg" ContentType="image/jpeg"/>
  <Override PartName="/ppt/media/image1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AE484-6481-487D-8F2E-1B30D5CF8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38FC1-E19F-4CD0-A667-53ABC3EFA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F168A-D43A-4BE5-9967-4F4F2B8A0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03533-DD79-4D8D-AB3E-8D7FD089A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2B5AF-98A8-4425-AE53-8F0576206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98369-64F0-4D35-9136-2E4A0AFC5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6B6CA-C33E-407C-8379-E25A405B8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68D66-CBA4-48AA-97AF-D6508B1C1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0B4D0-DE47-4A54-9873-71A40F765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42401-68FB-4BF8-8EC0-A156E0021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8C0D9-7DC1-446F-BDDE-5482897AB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5BF06-23EF-4A7C-AAE8-6167298CA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FCF95-7E8C-476A-A243-C6FCEFA2F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B3720-8FB9-470B-BE2C-9AC456E57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7ECF9-C9BC-43C2-A9E7-868BCE6A5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D0899-3C6D-4515-BAD9-8597803AF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31C71-906A-4D41-A20A-86E8EE63E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E877D1-23AD-4F48-BD1B-6CAC3D3DD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894AFC-1050-4A90-82BB-FB8392E81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56F802-045D-4404-A82C-BF90E1C37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B9FA8A-CAD6-41FA-BC34-BCB0CA523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33D1AD-4F6D-4139-A8B6-E649FD894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8E0BB-FAF7-462B-91F6-D3D33693F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885DC2-6611-4245-9627-CD86D8860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EB288D-F142-4C8E-8E94-E3987DE77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E880C2-97BB-4B94-ABFB-EEF85BB38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3A4C98-3618-40E4-8FAC-0515F74FB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4348A6-19C9-422C-A6F7-C42C2532A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1E1746-21BB-4D68-962A-A332BFE66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64BCC6-A1C2-4EC1-8B84-F9EC5D1D6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3B0112-6493-4D75-B11D-041D27595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225801-07F2-4CE5-944D-72BD9F394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BA1004-B09F-4E17-9C68-9335BAEB1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F8E34-0B81-49D6-B172-6C4672421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F62AB6-61CE-4BAB-B3C4-1914CA109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9C2727-2B22-4CE1-ABA2-1E7820E6F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86CC3C-F93B-43CA-A2D5-6EEBBDAA4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153258-F127-4CD1-88B7-05D2CFF25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11BCE3-F46C-4FD1-8F5F-C50EFA7E3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9DBA3B-4601-43AC-A864-30BCF294F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F44D88-66BC-48D3-9E43-863D4498C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478A4C-BDF1-4BA8-83B6-E777F1AA5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F71D0C-6E5C-4260-9B5F-E407F47D4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9803A2-03F6-46E8-BF13-064F679B3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F6C4A-1A86-49BF-947A-D3B57BE86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D7A887-2073-490F-8336-C5DB71ADD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6723C2-2500-417C-8FB2-86DEF7E44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722261-1749-4086-A67D-F34E8760C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42B1E1-E9D8-4712-9D7E-7510899A9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76C1C2-4C28-489C-A4A2-D4A887A9B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9599CD-3224-49B1-9A9A-96476A62D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C29D85-A19C-448A-8EB4-498B8278B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F4D2D9-347C-451C-B903-67AF2A0EA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EC64F8-1700-4DE1-9C24-1B96C6948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C90FB2-7450-4463-8CBB-B88227B56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D466B-5C6E-4FE9-909E-9DDFF40A2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756DD6-5573-4410-AFAB-F98345EDE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09DF36-D2BA-4D62-8076-696C49A2A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A1B975-DC32-4BFF-A7F5-4AFAA0C87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DF1E67-4A0A-441C-B9C4-BC0AF677B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D04A8C-9922-4843-9641-54F56A052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E7D740-479F-45CA-A7AE-DFA6E9EF4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D68C30-D8AD-44C5-8D9B-212194125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178261-8E1F-43E6-8810-AB13F7D73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F2B515-EB38-4EBC-BEF0-1E7B56CB2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DD6251-8C7D-47D8-8619-AA01239AA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ACA80-A6B7-4F86-A8D2-85CEC3A1F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D1A7A8-8BE4-4337-BBE5-F7C85DDBE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299C6F-4887-4A61-A7A9-0258854D5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B76316-3BC4-4041-AB63-1C3CCFF62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C23D8E-3A9C-44AD-A6FF-CD0D1853F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F20B21-408F-45B4-ABDE-14B3182A5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E485AC-048B-49C6-9B0F-1119C86C1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FBD33F-E661-4C1E-AC62-67FB76628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EFD7CC-C6F2-4721-B4E0-AE5504876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67ABD3-1529-4E43-BF1A-5E205DACE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B8A01A-D0F1-42F6-97A0-04C3AEB0A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95448-302D-472F-B017-D8CFDC5FC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FC668B-3C42-41E9-A72D-BEE680ED1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695660-71B3-491E-B860-A25A8DA55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3E0036-3327-4934-B118-ED1C6B2AC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A9B6C4-87DA-47CE-9C97-363FB87A8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A21165-9E0C-4B1A-A569-4E39A6A62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1EED2-9405-4A17-8B84-0ADE06F1F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20FF1-49B4-4D0F-8D9E-BC5EFDF509AF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7CEB0-FE11-4321-BC92-6893240CF7D0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D369C-D318-4938-A2F5-1909475369A4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4AEBD-955A-48C4-A16C-5D7336836459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0F505-800C-4EB7-9DB7-BDC1DB2FDDCD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2CDEF-E0BD-4D25-8A89-EF406E244E38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F5499-A443-4C91-8CE0-43426828C0A9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3.png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8.pn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6.jpe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TextBox 1"/>
          <p:cNvSpPr/>
          <p:nvPr/>
        </p:nvSpPr>
        <p:spPr>
          <a:xfrm>
            <a:off x="1258920" y="692280"/>
            <a:ext cx="7416720" cy="53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рок математики в 1 класс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МК «Начальная школа 21 век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Тема:«Шар,куб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итель начальных классов: Дурандина Наталья Владимиро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м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вадрат отличается по форме от куба?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45" name="Содержимое 4" descr="кубик.jpg"/>
          <p:cNvPicPr/>
          <p:nvPr/>
        </p:nvPicPr>
        <p:blipFill>
          <a:blip r:embed="rId1"/>
          <a:stretch/>
        </p:blipFill>
        <p:spPr>
          <a:xfrm>
            <a:off x="6357960" y="928800"/>
            <a:ext cx="2144520" cy="2178000"/>
          </a:xfrm>
          <a:prstGeom prst="rect">
            <a:avLst/>
          </a:prstGeom>
          <a:ln w="0">
            <a:noFill/>
          </a:ln>
        </p:spPr>
      </p:pic>
      <p:pic>
        <p:nvPicPr>
          <p:cNvPr id="346" name="Содержимое 7" descr="квадрат.png"/>
          <p:cNvPicPr/>
          <p:nvPr/>
        </p:nvPicPr>
        <p:blipFill>
          <a:blip r:embed="rId2"/>
          <a:stretch/>
        </p:blipFill>
        <p:spPr>
          <a:xfrm>
            <a:off x="1000080" y="785880"/>
            <a:ext cx="2425680" cy="2322360"/>
          </a:xfrm>
          <a:prstGeom prst="rect">
            <a:avLst/>
          </a:prstGeom>
          <a:ln w="0">
            <a:noFill/>
          </a:ln>
        </p:spPr>
      </p:pic>
      <p:sp>
        <p:nvSpPr>
          <p:cNvPr id="347" name="TextBox 5"/>
          <p:cNvSpPr/>
          <p:nvPr/>
        </p:nvSpPr>
        <p:spPr>
          <a:xfrm>
            <a:off x="2000160" y="3143160"/>
            <a:ext cx="6072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м круг отличается по форме от шар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Содержимое 4" descr="шар.jpg"/>
          <p:cNvPicPr/>
          <p:nvPr/>
        </p:nvPicPr>
        <p:blipFill>
          <a:blip r:embed="rId3"/>
          <a:stretch/>
        </p:blipFill>
        <p:spPr>
          <a:xfrm>
            <a:off x="6500880" y="4071960"/>
            <a:ext cx="1895400" cy="1928880"/>
          </a:xfrm>
          <a:prstGeom prst="rect">
            <a:avLst/>
          </a:prstGeom>
          <a:ln w="0">
            <a:noFill/>
          </a:ln>
        </p:spPr>
      </p:pic>
      <p:pic>
        <p:nvPicPr>
          <p:cNvPr id="349" name="Содержимое 7" descr="шары.jpg"/>
          <p:cNvPicPr/>
          <p:nvPr/>
        </p:nvPicPr>
        <p:blipFill>
          <a:blip r:embed="rId4"/>
          <a:stretch/>
        </p:blipFill>
        <p:spPr>
          <a:xfrm>
            <a:off x="1212840" y="4145040"/>
            <a:ext cx="2090880" cy="20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65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Квадрат и круг –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лоские фигуры.</a:t>
            </a:r>
            <a:br>
              <a:rPr sz="3600"/>
            </a:br>
            <a:r>
              <a:rPr b="1" lang="ru-RU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Куб и шар –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бъёмные фигуры.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51" name="Содержимое 7" descr="квадрат.png"/>
          <p:cNvPicPr/>
          <p:nvPr/>
        </p:nvPicPr>
        <p:blipFill>
          <a:blip r:embed="rId1"/>
          <a:stretch/>
        </p:blipFill>
        <p:spPr>
          <a:xfrm>
            <a:off x="1212840" y="1925640"/>
            <a:ext cx="1974960" cy="1890720"/>
          </a:xfrm>
          <a:prstGeom prst="rect">
            <a:avLst/>
          </a:prstGeom>
          <a:ln w="0">
            <a:noFill/>
          </a:ln>
        </p:spPr>
      </p:pic>
      <p:pic>
        <p:nvPicPr>
          <p:cNvPr id="352" name="Содержимое 7" descr="шары.jpg"/>
          <p:cNvPicPr/>
          <p:nvPr/>
        </p:nvPicPr>
        <p:blipFill>
          <a:blip r:embed="rId2"/>
          <a:stretch/>
        </p:blipFill>
        <p:spPr>
          <a:xfrm>
            <a:off x="5784840" y="1859040"/>
            <a:ext cx="2090880" cy="2043000"/>
          </a:xfrm>
          <a:prstGeom prst="rect">
            <a:avLst/>
          </a:prstGeom>
          <a:ln w="0">
            <a:noFill/>
          </a:ln>
        </p:spPr>
      </p:pic>
      <p:pic>
        <p:nvPicPr>
          <p:cNvPr id="353" name="Содержимое 4" descr="кубик.jpg"/>
          <p:cNvPicPr/>
          <p:nvPr/>
        </p:nvPicPr>
        <p:blipFill>
          <a:blip r:embed="rId3"/>
          <a:stretch/>
        </p:blipFill>
        <p:spPr>
          <a:xfrm>
            <a:off x="1071720" y="4071960"/>
            <a:ext cx="2144520" cy="2178000"/>
          </a:xfrm>
          <a:prstGeom prst="rect">
            <a:avLst/>
          </a:prstGeom>
          <a:ln w="0">
            <a:noFill/>
          </a:ln>
        </p:spPr>
      </p:pic>
      <p:pic>
        <p:nvPicPr>
          <p:cNvPr id="354" name="Содержимое 4" descr="шар.jpg"/>
          <p:cNvPicPr/>
          <p:nvPr/>
        </p:nvPicPr>
        <p:blipFill>
          <a:blip r:embed="rId4"/>
          <a:stretch/>
        </p:blipFill>
        <p:spPr>
          <a:xfrm>
            <a:off x="6143760" y="4071960"/>
            <a:ext cx="189540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Picture 2" descr="http://poznaumir.su/14616-17196-thickbox/kochurova-rudnitskaya-1-klass-matematika-rabochaya-tetrad.jpg"/>
          <p:cNvPicPr/>
          <p:nvPr/>
        </p:nvPicPr>
        <p:blipFill>
          <a:blip r:embed="rId1"/>
          <a:stretch/>
        </p:blipFill>
        <p:spPr>
          <a:xfrm>
            <a:off x="0" y="0"/>
            <a:ext cx="2852640" cy="2852640"/>
          </a:xfrm>
          <a:prstGeom prst="rect">
            <a:avLst/>
          </a:prstGeom>
          <a:ln w="0">
            <a:noFill/>
          </a:ln>
        </p:spPr>
      </p:pic>
      <p:pic>
        <p:nvPicPr>
          <p:cNvPr id="356" name="Рисунок 1" descr="C:\Users\Алексей\Pictures\img004.jpg"/>
          <p:cNvPicPr/>
          <p:nvPr/>
        </p:nvPicPr>
        <p:blipFill>
          <a:blip r:embed="rId2"/>
          <a:stretch/>
        </p:blipFill>
        <p:spPr>
          <a:xfrm>
            <a:off x="1714680" y="2071800"/>
            <a:ext cx="72151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Picture 2" descr="C:\Users\Yana1\Desktop\наташа\2 класс ЗАДАНИЯ\Скриншот (13.12.2013 23-27-14).jpg"/>
          <p:cNvPicPr/>
          <p:nvPr/>
        </p:nvPicPr>
        <p:blipFill>
          <a:blip r:embed="rId1"/>
          <a:stretch/>
        </p:blipFill>
        <p:spPr>
          <a:xfrm>
            <a:off x="1214280" y="285840"/>
            <a:ext cx="7358400" cy="271440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2" descr="C:\Users\Yana1\Desktop\наташа\2 класс ЗАДАНИЯ\Скриншот (13.12.2013 23-27-27).jpg"/>
          <p:cNvPicPr/>
          <p:nvPr/>
        </p:nvPicPr>
        <p:blipFill>
          <a:blip r:embed="rId2"/>
          <a:stretch/>
        </p:blipFill>
        <p:spPr>
          <a:xfrm>
            <a:off x="1000080" y="4000680"/>
            <a:ext cx="785808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TextBox 2"/>
          <p:cNvSpPr/>
          <p:nvPr/>
        </p:nvSpPr>
        <p:spPr>
          <a:xfrm>
            <a:off x="1209960" y="1700280"/>
            <a:ext cx="7404480" cy="40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 u="sng">
                <a:solidFill>
                  <a:srgbClr val="000000"/>
                </a:solidFill>
                <a:uFillTx/>
                <a:latin typeface="Arial"/>
              </a:rPr>
              <a:t>Продолжите предложения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Я узнал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Я научился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Мне было интересно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Спасибо за урок!</a:t>
            </a:r>
            <a:endParaRPr b="0" lang="en-US" sz="4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61" name="Содержимое 4" descr="кубик.jpg"/>
          <p:cNvPicPr/>
          <p:nvPr/>
        </p:nvPicPr>
        <p:blipFill>
          <a:blip r:embed="rId1"/>
          <a:stretch/>
        </p:blipFill>
        <p:spPr>
          <a:xfrm>
            <a:off x="1071720" y="4071960"/>
            <a:ext cx="2144520" cy="2178000"/>
          </a:xfrm>
          <a:prstGeom prst="rect">
            <a:avLst/>
          </a:prstGeom>
          <a:ln w="0">
            <a:noFill/>
          </a:ln>
        </p:spPr>
      </p:pic>
      <p:pic>
        <p:nvPicPr>
          <p:cNvPr id="362" name="Содержимое 4" descr="шар.jpg"/>
          <p:cNvPicPr/>
          <p:nvPr/>
        </p:nvPicPr>
        <p:blipFill>
          <a:blip r:embed="rId2"/>
          <a:stretch/>
        </p:blipFill>
        <p:spPr>
          <a:xfrm>
            <a:off x="6858000" y="500040"/>
            <a:ext cx="189540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2857680" y="4500720"/>
            <a:ext cx="3357360" cy="13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Тема урока: «Шар. Куб»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0" name="AutoShape 2"/>
          <p:cNvSpPr/>
          <p:nvPr/>
        </p:nvSpPr>
        <p:spPr>
          <a:xfrm>
            <a:off x="6215040" y="3929040"/>
            <a:ext cx="2160720" cy="200196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Oval 3"/>
          <p:cNvSpPr/>
          <p:nvPr/>
        </p:nvSpPr>
        <p:spPr>
          <a:xfrm>
            <a:off x="928800" y="1000080"/>
            <a:ext cx="1927080" cy="1857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тный счёт.</a:t>
            </a: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Логическая задача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я задумала число. Вы его называете, когда считаете парами до 10 и тройками до 9. Какое число задумала Аня?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4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9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6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Какие числа пропущены в каждом ряду?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1, 2, , , 5, , , 8, , 10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2, 4, , , 10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10, 8, , 4, 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Picture 2" descr="C:\Users\Yana1\Desktop\наташа\2 класс ЗАДАНИЯ\Скриншот (13.12.2013 22-56-33).jpg"/>
          <p:cNvPicPr/>
          <p:nvPr/>
        </p:nvPicPr>
        <p:blipFill>
          <a:blip r:embed="rId1"/>
          <a:stretch/>
        </p:blipFill>
        <p:spPr>
          <a:xfrm>
            <a:off x="1488960" y="1197000"/>
            <a:ext cx="7159680" cy="25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Прямоугольник 1"/>
          <p:cNvSpPr/>
          <p:nvPr/>
        </p:nvSpPr>
        <p:spPr>
          <a:xfrm>
            <a:off x="2050920" y="1197000"/>
            <a:ext cx="1729080" cy="914400"/>
          </a:xfrm>
          <a:prstGeom prst="rect">
            <a:avLst/>
          </a:prstGeom>
          <a:solidFill>
            <a:srgbClr val="ffffff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Овал 2"/>
          <p:cNvSpPr/>
          <p:nvPr/>
        </p:nvSpPr>
        <p:spPr>
          <a:xfrm>
            <a:off x="4716360" y="1166760"/>
            <a:ext cx="1922400" cy="9144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Прямоугольник 3"/>
          <p:cNvSpPr/>
          <p:nvPr/>
        </p:nvSpPr>
        <p:spPr>
          <a:xfrm>
            <a:off x="2058840" y="3187800"/>
            <a:ext cx="914400" cy="914400"/>
          </a:xfrm>
          <a:prstGeom prst="rect">
            <a:avLst/>
          </a:prstGeom>
          <a:solidFill>
            <a:srgbClr val="ffffff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Равнобедренный треугольник 4"/>
          <p:cNvSpPr/>
          <p:nvPr/>
        </p:nvSpPr>
        <p:spPr>
          <a:xfrm>
            <a:off x="4186080" y="3174840"/>
            <a:ext cx="1060560" cy="9144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Овал 5"/>
          <p:cNvSpPr/>
          <p:nvPr/>
        </p:nvSpPr>
        <p:spPr>
          <a:xfrm>
            <a:off x="6321600" y="3166920"/>
            <a:ext cx="914400" cy="9144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Box 6"/>
          <p:cNvSpPr/>
          <p:nvPr/>
        </p:nvSpPr>
        <p:spPr>
          <a:xfrm>
            <a:off x="3434760" y="328680"/>
            <a:ext cx="256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зови фигу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Содержимое 4" descr="кубик.jpg"/>
          <p:cNvPicPr/>
          <p:nvPr/>
        </p:nvPicPr>
        <p:blipFill>
          <a:blip r:embed="rId1"/>
          <a:stretch/>
        </p:blipFill>
        <p:spPr>
          <a:xfrm>
            <a:off x="1332000" y="1125360"/>
            <a:ext cx="2795400" cy="2838600"/>
          </a:xfrm>
          <a:prstGeom prst="rect">
            <a:avLst/>
          </a:prstGeom>
          <a:ln w="0">
            <a:noFill/>
          </a:ln>
        </p:spPr>
      </p:pic>
      <p:pic>
        <p:nvPicPr>
          <p:cNvPr id="332" name="Содержимое 4" descr="шар.jpg"/>
          <p:cNvPicPr/>
          <p:nvPr/>
        </p:nvPicPr>
        <p:blipFill>
          <a:blip r:embed="rId2"/>
          <a:stretch/>
        </p:blipFill>
        <p:spPr>
          <a:xfrm>
            <a:off x="5940360" y="1333440"/>
            <a:ext cx="189540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</a:t>
            </a:r>
            <a:r>
              <a:rPr b="0" lang="ru-RU" sz="4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похож куб и шар?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34" name="Содержимое 4" descr="шар.jpg"/>
          <p:cNvPicPr/>
          <p:nvPr/>
        </p:nvPicPr>
        <p:blipFill>
          <a:blip r:embed="rId1"/>
          <a:stretch/>
        </p:blipFill>
        <p:spPr>
          <a:xfrm>
            <a:off x="1357200" y="1285920"/>
            <a:ext cx="1895760" cy="1928880"/>
          </a:xfrm>
          <a:prstGeom prst="rect">
            <a:avLst/>
          </a:prstGeom>
          <a:ln w="0">
            <a:noFill/>
          </a:ln>
        </p:spPr>
      </p:pic>
      <p:pic>
        <p:nvPicPr>
          <p:cNvPr id="335" name="Содержимое 7" descr="шары.jpg"/>
          <p:cNvPicPr/>
          <p:nvPr/>
        </p:nvPicPr>
        <p:blipFill>
          <a:blip r:embed="rId2"/>
          <a:stretch/>
        </p:blipFill>
        <p:spPr>
          <a:xfrm>
            <a:off x="6572160" y="1500120"/>
            <a:ext cx="2090880" cy="2041560"/>
          </a:xfrm>
          <a:prstGeom prst="rect">
            <a:avLst/>
          </a:prstGeom>
          <a:ln w="0">
            <a:noFill/>
          </a:ln>
        </p:spPr>
      </p:pic>
      <p:pic>
        <p:nvPicPr>
          <p:cNvPr id="336" name="Содержимое 4" descr="кубик.jpg"/>
          <p:cNvPicPr/>
          <p:nvPr/>
        </p:nvPicPr>
        <p:blipFill>
          <a:blip r:embed="rId3"/>
          <a:stretch/>
        </p:blipFill>
        <p:spPr>
          <a:xfrm>
            <a:off x="1071720" y="3429000"/>
            <a:ext cx="2795400" cy="2838600"/>
          </a:xfrm>
          <a:prstGeom prst="rect">
            <a:avLst/>
          </a:prstGeom>
          <a:ln w="0">
            <a:noFill/>
          </a:ln>
        </p:spPr>
      </p:pic>
      <p:pic>
        <p:nvPicPr>
          <p:cNvPr id="337" name="Содержимое 7" descr="квадрат.png"/>
          <p:cNvPicPr/>
          <p:nvPr/>
        </p:nvPicPr>
        <p:blipFill>
          <a:blip r:embed="rId4"/>
          <a:stretch/>
        </p:blipFill>
        <p:spPr>
          <a:xfrm>
            <a:off x="5999040" y="3498840"/>
            <a:ext cx="2863800" cy="2736720"/>
          </a:xfrm>
          <a:prstGeom prst="rect">
            <a:avLst/>
          </a:prstGeom>
          <a:ln w="0">
            <a:noFill/>
          </a:ln>
        </p:spPr>
      </p:pic>
      <p:sp>
        <p:nvSpPr>
          <p:cNvPr id="338" name="Стрелка вправо с вырезом 7"/>
          <p:cNvSpPr/>
          <p:nvPr/>
        </p:nvSpPr>
        <p:spPr>
          <a:xfrm>
            <a:off x="4214880" y="1928880"/>
            <a:ext cx="1224000" cy="647640"/>
          </a:xfrm>
          <a:custGeom>
            <a:avLst/>
            <a:gdLst>
              <a:gd name="textAreaLeft" fmla="*/ 161640 w 1224000"/>
              <a:gd name="textAreaRight" fmla="*/ 1062360 w 1224000"/>
              <a:gd name="textAreaTop" fmla="*/ 162000 h 647640"/>
              <a:gd name="textAreaBottom" fmla="*/ 486000 h 647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5885" y="5400"/>
                </a:lnTo>
                <a:lnTo>
                  <a:pt x="15885" y="0"/>
                </a:lnTo>
                <a:lnTo>
                  <a:pt x="21600" y="10800"/>
                </a:lnTo>
                <a:lnTo>
                  <a:pt x="15885" y="21600"/>
                </a:lnTo>
                <a:lnTo>
                  <a:pt x="15885" y="16200"/>
                </a:lnTo>
                <a:lnTo>
                  <a:pt x="0" y="16200"/>
                </a:lnTo>
                <a:lnTo>
                  <a:pt x="2858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Стрелка вправо с вырезом 8"/>
          <p:cNvSpPr/>
          <p:nvPr/>
        </p:nvSpPr>
        <p:spPr>
          <a:xfrm>
            <a:off x="4286160" y="4286160"/>
            <a:ext cx="1224000" cy="647640"/>
          </a:xfrm>
          <a:custGeom>
            <a:avLst/>
            <a:gdLst>
              <a:gd name="textAreaLeft" fmla="*/ 161640 w 1224000"/>
              <a:gd name="textAreaRight" fmla="*/ 1062360 w 1224000"/>
              <a:gd name="textAreaTop" fmla="*/ 162000 h 647640"/>
              <a:gd name="textAreaBottom" fmla="*/ 486000 h 647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5885" y="5400"/>
                </a:lnTo>
                <a:lnTo>
                  <a:pt x="15885" y="0"/>
                </a:lnTo>
                <a:lnTo>
                  <a:pt x="21600" y="10800"/>
                </a:lnTo>
                <a:lnTo>
                  <a:pt x="15885" y="21600"/>
                </a:lnTo>
                <a:lnTo>
                  <a:pt x="15885" y="16200"/>
                </a:lnTo>
                <a:lnTo>
                  <a:pt x="0" y="16200"/>
                </a:lnTo>
                <a:lnTo>
                  <a:pt x="2858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аница 9,    № 1, № 2, № 3.</a:t>
            </a: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41" name="Picture 6" descr="http://nashol.com/images/stories/knigi/knigi5/mat5.jpg"/>
          <p:cNvPicPr/>
          <p:nvPr/>
        </p:nvPicPr>
        <p:blipFill>
          <a:blip r:embed="rId1"/>
          <a:stretch/>
        </p:blipFill>
        <p:spPr>
          <a:xfrm>
            <a:off x="2857680" y="1714680"/>
            <a:ext cx="2500200" cy="34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Picture 3" descr="C:\Users\Yana1\Desktop\наташа\2 класс ЗАДАНИЯ\Скриншот (13.12.2013 22-35-01).jpg"/>
          <p:cNvPicPr/>
          <p:nvPr/>
        </p:nvPicPr>
        <p:blipFill>
          <a:blip r:embed="rId1"/>
          <a:stretch/>
        </p:blipFill>
        <p:spPr>
          <a:xfrm>
            <a:off x="1168560" y="-6480"/>
            <a:ext cx="6949800" cy="298296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2" descr="C:\Users\Yana1\Desktop\наташа\2 класс ЗАДАНИЯ\Скриншот (13.12.2013 22-35-09).jpg"/>
          <p:cNvPicPr/>
          <p:nvPr/>
        </p:nvPicPr>
        <p:blipFill>
          <a:blip r:embed="rId2"/>
          <a:stretch/>
        </p:blipFill>
        <p:spPr>
          <a:xfrm>
            <a:off x="285840" y="3071880"/>
            <a:ext cx="8715240" cy="35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7T11:46:51Z</dcterms:created>
  <dc:creator>Computer</dc:creator>
  <dc:description/>
  <dc:language>en-US</dc:language>
  <cp:lastModifiedBy>hobahoba82@outlook.com</cp:lastModifiedBy>
  <dcterms:modified xsi:type="dcterms:W3CDTF">2017-02-21T18:12:03Z</dcterms:modified>
  <cp:revision>10</cp:revision>
  <dc:subject/>
  <dc:title>Тема урока: «Шар. Куб»     Чепель О.А., учитель  начальных классов</dc:title>
</cp:coreProperties>
</file>