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F79-C6BA-4B2B-A752-0EAA764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C62-9D8A-4369-B1F0-1213CC7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897-7729-40F3-9AD9-6842AE21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C84-9439-49B0-BB90-C3875D72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F7E-3BB3-46D6-A26C-18C478CA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C620-5102-42A1-B09C-3FCA1FE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AA8-92F9-4DCD-A86B-AB1B004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B174-418B-43DC-B4B4-20B8EB2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69F-9B07-4904-9AA6-E2B9ED1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363-2B05-4FFD-BEEC-DF455D5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95DB-FD7C-408F-A4DC-342EB1E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E81-3EFB-45A1-B01A-00D14B9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5F86-F48D-4EFC-B132-D27DCAD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FB00-E367-47B2-82D1-88A6961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F28-043D-4F84-8E55-E0463BE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B611-7931-49F0-9878-48E3440F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F59D-8809-44F5-8B23-2FBC1215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DBC3-5D25-4D54-A085-EAF7BFC6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4313-972E-4779-9D34-0A34440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D6DA-CE2C-42EA-8CBB-3BDF10E4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F1A6-A676-4404-BF22-8F8D5C6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B022-33CE-4637-97D9-9DF63FE0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20C-24D6-4A43-B3EC-A54DA99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E793-36FD-4D3A-9431-44246B4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7617-F209-426F-8C3D-C4336A3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92BD-F5F5-4F06-ABC0-EF2A53F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96EE-F6C0-4478-B33E-8CF66DC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3E95-9D62-4F37-9249-863B201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E06F-857E-45A5-872E-AB1D0980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7389-25B3-4EBC-B886-617421D1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98DF-3EC2-4B65-8C49-148C20EB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D5E2-87B5-40BD-870C-D4F2A0E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B1F5-15AB-47CF-B1BB-FF98C9B0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BFE-C618-4AF8-916F-F4E73650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80B6-715C-4E01-8E09-BC9DF76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AF87-504F-453C-A42E-F534336B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1324-D7FF-4BF0-A65F-65FD740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2B62-CC55-44DE-8B62-1475EBD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7029-4437-45C4-803B-0A05094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D9A0-32D3-4A48-A4E2-24603AF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EE6D-0D42-498F-A467-073ECD3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11AE-4DED-4A55-8A49-AF08A0B9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ED26-6F63-4AC6-9ACD-7A3A667A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FF9A-2D16-421D-83A5-AF524BE9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46B-C869-4A42-AD9E-C6E59A9F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7241-C395-444F-A30F-A968E277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58F5-AD2E-4F60-A342-149EB63D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9086-D434-4780-A97C-4701D34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484A-9C76-4416-8D44-8003587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6C89-1E65-4619-A82A-AA59EA8D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13B5-055D-439F-9273-B6CA2AC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73F69-9128-4716-905A-D991AC2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1898-EF2D-4CC0-B4D7-FBE7219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7B1DC-3C4F-4EA5-896A-4F7CED5C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8078-6D5B-4BE1-9C43-773003E7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8DF-14E8-445E-9BED-2EEE42C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8477-5877-4373-8C79-8F466500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505B-3178-4232-9276-729C5ACD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A9ED-636E-4C09-976A-FAD40E6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42F4-A5B4-402C-84A8-34DDF880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D022E-87DA-4452-A591-C5788D80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2AFD4-09F1-4357-8233-E72F282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13181-50E7-4E40-8D31-4A1B0CF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E831-1E35-483D-8CD0-EA34D79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EFA5-A4CE-4882-A5C0-8C0388D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07DF8-45B0-49C7-94C0-F43A896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951-F111-4523-84E0-C5A01F5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6467-9DD7-47E7-9397-FC7A89C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45024-6226-43D5-BA1F-8ADB698C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57D1-70EF-4B15-B8BF-D4192F0A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03E6-05C2-4E28-9BD3-DA9CAE68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3E51-C79F-490D-BCA5-A710467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18D9-B0A6-4512-9892-A505248E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795A2-C0AE-41CA-B350-8B57391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A42B-8979-4ED3-B28F-290D3DC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FD47-BB1F-46E6-9A91-DEDB4F7B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315C-2A93-4154-9675-DDB6674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57-30D2-40D8-B3A0-63973EB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43D1-AABD-4778-AF0C-A6875F5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2ED46-C6FA-4316-A71C-EF4E3B9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7DD8-1E7F-42A2-A8E4-1D1990E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69307-EC11-48EE-A99D-E596B000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5889F-FA4A-4F4B-BBDA-A731C110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89A-344F-49F6-97BA-52AF1EDD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217-726F-49A5-8947-3046CA2AE9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138-660C-4968-9677-D347E9CBA7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6B7-197F-493B-8D46-22EE023114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F9F9-22E9-428E-A1EE-80C9070CE0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D9A8-B5FE-4CF3-8103-B20BC49848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FA7-130B-4321-A27A-65882B2D38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FDD-8D5D-4792-9A45-461EEB0448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258920" y="692280"/>
            <a:ext cx="74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математики в 1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«Начальная школа 21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«Шар,ку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: Дуранд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драт отличается по форме от куба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6357960" y="92880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7" descr="квадрат.png"/>
          <p:cNvPicPr/>
          <p:nvPr/>
        </p:nvPicPr>
        <p:blipFill>
          <a:blip r:embed="rId2"/>
          <a:stretch/>
        </p:blipFill>
        <p:spPr>
          <a:xfrm>
            <a:off x="1000080" y="785880"/>
            <a:ext cx="2425680" cy="2322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5"/>
          <p:cNvSpPr/>
          <p:nvPr/>
        </p:nvSpPr>
        <p:spPr>
          <a:xfrm>
            <a:off x="2000160" y="3143160"/>
            <a:ext cx="60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круг отличается по форме от ш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Содержимое 4" descr="шар.jpg"/>
          <p:cNvPicPr/>
          <p:nvPr/>
        </p:nvPicPr>
        <p:blipFill>
          <a:blip r:embed="rId3"/>
          <a:stretch/>
        </p:blipFill>
        <p:spPr>
          <a:xfrm>
            <a:off x="6500880" y="407196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7" descr="шары.jpg"/>
          <p:cNvPicPr/>
          <p:nvPr/>
        </p:nvPicPr>
        <p:blipFill>
          <a:blip r:embed="rId4"/>
          <a:stretch/>
        </p:blipFill>
        <p:spPr>
          <a:xfrm>
            <a:off x="1212840" y="4145040"/>
            <a:ext cx="20908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адрат и круг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ские фигуры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б и шар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ёмные фигуры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7" descr="квадрат.png"/>
          <p:cNvPicPr/>
          <p:nvPr/>
        </p:nvPicPr>
        <p:blipFill>
          <a:blip r:embed="rId1"/>
          <a:stretch/>
        </p:blipFill>
        <p:spPr>
          <a:xfrm>
            <a:off x="1212840" y="1925640"/>
            <a:ext cx="1974960" cy="189072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7" descr="шары.jpg"/>
          <p:cNvPicPr/>
          <p:nvPr/>
        </p:nvPicPr>
        <p:blipFill>
          <a:blip r:embed="rId2"/>
          <a:stretch/>
        </p:blipFill>
        <p:spPr>
          <a:xfrm>
            <a:off x="5784840" y="1859040"/>
            <a:ext cx="2090880" cy="20430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4" descr="кубик.jpg"/>
          <p:cNvPicPr/>
          <p:nvPr/>
        </p:nvPicPr>
        <p:blipFill>
          <a:blip r:embed="rId3"/>
          <a:stretch/>
        </p:blipFill>
        <p:spPr>
          <a:xfrm>
            <a:off x="1071720" y="407196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54" name="Содержимое 4" descr="шар.jpg"/>
          <p:cNvPicPr/>
          <p:nvPr/>
        </p:nvPicPr>
        <p:blipFill>
          <a:blip r:embed="rId4"/>
          <a:stretch/>
        </p:blipFill>
        <p:spPr>
          <a:xfrm>
            <a:off x="6143760" y="407196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poznaumir.su/14616-17196-thickbox/kochurova-rudnitskaya-1-klass-matematika-rabochaya-tetrad.jpg"/>
          <p:cNvPicPr/>
          <p:nvPr/>
        </p:nvPicPr>
        <p:blipFill>
          <a:blip r:embed="rId1"/>
          <a:stretch/>
        </p:blipFill>
        <p:spPr>
          <a:xfrm>
            <a:off x="0" y="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" descr="C:\Users\Алексей\Pictures\img004.jpg"/>
          <p:cNvPicPr/>
          <p:nvPr/>
        </p:nvPicPr>
        <p:blipFill>
          <a:blip r:embed="rId2"/>
          <a:stretch/>
        </p:blipFill>
        <p:spPr>
          <a:xfrm>
            <a:off x="1714680" y="2071800"/>
            <a:ext cx="7215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Yana1\Desktop\наташа\2 класс ЗАДАНИЯ\Скриншот (13.12.2013 23-27-14).jpg"/>
          <p:cNvPicPr/>
          <p:nvPr/>
        </p:nvPicPr>
        <p:blipFill>
          <a:blip r:embed="rId1"/>
          <a:stretch/>
        </p:blipFill>
        <p:spPr>
          <a:xfrm>
            <a:off x="1214280" y="285840"/>
            <a:ext cx="7358400" cy="27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C:\Users\Yana1\Desktop\наташа\2 класс ЗАДАНИЯ\Скриншот (13.12.2013 23-27-27).jpg"/>
          <p:cNvPicPr/>
          <p:nvPr/>
        </p:nvPicPr>
        <p:blipFill>
          <a:blip r:embed="rId2"/>
          <a:stretch/>
        </p:blipFill>
        <p:spPr>
          <a:xfrm>
            <a:off x="1000080" y="4000680"/>
            <a:ext cx="7858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209960" y="1700280"/>
            <a:ext cx="74044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должите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1071720" y="407196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4" descr="шар.jpg"/>
          <p:cNvPicPr/>
          <p:nvPr/>
        </p:nvPicPr>
        <p:blipFill>
          <a:blip r:embed="rId2"/>
          <a:stretch/>
        </p:blipFill>
        <p:spPr>
          <a:xfrm>
            <a:off x="6858000" y="50004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57680" y="4500720"/>
            <a:ext cx="33573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урока: «Шар. Куб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6215040" y="3929040"/>
            <a:ext cx="2160720" cy="20019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"/>
          <p:cNvSpPr/>
          <p:nvPr/>
        </p:nvSpPr>
        <p:spPr>
          <a:xfrm>
            <a:off x="928800" y="1000080"/>
            <a:ext cx="1927080" cy="1857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счёт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гическая задач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я задумала число. Вы его называете, когда считаете парами до 10 и тройками до 9. Какое число задумала Ан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числа пропущены в каждом ряду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, 2, , , 5, , , 8, , 10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, 4, , , 10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, 8, , 4, 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Yana1\Desktop\наташа\2 класс ЗАДАНИЯ\Скриншот (13.12.2013 22-56-33).jpg"/>
          <p:cNvPicPr/>
          <p:nvPr/>
        </p:nvPicPr>
        <p:blipFill>
          <a:blip r:embed="rId1"/>
          <a:stretch/>
        </p:blipFill>
        <p:spPr>
          <a:xfrm>
            <a:off x="1488960" y="1197000"/>
            <a:ext cx="71596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2050920" y="1197000"/>
            <a:ext cx="1729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"/>
          <p:cNvSpPr/>
          <p:nvPr/>
        </p:nvSpPr>
        <p:spPr>
          <a:xfrm>
            <a:off x="4716360" y="1166760"/>
            <a:ext cx="1922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2058840" y="3187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авнобедренный треугольник 4"/>
          <p:cNvSpPr/>
          <p:nvPr/>
        </p:nvSpPr>
        <p:spPr>
          <a:xfrm>
            <a:off x="4186080" y="31748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5"/>
          <p:cNvSpPr/>
          <p:nvPr/>
        </p:nvSpPr>
        <p:spPr>
          <a:xfrm>
            <a:off x="6321600" y="316692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3434760" y="32868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1332000" y="1125360"/>
            <a:ext cx="2795400" cy="28386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4" descr="шар.jpg"/>
          <p:cNvPicPr/>
          <p:nvPr/>
        </p:nvPicPr>
        <p:blipFill>
          <a:blip r:embed="rId2"/>
          <a:stretch/>
        </p:blipFill>
        <p:spPr>
          <a:xfrm>
            <a:off x="5940360" y="133344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хож куб и шар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4" descr="шар.jpg"/>
          <p:cNvPicPr/>
          <p:nvPr/>
        </p:nvPicPr>
        <p:blipFill>
          <a:blip r:embed="rId1"/>
          <a:stretch/>
        </p:blipFill>
        <p:spPr>
          <a:xfrm>
            <a:off x="1357200" y="1285920"/>
            <a:ext cx="1895760" cy="192888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7" descr="шары.jpg"/>
          <p:cNvPicPr/>
          <p:nvPr/>
        </p:nvPicPr>
        <p:blipFill>
          <a:blip r:embed="rId2"/>
          <a:stretch/>
        </p:blipFill>
        <p:spPr>
          <a:xfrm>
            <a:off x="6572160" y="1500120"/>
            <a:ext cx="2090880" cy="204156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4" descr="кубик.jpg"/>
          <p:cNvPicPr/>
          <p:nvPr/>
        </p:nvPicPr>
        <p:blipFill>
          <a:blip r:embed="rId3"/>
          <a:stretch/>
        </p:blipFill>
        <p:spPr>
          <a:xfrm>
            <a:off x="1071720" y="3429000"/>
            <a:ext cx="2795400" cy="283860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7" descr="квадрат.png"/>
          <p:cNvPicPr/>
          <p:nvPr/>
        </p:nvPicPr>
        <p:blipFill>
          <a:blip r:embed="rId4"/>
          <a:stretch/>
        </p:blipFill>
        <p:spPr>
          <a:xfrm>
            <a:off x="5999040" y="3498840"/>
            <a:ext cx="2863800" cy="2736720"/>
          </a:xfrm>
          <a:prstGeom prst="rect">
            <a:avLst/>
          </a:prstGeom>
          <a:ln w="0">
            <a:noFill/>
          </a:ln>
        </p:spPr>
      </p:pic>
      <p:sp>
        <p:nvSpPr>
          <p:cNvPr id="338" name="Стрелка вправо с вырезом 7"/>
          <p:cNvSpPr/>
          <p:nvPr/>
        </p:nvSpPr>
        <p:spPr>
          <a:xfrm>
            <a:off x="4214880" y="1928880"/>
            <a:ext cx="1224000" cy="647640"/>
          </a:xfrm>
          <a:custGeom>
            <a:avLst/>
            <a:gdLst>
              <a:gd name="textAreaLeft" fmla="*/ 161640 w 1224000"/>
              <a:gd name="textAreaRight" fmla="*/ 106236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85" y="5400"/>
                </a:lnTo>
                <a:lnTo>
                  <a:pt x="15885" y="0"/>
                </a:lnTo>
                <a:lnTo>
                  <a:pt x="21600" y="10800"/>
                </a:lnTo>
                <a:lnTo>
                  <a:pt x="15885" y="21600"/>
                </a:lnTo>
                <a:lnTo>
                  <a:pt x="15885" y="16200"/>
                </a:lnTo>
                <a:lnTo>
                  <a:pt x="0" y="16200"/>
                </a:lnTo>
                <a:lnTo>
                  <a:pt x="28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право с вырезом 8"/>
          <p:cNvSpPr/>
          <p:nvPr/>
        </p:nvSpPr>
        <p:spPr>
          <a:xfrm>
            <a:off x="4286160" y="4286160"/>
            <a:ext cx="1224000" cy="647640"/>
          </a:xfrm>
          <a:custGeom>
            <a:avLst/>
            <a:gdLst>
              <a:gd name="textAreaLeft" fmla="*/ 161640 w 1224000"/>
              <a:gd name="textAreaRight" fmla="*/ 106236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85" y="5400"/>
                </a:lnTo>
                <a:lnTo>
                  <a:pt x="15885" y="0"/>
                </a:lnTo>
                <a:lnTo>
                  <a:pt x="21600" y="10800"/>
                </a:lnTo>
                <a:lnTo>
                  <a:pt x="15885" y="21600"/>
                </a:lnTo>
                <a:lnTo>
                  <a:pt x="15885" y="16200"/>
                </a:lnTo>
                <a:lnTo>
                  <a:pt x="0" y="16200"/>
                </a:lnTo>
                <a:lnTo>
                  <a:pt x="28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9,    № 1, № 2, № 3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6" descr="http://nashol.com/images/stories/knigi/knigi5/mat5.jpg"/>
          <p:cNvPicPr/>
          <p:nvPr/>
        </p:nvPicPr>
        <p:blipFill>
          <a:blip r:embed="rId1"/>
          <a:stretch/>
        </p:blipFill>
        <p:spPr>
          <a:xfrm>
            <a:off x="2857680" y="1714680"/>
            <a:ext cx="25002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C:\Users\Yana1\Desktop\наташа\2 класс ЗАДАНИЯ\Скриншот (13.12.2013 22-35-01).jpg"/>
          <p:cNvPicPr/>
          <p:nvPr/>
        </p:nvPicPr>
        <p:blipFill>
          <a:blip r:embed="rId1"/>
          <a:stretch/>
        </p:blipFill>
        <p:spPr>
          <a:xfrm>
            <a:off x="1168560" y="-6480"/>
            <a:ext cx="6949800" cy="2982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C:\Users\Yana1\Desktop\наташа\2 класс ЗАДАНИЯ\Скриншот (13.12.2013 22-35-09).jpg"/>
          <p:cNvPicPr/>
          <p:nvPr/>
        </p:nvPicPr>
        <p:blipFill>
          <a:blip r:embed="rId2"/>
          <a:stretch/>
        </p:blipFill>
        <p:spPr>
          <a:xfrm>
            <a:off x="285840" y="3071880"/>
            <a:ext cx="8715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11:46:51Z</dcterms:created>
  <dc:creator>Computer</dc:creator>
  <dc:description/>
  <dc:language>en-US</dc:language>
  <cp:lastModifiedBy>hobahoba82@outlook.com</cp:lastModifiedBy>
  <dcterms:modified xsi:type="dcterms:W3CDTF">2017-02-21T18:12:03Z</dcterms:modified>
  <cp:revision>10</cp:revision>
  <dc:subject/>
  <dc:title>Тема урока: «Шар. Куб»     Чепель О.А., учитель  начальных классов</dc:title>
</cp:coreProperties>
</file>