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F24-6869-4FE0-AA7F-B7700771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7F1-E4D6-41AD-8349-7667067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B1B-14C5-412E-8474-5777BF91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3BF-5A97-430B-B612-B358ABF4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E75-3040-453F-914F-D84EBA01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9877-7563-4270-A2E3-0A7F450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F499-2851-4500-9563-973CEF0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066D-6C06-4C94-AF53-13FEDBC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188-F751-42D9-8A7A-1C61032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008E-C1B3-46C6-BA61-50670EF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38B1-6790-4CE2-93DC-7569382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0C6-569D-44D0-B0C3-2C1A797A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1D35-A5E4-419E-9467-2ED11CA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F8CE-3325-443E-9096-842B049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75E6-1577-4C64-AE50-042DFAAE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3020-F529-4785-9686-AD52EBD0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EFC-C632-432C-8136-0FF54FB9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6ACA-84FC-4A4C-B4FA-001829D5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4226-C24F-4008-91DE-B64CBDF8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F3BA-18D9-49C0-8FCB-4A3929B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05FD-573F-46A2-A1E3-604DB827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6677-2DEB-40FC-BA03-56493CA7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9BE-E2BE-4962-851D-CACBC60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57E1-D263-4E27-A373-2A42A49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5543-AFC1-49FF-BBE6-677B4B7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7A68-687D-49CC-8EC8-49AF83FB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A738-4C55-4BC0-9E72-66150E1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3CDE-A983-4D92-9560-A708B890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16B7-986F-490B-90A5-D6A3CCCD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FB68-431C-403D-9A79-57E18486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69B-C6F2-4ACA-8CFE-AB7EA9D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5D5-4903-4ADA-AC2E-4D58B9E5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A33-0529-42F2-B10F-F2422CC3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FC0-4433-4FAD-AC15-0B7204F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44B-C663-4EF4-A5A5-7ACDAA3D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358-4A14-4E74-9F4D-0FEC55E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181A-14E7-4502-8EDB-2109142CB9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A890-3B95-4E78-86E4-DC2E8C30FC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2A6-93CE-44A4-BD7D-42616FAC0A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Times New Roman"/>
              </a:rPr>
              <a:t>Виды текстов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знаем виды текстов по цели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учимся распозна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dis16"/>
          <p:cNvPicPr/>
          <p:nvPr/>
        </p:nvPicPr>
        <p:blipFill>
          <a:blip r:embed="rId1"/>
          <a:stretch/>
        </p:blipFill>
        <p:spPr>
          <a:xfrm>
            <a:off x="7162920" y="38098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34360" y="1143000"/>
            <a:ext cx="868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зовите виды текстов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 какие вопросы они отвечают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2209680" y="4343400"/>
            <a:ext cx="472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4" descr="36_2_47"/>
          <p:cNvPicPr/>
          <p:nvPr/>
        </p:nvPicPr>
        <p:blipFill>
          <a:blip r:embed="rId1"/>
          <a:stretch/>
        </p:blipFill>
        <p:spPr>
          <a:xfrm>
            <a:off x="4038480" y="502920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14400" y="2590920"/>
            <a:ext cx="523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00200" y="114300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32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2000" y="2743200"/>
            <a:ext cx="519120" cy="825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7273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95280" y="1600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83400" y="266688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03000" y="1235160"/>
            <a:ext cx="7319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Почему   такие   силь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b3"/>
          <p:cNvPicPr/>
          <p:nvPr/>
        </p:nvPicPr>
        <p:blipFill>
          <a:blip r:embed="rId1"/>
          <a:stretch/>
        </p:blipFill>
        <p:spPr>
          <a:xfrm>
            <a:off x="2514600" y="27432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514600" y="9828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8000" spc="-1" strike="noStrike">
                <a:solidFill>
                  <a:srgbClr val="993300"/>
                </a:solidFill>
                <a:latin typeface="Arial"/>
              </a:rPr>
              <a:t> Л Е 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01320" y="304920"/>
            <a:ext cx="61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равните эти текст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7320" y="1192320"/>
            <a:ext cx="71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щего у этих текст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12920" y="1954080"/>
            <a:ext cx="809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 каком тексте говоритс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 признаках этого предмет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мы може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видеть причины,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ассуждения, доказательств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говорится 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бытиях и действиях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914400"/>
            <a:ext cx="397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0" y="1676520"/>
            <a:ext cx="437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9640" y="4191120"/>
            <a:ext cx="41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Почему   такие   силь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814760" y="34452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615360" y="11066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177080" y="36212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032800" y="22096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47520" y="49528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08520" y="18288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609480" y="53352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33520" y="2743200"/>
            <a:ext cx="3733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3520" y="4952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5029200" y="380880"/>
            <a:ext cx="3733920" cy="914400"/>
          </a:xfrm>
          <a:prstGeom prst="wedgeRoundRectCallout">
            <a:avLst>
              <a:gd name="adj1" fmla="val -80444"/>
              <a:gd name="adj2" fmla="val -171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05520" y="5335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кой предмет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5105520" y="2743200"/>
            <a:ext cx="2895480" cy="1066680"/>
          </a:xfrm>
          <a:prstGeom prst="wedgeRoundRectCallout">
            <a:avLst>
              <a:gd name="adj1" fmla="val -77083"/>
              <a:gd name="adj2" fmla="val -5208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4952880" y="5410080"/>
            <a:ext cx="3810240" cy="990720"/>
          </a:xfrm>
          <a:prstGeom prst="wedgeRoundRectCallout">
            <a:avLst>
              <a:gd name="adj1" fmla="val -73291"/>
              <a:gd name="adj2" fmla="val -56412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627520" y="288432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чему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415480" y="55627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то произошл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28600" y="1295280"/>
            <a:ext cx="848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 бята,      вес…ло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быстр…,       вдру…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ф…милия, т…варищ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бочий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14400" y="129528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40260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821320" y="22096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164720" y="220968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92520" y="3124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107320" y="31240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916200" y="4038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dis16"/>
          <p:cNvPicPr/>
          <p:nvPr/>
        </p:nvPicPr>
        <p:blipFill>
          <a:blip r:embed="rId1"/>
          <a:stretch/>
        </p:blipFill>
        <p:spPr>
          <a:xfrm>
            <a:off x="6019920" y="4419720"/>
            <a:ext cx="1523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7:17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