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EAA-F394-4289-8782-0822574C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56C-3B84-4DDD-9326-035959E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63A-2D90-4FAF-A18B-271B0A88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09C-4E42-4762-99DE-592BA1CE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75E-3EBC-4EFE-B28A-239663BE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D1D-DE7A-481F-88FE-1DB80F81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BCC3-EB37-4800-BA96-E505C7AD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3660-6576-459C-A77C-287000C7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B857-F079-4E68-AA25-FDAA6D6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B3F9-7462-4497-B5DF-9E6C1C4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5DE-8204-4E7D-AC07-89B9E81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C34-8CF6-4068-A3BD-8702834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173-9B9D-4843-9103-F221B36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6226-C76A-4D0E-8502-0A1184F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FAF-E644-45CB-B0E6-796AC0F7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CC6-1653-40C2-9576-B8900C0A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94B2-57D3-42C4-9A28-D849DDC1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FE420-EB4D-47F7-9582-67035B2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4BBE-877C-4CC1-A0C0-549EF162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788A-FA80-4420-A487-C0AFED5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0CE7-194A-455B-B881-D366288E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A400-A03F-4010-AA65-CD5EB10E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654-F661-4ED2-8AD4-67324C7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9B50-BC01-43BC-A5FE-37BE609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68E9-9403-4B69-B8F8-6120F2FD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58B5F-58E0-4E93-9635-4B65930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28CA-5C95-41AD-AD36-6FFAB3D2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A380-03A2-4CBA-A121-1C90B08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7465-71FF-4DCB-AA20-24AB87B5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330F-C807-4683-9EBB-409EDA07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956-BCD4-4FCA-9E11-6C601F39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AF9-9C7B-4C00-86DE-040EFB9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44D-F0F2-42BF-854B-60E1238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220-55F5-438A-B8A2-E3B146B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C10-93DE-40E6-98AA-379C483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4EB-C01A-4E8F-BA13-B8C33E7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747-D4EB-44E5-A417-9C028A2598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26BF-3D84-41FD-BA9C-FB20E7FDE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006-2E2B-42B1-88A4-31C6881B4E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Виды текстов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ем виды текстов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учимся распозн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dis16"/>
          <p:cNvPicPr/>
          <p:nvPr/>
        </p:nvPicPr>
        <p:blipFill>
          <a:blip r:embed="rId1"/>
          <a:stretch/>
        </p:blipFill>
        <p:spPr>
          <a:xfrm>
            <a:off x="7162920" y="38098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34360" y="1143000"/>
            <a:ext cx="868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зовите виды текстов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 какие вопросы они отвечаю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209680" y="4343400"/>
            <a:ext cx="472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4" descr="36_2_47"/>
          <p:cNvPicPr/>
          <p:nvPr/>
        </p:nvPicPr>
        <p:blipFill>
          <a:blip r:embed="rId1"/>
          <a:stretch/>
        </p:blipFill>
        <p:spPr>
          <a:xfrm>
            <a:off x="4038480" y="502920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2590920"/>
            <a:ext cx="523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114300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32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2000" y="2743200"/>
            <a:ext cx="519120" cy="825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7273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95280" y="1600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3400" y="266688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03000" y="1235160"/>
            <a:ext cx="731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Почему   такие   силь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b3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514600" y="9828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8000" spc="-1" strike="noStrike">
                <a:solidFill>
                  <a:srgbClr val="993300"/>
                </a:solidFill>
                <a:latin typeface="Arial"/>
              </a:rPr>
              <a:t> Л Е 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01320" y="304920"/>
            <a:ext cx="61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равните эти текст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7320" y="1192320"/>
            <a:ext cx="71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щего у этих текст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12920" y="1954080"/>
            <a:ext cx="809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 каком тексте говоритс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 признаках этого предмет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мы може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видеть причины,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ссуждения, доказательств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говорится 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ытиях и действиях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914400"/>
            <a:ext cx="39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0" y="1676520"/>
            <a:ext cx="43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9640" y="4191120"/>
            <a:ext cx="41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Почему   такие   силь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814760" y="34452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615360" y="11066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177080" y="36212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032800" y="22096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47520" y="49528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08520" y="18288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09480" y="53352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33520" y="2743200"/>
            <a:ext cx="3733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3520" y="4952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5029200" y="380880"/>
            <a:ext cx="3733920" cy="914400"/>
          </a:xfrm>
          <a:prstGeom prst="wedgeRoundRectCallout">
            <a:avLst>
              <a:gd name="adj1" fmla="val -80444"/>
              <a:gd name="adj2" fmla="val -171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05520" y="5335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кой предмет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5105520" y="2743200"/>
            <a:ext cx="2895480" cy="1066680"/>
          </a:xfrm>
          <a:prstGeom prst="wedgeRoundRectCallout">
            <a:avLst>
              <a:gd name="adj1" fmla="val -77083"/>
              <a:gd name="adj2" fmla="val -5208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4952880" y="5410080"/>
            <a:ext cx="3810240" cy="990720"/>
          </a:xfrm>
          <a:prstGeom prst="wedgeRoundRectCallout">
            <a:avLst>
              <a:gd name="adj1" fmla="val -73291"/>
              <a:gd name="adj2" fmla="val -56412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27520" y="288432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ему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415480" y="55627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то произошл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28600" y="1295280"/>
            <a:ext cx="848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 бята,      вес…ло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быстр…,       вдру…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ф…милия, т…варищ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бочий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14400" y="129528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260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21320" y="22096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164720" y="220968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92520" y="3124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107320" y="31240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16200" y="4038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dis16"/>
          <p:cNvPicPr/>
          <p:nvPr/>
        </p:nvPicPr>
        <p:blipFill>
          <a:blip r:embed="rId1"/>
          <a:stretch/>
        </p:blipFill>
        <p:spPr>
          <a:xfrm>
            <a:off x="6019920" y="4419720"/>
            <a:ext cx="1523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17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