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7CD-4AFA-4CE8-8860-B700AD51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CA2-EB05-4F3C-BDC6-B1ED750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DCC-6B9D-4238-AC50-728B34B0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B69-E91A-43AA-BA5F-453FD498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483-9854-4274-9408-F2826D5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FB8-CBFE-433C-8FEE-B6059CD1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6AF-E8B6-42D5-A262-8FA8036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BFF-26AE-4C80-B7CE-D8F2F05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B36-8F25-4536-B46A-132D282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B75-36B1-4DE8-8613-5008979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056-127A-4C26-B16C-D17F042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8D7-F9CF-4CDF-898A-5A3DDF6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4C6F-DEA1-4D39-89A8-24AF358B6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ublev_troitsa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692360" y="404640"/>
            <a:ext cx="59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ндрей Рублёв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979640" y="5013360"/>
            <a:ext cx="4962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его творчество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white_lin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68360" y="260280"/>
            <a:ext cx="83516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дрей Рублев - имя, ставшее символом Святой Руси, символом непостижимого древнерусского искусства, символом великого русского человека, каким он может и должен быть. Образы Рублева навевают нам воспоминания об утерянной райской жизни, об утерянном покое, счастье и гармонии со вселенной.Непостижимая для современного человека чистота, мудрость и одухотворенность сквозят во всех его немногочисленных работах, дошедших до наших дней. Его ангелы, Иисус, Богородицы лечат наши души, искалеченые болезнями современности, помогают окунуться в мир вечного покоя, благости и любви. В творчестве Рублева, равно как и в творчестве Пушкина, отчетливее всего выразились мечты русского народа о самом хорошем человеке, об идеальной человеческой красоте. Эпоха Рублева была эпохой возрождения веры в человека, в его нравственные силы, в его способность к самопожертвованию во имя высоких идеа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08529598"/>
          <p:cNvPicPr/>
          <p:nvPr/>
        </p:nvPicPr>
        <p:blipFill>
          <a:blip r:embed="rId1"/>
          <a:stretch/>
        </p:blipFill>
        <p:spPr>
          <a:xfrm>
            <a:off x="0" y="0"/>
            <a:ext cx="5240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hite_linen"/>
          <p:cNvPicPr/>
          <p:nvPr/>
        </p:nvPicPr>
        <p:blipFill>
          <a:blip r:embed="rId2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5292720" y="189000"/>
            <a:ext cx="3632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Благовещ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25584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292720" y="1700280"/>
            <a:ext cx="36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, Даниил Черный и 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 x 9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ка липовая, паволока, левкас, те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age0н01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white_linen"/>
          <p:cNvPicPr/>
          <p:nvPr/>
        </p:nvPicPr>
        <p:blipFill>
          <a:blip r:embed="rId2"/>
          <a:stretch/>
        </p:blipFill>
        <p:spPr>
          <a:xfrm>
            <a:off x="5376960" y="0"/>
            <a:ext cx="3767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5508720" y="115920"/>
            <a:ext cx="363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ещение Господ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64000" y="177336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ая половина XV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x 6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ка липовая, ковчег, неглубокая луз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волока, левкас, те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white_linen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5435640" y="11592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18900000"/>
                </a:gradFill>
                <a:latin typeface="Arial"/>
              </a:rPr>
              <a:t>Спас Вседерж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614920" y="1557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10 - 14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8 x 10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 липовая, павол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кас, темпера (у иконы "Спас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ая доска сосно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зднейшей рестав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а. Центральная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описного деисус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ни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image0т01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white_linen"/>
          <p:cNvPicPr/>
          <p:nvPr/>
        </p:nvPicPr>
        <p:blipFill>
          <a:blip r:embed="rId2"/>
          <a:stretch/>
        </p:blipFill>
        <p:spPr>
          <a:xfrm>
            <a:off x="5148360" y="0"/>
            <a:ext cx="39830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3"/>
          <p:cNvSpPr txBox="1"/>
          <p:nvPr/>
        </p:nvSpPr>
        <p:spPr>
          <a:xfrm>
            <a:off x="5148360" y="260280"/>
            <a:ext cx="38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ход Господень в Иеруса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5364000" y="1628640"/>
            <a:ext cx="37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x 62,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ка липовая, ковчег, неглубо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зга. Паволока, левкас, те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001р"/>
          <p:cNvPicPr/>
          <p:nvPr/>
        </p:nvPicPr>
        <p:blipFill>
          <a:blip r:embed="rId1"/>
          <a:stretch/>
        </p:blipFill>
        <p:spPr>
          <a:xfrm>
            <a:off x="-252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white_linen"/>
          <p:cNvPicPr/>
          <p:nvPr/>
        </p:nvPicPr>
        <p:blipFill>
          <a:blip r:embed="rId2"/>
          <a:stretch/>
        </p:blipFill>
        <p:spPr>
          <a:xfrm>
            <a:off x="5162400" y="0"/>
            <a:ext cx="39816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6012000" y="260280"/>
            <a:ext cx="23065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ждество Христ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41656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435640" y="1557360"/>
            <a:ext cx="318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x 6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15:59Z</dcterms:created>
  <dc:creator>vl</dc:creator>
  <dc:description/>
  <dc:language>en-US</dc:language>
  <cp:lastModifiedBy>Валерка</cp:lastModifiedBy>
  <dcterms:modified xsi:type="dcterms:W3CDTF">2017-01-23T15:47:2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