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959C-755F-47B6-995F-230653C4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734-96FC-429E-9681-3CB5798B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0DE-321B-4F59-A695-52223B2A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3C22-D953-4E69-BC9D-51861F41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E52-E852-4EF0-8343-268A472A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6BA-B44E-4FFA-9795-29312D54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B0A7-78CF-43B2-9493-4B569767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E20-268B-4EBB-980A-F9A6D3A4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A63-CAFD-490F-8CEF-5677D35F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17F5-4090-42C9-A23B-CCF5EFAB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B1C-32A3-487A-AF7F-B86617B5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BE20-3E49-4F78-A454-21C30FAC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297B-C126-45E3-97D5-ACCDECFEB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rublev_troitsa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692360" y="404640"/>
            <a:ext cx="5905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Андрей Рублёв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979640" y="5013360"/>
            <a:ext cx="4962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 его творчество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white_lin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468360" y="260280"/>
            <a:ext cx="835164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дрей Рублев - имя, ставшее символом Святой Руси, символом непостижимого древнерусского искусства, символом великого русского человека, каким он может и должен быть. Образы Рублева навевают нам воспоминания об утерянной райской жизни, об утерянном покое, счастье и гармонии со вселенной.Непостижимая для современного человека чистота, мудрость и одухотворенность сквозят во всех его немногочисленных работах, дошедших до наших дней. Его ангелы, Иисус, Богородицы лечат наши души, искалеченые болезнями современности, помогают окунуться в мир вечного покоя, благости и любви. В творчестве Рублева, равно как и в творчестве Пушкина, отчетливее всего выразились мечты русского народа о самом хорошем человеке, об идеальной человеческой красоте. Эпоха Рублева была эпохой возрождения веры в человека, в его нравственные силы, в его способность к самопожертвованию во имя высоких идеал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308529598"/>
          <p:cNvPicPr/>
          <p:nvPr/>
        </p:nvPicPr>
        <p:blipFill>
          <a:blip r:embed="rId1"/>
          <a:stretch/>
        </p:blipFill>
        <p:spPr>
          <a:xfrm>
            <a:off x="0" y="0"/>
            <a:ext cx="5240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white_linen"/>
          <p:cNvPicPr/>
          <p:nvPr/>
        </p:nvPicPr>
        <p:blipFill>
          <a:blip r:embed="rId2"/>
          <a:stretch/>
        </p:blipFill>
        <p:spPr>
          <a:xfrm>
            <a:off x="5234040" y="0"/>
            <a:ext cx="39099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8"/>
          <p:cNvSpPr txBox="1"/>
          <p:nvPr/>
        </p:nvSpPr>
        <p:spPr>
          <a:xfrm>
            <a:off x="5292720" y="189000"/>
            <a:ext cx="3632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Благовещ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255840" y="287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5292720" y="1700280"/>
            <a:ext cx="36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дрей Рублев, Даниил Черный и масте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0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5 x 94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ска липовая, паволока, левкас, темп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кона. Праздничный ч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image0н01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white_linen"/>
          <p:cNvPicPr/>
          <p:nvPr/>
        </p:nvPicPr>
        <p:blipFill>
          <a:blip r:embed="rId2"/>
          <a:stretch/>
        </p:blipFill>
        <p:spPr>
          <a:xfrm>
            <a:off x="5376960" y="0"/>
            <a:ext cx="37670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6"/>
          <p:cNvSpPr txBox="1"/>
          <p:nvPr/>
        </p:nvSpPr>
        <p:spPr>
          <a:xfrm>
            <a:off x="5508720" y="115920"/>
            <a:ext cx="3635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рещение Господн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64000" y="177336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дрей Рубл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ая половина XV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 x 62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ска липовая, ковчег, неглубокая луз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волока, левкас, темп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кона. Праздничный ч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аговещенский собор Московского Кр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image001"/>
          <p:cNvPicPr/>
          <p:nvPr/>
        </p:nvPicPr>
        <p:blipFill>
          <a:blip r:embed="rId1"/>
          <a:stretch/>
        </p:blipFill>
        <p:spPr>
          <a:xfrm>
            <a:off x="0" y="0"/>
            <a:ext cx="637236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white_linen"/>
          <p:cNvPicPr/>
          <p:nvPr/>
        </p:nvPicPr>
        <p:blipFill>
          <a:blip r:embed="rId2"/>
          <a:stretch/>
        </p:blipFill>
        <p:spPr>
          <a:xfrm>
            <a:off x="5364000" y="0"/>
            <a:ext cx="3780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6"/>
          <p:cNvSpPr txBox="1"/>
          <p:nvPr/>
        </p:nvSpPr>
        <p:spPr>
          <a:xfrm>
            <a:off x="5435640" y="11592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762f00"/>
                    </a:gs>
                  </a:gsLst>
                  <a:lin ang="18900000"/>
                </a:gradFill>
                <a:latin typeface="Arial"/>
              </a:rPr>
              <a:t>Спас Вседержите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762f00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614920" y="1557360"/>
            <a:ext cx="352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й Руб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10 - 142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8 x 106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ка липовая, паволо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вкас, темпера (у иконы "Спас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ая доска соснов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авл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зднейшей рестав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кона. Центральная ч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конописного деисуса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ени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ва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1" descr="image0т01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white_linen"/>
          <p:cNvPicPr/>
          <p:nvPr/>
        </p:nvPicPr>
        <p:blipFill>
          <a:blip r:embed="rId2"/>
          <a:stretch/>
        </p:blipFill>
        <p:spPr>
          <a:xfrm>
            <a:off x="5148360" y="0"/>
            <a:ext cx="39830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3"/>
          <p:cNvSpPr txBox="1"/>
          <p:nvPr/>
        </p:nvSpPr>
        <p:spPr>
          <a:xfrm>
            <a:off x="5148360" y="260280"/>
            <a:ext cx="3887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ход Господень в Иерусал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5364000" y="1628640"/>
            <a:ext cx="378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дрей Руб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0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x 62,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ска липовая, ковчег, неглубо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узга. Паволока, левкас, темп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кона. Праздничный ч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аговещенский собор Московского Кр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image001р"/>
          <p:cNvPicPr/>
          <p:nvPr/>
        </p:nvPicPr>
        <p:blipFill>
          <a:blip r:embed="rId1"/>
          <a:stretch/>
        </p:blipFill>
        <p:spPr>
          <a:xfrm>
            <a:off x="-252360" y="0"/>
            <a:ext cx="54356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white_linen"/>
          <p:cNvPicPr/>
          <p:nvPr/>
        </p:nvPicPr>
        <p:blipFill>
          <a:blip r:embed="rId2"/>
          <a:stretch/>
        </p:blipFill>
        <p:spPr>
          <a:xfrm>
            <a:off x="5162400" y="0"/>
            <a:ext cx="39816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6"/>
          <p:cNvSpPr txBox="1"/>
          <p:nvPr/>
        </p:nvSpPr>
        <p:spPr>
          <a:xfrm>
            <a:off x="6012000" y="260280"/>
            <a:ext cx="230652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Рождество Христо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5416560" y="150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5435640" y="1557360"/>
            <a:ext cx="318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дрей Руб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0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 x 62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кона. Праздничный ч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аговещенский собор Московского Кр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1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7:15:59Z</dcterms:created>
  <dc:creator>vl</dc:creator>
  <dc:description/>
  <dc:language>en-US</dc:language>
  <cp:lastModifiedBy>Валерка</cp:lastModifiedBy>
  <dcterms:modified xsi:type="dcterms:W3CDTF">2017-01-23T15:47:26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