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74FC-414D-4087-BD29-E451674B1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E3D3-CD47-441B-ACBC-3647A1AD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7757-89C3-4746-94BA-D12948FB0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069D-F04F-484E-82AB-A3822B975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22B8-7622-485C-89BF-7CFD7F54F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6274-2AD1-4A86-8F82-12B52AFD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226D-D3BA-47A2-9C9E-89237E39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7912-CEEF-4E78-BF35-A22FE901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7A0F-7F6D-4966-965F-2CFDB46B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BB15-960F-45DE-9E5C-891A2EDE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68C6B-EFC5-46FA-8D03-35A4FD64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E933-95BC-4E85-9EA5-0291D50F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682E-6ABB-48F5-9685-18361010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17C1-438A-44D7-9A69-80921788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94DA-CDC6-4C4F-AC13-5E9006A1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D0B0-12AE-4A1D-8D0F-A6E85D585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2EEDB-1EDE-4207-A0F0-CC1D23137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E26B-6B9C-476F-8481-C8B87495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EFB4-E13E-41DF-B228-39D025D8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0663-FDF7-4CA3-8487-1E60FC3D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E294-FB93-4A88-98CE-45D78879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3170-C9C9-4BD1-98B1-1452661A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41CF-E664-4D4D-BF4A-AF2E16DF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0C3C-2658-4593-B16F-3CDCC3CA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2691-E9CF-4D7D-8DBD-7AD6C280312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196D-77D9-4474-9C70-FA9B63E6BD5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5c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55640" y="1628640"/>
            <a:ext cx="7772400" cy="4321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ffcc"/>
                </a:solidFill>
                <a:latin typeface="Arial"/>
              </a:rPr>
              <a:t>Дорогами</a:t>
            </a:r>
            <a:br>
              <a:rPr sz="8800"/>
            </a:br>
            <a:r>
              <a:rPr b="1" i="1" lang="ru-RU" sz="8800" spc="-1" strike="noStrike">
                <a:solidFill>
                  <a:srgbClr val="ffffcc"/>
                </a:solidFill>
                <a:latin typeface="Arial"/>
              </a:rPr>
              <a:t>войны</a:t>
            </a:r>
            <a:br>
              <a:rPr sz="8800"/>
            </a:br>
            <a:endParaRPr b="0" lang="en-US" sz="8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http://army.lv/large-photos/.1704.jpg"/>
          <p:cNvPicPr/>
          <p:nvPr/>
        </p:nvPicPr>
        <p:blipFill>
          <a:blip r:embed="rId1"/>
          <a:stretch/>
        </p:blipFill>
        <p:spPr>
          <a:xfrm>
            <a:off x="1187280" y="1389240"/>
            <a:ext cx="70567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http://army.lv/large-photos/.1698.jpg"/>
          <p:cNvPicPr/>
          <p:nvPr/>
        </p:nvPicPr>
        <p:blipFill>
          <a:blip r:embed="rId1"/>
          <a:stretch/>
        </p:blipFill>
        <p:spPr>
          <a:xfrm>
            <a:off x="611280" y="907920"/>
            <a:ext cx="799308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http://army.lv/large-photos/.1640.jpg"/>
          <p:cNvPicPr/>
          <p:nvPr/>
        </p:nvPicPr>
        <p:blipFill>
          <a:blip r:embed="rId1"/>
          <a:stretch/>
        </p:blipFill>
        <p:spPr>
          <a:xfrm>
            <a:off x="1042920" y="765000"/>
            <a:ext cx="7493040" cy="56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http://army.lv/large-photos/.1681.jpg"/>
          <p:cNvPicPr/>
          <p:nvPr/>
        </p:nvPicPr>
        <p:blipFill>
          <a:blip r:embed="rId1"/>
          <a:stretch/>
        </p:blipFill>
        <p:spPr>
          <a:xfrm>
            <a:off x="257040" y="765000"/>
            <a:ext cx="871092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2" descr="http://army.lv/large-photos/.1730.jpg"/>
          <p:cNvPicPr/>
          <p:nvPr/>
        </p:nvPicPr>
        <p:blipFill>
          <a:blip r:embed="rId1"/>
          <a:stretch/>
        </p:blipFill>
        <p:spPr>
          <a:xfrm>
            <a:off x="250920" y="1268280"/>
            <a:ext cx="856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http://army.lv/large-photos/.1742.jpg"/>
          <p:cNvPicPr/>
          <p:nvPr/>
        </p:nvPicPr>
        <p:blipFill>
          <a:blip r:embed="rId1"/>
          <a:stretch/>
        </p:blipFill>
        <p:spPr>
          <a:xfrm>
            <a:off x="324000" y="765000"/>
            <a:ext cx="84340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13" descr=""/>
          <p:cNvPicPr/>
          <p:nvPr/>
        </p:nvPicPr>
        <p:blipFill>
          <a:blip r:embed="rId1"/>
          <a:stretch/>
        </p:blipFill>
        <p:spPr>
          <a:xfrm>
            <a:off x="264960" y="500040"/>
            <a:ext cx="859320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12" descr=""/>
          <p:cNvPicPr/>
          <p:nvPr/>
        </p:nvPicPr>
        <p:blipFill>
          <a:blip r:embed="rId1"/>
          <a:stretch/>
        </p:blipFill>
        <p:spPr>
          <a:xfrm>
            <a:off x="214200" y="571680"/>
            <a:ext cx="8717040" cy="57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F:\для слайд шоу\1.jpg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10" descr=""/>
          <p:cNvPicPr/>
          <p:nvPr/>
        </p:nvPicPr>
        <p:blipFill>
          <a:blip r:embed="rId1"/>
          <a:stretch/>
        </p:blipFill>
        <p:spPr>
          <a:xfrm>
            <a:off x="2138400" y="214200"/>
            <a:ext cx="429084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5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5" descr=""/>
          <p:cNvPicPr/>
          <p:nvPr/>
        </p:nvPicPr>
        <p:blipFill>
          <a:blip r:embed="rId1"/>
          <a:stretch/>
        </p:blipFill>
        <p:spPr>
          <a:xfrm>
            <a:off x="1243080" y="236520"/>
            <a:ext cx="6186600" cy="63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10" descr=""/>
          <p:cNvPicPr/>
          <p:nvPr/>
        </p:nvPicPr>
        <p:blipFill>
          <a:blip r:embed="rId1"/>
          <a:stretch/>
        </p:blipFill>
        <p:spPr>
          <a:xfrm>
            <a:off x="214200" y="428760"/>
            <a:ext cx="873288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2" descr="http://army.lv/large-photos/.1703.jpg"/>
          <p:cNvPicPr/>
          <p:nvPr/>
        </p:nvPicPr>
        <p:blipFill>
          <a:blip r:embed="rId1"/>
          <a:stretch/>
        </p:blipFill>
        <p:spPr>
          <a:xfrm>
            <a:off x="324000" y="2133720"/>
            <a:ext cx="8586720" cy="420984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усские солдаты в Чечн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8:22:29Z</dcterms:created>
  <dc:creator>ГУО Курганской области</dc:creator>
  <dc:description/>
  <dc:language>en-US</dc:language>
  <cp:lastModifiedBy>1</cp:lastModifiedBy>
  <dcterms:modified xsi:type="dcterms:W3CDTF">2017-02-22T02:02:11Z</dcterms:modified>
  <cp:revision>27</cp:revision>
  <dc:subject/>
  <dc:title>Слайд 1</dc:title>
</cp:coreProperties>
</file>