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7B5F-E01E-4144-8428-4D958745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BBE2-F2CC-49F6-94E5-8909DE95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3FD-9931-4420-A59B-1C53BA9D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26C6-369B-4299-9CB5-D7BD3842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1ABB-1C40-4C2C-912E-8F7F482E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4840-3E87-4322-83DF-6DE8A474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7F74-43C8-4E43-988C-E198991D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B545-42FF-4E63-AE4D-8286C563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15A6-70C7-4852-8844-A8170FB1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DFFA-B97E-427E-9CE4-5256C3C9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E9FD-C041-4026-8B77-0DFC0E7F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70B-7292-4CBC-A429-C3A0D335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8028-AAA6-40DD-B20C-0E8467BF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3C6A-797C-4A2E-93C0-36636740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7A45-B63C-4126-A1D5-EB89BFD5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F570-429E-42BC-87D4-FF420B08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8EB8-E256-4277-86A8-B082370C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A1B-A72C-46B0-9136-31CEA2F3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BF1-EFCA-4B17-BB4B-F1CE59F0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7A8-66B6-41F2-AFBF-C4030E35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C13-30AB-4C30-8F06-5086E6FA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E6EE-A349-449F-82CC-6D19CBBF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82E4-4634-4BB6-BDA0-20724995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562-ABE7-4770-9791-488D40AF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C178-4331-4EBD-A459-ECD49F9ABA6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550D-61EB-4DF4-A1DF-A2A31355D9A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432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cc"/>
                </a:solidFill>
                <a:latin typeface="Arial"/>
              </a:rPr>
              <a:t>Дорогами</a:t>
            </a:r>
            <a:br>
              <a:rPr sz="8800"/>
            </a:br>
            <a:r>
              <a:rPr b="1" i="1" lang="ru-RU" sz="8800" spc="-1" strike="noStrike">
                <a:solidFill>
                  <a:srgbClr val="ffffcc"/>
                </a:solidFill>
                <a:latin typeface="Arial"/>
              </a:rPr>
              <a:t>войны</a:t>
            </a:r>
            <a:br>
              <a:rPr sz="8800"/>
            </a:b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http://army.lv/large-photos/.1704.jpg"/>
          <p:cNvPicPr/>
          <p:nvPr/>
        </p:nvPicPr>
        <p:blipFill>
          <a:blip r:embed="rId1"/>
          <a:stretch/>
        </p:blipFill>
        <p:spPr>
          <a:xfrm>
            <a:off x="1187280" y="1389240"/>
            <a:ext cx="7056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http://army.lv/large-photos/.1698.jpg"/>
          <p:cNvPicPr/>
          <p:nvPr/>
        </p:nvPicPr>
        <p:blipFill>
          <a:blip r:embed="rId1"/>
          <a:stretch/>
        </p:blipFill>
        <p:spPr>
          <a:xfrm>
            <a:off x="611280" y="907920"/>
            <a:ext cx="79930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http://army.lv/large-photos/.1640.jpg"/>
          <p:cNvPicPr/>
          <p:nvPr/>
        </p:nvPicPr>
        <p:blipFill>
          <a:blip r:embed="rId1"/>
          <a:stretch/>
        </p:blipFill>
        <p:spPr>
          <a:xfrm>
            <a:off x="1042920" y="765000"/>
            <a:ext cx="749304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http://army.lv/large-photos/.1681.jpg"/>
          <p:cNvPicPr/>
          <p:nvPr/>
        </p:nvPicPr>
        <p:blipFill>
          <a:blip r:embed="rId1"/>
          <a:stretch/>
        </p:blipFill>
        <p:spPr>
          <a:xfrm>
            <a:off x="257040" y="765000"/>
            <a:ext cx="87109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http://army.lv/large-photos/.1730.jpg"/>
          <p:cNvPicPr/>
          <p:nvPr/>
        </p:nvPicPr>
        <p:blipFill>
          <a:blip r:embed="rId1"/>
          <a:stretch/>
        </p:blipFill>
        <p:spPr>
          <a:xfrm>
            <a:off x="250920" y="1268280"/>
            <a:ext cx="85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http://army.lv/large-photos/.1742.jpg"/>
          <p:cNvPicPr/>
          <p:nvPr/>
        </p:nvPicPr>
        <p:blipFill>
          <a:blip r:embed="rId1"/>
          <a:stretch/>
        </p:blipFill>
        <p:spPr>
          <a:xfrm>
            <a:off x="324000" y="765000"/>
            <a:ext cx="8434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3" descr=""/>
          <p:cNvPicPr/>
          <p:nvPr/>
        </p:nvPicPr>
        <p:blipFill>
          <a:blip r:embed="rId1"/>
          <a:stretch/>
        </p:blipFill>
        <p:spPr>
          <a:xfrm>
            <a:off x="264960" y="500040"/>
            <a:ext cx="859320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2" descr=""/>
          <p:cNvPicPr/>
          <p:nvPr/>
        </p:nvPicPr>
        <p:blipFill>
          <a:blip r:embed="rId1"/>
          <a:stretch/>
        </p:blipFill>
        <p:spPr>
          <a:xfrm>
            <a:off x="214200" y="571680"/>
            <a:ext cx="871704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F:\для слайд шоу\1.jpg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10" descr=""/>
          <p:cNvPicPr/>
          <p:nvPr/>
        </p:nvPicPr>
        <p:blipFill>
          <a:blip r:embed="rId1"/>
          <a:stretch/>
        </p:blipFill>
        <p:spPr>
          <a:xfrm>
            <a:off x="2138400" y="214200"/>
            <a:ext cx="429084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5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5" descr=""/>
          <p:cNvPicPr/>
          <p:nvPr/>
        </p:nvPicPr>
        <p:blipFill>
          <a:blip r:embed="rId1"/>
          <a:stretch/>
        </p:blipFill>
        <p:spPr>
          <a:xfrm>
            <a:off x="1243080" y="236520"/>
            <a:ext cx="618660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0" descr=""/>
          <p:cNvPicPr/>
          <p:nvPr/>
        </p:nvPicPr>
        <p:blipFill>
          <a:blip r:embed="rId1"/>
          <a:stretch/>
        </p:blipFill>
        <p:spPr>
          <a:xfrm>
            <a:off x="214200" y="428760"/>
            <a:ext cx="873288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http://army.lv/large-photos/.1703.jpg"/>
          <p:cNvPicPr/>
          <p:nvPr/>
        </p:nvPicPr>
        <p:blipFill>
          <a:blip r:embed="rId1"/>
          <a:stretch/>
        </p:blipFill>
        <p:spPr>
          <a:xfrm>
            <a:off x="324000" y="2133720"/>
            <a:ext cx="8586720" cy="420984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усские солдаты в Чечн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8:22:29Z</dcterms:created>
  <dc:creator>ГУО Курганской области</dc:creator>
  <dc:description/>
  <dc:language>en-US</dc:language>
  <cp:lastModifiedBy>1</cp:lastModifiedBy>
  <dcterms:modified xsi:type="dcterms:W3CDTF">2017-02-22T02:02:11Z</dcterms:modified>
  <cp:revision>27</cp:revision>
  <dc:subject/>
  <dc:title>Слайд 1</dc:title>
</cp:coreProperties>
</file>