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83A-8D1D-4463-ACD2-0984277C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96F-62A9-491A-867A-11D4B7F2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BC3-A434-4609-8A9E-46B76D89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137-B303-4141-9D7C-EE3D1E3A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CC1-D93D-4E25-8B65-835BC84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562-FAE4-46CF-90C9-D66658E9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835-D2F1-47BE-BC10-53E6FDB8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22A-9FFA-4FA7-8277-70E268D0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7E5-43D1-442D-B5A7-90D6072C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DC2-6841-4B15-9893-76FD2766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AF1-797F-497D-A8F8-91355616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0EC-91A0-4250-BCE2-BCC3004E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5B2D-72BC-47FF-A718-CC22F2393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080" y="748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463680" y="738360"/>
            <a:ext cx="8540640" cy="35892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7"/>
          <p:cNvSpPr/>
          <p:nvPr/>
        </p:nvSpPr>
        <p:spPr>
          <a:xfrm>
            <a:off x="3780000" y="4869000"/>
            <a:ext cx="53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физической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ОУ «СОШ № 1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. Усолье-Сибир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бовецкая Людмил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3492360" y="1225440"/>
            <a:ext cx="54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это результат совместной  деятельности учителя и воспитанника, при которой результат деятельности обучающегося  сопоставим с моими ожид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7" descr=""/>
          <p:cNvPicPr/>
          <p:nvPr/>
        </p:nvPicPr>
        <p:blipFill>
          <a:blip r:embed="rId2"/>
          <a:stretch/>
        </p:blipFill>
        <p:spPr>
          <a:xfrm>
            <a:off x="2693880" y="85680"/>
            <a:ext cx="6205680" cy="110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7020000" y="526572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2357280" cy="176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:\Users\Люда\Desktop\Спорт.мер. Марш брсок 1 кл.+дс 7.02.17\DSCN0041.JPG"/>
          <p:cNvPicPr/>
          <p:nvPr/>
        </p:nvPicPr>
        <p:blipFill>
          <a:blip r:embed="rId5"/>
          <a:stretch/>
        </p:blipFill>
        <p:spPr>
          <a:xfrm>
            <a:off x="611280" y="2349360"/>
            <a:ext cx="3073320" cy="230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6"/>
          <a:stretch/>
        </p:blipFill>
        <p:spPr>
          <a:xfrm>
            <a:off x="250920" y="4149720"/>
            <a:ext cx="1879560" cy="2503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mir-animashki.com/_ph/38/2/433592625.gif?1474058166"/>
          <p:cNvPicPr/>
          <p:nvPr/>
        </p:nvPicPr>
        <p:blipFill>
          <a:blip r:embed="rId2"/>
          <a:stretch/>
        </p:blipFill>
        <p:spPr>
          <a:xfrm>
            <a:off x="1187280" y="249120"/>
            <a:ext cx="6553440" cy="536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250920" y="141300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Формирование  представлений о здоровье, как одной из главных ценностей жизни, формирование здорового образа жизн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2597040" y="231840"/>
            <a:ext cx="2932200" cy="110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komi-toys.ru/upload/stats/big/5e80ee99789_pic.jpg"/>
          <p:cNvPicPr/>
          <p:nvPr/>
        </p:nvPicPr>
        <p:blipFill>
          <a:blip r:embed="rId3"/>
          <a:stretch/>
        </p:blipFill>
        <p:spPr>
          <a:xfrm>
            <a:off x="0" y="2843280"/>
            <a:ext cx="4211640" cy="421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5" descr=""/>
          <p:cNvPicPr/>
          <p:nvPr/>
        </p:nvPicPr>
        <p:blipFill>
          <a:blip r:embed="rId2"/>
          <a:stretch/>
        </p:blipFill>
        <p:spPr>
          <a:xfrm>
            <a:off x="152280" y="311040"/>
            <a:ext cx="9193320" cy="18525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324000" y="2276640"/>
            <a:ext cx="88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Как разработать урок по-новому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Как учителю физической культуры учесть новые требования ФГОС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5" descr=""/>
          <p:cNvPicPr/>
          <p:nvPr/>
        </p:nvPicPr>
        <p:blipFill>
          <a:blip r:embed="rId2"/>
          <a:stretch/>
        </p:blipFill>
        <p:spPr>
          <a:xfrm>
            <a:off x="1384200" y="378000"/>
            <a:ext cx="6338880" cy="10969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2556000" y="1700280"/>
            <a:ext cx="3095640" cy="914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объе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1187280" y="2852640"/>
            <a:ext cx="5832720" cy="1059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интенсивнос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755640" y="4292640"/>
            <a:ext cx="7488360" cy="914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50"/>
                </a:solidFill>
                <a:latin typeface="Calibri"/>
              </a:rPr>
              <a:t>моторная плотнос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2"/>
          <a:stretch/>
        </p:blipFill>
        <p:spPr>
          <a:xfrm>
            <a:off x="1809720" y="231840"/>
            <a:ext cx="6157800" cy="1103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324000" y="2492280"/>
            <a:ext cx="3240000" cy="914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еняю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8"/>
          <p:cNvSpPr/>
          <p:nvPr/>
        </p:nvSpPr>
        <p:spPr>
          <a:xfrm>
            <a:off x="0" y="3645000"/>
            <a:ext cx="2664000" cy="9144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9"/>
          <p:cNvSpPr/>
          <p:nvPr/>
        </p:nvSpPr>
        <p:spPr>
          <a:xfrm>
            <a:off x="0" y="5589720"/>
            <a:ext cx="4643280" cy="12682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5219640" y="2492280"/>
            <a:ext cx="3240000" cy="914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оявля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5076720" y="3933720"/>
            <a:ext cx="3527640" cy="11509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Новые сред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5148360" y="5229360"/>
            <a:ext cx="3995640" cy="162864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овые технологии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>
            <a:off x="2555640" y="1341000"/>
            <a:ext cx="504000" cy="108036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/>
          <p:nvPr/>
        </p:nvCxnSpPr>
        <p:spPr>
          <a:xfrm>
            <a:off x="6156360" y="1412640"/>
            <a:ext cx="829440" cy="93708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80" name="Овал 19"/>
          <p:cNvSpPr/>
          <p:nvPr/>
        </p:nvSpPr>
        <p:spPr>
          <a:xfrm>
            <a:off x="1908000" y="4437000"/>
            <a:ext cx="3095640" cy="11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дачи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" descr=""/>
          <p:cNvPicPr/>
          <p:nvPr/>
        </p:nvPicPr>
        <p:blipFill>
          <a:blip r:embed="rId2"/>
          <a:stretch/>
        </p:blipFill>
        <p:spPr>
          <a:xfrm>
            <a:off x="-347760" y="1023840"/>
            <a:ext cx="9790200" cy="1932120"/>
          </a:xfrm>
          <a:prstGeom prst="rect">
            <a:avLst/>
          </a:prstGeom>
          <a:ln w="0">
            <a:noFill/>
          </a:ln>
        </p:spPr>
      </p:pic>
      <p:sp>
        <p:nvSpPr>
          <p:cNvPr id="85" name="Двойная стрелка влево/вправо 6"/>
          <p:cNvSpPr/>
          <p:nvPr/>
        </p:nvSpPr>
        <p:spPr>
          <a:xfrm>
            <a:off x="395280" y="3500280"/>
            <a:ext cx="3672000" cy="1657440"/>
          </a:xfrm>
          <a:prstGeom prst="left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8"/>
          <p:cNvSpPr/>
          <p:nvPr/>
        </p:nvSpPr>
        <p:spPr>
          <a:xfrm>
            <a:off x="4427640" y="3645000"/>
            <a:ext cx="4248000" cy="1296720"/>
          </a:xfrm>
          <a:prstGeom prst="leftRigh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учающий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395280" y="1461240"/>
            <a:ext cx="831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но-деятельностный подход, нацеленный на развитие личности учащихся через формирование универсальных учебных действий, которые выступают основой образовательного и воспитательного проце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владение учащимися универсальными учебными действиями создают возможность самостоятельного успешного усвоения новых знаний, умений и компетентностей включая   организацию усвоения, то есть умения учиться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278160" y="69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1889280" y="139680"/>
            <a:ext cx="5968800" cy="112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ds02.infourok.ru/uploads/ex/01f9/00071a60-e9d40a46/hello_html_45883cbd.jpg"/>
          <p:cNvPicPr/>
          <p:nvPr/>
        </p:nvPicPr>
        <p:blipFill>
          <a:blip r:embed="rId3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75400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5" descr=""/>
          <p:cNvPicPr/>
          <p:nvPr/>
        </p:nvPicPr>
        <p:blipFill>
          <a:blip r:embed="rId2"/>
          <a:stretch/>
        </p:blipFill>
        <p:spPr>
          <a:xfrm>
            <a:off x="-231840" y="122400"/>
            <a:ext cx="9948960" cy="974520"/>
          </a:xfrm>
          <a:prstGeom prst="rect">
            <a:avLst/>
          </a:prstGeom>
          <a:ln w="0">
            <a:noFill/>
          </a:ln>
        </p:spPr>
      </p:pic>
      <p:sp>
        <p:nvSpPr>
          <p:cNvPr id="100" name="Двойная стрелка влево/вправо 7"/>
          <p:cNvSpPr/>
          <p:nvPr/>
        </p:nvSpPr>
        <p:spPr>
          <a:xfrm>
            <a:off x="395280" y="1197000"/>
            <a:ext cx="4248000" cy="1295280"/>
          </a:xfrm>
          <a:prstGeom prst="left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учающий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0" y="3141720"/>
            <a:ext cx="212400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ысл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2627280" y="4365720"/>
            <a:ext cx="187344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2627280" y="3141720"/>
            <a:ext cx="172872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0" y="4365720"/>
            <a:ext cx="205092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0" y="5516640"/>
            <a:ext cx="212400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2627280" y="5516640"/>
            <a:ext cx="2232000" cy="914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ов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Двойная стрелка влево/вправо 14"/>
          <p:cNvSpPr/>
          <p:nvPr/>
        </p:nvSpPr>
        <p:spPr>
          <a:xfrm>
            <a:off x="5219640" y="1125360"/>
            <a:ext cx="3529080" cy="1295640"/>
          </a:xfrm>
          <a:prstGeom prst="left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6659640" y="2421000"/>
            <a:ext cx="2160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учить  домысл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4643280" y="3357720"/>
            <a:ext cx="24498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мочь  по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8"/>
          <p:cNvSpPr/>
          <p:nvPr/>
        </p:nvSpPr>
        <p:spPr>
          <a:xfrm>
            <a:off x="6732720" y="4292640"/>
            <a:ext cx="21603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совет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9"/>
          <p:cNvSpPr/>
          <p:nvPr/>
        </p:nvSpPr>
        <p:spPr>
          <a:xfrm>
            <a:off x="4932360" y="5300640"/>
            <a:ext cx="3456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консульт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picview.info/download/20150530/patterns-lines-light-bright-3840x2400.jpg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5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8362800" cy="21636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" descr=""/>
          <p:cNvPicPr/>
          <p:nvPr/>
        </p:nvPicPr>
        <p:blipFill>
          <a:blip r:embed="rId3"/>
          <a:stretch/>
        </p:blipFill>
        <p:spPr>
          <a:xfrm>
            <a:off x="1981080" y="2438280"/>
            <a:ext cx="5126040" cy="524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39640" y="290520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  обеспечивает обучающемуся  сохранение и увеличение его жизненных сил от начала и до конца урока, а также позволяет использовать полученные умения самостоятельно во внеурочной деятельности и в дальнейш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s://ds02.infourok.ru/uploads/ex/01f9/00071a60-e9d40a46/hello_html_45883cbd.jpg"/>
          <p:cNvPicPr/>
          <p:nvPr/>
        </p:nvPicPr>
        <p:blipFill>
          <a:blip r:embed="rId4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12:40:10Z</dcterms:created>
  <dc:creator>Оксана</dc:creator>
  <dc:description/>
  <dc:language>en-US</dc:language>
  <cp:lastModifiedBy>Пользователь Windows</cp:lastModifiedBy>
  <dcterms:modified xsi:type="dcterms:W3CDTF">2017-02-21T06:26:42Z</dcterms:modified>
  <cp:revision>26</cp:revision>
  <dc:subject/>
  <dc:title>Слайд 1</dc:title>
</cp:coreProperties>
</file>