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1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dt" idx="4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ftr" idx="4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 type="sldNum" idx="4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59B0EBCC-10DB-404F-B5A4-A3BFF0CAEB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62F9BD50-B7A4-41EA-BF7D-1F003EC674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D439-74EA-4D4B-8417-C7B1FA0A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722-5041-41EA-9EFA-592676D0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51912-1053-43AA-A375-E5A8C2CA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22FFB-6234-4297-A8A1-EB89CA39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88FA2-90F3-4BF2-9134-B9555908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37B00-DD66-4D67-A1F3-358479CC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10F79-F07D-4DB5-A2A3-640AA7ED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AD8E5-C193-4D45-ACA9-954947A5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C3238-27CD-4483-B0EC-0E484CE3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2FFC9-E5F9-4F88-8256-21F0D571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9F6C4-1048-4027-9D92-56B4A9DF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10360-1515-4F3E-B689-A842DDB6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3928-40AF-4BA8-BD96-69084049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7CBFA-AAA9-4BD5-9D14-032CA252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9E2F5-394C-4F73-AFE7-B7DE8372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11E1D-BD8B-414B-AA4F-BFC97943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A2458-4517-4ABE-A536-001D3401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36EC5-B469-4DA3-8809-0BAC9896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F8651-32AA-42C8-A8B2-01535341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5627D-765D-43D9-AB59-5FFAEFA6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21548-AD18-4201-89F8-8307302F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2FBAE-A739-4B5B-930C-A733027D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2486F-84A1-4D21-9BE9-0326194C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9ABA-F94F-47CE-BF19-B070DAFA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C134F-875F-4F65-8543-A0266F0D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7D435-8FE0-4A47-B12F-2F813827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55CDE-3C71-4A58-855F-45ED9501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E72B4-02D9-4303-B93B-7F89427B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9306F-C097-444A-84EA-01935433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2FBDB-3CF1-42BE-9477-1564C0F0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92049-BFD1-493D-B84A-1774BD65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AF4DB-66AF-4D03-AD09-E48BDD47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73A2F-58F8-4647-9C82-3486A72A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9ACC5-0299-4284-B81E-E3189558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74A3B-BDC8-4F98-B4A7-9280A87E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9D10A-8199-423D-B240-7970C57D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9E1F0-D104-4E73-AAEA-A0AD8D0D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22CAD-D73C-4D88-89F5-CF150DE1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CEB314-FCC2-4C8B-A370-BD492B82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F6916C-1515-4EC3-AB45-3DD588D7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9B790F-90FF-43FE-972C-390BFEF9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4BBB14-0208-4FB3-938C-0296EB47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665994-2E37-41B9-94AB-A6A95E59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4F3987-EC26-49F0-AEE6-95006CD5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BC83CC-78A2-4F57-BD3B-498FB2AA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89B00-778E-49E1-B28F-91B61E76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FF9BAD-9A53-4FA9-B22D-5B098BDD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67B7A6-E924-48EC-8059-EF46E476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146218-1462-4BE1-88FC-44AE0531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DF3EBE-C07B-4BD3-865C-CFCBEA7F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83A5E5-4ED1-4A63-825D-C8C05C75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942058-844E-439B-80F3-8A385DBB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2A8E5-E2A7-4B42-967C-887202AC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C97988-5AAF-446E-988F-E2C9D9F0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EC6C8-360E-4605-82CB-69810BE3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8F2149-98AF-4C75-8653-0CD5D84A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F5C71-CCDA-41F4-AC46-2A5E6BDB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196A05-A2EB-4BE7-8EE6-AA0FF8E9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A560E3-3011-4E64-BFAD-D4416D46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7BCBDD-8790-48A6-872F-BC65DD7E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1EC7C5-5FD8-4773-9E1F-9FC57DD4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FEDD1A-6E52-4C60-B932-CBC9F080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B76161-33BB-42F2-BE78-AE046F14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763290-B8B5-44BF-8A31-6819ECEE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A4DADC-D2C5-4B29-99BC-D3E37C53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DFBAEC-6019-4157-B4EE-A111B136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E7A54E-D2CB-481D-80A0-BBE926E5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D19B5-8074-4D39-8294-869B8451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B3D71D-4385-4B09-BF65-6FECD9DD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BCEE1E-430C-4D1A-BF8D-67765152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99C4F7-0741-4703-AB1C-502AC517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406A29-C20C-4400-ABBC-B2F16509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5969C7-4B8D-4B16-9B10-7844C69F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460142-1AF7-4302-9139-CFB0A75B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B6AA6F-2C7C-402C-967D-5E7D7C25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B0FFFF-F4A2-44E1-805E-84B52649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9651F2-19BF-4FE2-B50F-7B8B6E82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B543D-4FF9-40DD-9E58-7B1FC5AA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F6791-3D61-4717-84FA-EECBBC90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9CFB4-3266-4DF1-808C-803DCFDE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AB4B-6E85-4014-B6C5-45D962E3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CDA97-3114-4581-AEFC-E05A3818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E9AC3-628C-4757-B73C-2439E1A8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B328F-F750-4698-9BD2-02C87FA3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D0F7A-41CD-4F64-AF65-9D190EB6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FE636-5823-4C0A-A93C-48000AFC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86BC0-1163-4EF0-A10B-489B7EE3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63DE2-A8D8-4772-94E7-528C1575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72F5C-C5E3-4FF2-B7C4-C6DB51C4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3ECAC-2D7A-4D9F-819A-3E10C8F5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E817B-A249-4FE4-AE5E-3A8430DF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993-11D6-4517-82CF-ECC37B69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0DFDD-DFC0-4AE4-AA91-5C8DB922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A709C-7731-4108-A4FB-8DFF3922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10814-73D7-4416-BCAD-47A9521F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F66ED-2E9D-460D-9AC1-4295D93D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70BB7-C853-41ED-ABCA-E400E03F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7231F-7669-4310-9628-6343E755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13CE8-D1B8-4463-BA3E-C6397671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9545C-C628-4A73-AC2A-EFF6CB24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A64F6-3389-4ED8-A336-38C8CC50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7C03B-B1D4-4F1E-9BCD-18E62AE0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7C6F-AF38-4870-A982-57B8830A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271AB-12C5-4392-801E-45C9ECB0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A3952-DE24-4C4B-9185-69F3043C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746B4-F3D3-47FB-ADBA-E40194AA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F226E-2C9E-49E9-9C43-F29CCB11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CED6C-6C9F-4BBB-9F64-F1D0AAAB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35EBA-C49E-40E6-9F74-0CB45EE3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5AB18-7B22-4A6F-B826-52A6BCAE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F3958-465A-445D-9EBC-2A87C6EB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88DDD-50E2-4F39-8A74-1479EBEC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55139-55D8-47DC-B750-C8F12A2C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3D54-18C6-4FE7-95AA-68163070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84C2E-D3DA-48DA-9018-702A4309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BCD8B-FF4A-450D-80BE-547CCDFB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309D9-520F-46F2-B16A-C0975EE4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CD459-BDA7-4551-8C4F-440672BE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DFFB7-8332-4FB0-BC96-7187FCF2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B2FBA-28CA-4AB9-BD51-D2944E38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35FD0-FC3C-4C57-9B5B-583EFBAE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F29C3-36E6-4DC7-8A7B-3574E7BD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A6DA6-378E-4128-8FFE-8F0981A4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6F933-FE42-4B2E-9677-21169AE0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0DC5-A335-4880-ADFE-527BBD3B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6F680-68DF-42AF-897C-85E29949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D07CF-6D25-4769-B096-9BE01640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F8D67-05B1-4478-80C8-B9BC5DCC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231C0-3D25-4927-BD61-6D910AF1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9BF40-35D6-4E1C-AF31-56BFDA19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94B8A-30EF-4E42-9BB2-BEED07BF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FB97E-A04C-47C9-B0D4-7007BC5F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A1FE8-B003-484E-A0E4-679515FF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C0F46-D3E1-4B50-92A1-BC571D8B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77228-D26A-4339-BF73-6AC2895D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BE0B-6FE1-4EE6-B3B0-80A9B8EF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0DE65-BCD0-4770-ABB7-92BA865D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F1364-7821-4D51-BAFA-5DE2789A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7EF0D-4F47-4121-ABE8-82BF3496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83158-F1C8-469E-B8BD-25A1C643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8AA0D-99BD-49D8-8967-BB5A4281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2CF42-21FB-4D64-9240-98973900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57224-FCE1-468A-9611-D9480141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676CF-B50E-4417-A763-821557B0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3EA66-F964-44E5-B347-0AD29533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9942C-D580-490F-834F-77FDE810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C452-1E70-4611-9002-83EF4CF9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3AEBB-8D6B-41C8-A9BC-4EC14FFC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859F4-369B-4DE3-AE28-8C65BFC7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7E7A5-B580-49E5-9585-15E30B25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7835F-1266-4672-A5BF-919B009B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E665C-99FD-4C19-94C1-942D701E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B2747-45C4-4B57-BFF5-EF4385E4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98893-F7CF-4C31-A35C-B192E5EC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43FAE-FCA3-47F9-92B3-4ABB56C1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F5517-9B77-4078-9BEE-EAA4B49C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D41AF-D667-45DC-9273-56006112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6004-8C44-4EB1-90DE-36D870F2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7D627-EDA1-4A96-ADF1-E0541132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99EC3-F117-4C64-9906-104AF17E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70CB5-E2D3-41B2-B0A2-D229FCE3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FB9D1-797E-4FE5-821A-1CC188ED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14998-2233-4091-BF83-4E714A86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FB265-9114-4BAB-9A94-26E81B40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5A055-3E93-4574-BAB4-C79CF7E2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9B20C-8166-42B4-86DF-62FB9765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8DD4A-7CA2-41DC-A704-00DBB267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F35F8-BE22-4999-BFBE-632BD657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99880" indent="-2998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03440" indent="-30024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1106640" indent="-24948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491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1711440" indent="-2494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1711440" indent="-24948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1711440" indent="-24948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fefac9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2D2E3B2-AF16-4269-94AB-5A3AE1B95A4E}" type="slidenum">
              <a:rPr b="0" lang="ru-RU" sz="1800" spc="-1" strike="noStrike">
                <a:solidFill>
                  <a:srgbClr val="fefac9"/>
                </a:solidFill>
                <a:latin typeface="Times New Roman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6"/>
          <p:cNvSpPr/>
          <p:nvPr/>
        </p:nvSpPr>
        <p:spPr>
          <a:xfrm>
            <a:off x="9325080" y="0"/>
            <a:ext cx="755640" cy="755964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9325080" y="6048360"/>
            <a:ext cx="755640" cy="75564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04880" indent="-2509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08080" indent="-25092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409760" indent="-250920">
              <a:spcBef>
                <a:spcPts val="601"/>
              </a:spcBef>
              <a:buClr>
                <a:srgbClr val="95a39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712880" indent="-250920">
              <a:spcBef>
                <a:spcPts val="601"/>
              </a:spcBef>
              <a:buClr>
                <a:srgbClr val="c89f5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5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6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 rot="16200000">
            <a:off x="8325720" y="1813680"/>
            <a:ext cx="26877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 rot="16200000">
            <a:off x="8364600" y="4462560"/>
            <a:ext cx="26100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9429120" y="6248880"/>
            <a:ext cx="55872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70E4D2C-26D2-4297-8FA4-BB1D9AE5BDE1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6"/>
          <p:cNvSpPr/>
          <p:nvPr/>
        </p:nvSpPr>
        <p:spPr>
          <a:xfrm>
            <a:off x="9325080" y="0"/>
            <a:ext cx="755640" cy="755964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9325080" y="6048360"/>
            <a:ext cx="755640" cy="75564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04880" indent="-2509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08080" indent="-25092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409760" indent="-250920">
              <a:spcBef>
                <a:spcPts val="601"/>
              </a:spcBef>
              <a:buClr>
                <a:srgbClr val="95a39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712880" indent="-250920">
              <a:spcBef>
                <a:spcPts val="601"/>
              </a:spcBef>
              <a:buClr>
                <a:srgbClr val="c89f5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5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6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 rot="16200000">
            <a:off x="8325720" y="1813680"/>
            <a:ext cx="26877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 rot="16200000">
            <a:off x="8364600" y="4462560"/>
            <a:ext cx="26100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9429120" y="6248880"/>
            <a:ext cx="55872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8E355E9-0AD9-41BC-BBB5-2B8C1931FDCE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6"/>
          <p:cNvSpPr/>
          <p:nvPr/>
        </p:nvSpPr>
        <p:spPr>
          <a:xfrm>
            <a:off x="9325080" y="0"/>
            <a:ext cx="755640" cy="755964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9325080" y="6048360"/>
            <a:ext cx="755640" cy="75564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04880" indent="-2509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08080" indent="-25092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409760" indent="-250920">
              <a:spcBef>
                <a:spcPts val="601"/>
              </a:spcBef>
              <a:buClr>
                <a:srgbClr val="95a39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712880" indent="-250920">
              <a:spcBef>
                <a:spcPts val="601"/>
              </a:spcBef>
              <a:buClr>
                <a:srgbClr val="c89f5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5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6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 rot="16200000">
            <a:off x="8325720" y="1813680"/>
            <a:ext cx="26877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35"/>
          </p:nvPr>
        </p:nvSpPr>
        <p:spPr>
          <a:xfrm>
            <a:off x="9429120" y="6248880"/>
            <a:ext cx="55872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9E11B8B4-DE0F-4103-8967-B327BC29532D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ftr" idx="36"/>
          </p:nvPr>
        </p:nvSpPr>
        <p:spPr>
          <a:xfrm rot="16200000">
            <a:off x="8364600" y="4462560"/>
            <a:ext cx="26100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6"/>
          <p:cNvSpPr/>
          <p:nvPr/>
        </p:nvSpPr>
        <p:spPr>
          <a:xfrm>
            <a:off x="9325080" y="0"/>
            <a:ext cx="755640" cy="755964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9325080" y="6048360"/>
            <a:ext cx="755640" cy="75564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04880" indent="-2509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08080" indent="-25092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409760" indent="-250920">
              <a:spcBef>
                <a:spcPts val="601"/>
              </a:spcBef>
              <a:buClr>
                <a:srgbClr val="95a39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712880" indent="-250920">
              <a:spcBef>
                <a:spcPts val="601"/>
              </a:spcBef>
              <a:buClr>
                <a:srgbClr val="c89f5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5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6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7"/>
          </p:nvPr>
        </p:nvSpPr>
        <p:spPr>
          <a:xfrm rot="16200000">
            <a:off x="8325720" y="1813680"/>
            <a:ext cx="26877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8"/>
          </p:nvPr>
        </p:nvSpPr>
        <p:spPr>
          <a:xfrm rot="16200000">
            <a:off x="8364600" y="4462560"/>
            <a:ext cx="26100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9"/>
          </p:nvPr>
        </p:nvSpPr>
        <p:spPr>
          <a:xfrm>
            <a:off x="9429120" y="6248880"/>
            <a:ext cx="55872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87EC1FE-11D4-4BD7-8054-A9BE65F2226A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9325080" y="0"/>
            <a:ext cx="755640" cy="755964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9325080" y="6048360"/>
            <a:ext cx="755640" cy="75564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04880" indent="-2509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08080" indent="-25092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409760" indent="-250920">
              <a:spcBef>
                <a:spcPts val="601"/>
              </a:spcBef>
              <a:buClr>
                <a:srgbClr val="95a39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712880" indent="-250920">
              <a:spcBef>
                <a:spcPts val="601"/>
              </a:spcBef>
              <a:buClr>
                <a:srgbClr val="c89f5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5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6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40"/>
          </p:nvPr>
        </p:nvSpPr>
        <p:spPr>
          <a:xfrm rot="16200000">
            <a:off x="8325720" y="1813680"/>
            <a:ext cx="26877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41"/>
          </p:nvPr>
        </p:nvSpPr>
        <p:spPr>
          <a:xfrm rot="16200000">
            <a:off x="8364600" y="4462560"/>
            <a:ext cx="26100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42"/>
          </p:nvPr>
        </p:nvSpPr>
        <p:spPr>
          <a:xfrm>
            <a:off x="9429120" y="6248880"/>
            <a:ext cx="55872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6181394-3056-4D18-A79B-A4C6CD9DE1F3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04880" indent="-2509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08080" indent="-25092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409760" indent="-250920">
              <a:spcBef>
                <a:spcPts val="601"/>
              </a:spcBef>
              <a:buClr>
                <a:srgbClr val="95a39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712880" indent="-250920">
              <a:spcBef>
                <a:spcPts val="601"/>
              </a:spcBef>
              <a:buClr>
                <a:srgbClr val="c89f5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5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6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9325080" y="0"/>
            <a:ext cx="755640" cy="755964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325080" y="6048360"/>
            <a:ext cx="755640" cy="75564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9429120" y="6248880"/>
            <a:ext cx="55872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52E015D0-1072-412A-8D97-4B70D46CC967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 rot="16200000">
            <a:off x="8364600" y="4462560"/>
            <a:ext cx="26100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dt" idx="6"/>
          </p:nvPr>
        </p:nvSpPr>
        <p:spPr>
          <a:xfrm rot="16200000">
            <a:off x="8325720" y="1813680"/>
            <a:ext cx="26877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ая соединительная линия 6"/>
          <p:cNvSpPr/>
          <p:nvPr/>
        </p:nvSpPr>
        <p:spPr>
          <a:xfrm>
            <a:off x="755640" y="5419800"/>
            <a:ext cx="873756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99880" indent="-2998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03440" indent="-30024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1106640" indent="-24948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491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1711440" indent="-2494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1711440" indent="-24948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1711440" indent="-24948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fefac9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C8A5CBE-BFA4-4FAD-9339-AEE982DE3601}" type="slidenum">
              <a:rPr b="0" lang="ru-RU" sz="1800" spc="-1" strike="noStrike">
                <a:solidFill>
                  <a:srgbClr val="fefac9"/>
                </a:solidFill>
                <a:latin typeface="Times New Roman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9325080" y="0"/>
            <a:ext cx="755640" cy="755964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9325080" y="6048360"/>
            <a:ext cx="755640" cy="75564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04880" indent="-2509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08080" indent="-25092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409760" indent="-250920">
              <a:spcBef>
                <a:spcPts val="601"/>
              </a:spcBef>
              <a:buClr>
                <a:srgbClr val="95a39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712880" indent="-250920">
              <a:spcBef>
                <a:spcPts val="601"/>
              </a:spcBef>
              <a:buClr>
                <a:srgbClr val="c89f5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5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6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 rot="16200000">
            <a:off x="8325720" y="1813680"/>
            <a:ext cx="26877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 rot="16200000">
            <a:off x="8364600" y="4462560"/>
            <a:ext cx="26100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9429120" y="6248880"/>
            <a:ext cx="55872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7956A6F0-58E0-4996-AE9C-A8D1132056BB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9325080" y="0"/>
            <a:ext cx="755640" cy="755964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9325080" y="6048360"/>
            <a:ext cx="755640" cy="75564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04880" indent="-2509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08080" indent="-25092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409760" indent="-250920">
              <a:spcBef>
                <a:spcPts val="601"/>
              </a:spcBef>
              <a:buClr>
                <a:srgbClr val="95a39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712880" indent="-250920">
              <a:spcBef>
                <a:spcPts val="601"/>
              </a:spcBef>
              <a:buClr>
                <a:srgbClr val="c89f5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5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6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 rot="16200000">
            <a:off x="8325720" y="1813680"/>
            <a:ext cx="26877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 rot="16200000">
            <a:off x="8364600" y="4462560"/>
            <a:ext cx="26100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9429120" y="6248880"/>
            <a:ext cx="55872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94C9F013-BA0B-4053-A4C1-68C28FFC56DB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9325080" y="0"/>
            <a:ext cx="755640" cy="755964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9325080" y="6048360"/>
            <a:ext cx="755640" cy="75564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04880" indent="-2509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08080" indent="-25092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409760" indent="-250920">
              <a:spcBef>
                <a:spcPts val="601"/>
              </a:spcBef>
              <a:buClr>
                <a:srgbClr val="95a39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712880" indent="-250920">
              <a:spcBef>
                <a:spcPts val="601"/>
              </a:spcBef>
              <a:buClr>
                <a:srgbClr val="c89f5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5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6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 rot="16200000">
            <a:off x="8325720" y="1813680"/>
            <a:ext cx="26877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 rot="16200000">
            <a:off x="8364600" y="4462560"/>
            <a:ext cx="26100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9429120" y="6248880"/>
            <a:ext cx="55872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CC6EC48-A104-4815-B514-481E4FF433F2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9325080" y="0"/>
            <a:ext cx="755640" cy="755964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9325080" y="6048360"/>
            <a:ext cx="755640" cy="75564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04880" indent="-2509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08080" indent="-25092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409760" indent="-250920">
              <a:spcBef>
                <a:spcPts val="601"/>
              </a:spcBef>
              <a:buClr>
                <a:srgbClr val="95a39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712880" indent="-250920">
              <a:spcBef>
                <a:spcPts val="601"/>
              </a:spcBef>
              <a:buClr>
                <a:srgbClr val="c89f5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5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6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 rot="16200000">
            <a:off x="8325720" y="1813680"/>
            <a:ext cx="26877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 rot="16200000">
            <a:off x="8364600" y="4462560"/>
            <a:ext cx="26100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9429120" y="6248880"/>
            <a:ext cx="55872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DDA2B96-FFDF-458D-A9D3-B804B684CCE4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9325080" y="0"/>
            <a:ext cx="755640" cy="755964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9325080" y="6048360"/>
            <a:ext cx="755640" cy="75564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04880" indent="-2509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08080" indent="-25092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409760" indent="-250920">
              <a:spcBef>
                <a:spcPts val="601"/>
              </a:spcBef>
              <a:buClr>
                <a:srgbClr val="95a39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712880" indent="-250920">
              <a:spcBef>
                <a:spcPts val="601"/>
              </a:spcBef>
              <a:buClr>
                <a:srgbClr val="c89f5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5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6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 rot="16200000">
            <a:off x="8325720" y="1813680"/>
            <a:ext cx="26877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 rot="16200000">
            <a:off x="8364600" y="4462560"/>
            <a:ext cx="26100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9429120" y="6248880"/>
            <a:ext cx="55872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9E10E81-8C1D-4C86-A9D6-6F4DA658F82D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9325080" y="0"/>
            <a:ext cx="755640" cy="755964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9325080" y="6048360"/>
            <a:ext cx="755640" cy="75564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04880" indent="-2509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08080" indent="-25092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409760" indent="-250920">
              <a:spcBef>
                <a:spcPts val="601"/>
              </a:spcBef>
              <a:buClr>
                <a:srgbClr val="95a39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712880" indent="-250920">
              <a:spcBef>
                <a:spcPts val="601"/>
              </a:spcBef>
              <a:buClr>
                <a:srgbClr val="c89f5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5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6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 rot="16200000">
            <a:off x="8325720" y="1813680"/>
            <a:ext cx="26877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 rot="16200000">
            <a:off x="8364600" y="4462560"/>
            <a:ext cx="26100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9429120" y="6248880"/>
            <a:ext cx="55872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B27CD167-6A06-44F1-B682-316F48E57B77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6132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r>
              <a:rPr b="0" lang="ru-RU" sz="5400" spc="-1" strike="noStrike">
                <a:solidFill>
                  <a:srgbClr val="ff0000"/>
                </a:solidFill>
                <a:latin typeface="Cambria"/>
              </a:rPr>
              <a:t>Коропузикова М.Б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mbria"/>
              </a:rPr>
              <a:t>учитель русского языка и литературы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mbria"/>
              </a:rPr>
              <a:t>ГБОУ СОШ №339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mbria"/>
              </a:rPr>
              <a:t>Санкт-Петербург</a:t>
            </a:r>
            <a:br>
              <a:rPr sz="3600"/>
            </a:br>
            <a:br>
              <a:rPr sz="4400"/>
            </a:b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31640" y="169200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1680" indent="-301680">
              <a:spcBef>
                <a:spcPts val="663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1680" indent="-301680">
              <a:spcBef>
                <a:spcPts val="663"/>
              </a:spcBef>
              <a:buClr>
                <a:srgbClr val="2e2a1f"/>
              </a:buClr>
              <a:buFont typeface="Wingdings 2" charset="2"/>
              <a:buChar char="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1680" indent="-301680">
              <a:spcBef>
                <a:spcPts val="663"/>
              </a:spcBef>
              <a:buClr>
                <a:srgbClr val="2e2a1f"/>
              </a:buClr>
              <a:buFont typeface="Wingdings 2" charset="2"/>
              <a:buChar char="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1680" indent="-301680">
              <a:spcBef>
                <a:spcPts val="663"/>
              </a:spcBef>
              <a:buClr>
                <a:srgbClr val="2e2a1f"/>
              </a:buClr>
              <a:buFont typeface="Wingdings 2" charset="2"/>
              <a:buChar char="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1680" indent="-301680">
              <a:spcBef>
                <a:spcPts val="663"/>
              </a:spcBef>
              <a:buClr>
                <a:srgbClr val="2e2a1f"/>
              </a:buClr>
              <a:buFont typeface="Wingdings 2" charset="2"/>
              <a:buChar char="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1680" indent="-301680">
              <a:spcBef>
                <a:spcPts val="663"/>
              </a:spcBef>
              <a:buClr>
                <a:srgbClr val="2e2a1f"/>
              </a:buClr>
              <a:buFont typeface="Wingdings 2" charset="2"/>
              <a:buChar char="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1680" indent="-301680">
              <a:spcBef>
                <a:spcPts val="663"/>
              </a:spcBef>
              <a:buClr>
                <a:srgbClr val="2e2a1f"/>
              </a:buClr>
              <a:buFont typeface="Wingdings 2" charset="2"/>
              <a:buChar char="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2521080" y="3213000"/>
            <a:ext cx="50385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5"/>
          <p:cNvSpPr/>
          <p:nvPr/>
        </p:nvSpPr>
        <p:spPr>
          <a:xfrm>
            <a:off x="2521080" y="3213000"/>
            <a:ext cx="50385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2519280" y="3203640"/>
            <a:ext cx="50389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215640" y="323640"/>
            <a:ext cx="4608360" cy="72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При царствовании Павла I Державин занимал должности правителя канцелярии Сената, государственного казначея. После прихода к власти Александра I Гаврила Романович в 1802-1803 гг был министром юстиции. Уйдя в 1803 году в отставку Державин много времени проводил в имении Званка (Новгородская губерния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29" name="Picture 11" descr="Файл:Derzhavin.jpg"/>
          <p:cNvPicPr/>
          <p:nvPr/>
        </p:nvPicPr>
        <p:blipFill>
          <a:blip r:embed="rId1"/>
          <a:stretch/>
        </p:blipFill>
        <p:spPr>
          <a:xfrm>
            <a:off x="5111640" y="179280"/>
            <a:ext cx="4535640" cy="723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144000" y="466200"/>
            <a:ext cx="9936360" cy="452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2e2a1f"/>
              </a:buClr>
              <a:buFont typeface="Wingdings 2" charset="2"/>
              <a:buChar char="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Среди его бессмертных произведений «Фелица», «Благодарность Фелице»,«Властителям и судиям», «Признание», «Памятник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1680" indent="-301680">
              <a:spcBef>
                <a:spcPts val="663"/>
              </a:spcBef>
              <a:buClr>
                <a:srgbClr val="2e2a1f"/>
              </a:buClr>
              <a:buFont typeface="Wingdings 2" charset="2"/>
              <a:buChar char="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«На рождение в Севере порфирородного отростка», «Водопад», «Приглашение к обеду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1680" indent="-301680">
              <a:spcBef>
                <a:spcPts val="663"/>
              </a:spcBef>
              <a:buClr>
                <a:srgbClr val="2e2a1f"/>
              </a:buClr>
              <a:buFont typeface="Wingdings 2" charset="2"/>
              <a:buChar char="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«На смерть князя Мещерского», «Ключ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1680" indent="-301680">
              <a:spcBef>
                <a:spcPts val="663"/>
              </a:spcBef>
              <a:buClr>
                <a:srgbClr val="2e2a1f"/>
              </a:buClr>
              <a:buFont typeface="Wingdings 2" charset="2"/>
              <a:buChar char="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Ода «Бог», «Видение мурзы», «Снигирь», ода-поэма «Евгению. Жизнь Званская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1680" indent="-301680">
              <a:spcBef>
                <a:spcPts val="663"/>
              </a:spcBef>
              <a:buClr>
                <a:srgbClr val="2e2a1f"/>
              </a:buClr>
              <a:buFont typeface="Wingdings 2" charset="2"/>
              <a:buChar char="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1" name="Picture 6" descr=""/>
          <p:cNvPicPr/>
          <p:nvPr/>
        </p:nvPicPr>
        <p:blipFill>
          <a:blip r:embed="rId1"/>
          <a:stretch/>
        </p:blipFill>
        <p:spPr>
          <a:xfrm>
            <a:off x="7272360" y="4572000"/>
            <a:ext cx="2592360" cy="2987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3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3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3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3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2920" y="610920"/>
            <a:ext cx="9072360" cy="1344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700" spc="-1" strike="noStrike">
                <a:solidFill>
                  <a:srgbClr val="675e47"/>
                </a:solidFill>
                <a:latin typeface="Georgia"/>
              </a:rPr>
              <a:t>Ода </a:t>
            </a:r>
            <a:br>
              <a:rPr sz="3700"/>
            </a:br>
            <a:r>
              <a:rPr b="0" lang="ru-RU" sz="3700" spc="-1" strike="noStrike">
                <a:solidFill>
                  <a:srgbClr val="675e47"/>
                </a:solidFill>
                <a:latin typeface="Georgia"/>
              </a:rPr>
              <a:t>   (из греч. означает «песнь») -</a:t>
            </a:r>
            <a:br>
              <a:rPr sz="3700"/>
            </a:br>
            <a:endParaRPr b="0" lang="en-US" sz="37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02920" y="1763280"/>
            <a:ext cx="445140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lnSpc>
                <a:spcPct val="100000"/>
              </a:lnSpc>
              <a:spcBef>
                <a:spcPts val="876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lnSpc>
                <a:spcPct val="100000"/>
              </a:lnSpc>
              <a:spcBef>
                <a:spcPts val="876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2f2b20"/>
                </a:solidFill>
                <a:latin typeface="Georgia"/>
              </a:rPr>
              <a:t>это стихотворение торжественного характера в честь какого-либо лица или события</a:t>
            </a:r>
            <a:endParaRPr b="0" lang="en-US" sz="35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5111640" y="1763280"/>
            <a:ext cx="445320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245880">
              <a:lnSpc>
                <a:spcPct val="90000"/>
              </a:lnSpc>
              <a:spcBef>
                <a:spcPts val="774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2f2b20"/>
                </a:solidFill>
                <a:latin typeface="Calibri"/>
              </a:rPr>
              <a:t>Славит </a:t>
            </a:r>
            <a:r>
              <a:rPr b="0" lang="ru-RU" sz="3100" spc="-1" strike="noStrike">
                <a:solidFill>
                  <a:srgbClr val="2f2b20"/>
                </a:solidFill>
                <a:latin typeface="Calibri"/>
              </a:rPr>
              <a:t>силу русского оружия;</a:t>
            </a:r>
            <a:endParaRPr b="0" lang="en-US" sz="3100" spc="-1" strike="noStrike">
              <a:solidFill>
                <a:srgbClr val="2f2b20"/>
              </a:solidFill>
              <a:latin typeface="Calibri"/>
            </a:endParaRPr>
          </a:p>
          <a:p>
            <a:pPr marL="370440" indent="-245880">
              <a:lnSpc>
                <a:spcPct val="90000"/>
              </a:lnSpc>
              <a:spcBef>
                <a:spcPts val="774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2f2b20"/>
                </a:solidFill>
                <a:latin typeface="Calibri"/>
              </a:rPr>
              <a:t>Утверждает </a:t>
            </a:r>
            <a:r>
              <a:rPr b="0" lang="ru-RU" sz="3100" spc="-1" strike="noStrike">
                <a:solidFill>
                  <a:srgbClr val="2f2b20"/>
                </a:solidFill>
                <a:latin typeface="Calibri"/>
              </a:rPr>
              <a:t>высокие гражданские идеалы: служение Родине;</a:t>
            </a:r>
            <a:endParaRPr b="0" lang="en-US" sz="3100" spc="-1" strike="noStrike">
              <a:solidFill>
                <a:srgbClr val="2f2b20"/>
              </a:solidFill>
              <a:latin typeface="Calibri"/>
            </a:endParaRPr>
          </a:p>
          <a:p>
            <a:pPr marL="370440" indent="-245880">
              <a:lnSpc>
                <a:spcPct val="90000"/>
              </a:lnSpc>
              <a:spcBef>
                <a:spcPts val="774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100" spc="-1" strike="noStrike">
                <a:solidFill>
                  <a:srgbClr val="2f2b20"/>
                </a:solidFill>
                <a:latin typeface="Calibri"/>
              </a:rPr>
              <a:t>Сатирическая направленность: резкая критика вельмож, жизнь которых поэт хорошо знал.</a:t>
            </a:r>
            <a:endParaRPr b="0" lang="en-US" sz="3100" spc="-1" strike="noStrike">
              <a:solidFill>
                <a:srgbClr val="2f2b20"/>
              </a:solidFill>
              <a:latin typeface="Calibri"/>
            </a:endParaRPr>
          </a:p>
          <a:p>
            <a:pPr marL="370440" indent="-2458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3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30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300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3000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-360" y="179280"/>
            <a:ext cx="8209080" cy="4896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lnSpc>
                <a:spcPct val="93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Ода "Фелица", в которой восхвалялась Екатерина II, была напечатана в 1783 году. Стихотворение Державина растрогало императрицу до слез и в награду поэту была послана усыпанная бриллиантами золотая табакерка с пятьюстами червонцами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6" name="Picture 7" descr="attach"/>
          <p:cNvPicPr/>
          <p:nvPr/>
        </p:nvPicPr>
        <p:blipFill>
          <a:blip r:embed="rId1"/>
          <a:stretch/>
        </p:blipFill>
        <p:spPr>
          <a:xfrm>
            <a:off x="6335640" y="3708360"/>
            <a:ext cx="3527640" cy="38512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8"/>
          <p:cNvSpPr/>
          <p:nvPr/>
        </p:nvSpPr>
        <p:spPr>
          <a:xfrm>
            <a:off x="1584360" y="5580000"/>
            <a:ext cx="4559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тинское слово – феликс, счастливый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3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3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5100" spc="-1" strike="noStrike">
                <a:solidFill>
                  <a:srgbClr val="2f2b20"/>
                </a:solidFill>
                <a:latin typeface="Cambria"/>
              </a:rPr>
              <a:t>Задание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02920" y="1763280"/>
            <a:ext cx="907236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Прочтите стихотворение </a:t>
            </a:r>
            <a:r>
              <a:rPr b="0" lang="ru-RU" sz="2400" spc="-1" strike="noStrike" u="sng">
                <a:solidFill>
                  <a:srgbClr val="2f2b20"/>
                </a:solidFill>
                <a:uFillTx/>
                <a:latin typeface="Calibri"/>
              </a:rPr>
              <a:t>«Признание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Почему же самодержцы отказывались от службы самого честного, самого умного и добросовестного человека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Не умел притворяться, искренен;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Говорил горькую правду вельможам;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Признается в недостатках;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Уверен: осудить его не за что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5100" spc="-1" strike="noStrike">
                <a:solidFill>
                  <a:srgbClr val="2f2b20"/>
                </a:solidFill>
                <a:latin typeface="Cambria"/>
              </a:rPr>
              <a:t>Заслуги Г.Р. Державина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02920" y="1763280"/>
            <a:ext cx="907236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С него началась русская лирика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«Высокий штиль» потеснен простым, ясным, народным языком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Содержанием стихотворений стали чувства, переживания лирического геро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Сближение литературного языка с народным языком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Смешение «высокого» и «низкого» (ода – «брякнуть», «мнил», «суета»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3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5100" spc="-1" strike="noStrike">
                <a:solidFill>
                  <a:srgbClr val="2f2b20"/>
                </a:solidFill>
                <a:latin typeface="Cambria"/>
              </a:rPr>
              <a:t>Задание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Поэт посмел в условиях самодержавия мечтать о свободе. Эта мечта вылилась всего в четыре строки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Прочтите стихотворение «Птичка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2f2b20"/>
                </a:solidFill>
                <a:latin typeface="Calibri"/>
              </a:rPr>
              <a:t>Над чем заставляет задуматься данное четверостишие?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3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3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30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3000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Гавриил Романович Державин</a:t>
            </a:r>
            <a:br>
              <a:rPr sz="4600"/>
            </a:b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(1743-1816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45" name="Picture 3" descr=""/>
          <p:cNvPicPr/>
          <p:nvPr/>
        </p:nvPicPr>
        <p:blipFill>
          <a:blip r:embed="rId1"/>
          <a:stretch/>
        </p:blipFill>
        <p:spPr>
          <a:xfrm>
            <a:off x="6335640" y="1763640"/>
            <a:ext cx="3513240" cy="46832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"/>
          <p:cNvPicPr/>
          <p:nvPr/>
        </p:nvPicPr>
        <p:blipFill>
          <a:blip r:embed="rId2"/>
          <a:stretch/>
        </p:blipFill>
        <p:spPr>
          <a:xfrm>
            <a:off x="287280" y="1763640"/>
            <a:ext cx="2548080" cy="46832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5" descr=""/>
          <p:cNvPicPr/>
          <p:nvPr/>
        </p:nvPicPr>
        <p:blipFill>
          <a:blip r:embed="rId3"/>
          <a:stretch/>
        </p:blipFill>
        <p:spPr>
          <a:xfrm>
            <a:off x="2952720" y="1763640"/>
            <a:ext cx="3127320" cy="468324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6"/>
          <p:cNvSpPr/>
          <p:nvPr/>
        </p:nvSpPr>
        <p:spPr>
          <a:xfrm>
            <a:off x="0" y="6443640"/>
            <a:ext cx="29764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мятник Олонецкому губернатору Г. Р. Державину в Губернаторском парке Петрозаводс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3024360" y="6443640"/>
            <a:ext cx="2911320" cy="8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Памятник Гавриилу Державину в Лядском саде Казан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8"/>
          <p:cNvSpPr/>
          <p:nvPr/>
        </p:nvSpPr>
        <p:spPr>
          <a:xfrm>
            <a:off x="6627960" y="6478560"/>
            <a:ext cx="277632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Г. Р. Державин на Памятнике «1000-летие России» в Великом Новгороде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3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3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3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36360" y="179280"/>
            <a:ext cx="856908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Гавриил Романович Державин</a:t>
            </a:r>
            <a:br>
              <a:rPr sz="4600"/>
            </a:b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(1743-1816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5357880" y="1874880"/>
            <a:ext cx="4527360" cy="531792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4"/>
          <p:cNvSpPr/>
          <p:nvPr/>
        </p:nvSpPr>
        <p:spPr>
          <a:xfrm>
            <a:off x="719280" y="1692360"/>
            <a:ext cx="4762440" cy="36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ворчество Г. Р. Державина представляет собой вершину русского классицизм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едназначение поэта, в понимании Г. Р. Державина — прославление великих поступков и порицание дурных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4" name="Picture 5" descr=""/>
          <p:cNvPicPr/>
          <p:nvPr/>
        </p:nvPicPr>
        <p:blipFill>
          <a:blip r:embed="rId2"/>
          <a:stretch/>
        </p:blipFill>
        <p:spPr>
          <a:xfrm>
            <a:off x="863640" y="5940360"/>
            <a:ext cx="4444920" cy="147960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6"/>
          <p:cNvSpPr/>
          <p:nvPr/>
        </p:nvSpPr>
        <p:spPr>
          <a:xfrm>
            <a:off x="787320" y="2082960"/>
            <a:ext cx="247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5100" spc="-1" strike="noStrike">
                <a:solidFill>
                  <a:srgbClr val="2f2b20"/>
                </a:solidFill>
                <a:latin typeface="Cambria"/>
              </a:rPr>
              <a:t>Цели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Подчеркнуть честность и прямоту характера поэта, смелость в изображении вельмож, восхищение храбростью простого народ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Подчеркнуть живость и естественность стиха поэта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Крупнейший поэт второй половины 18 век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02920" y="2266560"/>
            <a:ext cx="4537080" cy="4778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 algn="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В лице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 algn="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Державин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 algn="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поэзия русская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 algn="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сделала великий шаг вперед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В.Г.Белинский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20" name="Picture 4" descr="Гаврила Державин"/>
          <p:cNvPicPr/>
          <p:nvPr/>
        </p:nvPicPr>
        <p:blipFill>
          <a:blip r:embed="rId1"/>
          <a:srcRect l="4078" t="3588" r="6117" b="3588"/>
          <a:stretch/>
        </p:blipFill>
        <p:spPr>
          <a:xfrm>
            <a:off x="5256360" y="1116000"/>
            <a:ext cx="43923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Хорошие стихи не так легко писать…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Меж тем, как Дмитриев, Державин, Ломоносов,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Певцы бессмертные, и честь, и слава россов,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Питают здравый ум и вместе учат нас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                    </a:t>
            </a:r>
            <a:r>
              <a:rPr b="0" i="1" lang="ru-RU" sz="2600" spc="-1" strike="noStrike">
                <a:solidFill>
                  <a:srgbClr val="2f2b20"/>
                </a:solidFill>
                <a:latin typeface="Calibri"/>
              </a:rPr>
              <a:t>А.С. Пушкин «К другу стихотворцу»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360360" y="1116000"/>
            <a:ext cx="79930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Р.Державин родился в июле 1743 г. в Казанской губернии. Его родители - Роман Николаевич и Фекла Андреевна - были небогатыми дворянами. Отец Державина служил в армии и семье часто приходилось переезжать в связи с его переводами по службе. В 1754 г. Роман Николаевич вышел в отставку и умер. Забота о детях и хозяйстве легла на плечи Феклы Андреев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576360" y="324000"/>
            <a:ext cx="86407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675e47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ды: от капитана до минист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0" y="1331640"/>
            <a:ext cx="9144000" cy="716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Хорошее образование в то время было практически недоступно детям небогатых провинциальных дворян. Так и Державин до 16 лет получал отрывочные знания от случайных преподавателей. С 1759 г. по 1762 г. он учился в Казанской гимназии. За успехи был зачислен в инженерный корпус, но из-за путаницы с бумагами оказался солдатом лейб-гвардии Преображенского полк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504360" y="395280"/>
            <a:ext cx="8496360" cy="636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lnSpc>
                <a:spcPct val="93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600" spc="-1" strike="noStrike">
                <a:solidFill>
                  <a:srgbClr val="2f2b20"/>
                </a:solidFill>
                <a:latin typeface="Calibri"/>
              </a:rPr>
              <a:t>Вскоре вместе с полком стал участником переворота, заменившего на российском троне Петра III Екатериной II. Вследствие бедности по службе Державин продвигался медленно и только в 1772 г. был произведен в прапорщики. К этому же периоду относятся его первые невеликие успехи в поэзии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663"/>
              </a:spcBef>
              <a:buClr>
                <a:srgbClr val="2e2a1f"/>
              </a:buClr>
              <a:buFont typeface="Wingdings 2" charset="2"/>
              <a:buChar char="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215640" y="323640"/>
            <a:ext cx="4392360" cy="72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Arial Black"/>
              </a:rPr>
              <a:t>В 1773 г. мятеж под предводительством Пугачева принял масштабы, опасные для государства. Для подавления восстания Екатерина II поручила руководство войсками генералу А.И.Бибикову. Державин, понимая ,что других шансов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Arial Black"/>
              </a:rPr>
              <a:t>продвинуться по службе у него нет, добился назначения к Бибикову в следственную комиссию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5256360" y="466560"/>
            <a:ext cx="4392360" cy="6266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7:14:45Z</dcterms:created>
  <dc:creator/>
  <dc:description/>
  <dc:language>en-US</dc:language>
  <cp:lastModifiedBy>Маришка А.</cp:lastModifiedBy>
  <dcterms:modified xsi:type="dcterms:W3CDTF">2017-02-22T08:14:37Z</dcterms:modified>
  <cp:revision>29</cp:revision>
  <dc:subject/>
  <dc:title>Слайд 1</dc:title>
</cp:coreProperties>
</file>