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dt" idx="4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ftr" idx="4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 type="sldNum" idx="4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A06E9F8-25B7-4CEB-8CB9-3EFBB1B24D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A563077-22F0-4DF8-9F64-5C43214211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52A-A665-4F77-A917-ED109890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E89-E3B9-42C7-A799-051FE22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D1D8B-DF0A-4FC2-B913-7DF5C5DD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80240-17A9-4341-A7AC-422E9A86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3BF37-5D25-4206-A4FA-8662856A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0E71B-92E1-48FC-99BC-61866F3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2D39F-DB0D-45E8-8827-C7081BB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4E4B7-B2F7-4FAA-8CCE-0340321F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D312A-81B2-486F-A146-2BC80FCB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C5571-5138-45E3-AF0E-53F97517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04EC2-FCA7-4798-A966-6B2CD67A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209AA-AEB9-42AA-B251-AED40714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128-FA38-4BF3-9B92-A369DC70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BBEDD-591D-4340-A182-1AC38328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19919-8E41-4869-83B5-4AA3E976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89432-6FD1-4307-AF75-62C64227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1E270-C41C-4076-BF50-BECC1607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3B98E-300E-4814-A645-7C51A650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86230-D529-44BC-81CD-F8422B2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F7D67-B927-43D9-B821-BA3A5D9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CEE17-357D-4DDB-B904-1C9A69F9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96BF1-0427-43EE-B69C-25DAE2F5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4F29D-0108-454C-B972-5CCAAC7C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69C-1F35-495C-B878-E3E903E3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6F037-076A-4B00-B8EF-58FC596E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B9B18-0A07-4D95-B5AA-AA39DB98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E6669-C5D5-4A34-9449-21932AF8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7DC04-0A3E-4CA0-AABA-B5E12C4D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98ADE-B364-4131-8A69-5F086B7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CBB2F-3FF7-49CC-9531-97989D77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6E16-244F-40BC-98E2-F44A3E6F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DB8B9-74FA-408C-89B3-D5E2A7B3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8B0A-9D41-4217-AA14-96276DC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783FB-9D9B-455C-8D67-51ADDB16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F06B-4B47-48E2-93FD-63D34921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8C5F-8098-4898-B0F5-D17FB0EA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0F15C-8D29-408C-9F2E-25ACC8C6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6AF72-384A-4CA1-A9E9-36D2AC52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2D6C67-F952-4A90-A0A2-754EFB14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C76323-09B3-46B3-9887-D0F3000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AC84DF-29A3-425D-8EE1-ED16F724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A38294-BE8E-45AD-9B9D-B8CE28F7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D920D2-9784-4750-AF99-68B28B41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EBAC06-3020-4BFB-9B87-1C2AFC22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377D65-0716-419B-8055-F08B1759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A8ABE-5C6A-4AA5-8840-18C8AF4C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DAD162-6A17-48FC-9636-82CCE64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6A0BD3-2CA3-4078-8ABB-08EC354F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00945F-6585-42D4-8A2E-B0085A8F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01E1CC-608D-4FF7-93F1-E291E551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1AAA52-2BAF-4ECC-A067-3A6DD795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31546-EB42-444F-A995-7EE25B17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40E65-6386-4E0A-B2EC-E993897D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A16F9-6025-4F0C-A5D4-B33F7B1B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2565B-50F0-490D-844D-09EB7CA8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FE2E1-0C68-4564-B1AD-D160E359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E9E26-3F7B-4DD7-8EF3-6A986A4E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34B40-F577-4AB0-B52C-4B87A99F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FBE18-6514-469C-94F3-F3A099F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4FF24-F04B-42F5-8425-C511DAF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D9D68-F44D-4A33-973F-B9E7933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3530C-8D98-4510-B131-D53DE3C3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E5CC9-B8F2-4BC0-BA2B-128DCF43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7CF18-A820-4B96-9FC2-B87A2739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2C774-CE99-4A3F-BF2C-65BFFF73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20512-F64A-45A9-89E3-966A7B6D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53D8E-82A8-4929-BB5A-D2A9FD0F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4C8E2-7F35-4580-8AD4-87A39627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C6E52-D849-4B09-BC2E-33FFC474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4898B-626A-43FF-9D56-25B6CBF5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BBACB-9752-4229-A2DA-E0FFF641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3BC14-8A24-44EC-BC58-B6724EB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32AB8-7155-49D6-8450-F140181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CA4F3-0057-46A5-A725-1618A16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4C878-1272-498A-98F9-01352DC2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21801-E773-45AE-B0CD-9E5D6CBD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42169-AD65-4855-BD3F-B83AF8B6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F8EA8-EC90-4F40-B04C-52BB4D97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550C1-5470-4FAB-B8C4-5E2FC3C4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C3991-FEB5-43A4-B683-24379A43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DA8-D410-4BF8-9196-D54B20B5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0C27A-AA55-4D1C-87AF-97508A78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756F1-E9BD-4224-8064-8079C6CF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8D35-FA1B-4B47-B432-304365BF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7C97D-333C-4777-963B-8AB485F9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66784-C6F1-4A98-BA9E-FEFC7CFF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3094-1F98-48E6-A1C6-F2757EF2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AB35-AAC9-4EF1-9D22-C962F8D7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796C-ED32-4A0C-8CFF-E92EE559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FDE6-A96E-49C3-A568-874FB768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A8F7-EE05-4D40-8F86-74F08084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6C3-D11D-43D8-BCC4-A4F48F6E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930D-8AB8-4C31-B779-B30EDA40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423E-E72E-453C-BA21-F9CDA84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A7A2-590E-493F-ACBE-5B749AD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F593-4513-4229-8CEA-382E024A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5C5B-3839-496E-98F8-D50D9837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CD2E-2C7A-4CD5-AA46-5A95D219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9900-4567-49EA-A9DE-9B55597D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7E6FD-F671-40D9-A828-E7E13873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D4A2-52C3-4C8E-8A38-46E37032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674B-E1E6-4BDB-B120-2B8992CB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E83-35B1-43FD-A673-54915D3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3BE7-C601-4E4A-A156-A0B63C6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EF6D-B75A-4374-A245-9330CC6A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49EF-76C4-47B2-A6A1-6954FFB9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727D-D0E2-4D4F-A86A-F7A4D26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9763-0B40-42A0-BD7B-CBE95E7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07620-8B84-46E9-AB90-20BF5F4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A349B-6CE7-4D51-A115-38AE0C06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EB18-FDE1-40AA-9084-4DF85A13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9EFE-0097-41F2-A072-3DCF05E6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A1BDD-F767-4AC9-8D3B-2F586856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72B-6811-49AC-8FC8-C72E5EC7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2335-2508-49AA-9475-1D4FBEC0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DFC6-010F-4488-A737-F7067339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47CC-1934-423A-8899-6AEA874E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C274D-3F28-4BD4-BB30-B0682E0E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5324-A256-4257-B84C-29C1D5F7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62E3-A035-4470-8280-1098B654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CED9-5F04-436D-82D5-89C7FAB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6DC8-5C69-4070-9ED9-B0E5433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B26E-367B-4D02-B48D-F777ADF1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A74C-EF5D-4F13-B800-8201329F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35C-69EA-4BDC-9E62-C937E08B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92D0F-3030-496E-A790-9D308B6B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E8ED8-C19B-4D9D-87D2-9CCBB57A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F614-DBF2-4E3F-92F4-0E50A46B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1197A-7CD1-4011-A495-B5A09119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D4BEB-19BD-4843-91D0-6E952956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7520-332A-4157-B626-4782C2A3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97ADF-D620-45D2-9DD8-E4FAEA67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BEE69-E31B-4186-BB7A-F2D88DE4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B1F4-3B0F-4BD1-BD93-1C8E2154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9062-52B3-4ED5-93D6-8100FC0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CB9-8341-42FD-8B48-31A7E61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BF7AA-37DF-49E5-933A-915AB0D5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CE9E3-6C4C-469D-B737-0C808418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D9FB-487E-4BEF-AF83-6CB1BEA5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AC31B-359A-4D4C-93DB-B2FC0C4F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FEC42-64A7-4E25-9EDF-C562A642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8F58-07FA-4133-AF9E-9250B55C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9810-8240-4440-AC28-A3A67803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5FEE-DF6C-4839-B005-4C3A2A84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C249B-D9D0-4017-A469-F48E902D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E7DF6-8EA2-4BB7-9193-8FCEC43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BBA-7D3A-4ED6-8468-E4A8DB41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F7493-1ED6-470F-9837-BC229356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98618-9756-4F39-996F-B4F89B65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C6263-BFD0-432F-B3DE-436DF1D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9958-061F-4432-8BED-5907C637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87AD-8CD0-48CA-85F9-D4633B6E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8459-42DD-4FFE-9DBA-EAE0EA82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AE955-95F0-47F2-A849-AA9E9728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BD0C4-4979-4BD7-BF0A-7BFA1875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5D9EA-C512-4AE2-90AA-1B4902D4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03D77-7A0E-495E-B078-48684D9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017-1A1B-4368-8016-0BAEB41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84009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algn="ct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D2585-C465-4F42-B71F-82BF94C6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0969-DD8E-4016-8BE6-9949635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6FAC-B48D-424C-8058-AFD649C9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49870-EBB4-4250-A8EF-2FE43892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4528080"/>
            <a:ext cx="840096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89539-4510-45FB-9F7A-654AE5F9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07800" y="176364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807800" y="4528080"/>
            <a:ext cx="409932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CDF0B-8F5B-4A91-8C0A-03876740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4404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84800" y="176364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4404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184800" y="4528080"/>
            <a:ext cx="2705040" cy="252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7CC22-CFEC-4687-BCD2-3F91C118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7B0B2-D50D-450E-B631-2E35BA25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708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B144D-2A80-4571-8B1C-7684E6B7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01C0E-F50A-4D30-90B9-C6259E9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99880" indent="-2998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03440" indent="-30024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06640" indent="-24948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491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711440" indent="-2494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711440" indent="-24948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711440" indent="-24948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16466C3-8C9D-44FD-93C1-32DB6159248F}" type="slidenum">
              <a:rPr b="0" lang="ru-RU" sz="18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05B35D0-EC87-4625-91C0-7E5468A0D20C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52BCFA3-3485-4C69-9DC2-6C7181F77B3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35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57E1353-BC11-4B01-B0F7-8333EAA90125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ftr" idx="36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8076515-53C0-4F2E-82FE-DC29A740C7A2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52721C1-7497-45AE-9D86-B8B03F12AD68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8C94945-655E-488B-A164-8FCC53539D52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99880" indent="-2998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03440" indent="-30024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06640" indent="-24948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491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711440" indent="-2494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711440" indent="-24948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711440" indent="-24948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6BF6CCB-0732-42FC-94D0-175A9659958A}" type="slidenum">
              <a:rPr b="0" lang="ru-RU" sz="18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8A75363-088C-4AC3-8A21-22A8598D9955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337A727-F39E-4818-A313-642FDDA2CB15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7A9FA74-E1EF-4DA6-9692-8F7E9FAC5B5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CAB0522-8D2F-4AD7-BEC6-19D563C21C39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7D5728E-A10B-40D6-8CDA-8C348CEC7BDE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9325080" y="0"/>
            <a:ext cx="755640" cy="755964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9325080" y="6048360"/>
            <a:ext cx="755640" cy="75564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1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04880" indent="-2509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08080" indent="-25092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409760" indent="-250920">
              <a:spcBef>
                <a:spcPts val="601"/>
              </a:spcBef>
              <a:buClr>
                <a:srgbClr val="95a39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712880" indent="-250920">
              <a:spcBef>
                <a:spcPts val="601"/>
              </a:spcBef>
              <a:buClr>
                <a:srgbClr val="c89f5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5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6" marL="1712880" indent="-25092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 rot="16200000">
            <a:off x="8325720" y="1813680"/>
            <a:ext cx="26877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3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 rot="16200000">
            <a:off x="8364600" y="4462560"/>
            <a:ext cx="26100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9429120" y="6248880"/>
            <a:ext cx="55872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9489034-A296-4658-AADE-FD21D2346199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6132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0" lang="ru-RU" sz="5400" spc="-1" strike="noStrike">
                <a:solidFill>
                  <a:srgbClr val="ff0000"/>
                </a:solidFill>
                <a:latin typeface="Cambria"/>
              </a:rPr>
              <a:t>Коропузикова М.Б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учитель русского языка и литературы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ГБОУ СОШ №339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Санкт-Петербург</a:t>
            </a:r>
            <a:br>
              <a:rPr sz="3600"/>
            </a:br>
            <a:br>
              <a:rPr sz="4400"/>
            </a:b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31640" y="169200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2521080" y="3213000"/>
            <a:ext cx="50385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2521080" y="3213000"/>
            <a:ext cx="50385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519280" y="3203640"/>
            <a:ext cx="50389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215640" y="323640"/>
            <a:ext cx="4608360" cy="72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ри царствовании Павла I Державин занимал должности правителя канцелярии Сената, государственного казначея. После прихода к власти Александра I Гаврила Романович в 1802-1803 гг был министром юстиции. Уйдя в 1803 году в отставку Державин много времени проводил в имении Званка (Новгородская губерния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9" name="Picture 11" descr="Файл:Derzhavin.jpg"/>
          <p:cNvPicPr/>
          <p:nvPr/>
        </p:nvPicPr>
        <p:blipFill>
          <a:blip r:embed="rId1"/>
          <a:stretch/>
        </p:blipFill>
        <p:spPr>
          <a:xfrm>
            <a:off x="5111640" y="179280"/>
            <a:ext cx="453564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144000" y="466200"/>
            <a:ext cx="9936360" cy="452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Среди его бессмертных произведений «Фелица», «Благодарность Фелице»,«Властителям и судиям», «Признание», «Памятник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«На рождение в Севере порфирородного отростка», «Водопад», «Приглашение к обеду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«На смерть князя Мещерского», «Ключ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Ода «Бог», «Видение мурзы», «Снигирь», ода-поэма «Евгению. Жизнь Званская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1" name="Picture 6" descr=""/>
          <p:cNvPicPr/>
          <p:nvPr/>
        </p:nvPicPr>
        <p:blipFill>
          <a:blip r:embed="rId1"/>
          <a:stretch/>
        </p:blipFill>
        <p:spPr>
          <a:xfrm>
            <a:off x="7272360" y="4572000"/>
            <a:ext cx="259236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3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3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3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2920" y="610920"/>
            <a:ext cx="9072360" cy="1344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700" spc="-1" strike="noStrike">
                <a:solidFill>
                  <a:srgbClr val="675e47"/>
                </a:solidFill>
                <a:latin typeface="Georgia"/>
              </a:rPr>
              <a:t>Ода </a:t>
            </a:r>
            <a:br>
              <a:rPr sz="3700"/>
            </a:br>
            <a:r>
              <a:rPr b="0" lang="ru-RU" sz="3700" spc="-1" strike="noStrike">
                <a:solidFill>
                  <a:srgbClr val="675e47"/>
                </a:solidFill>
                <a:latin typeface="Georgia"/>
              </a:rPr>
              <a:t>   (из греч. означает «песнь») -</a:t>
            </a:r>
            <a:br>
              <a:rPr sz="3700"/>
            </a:br>
            <a:endParaRPr b="0" lang="en-US" sz="37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02920" y="1763280"/>
            <a:ext cx="4451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100000"/>
              </a:lnSpc>
              <a:spcBef>
                <a:spcPts val="876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lnSpc>
                <a:spcPct val="100000"/>
              </a:lnSpc>
              <a:spcBef>
                <a:spcPts val="876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2f2b20"/>
                </a:solidFill>
                <a:latin typeface="Georgia"/>
              </a:rPr>
              <a:t>это стихотворение торжественного характера в честь какого-либо лица или события</a:t>
            </a: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111640" y="1763280"/>
            <a:ext cx="44532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245880">
              <a:lnSpc>
                <a:spcPct val="90000"/>
              </a:lnSpc>
              <a:spcBef>
                <a:spcPts val="774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2f2b20"/>
                </a:solidFill>
                <a:latin typeface="Calibri"/>
              </a:rPr>
              <a:t>Славит </a:t>
            </a:r>
            <a:r>
              <a:rPr b="0" lang="ru-RU" sz="3100" spc="-1" strike="noStrike">
                <a:solidFill>
                  <a:srgbClr val="2f2b20"/>
                </a:solidFill>
                <a:latin typeface="Calibri"/>
              </a:rPr>
              <a:t>силу русского оружия;</a:t>
            </a:r>
            <a:endParaRPr b="0" lang="en-US" sz="3100" spc="-1" strike="noStrike">
              <a:solidFill>
                <a:srgbClr val="2f2b20"/>
              </a:solidFill>
              <a:latin typeface="Calibri"/>
            </a:endParaRPr>
          </a:p>
          <a:p>
            <a:pPr marL="370440" indent="-245880">
              <a:lnSpc>
                <a:spcPct val="90000"/>
              </a:lnSpc>
              <a:spcBef>
                <a:spcPts val="774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500" spc="-1" strike="noStrike">
                <a:solidFill>
                  <a:srgbClr val="2f2b20"/>
                </a:solidFill>
                <a:latin typeface="Calibri"/>
              </a:rPr>
              <a:t>Утверждает </a:t>
            </a:r>
            <a:r>
              <a:rPr b="0" lang="ru-RU" sz="3100" spc="-1" strike="noStrike">
                <a:solidFill>
                  <a:srgbClr val="2f2b20"/>
                </a:solidFill>
                <a:latin typeface="Calibri"/>
              </a:rPr>
              <a:t>высокие гражданские идеалы: служение Родине;</a:t>
            </a:r>
            <a:endParaRPr b="0" lang="en-US" sz="3100" spc="-1" strike="noStrike">
              <a:solidFill>
                <a:srgbClr val="2f2b20"/>
              </a:solidFill>
              <a:latin typeface="Calibri"/>
            </a:endParaRPr>
          </a:p>
          <a:p>
            <a:pPr marL="370440" indent="-245880">
              <a:lnSpc>
                <a:spcPct val="90000"/>
              </a:lnSpc>
              <a:spcBef>
                <a:spcPts val="774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2f2b20"/>
                </a:solidFill>
                <a:latin typeface="Calibri"/>
              </a:rPr>
              <a:t>Сатирическая направленность: резкая критика вельмож, жизнь которых поэт хорошо знал.</a:t>
            </a:r>
            <a:endParaRPr b="0" lang="en-US" sz="3100" spc="-1" strike="noStrike">
              <a:solidFill>
                <a:srgbClr val="2f2b20"/>
              </a:solidFill>
              <a:latin typeface="Calibri"/>
            </a:endParaRPr>
          </a:p>
          <a:p>
            <a:pPr marL="370440" indent="-2458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-360" y="17928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93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Ода "Фелица", в которой восхвалялась Екатерина II, была напечатана в 1783 году. Стихотворение Державина растрогало императрицу до слез и в награду поэту была послана усыпанная бриллиантами золотая табакерка с пятьюстами червонцам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6" name="Picture 7" descr="attach"/>
          <p:cNvPicPr/>
          <p:nvPr/>
        </p:nvPicPr>
        <p:blipFill>
          <a:blip r:embed="rId1"/>
          <a:stretch/>
        </p:blipFill>
        <p:spPr>
          <a:xfrm>
            <a:off x="6335640" y="3708360"/>
            <a:ext cx="3527640" cy="3851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8"/>
          <p:cNvSpPr/>
          <p:nvPr/>
        </p:nvSpPr>
        <p:spPr>
          <a:xfrm>
            <a:off x="1584360" y="5580000"/>
            <a:ext cx="455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d25814"/>
              </a:buClr>
              <a:buSzPct val="6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ое слово – феликс, счастливый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5100" spc="-1" strike="noStrike">
                <a:solidFill>
                  <a:srgbClr val="2f2b20"/>
                </a:solidFill>
                <a:latin typeface="Cambria"/>
              </a:rPr>
              <a:t>Задание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02920" y="176328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рочтите стихотворение </a:t>
            </a:r>
            <a:r>
              <a:rPr b="0" lang="ru-RU" sz="2400" spc="-1" strike="noStrike" u="sng">
                <a:solidFill>
                  <a:srgbClr val="2f2b20"/>
                </a:solidFill>
                <a:uFillTx/>
                <a:latin typeface="Calibri"/>
              </a:rPr>
              <a:t>«Признание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Почему же самодержцы отказывались от службы самого честного, самого умного и добросовестного человека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Не умел притворяться, искренен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Говорил горькую правду вельможам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ризнается в недостатках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Уверен: осудить его не за что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5100" spc="-1" strike="noStrike">
                <a:solidFill>
                  <a:srgbClr val="2f2b20"/>
                </a:solidFill>
                <a:latin typeface="Cambria"/>
              </a:rPr>
              <a:t>Заслуги Г.Р. Державина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02920" y="176328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 него началась русская лирика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«Высокий штиль» потеснен простым, ясным, народным языком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одержанием стихотворений стали чувства, переживания лирического геро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ближение литературного языка с народным языком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мешение «высокого» и «низкого» (ода – «брякнуть», «мнил», «суета»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3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5100" spc="-1" strike="noStrike">
                <a:solidFill>
                  <a:srgbClr val="2f2b20"/>
                </a:solidFill>
                <a:latin typeface="Cambria"/>
              </a:rPr>
              <a:t>Задание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оэт посмел в условиях самодержавия мечтать о свободе. Эта мечта вылилась всего в четыре строк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Прочтите стихотворение «Птичка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2f2b20"/>
                </a:solidFill>
                <a:latin typeface="Calibri"/>
              </a:rPr>
              <a:t>Над чем заставляет задуматься данное четверостишие?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3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3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3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Гавриил Романович Державин</a:t>
            </a:r>
            <a:br>
              <a:rPr sz="4600"/>
            </a:b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(1743-1816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5" name="Picture 3" descr=""/>
          <p:cNvPicPr/>
          <p:nvPr/>
        </p:nvPicPr>
        <p:blipFill>
          <a:blip r:embed="rId1"/>
          <a:stretch/>
        </p:blipFill>
        <p:spPr>
          <a:xfrm>
            <a:off x="6335640" y="1763640"/>
            <a:ext cx="3513240" cy="4683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2"/>
          <a:stretch/>
        </p:blipFill>
        <p:spPr>
          <a:xfrm>
            <a:off x="287280" y="1763640"/>
            <a:ext cx="2548080" cy="46832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"/>
          <p:cNvPicPr/>
          <p:nvPr/>
        </p:nvPicPr>
        <p:blipFill>
          <a:blip r:embed="rId3"/>
          <a:stretch/>
        </p:blipFill>
        <p:spPr>
          <a:xfrm>
            <a:off x="2952720" y="1763640"/>
            <a:ext cx="3127320" cy="468324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"/>
          <p:cNvSpPr/>
          <p:nvPr/>
        </p:nvSpPr>
        <p:spPr>
          <a:xfrm>
            <a:off x="0" y="6443640"/>
            <a:ext cx="29764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мятник Олонецкому губернатору Г. Р. Державину в Губернаторском парке Петрозаводс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024360" y="6443640"/>
            <a:ext cx="291132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амятник Гавриилу Державину в Лядском саде Казан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8"/>
          <p:cNvSpPr/>
          <p:nvPr/>
        </p:nvSpPr>
        <p:spPr>
          <a:xfrm>
            <a:off x="6627960" y="6478560"/>
            <a:ext cx="277632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. Р. Державин на Памятнике «1000-летие России» в Великом Новгород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3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36360" y="179280"/>
            <a:ext cx="856908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Гавриил Романович Державин</a:t>
            </a:r>
            <a:br>
              <a:rPr sz="4600"/>
            </a:b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(1743-1816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5357880" y="1874880"/>
            <a:ext cx="4527360" cy="53179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719280" y="1692360"/>
            <a:ext cx="4762440" cy="36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ворчество Г. Р. Державина представляет собой вершину русского классициз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едназначение поэта, в понимании Г. Р. Державина — прославление великих поступков и порицание дурных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2"/>
          <a:stretch/>
        </p:blipFill>
        <p:spPr>
          <a:xfrm>
            <a:off x="863640" y="5940360"/>
            <a:ext cx="4444920" cy="147960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6"/>
          <p:cNvSpPr/>
          <p:nvPr/>
        </p:nvSpPr>
        <p:spPr>
          <a:xfrm>
            <a:off x="787320" y="2082960"/>
            <a:ext cx="24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5100" spc="-1" strike="noStrike">
                <a:solidFill>
                  <a:srgbClr val="2f2b20"/>
                </a:solidFill>
                <a:latin typeface="Cambria"/>
              </a:rPr>
              <a:t>Цели</a:t>
            </a:r>
            <a:endParaRPr b="0" lang="en-US" sz="5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одчеркнуть честность и прямоту характера поэта, смелость в изображении вельмож, восхищение храбростью простого наро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одчеркнуть живость и естественность стиха поэта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84009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Крупнейший поэт второй половины 18 век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02920" y="2266560"/>
            <a:ext cx="4537080" cy="4778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 algn="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 лице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 algn="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Державин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 algn="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поэзия русская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 algn="r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сделала великий шаг впере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.Г.Белински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0" name="Picture 4" descr="Гаврила Державин"/>
          <p:cNvPicPr/>
          <p:nvPr/>
        </p:nvPicPr>
        <p:blipFill>
          <a:blip r:embed="rId1"/>
          <a:srcRect l="4078" t="3588" r="6117" b="3588"/>
          <a:stretch/>
        </p:blipFill>
        <p:spPr>
          <a:xfrm>
            <a:off x="5256360" y="1116000"/>
            <a:ext cx="439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03280" y="1763640"/>
            <a:ext cx="840096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Хорошие стихи не так легко писать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Меж тем, как Дмитриев, Державин, Ломоносов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Певцы бессмертные, и честь, и слава россов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Питают здравый ум и вместе учат нас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                   </a:t>
            </a:r>
            <a:r>
              <a:rPr b="0" i="1" lang="ru-RU" sz="2600" spc="-1" strike="noStrike">
                <a:solidFill>
                  <a:srgbClr val="2f2b20"/>
                </a:solidFill>
                <a:latin typeface="Calibri"/>
              </a:rPr>
              <a:t>А.С. Пушкин «К другу стихотворцу»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360360" y="1116000"/>
            <a:ext cx="7993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Р.Державин родился в июле 1743 г. в Казанской губернии. Его родители - Роман Николаевич и Фекла Андреевна - были небогатыми дворянами. Отец Державина служил в армии и семье часто приходилось переезжать в связи с его переводами по службе. В 1754 г. Роман Николаевич вышел в отставку и умер. Забота о детях и хозяйстве легла на плечи Феклы Андреев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576360" y="324000"/>
            <a:ext cx="8640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75e47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ды: от капитана до минис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0" y="1331640"/>
            <a:ext cx="9144000" cy="716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Хорошее образование в то время было практически недоступно детям небогатых провинциальных дворян. Так и Державин до 16 лет получал отрывочные знания от случайных преподавателей. С 1759 г. по 1762 г. он учился в Казанской гимназии. За успехи был зачислен в инженерный корпус, но из-за путаницы с бумагами оказался солдатом лейб-гвардии Преображенского полк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504360" y="395280"/>
            <a:ext cx="8496360" cy="6362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3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2f2b20"/>
                </a:solidFill>
                <a:latin typeface="Calibri"/>
              </a:rPr>
              <a:t>Вскоре вместе с полком стал участником переворота, заменившего на российском троне Петра III Екатериной II. Вследствие бедности по службе Державин продвигался медленно и только в 1772 г. был произведен в прапорщики. К этому же периоду относятся его первые невеликие успехи в поэзии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2e2a1f"/>
              </a:buClr>
              <a:buFont typeface="Wingdings 2" charset="2"/>
              <a:buChar char="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215640" y="323640"/>
            <a:ext cx="4392360" cy="72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25092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Arial Black"/>
              </a:rPr>
              <a:t>В 1773 г. мятеж под предводительством Пугачева принял масштабы, опасные для государства. Для подавления восстания Екатерина II поручила руководство войсками генералу А.И.Бибикову. Державин, понимая ,что других шансов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78000" indent="-25092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Arial Black"/>
              </a:rPr>
              <a:t>продвинуться по службе у него нет, добился назначения к Бибикову в следственную комиссию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5256360" y="466560"/>
            <a:ext cx="4392360" cy="6266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7:14:45Z</dcterms:created>
  <dc:creator/>
  <dc:description/>
  <dc:language>en-US</dc:language>
  <cp:lastModifiedBy>Маришка А.</cp:lastModifiedBy>
  <dcterms:modified xsi:type="dcterms:W3CDTF">2017-02-22T08:14:37Z</dcterms:modified>
  <cp:revision>29</cp:revision>
  <dc:subject/>
  <dc:title>Слайд 1</dc:title>
</cp:coreProperties>
</file>