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4.jpeg" ContentType="image/jpeg"/>
  <Override PartName="/ppt/media/image24.png" ContentType="image/png"/>
  <Override PartName="/ppt/media/image11.jpeg" ContentType="image/jpeg"/>
  <Override PartName="/ppt/media/image15.png" ContentType="image/png"/>
  <Override PartName="/ppt/media/image3.jpeg" ContentType="image/jpeg"/>
  <Override PartName="/ppt/media/image30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16.png" ContentType="image/png"/>
  <Override PartName="/ppt/media/image13.gif" ContentType="image/gif"/>
  <Override PartName="/ppt/media/image20.png" ContentType="image/png"/>
  <Override PartName="/ppt/media/image37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.wmf" ContentType="image/x-wmf"/>
  <Override PartName="/ppt/media/image18.png" ContentType="image/png"/>
  <Override PartName="/ppt/media/image6.jpeg" ContentType="image/jpeg"/>
  <Override PartName="/ppt/media/image34.png" ContentType="image/png"/>
  <Override PartName="/ppt/media/image46.png" ContentType="image/png"/>
  <Override PartName="/ppt/media/image36.png" ContentType="image/png"/>
  <Override PartName="/ppt/media/image48.png" ContentType="image/png"/>
  <Override PartName="/ppt/media/image50.png" ContentType="image/png"/>
  <Override PartName="/ppt/media/image42.wmf" ContentType="image/x-wmf"/>
  <Override PartName="/ppt/media/image39.png" ContentType="image/png"/>
  <Override PartName="/ppt/media/image51.png" ContentType="image/png"/>
  <Override PartName="/ppt/media/image9.wmf" ContentType="image/x-wmf"/>
  <Override PartName="/ppt/media/image53.png" ContentType="image/png"/>
  <Override PartName="/ppt/media/image33.png" ContentType="image/png"/>
  <Override PartName="/ppt/media/image49.png" ContentType="image/png"/>
  <Override PartName="/ppt/media/image52.wmf" ContentType="image/x-wmf"/>
  <Override PartName="/ppt/media/image12.png" ContentType="image/png"/>
  <Override PartName="/ppt/media/image54.gif" ContentType="image/gif"/>
  <Override PartName="/ppt/media/image10.png" ContentType="image/png"/>
  <Override PartName="/ppt/media/image47.png" ContentType="image/png"/>
  <Override PartName="/ppt/media/image35.jpeg" ContentType="image/jpeg"/>
  <Override PartName="/ppt/media/image8.jpeg" ContentType="image/jpeg"/>
  <Override PartName="/ppt/media/image41.wmf" ContentType="image/x-wmf"/>
  <Override PartName="/ppt/media/image38.png" ContentType="image/png"/>
  <Override PartName="/ppt/media/image2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2FC4-5EAD-426B-8BE0-74D34031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E212-3640-4768-B992-8268BAED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1793-ACF7-46FB-BB97-AAA25D80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5592-6094-47E9-B184-CF6C3045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B3CA-B4BA-4EA6-BFE0-F0CB0903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8127-206F-423E-826F-0873AE37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4B67-CE42-4328-B322-9ACD24C1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12FD-A0FA-4643-B09A-67E977F7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BE27-C02B-49F0-A366-F5C1C92B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BE84-7278-427E-9609-E1CD56E7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B5DC-3A45-4170-B09B-EA9D4849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3474-3A67-4DA1-ABD6-A33BE722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AA9D-1F08-4751-9462-120DB557C70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Блок-схема: альтернативный процесс 6" descr=""/>
          <p:cNvPicPr/>
          <p:nvPr/>
        </p:nvPicPr>
        <p:blipFill>
          <a:blip r:embed="rId3"/>
          <a:stretch/>
        </p:blipFill>
        <p:spPr>
          <a:xfrm>
            <a:off x="2730600" y="4913280"/>
            <a:ext cx="4024080" cy="1036800"/>
          </a:xfrm>
          <a:prstGeom prst="rect">
            <a:avLst/>
          </a:prstGeom>
          <a:ln w="0">
            <a:noFill/>
          </a:ln>
        </p:spPr>
      </p:pic>
      <p:sp>
        <p:nvSpPr>
          <p:cNvPr id="42" name="Улыбающееся лицо 7"/>
          <p:cNvSpPr/>
          <p:nvPr/>
        </p:nvSpPr>
        <p:spPr>
          <a:xfrm>
            <a:off x="3286080" y="2500200"/>
            <a:ext cx="2857680" cy="270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images.yandex.ru/yandsearch?p=24&amp;text=&#1082;&#1083;&#1080;&#1087;&#1072;&#1088;&#1090;&#1099;%20&#1096;&#1082;&#1086;&#1083;&#1072;%20&#1089;&#1082;&#1072;&#1095;&#1072;&#1090;&#1100;%20&#1073;&#1077;&#1089;&#1087;&#1083;&#1072;&#1090;&#1085;&#1086;&amp;fp=24&amp;pos=721&amp;uinfo=ww-1903-wh-955-fw-1678-fh-598-pd-1&amp;rpt=simage&amp;img_url=http://www.zinatullina.iagodnaia.edusite.ru/images/shkol-niki.png" TargetMode="External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разовательная среда как условие личностного роста учащихся и повышение качества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00760" y="1928520"/>
            <a:ext cx="328608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детей – есть люди, но с иным масштабом понятий, иными источниками опыта, иными стремлениями, иной игрой чув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нуш Корч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C:\Documents and Settings\Ольга\Рабочий стол\Новая папка\BKDC0085.JPG"/>
          <p:cNvPicPr/>
          <p:nvPr/>
        </p:nvPicPr>
        <p:blipFill>
          <a:blip r:embed="rId1"/>
          <a:stretch/>
        </p:blipFill>
        <p:spPr>
          <a:xfrm>
            <a:off x="1214280" y="3214800"/>
            <a:ext cx="3429000" cy="2476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Documents and Settings\User\Рабочий стол\101MSDCF\DSC05089.JPG"/>
          <p:cNvPicPr/>
          <p:nvPr/>
        </p:nvPicPr>
        <p:blipFill>
          <a:blip r:embed="rId2"/>
          <a:stretch/>
        </p:blipFill>
        <p:spPr>
          <a:xfrm>
            <a:off x="826920" y="3141720"/>
            <a:ext cx="4069080" cy="275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ая педагогическая цель сегодняшнего дня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Edwardian Script ITC"/>
              </a:rPr>
              <a:t>- воспитать успешного человека и обучить его достижению успеха в жизн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Схема 3" descr=""/>
          <p:cNvPicPr/>
          <p:nvPr/>
        </p:nvPicPr>
        <p:blipFill>
          <a:blip r:embed="rId1"/>
          <a:stretch/>
        </p:blipFill>
        <p:spPr>
          <a:xfrm>
            <a:off x="981000" y="1268280"/>
            <a:ext cx="7748640" cy="42055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BD19563_.GIF"/>
          <p:cNvPicPr/>
          <p:nvPr/>
        </p:nvPicPr>
        <p:blipFill>
          <a:blip r:embed="rId2"/>
          <a:stretch/>
        </p:blipFill>
        <p:spPr>
          <a:xfrm>
            <a:off x="7286760" y="3857760"/>
            <a:ext cx="1341360" cy="2001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DSC00674"/>
          <p:cNvPicPr/>
          <p:nvPr/>
        </p:nvPicPr>
        <p:blipFill>
          <a:blip r:embed="rId3"/>
          <a:stretch/>
        </p:blipFill>
        <p:spPr>
          <a:xfrm>
            <a:off x="826920" y="189000"/>
            <a:ext cx="25927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2"/>
          <p:cNvSpPr/>
          <p:nvPr/>
        </p:nvSpPr>
        <p:spPr>
          <a:xfrm>
            <a:off x="826920" y="2276640"/>
            <a:ext cx="777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трио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альная солидар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аждан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уд и твор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адиционные российские рели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кусство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лове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Прямоугольник 3" descr=""/>
          <p:cNvPicPr/>
          <p:nvPr/>
        </p:nvPicPr>
        <p:blipFill>
          <a:blip r:embed="rId1"/>
          <a:stretch/>
        </p:blipFill>
        <p:spPr>
          <a:xfrm>
            <a:off x="749160" y="1384200"/>
            <a:ext cx="79311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Схема 4" descr=""/>
          <p:cNvPicPr/>
          <p:nvPr/>
        </p:nvPicPr>
        <p:blipFill>
          <a:blip r:embed="rId1"/>
          <a:stretch/>
        </p:blipFill>
        <p:spPr>
          <a:xfrm>
            <a:off x="1279440" y="420840"/>
            <a:ext cx="751068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Stencil"/>
              </a:rPr>
              <a:t>Успешный учени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Organization Chart 7"/>
          <p:cNvGrpSpPr/>
          <p:nvPr/>
        </p:nvGrpSpPr>
        <p:grpSpPr>
          <a:xfrm>
            <a:off x="431640" y="1589040"/>
            <a:ext cx="8208000" cy="4463640"/>
            <a:chOff x="431640" y="1589040"/>
            <a:chExt cx="8208000" cy="4463640"/>
          </a:xfrm>
        </p:grpSpPr>
        <p:cxnSp>
          <p:nvCxnSpPr>
            <p:cNvPr id="122" name="_s2052"/>
            <p:cNvCxnSpPr>
              <a:stCxn id="123" idx="1"/>
              <a:endCxn id="124" idx="2"/>
            </p:cNvCxnSpPr>
            <p:nvPr/>
          </p:nvCxnSpPr>
          <p:spPr>
            <a:xfrm rot="10800000">
              <a:off x="2893320" y="2006280"/>
              <a:ext cx="793080" cy="385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2053"/>
            <p:cNvCxnSpPr>
              <a:stCxn id="126" idx="1"/>
              <a:endCxn id="124" idx="2"/>
            </p:cNvCxnSpPr>
            <p:nvPr/>
          </p:nvCxnSpPr>
          <p:spPr>
            <a:xfrm rot="10800000">
              <a:off x="2893320" y="2006280"/>
              <a:ext cx="793080" cy="3269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054"/>
            <p:cNvCxnSpPr>
              <a:stCxn id="128" idx="1"/>
              <a:endCxn id="124" idx="2"/>
            </p:cNvCxnSpPr>
            <p:nvPr/>
          </p:nvCxnSpPr>
          <p:spPr>
            <a:xfrm rot="10800000">
              <a:off x="2893320" y="2006280"/>
              <a:ext cx="793080" cy="268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2055"/>
            <p:cNvCxnSpPr>
              <a:stCxn id="130" idx="1"/>
              <a:endCxn id="124" idx="2"/>
            </p:cNvCxnSpPr>
            <p:nvPr/>
          </p:nvCxnSpPr>
          <p:spPr>
            <a:xfrm rot="10800000">
              <a:off x="2893320" y="2006280"/>
              <a:ext cx="793080" cy="210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2056"/>
            <p:cNvCxnSpPr>
              <a:stCxn id="132" idx="1"/>
              <a:endCxn id="124" idx="2"/>
            </p:cNvCxnSpPr>
            <p:nvPr/>
          </p:nvCxnSpPr>
          <p:spPr>
            <a:xfrm rot="10800000">
              <a:off x="2893320" y="2006280"/>
              <a:ext cx="793080" cy="1526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2057"/>
            <p:cNvCxnSpPr>
              <a:stCxn id="134" idx="1"/>
              <a:endCxn id="124" idx="2"/>
            </p:cNvCxnSpPr>
            <p:nvPr/>
          </p:nvCxnSpPr>
          <p:spPr>
            <a:xfrm rot="10800000">
              <a:off x="2893320" y="2006280"/>
              <a:ext cx="793080" cy="943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2058"/>
            <p:cNvCxnSpPr>
              <a:stCxn id="136" idx="1"/>
              <a:endCxn id="124" idx="2"/>
            </p:cNvCxnSpPr>
            <p:nvPr/>
          </p:nvCxnSpPr>
          <p:spPr>
            <a:xfrm rot="10800000">
              <a:off x="2893320" y="2006280"/>
              <a:ext cx="793080" cy="360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4" name="_s2059"/>
            <p:cNvSpPr/>
            <p:nvPr/>
          </p:nvSpPr>
          <p:spPr>
            <a:xfrm>
              <a:off x="431640" y="1589040"/>
              <a:ext cx="4924800" cy="388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3333cc"/>
                  </a:solidFill>
                  <a:uFillTx/>
                  <a:latin typeface="Gautami"/>
                </a:rPr>
                <a:t>Составляющие модели лич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2060"/>
            <p:cNvSpPr/>
            <p:nvPr/>
          </p:nvSpPr>
          <p:spPr>
            <a:xfrm>
              <a:off x="3714840" y="2171520"/>
              <a:ext cx="4924800" cy="388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504d"/>
                  </a:solidFill>
                  <a:latin typeface="Gautami"/>
                </a:rPr>
                <a:t>Отношение к себе и окружающи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2061"/>
            <p:cNvSpPr/>
            <p:nvPr/>
          </p:nvSpPr>
          <p:spPr>
            <a:xfrm>
              <a:off x="3714840" y="2754000"/>
              <a:ext cx="4924800" cy="388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eece1"/>
                  </a:solidFill>
                  <a:latin typeface="Gautami"/>
                </a:rPr>
                <a:t>Мировоззрение, мироощущ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2062"/>
            <p:cNvSpPr/>
            <p:nvPr/>
          </p:nvSpPr>
          <p:spPr>
            <a:xfrm>
              <a:off x="3714840" y="3336840"/>
              <a:ext cx="4924800" cy="388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504d"/>
                  </a:solidFill>
                  <a:latin typeface="Gautami"/>
                </a:rPr>
                <a:t>Интеллектуальное развит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63"/>
            <p:cNvSpPr/>
            <p:nvPr/>
          </p:nvSpPr>
          <p:spPr>
            <a:xfrm>
              <a:off x="3714840" y="3919320"/>
              <a:ext cx="4924800" cy="388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504d"/>
                  </a:solidFill>
                  <a:latin typeface="Gautami"/>
                </a:rPr>
                <a:t>Отношение к труду, деятельности, обязанностям.</a:t>
              </a:r>
              <a:r>
                <a:rPr b="0" lang="en-US" sz="1800" spc="-1" strike="noStrike">
                  <a:solidFill>
                    <a:srgbClr val="000000"/>
                  </a:solidFill>
                  <a:latin typeface="Gautam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064"/>
            <p:cNvSpPr/>
            <p:nvPr/>
          </p:nvSpPr>
          <p:spPr>
            <a:xfrm>
              <a:off x="3714840" y="4502160"/>
              <a:ext cx="4924800" cy="38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eece1"/>
                  </a:solidFill>
                  <a:latin typeface="Gautami"/>
                </a:rPr>
                <a:t>Здоровье и здоровый образ жизн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065"/>
            <p:cNvSpPr/>
            <p:nvPr/>
          </p:nvSpPr>
          <p:spPr>
            <a:xfrm>
              <a:off x="3714840" y="5083560"/>
              <a:ext cx="4924800" cy="3866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eece1"/>
                  </a:solidFill>
                  <a:latin typeface="Gautami"/>
                </a:rPr>
                <a:t>Отношение к семье, браку, любв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066"/>
            <p:cNvSpPr/>
            <p:nvPr/>
          </p:nvSpPr>
          <p:spPr>
            <a:xfrm>
              <a:off x="3714840" y="5664600"/>
              <a:ext cx="4924800" cy="388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504d"/>
                  </a:solidFill>
                  <a:latin typeface="Gautami"/>
                </a:rPr>
                <a:t>Отношение к природ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дители успешного уче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Diagram 6"/>
          <p:cNvGrpSpPr/>
          <p:nvPr/>
        </p:nvGrpSpPr>
        <p:grpSpPr>
          <a:xfrm>
            <a:off x="611280" y="2349360"/>
            <a:ext cx="4021200" cy="3600720"/>
            <a:chOff x="611280" y="2349360"/>
            <a:chExt cx="4021200" cy="3600720"/>
          </a:xfrm>
        </p:grpSpPr>
        <p:sp>
          <p:nvSpPr>
            <p:cNvPr id="139" name="_s3076"/>
            <p:cNvSpPr/>
            <p:nvPr/>
          </p:nvSpPr>
          <p:spPr>
            <a:xfrm>
              <a:off x="611280" y="3789360"/>
              <a:ext cx="2303280" cy="2160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3077"/>
            <p:cNvSpPr/>
            <p:nvPr/>
          </p:nvSpPr>
          <p:spPr>
            <a:xfrm>
              <a:off x="3492360" y="4508640"/>
              <a:ext cx="636840" cy="5299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utami"/>
                </a:rPr>
                <a:t>Формирование отношени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utami"/>
                </a:rPr>
                <a:t>между школой и родителя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3078"/>
            <p:cNvSpPr/>
            <p:nvPr/>
          </p:nvSpPr>
          <p:spPr>
            <a:xfrm>
              <a:off x="755640" y="3933720"/>
              <a:ext cx="1944720" cy="1830600"/>
            </a:xfrm>
            <a:prstGeom prst="donut">
              <a:avLst>
                <a:gd name="adj" fmla="val 500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3079"/>
            <p:cNvSpPr/>
            <p:nvPr/>
          </p:nvSpPr>
          <p:spPr>
            <a:xfrm>
              <a:off x="3995640" y="3284640"/>
              <a:ext cx="636840" cy="5302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utami"/>
                </a:rPr>
                <a:t>Формирование отношени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utami"/>
                </a:rPr>
                <a:t>между родителями и их деть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3080"/>
            <p:cNvSpPr/>
            <p:nvPr/>
          </p:nvSpPr>
          <p:spPr>
            <a:xfrm>
              <a:off x="971640" y="4149720"/>
              <a:ext cx="1512720" cy="15127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3081"/>
            <p:cNvSpPr/>
            <p:nvPr/>
          </p:nvSpPr>
          <p:spPr>
            <a:xfrm>
              <a:off x="3708360" y="2349360"/>
              <a:ext cx="636480" cy="5302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utami"/>
                </a:rPr>
                <a:t>Качества родителей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utami"/>
                </a:rPr>
                <a:t>способных воспитать успешного челове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итель успешного уче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Diagram 15"/>
          <p:cNvGrpSpPr/>
          <p:nvPr/>
        </p:nvGrpSpPr>
        <p:grpSpPr>
          <a:xfrm>
            <a:off x="2416320" y="1980720"/>
            <a:ext cx="4240080" cy="3672000"/>
            <a:chOff x="2416320" y="1980720"/>
            <a:chExt cx="4240080" cy="3672000"/>
          </a:xfrm>
        </p:grpSpPr>
        <p:sp>
          <p:nvSpPr>
            <p:cNvPr id="147" name="_s4100"/>
            <p:cNvSpPr/>
            <p:nvPr/>
          </p:nvSpPr>
          <p:spPr>
            <a:xfrm flipV="1">
              <a:off x="2416320" y="4734720"/>
              <a:ext cx="4240080" cy="917640"/>
            </a:xfrm>
            <a:custGeom>
              <a:avLst/>
              <a:gdLst>
                <a:gd name="textAreaLeft" fmla="*/ 637920 w 4240080"/>
                <a:gd name="textAreaRight" fmla="*/ 3602160 w 4240080"/>
                <a:gd name="textAreaTop" fmla="*/ 137880 h 917640"/>
                <a:gd name="textAreaBottom" fmla="*/ 779760 h 91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utami"/>
                </a:rPr>
                <a:t>Карьерный рост и материально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utami"/>
                </a:rPr>
                <a:t>благосостоя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4101"/>
            <p:cNvSpPr/>
            <p:nvPr/>
          </p:nvSpPr>
          <p:spPr>
            <a:xfrm flipV="1">
              <a:off x="2946240" y="3817080"/>
              <a:ext cx="3179880" cy="917640"/>
            </a:xfrm>
            <a:custGeom>
              <a:avLst/>
              <a:gdLst>
                <a:gd name="textAreaLeft" fmla="*/ 551880 w 3179880"/>
                <a:gd name="textAreaRight" fmla="*/ 2628000 w 3179880"/>
                <a:gd name="textAreaTop" fmla="*/ 159120 h 917640"/>
                <a:gd name="textAreaBottom" fmla="*/ 758520 h 91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utami"/>
                </a:rPr>
                <a:t>Самодостаточность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utami"/>
                </a:rPr>
                <a:t>лич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4102"/>
            <p:cNvSpPr/>
            <p:nvPr/>
          </p:nvSpPr>
          <p:spPr>
            <a:xfrm flipV="1">
              <a:off x="3476520" y="2898000"/>
              <a:ext cx="2119320" cy="919080"/>
            </a:xfrm>
            <a:custGeom>
              <a:avLst/>
              <a:gdLst>
                <a:gd name="textAreaLeft" fmla="*/ 465840 w 2119320"/>
                <a:gd name="textAreaRight" fmla="*/ 1653480 w 2119320"/>
                <a:gd name="textAreaTop" fmla="*/ 201960 h 919080"/>
                <a:gd name="textAreaBottom" fmla="*/ 717120 h 91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utami"/>
                </a:rPr>
                <a:t>Творческ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utami"/>
                </a:rPr>
                <a:t>самореализ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4103"/>
            <p:cNvSpPr/>
            <p:nvPr/>
          </p:nvSpPr>
          <p:spPr>
            <a:xfrm flipV="1">
              <a:off x="4006800" y="1980360"/>
              <a:ext cx="1058760" cy="917640"/>
            </a:xfrm>
            <a:custGeom>
              <a:avLst/>
              <a:gdLst>
                <a:gd name="textAreaLeft" fmla="*/ 379800 w 1058760"/>
                <a:gd name="textAreaRight" fmla="*/ 678960 w 1058760"/>
                <a:gd name="textAreaTop" fmla="*/ 329040 h 917640"/>
                <a:gd name="textAreaBottom" fmla="*/ 588600 h 91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utami"/>
                </a:rPr>
                <a:t>Общественно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utami"/>
                </a:rPr>
                <a:t>призн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428400"/>
            <a:ext cx="45720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стиль взаимодейств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а и ученика выбираешь 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643280" y="2857320"/>
            <a:ext cx="385776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6731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3105"/>
                </a:solidFill>
                <a:latin typeface="Arial"/>
              </a:rPr>
              <a:t>авторитарно- догма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6731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3105"/>
                </a:solidFill>
                <a:latin typeface="Arial"/>
              </a:rPr>
              <a:t>сочувствующий или попуститель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6731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3105"/>
                </a:solidFill>
                <a:latin typeface="Arial"/>
              </a:rPr>
              <a:t>демократиче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4" descr="comp-mouse-150.gif"/>
          <p:cNvPicPr/>
          <p:nvPr/>
        </p:nvPicPr>
        <p:blipFill>
          <a:blip r:embed="rId1"/>
          <a:stretch/>
        </p:blipFill>
        <p:spPr>
          <a:xfrm>
            <a:off x="5715000" y="428760"/>
            <a:ext cx="2328840" cy="2328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DSC03372"/>
          <p:cNvPicPr/>
          <p:nvPr/>
        </p:nvPicPr>
        <p:blipFill>
          <a:blip r:embed="rId2"/>
          <a:stretch/>
        </p:blipFill>
        <p:spPr>
          <a:xfrm>
            <a:off x="1403280" y="3213000"/>
            <a:ext cx="3564000" cy="26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16" presetSubtype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6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786120" y="571680"/>
            <a:ext cx="421488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Демократический стиль руковод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143000" y="2214720"/>
            <a:ext cx="52862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6731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3105"/>
                </a:solidFill>
                <a:latin typeface="Arial"/>
              </a:rPr>
              <a:t>косвенные формы побуждения к действию (совет,   просьб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731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3105"/>
                </a:solidFill>
                <a:latin typeface="Arial"/>
              </a:rPr>
              <a:t>побуждение к  самостоятельности; актив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731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3105"/>
                </a:solidFill>
                <a:latin typeface="Arial"/>
              </a:rPr>
              <a:t>искренность взаимоотнош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731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3105"/>
                </a:solidFill>
                <a:latin typeface="Arial"/>
              </a:rPr>
              <a:t>переживание неудач реб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731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3105"/>
                </a:solidFill>
                <a:latin typeface="Arial"/>
              </a:rPr>
              <a:t>радость за успехи каждого реб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731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3105"/>
                </a:solidFill>
                <a:latin typeface="Arial"/>
              </a:rPr>
              <a:t>уважение личности реб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731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3105"/>
                </a:solidFill>
                <a:latin typeface="Arial"/>
              </a:rPr>
              <a:t>создание комфортного микроклимата в класс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731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3105"/>
                </a:solidFill>
                <a:latin typeface="Arial"/>
              </a:rPr>
              <a:t>поддержка полезных начинаний каждого реб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731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3105"/>
                </a:solidFill>
                <a:latin typeface="Arial"/>
              </a:rPr>
              <a:t>поощрение инициативы и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731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31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73105"/>
                </a:solidFill>
                <a:latin typeface="Arial"/>
              </a:rPr>
              <a:t>оказание поддержки  каждому  ребе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4" descr="j0343341.wmf"/>
          <p:cNvPicPr/>
          <p:nvPr/>
        </p:nvPicPr>
        <p:blipFill>
          <a:blip r:embed="rId1"/>
          <a:stretch/>
        </p:blipFill>
        <p:spPr>
          <a:xfrm>
            <a:off x="2071800" y="285840"/>
            <a:ext cx="1855800" cy="185724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7" descr="j0343299.wmf"/>
          <p:cNvPicPr/>
          <p:nvPr/>
        </p:nvPicPr>
        <p:blipFill>
          <a:blip r:embed="rId2"/>
          <a:stretch/>
        </p:blipFill>
        <p:spPr>
          <a:xfrm>
            <a:off x="6072120" y="4357800"/>
            <a:ext cx="2079720" cy="209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177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83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89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195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20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207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227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клад школы, необходимый для личностного роста ребён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формирования школьного уклада – основы воспитания успешного уче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мократиз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управ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заимное уважение участников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арактер социального зак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сонифик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ворче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240" y="642600"/>
            <a:ext cx="73436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педсовет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йствовать формир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педагогов потреб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я в своей работе принципа «Успех порождает успех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j0232896.wmf"/>
          <p:cNvPicPr/>
          <p:nvPr/>
        </p:nvPicPr>
        <p:blipFill>
          <a:blip r:embed="rId1"/>
          <a:stretch/>
        </p:blipFill>
        <p:spPr>
          <a:xfrm>
            <a:off x="5715000" y="3500280"/>
            <a:ext cx="2554200" cy="27003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3" descr="C:\Documents and Settings\Ольга\Рабочий стол\Новая папка\BKDC0091.JPG"/>
          <p:cNvPicPr/>
          <p:nvPr/>
        </p:nvPicPr>
        <p:blipFill>
          <a:blip r:embed="rId2"/>
          <a:stretch/>
        </p:blipFill>
        <p:spPr>
          <a:xfrm>
            <a:off x="1785960" y="3786120"/>
            <a:ext cx="2852640" cy="2500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Documents and Settings\User\Рабочий стол\2013\100MEDIA\100MEDIA\PTDC0350.JPG"/>
          <p:cNvPicPr/>
          <p:nvPr/>
        </p:nvPicPr>
        <p:blipFill>
          <a:blip r:embed="rId3"/>
          <a:stretch/>
        </p:blipFill>
        <p:spPr>
          <a:xfrm>
            <a:off x="1116000" y="3789360"/>
            <a:ext cx="385272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Прямоугольник 1" descr=""/>
          <p:cNvPicPr/>
          <p:nvPr/>
        </p:nvPicPr>
        <p:blipFill>
          <a:blip r:embed="rId1"/>
          <a:stretch/>
        </p:blipFill>
        <p:spPr>
          <a:xfrm>
            <a:off x="701640" y="731880"/>
            <a:ext cx="842976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13920" y="1071720"/>
            <a:ext cx="76438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3105"/>
                </a:solidFill>
                <a:latin typeface="Arial"/>
              </a:rPr>
              <a:t>Атмосфера доброжелательности в классе на протяжении всего ур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3105"/>
                </a:solidFill>
                <a:latin typeface="Arial"/>
              </a:rPr>
              <a:t>Снятие страх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3105"/>
                </a:solidFill>
                <a:latin typeface="Arial"/>
              </a:rPr>
              <a:t>Высокая мотивация предлагаемы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3105"/>
                </a:solidFill>
                <a:latin typeface="Arial"/>
              </a:rPr>
              <a:t>Реальная помощь в продвижении к успех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3105"/>
                </a:solidFill>
                <a:latin typeface="Arial"/>
              </a:rPr>
              <a:t>Краткое экспрессивное воздейств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3105"/>
                </a:solidFill>
                <a:latin typeface="Arial"/>
              </a:rPr>
              <a:t>Педагогическая поддержка в процессе выполнения рабо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3105"/>
                </a:solidFill>
                <a:latin typeface="Arial"/>
              </a:rPr>
              <a:t>Оцени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071720" y="42840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ситуации успеха на занятии/ уроке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3" descr="j0232983.wmf"/>
          <p:cNvPicPr/>
          <p:nvPr/>
        </p:nvPicPr>
        <p:blipFill>
          <a:blip r:embed="rId1"/>
          <a:stretch/>
        </p:blipFill>
        <p:spPr>
          <a:xfrm>
            <a:off x="6286680" y="4143240"/>
            <a:ext cx="219060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8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2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6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0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4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8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2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1258920" y="115920"/>
            <a:ext cx="7705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анирование работ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циклам г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рассматривая процессы обучения и воспитания в их неразрывном единст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четвер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восстановление утраченных за лето знаний умений, навыков;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оспитательной работ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1) актуализация норм школьной жизни; 2) организация самоуправления: педагогического, родительского, ученического – на уровнях: личность, класс, шк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четвер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учебной деятельнос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овершенствование репродуктивных умений и навыков;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воспитательной работ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1) наращивание самоуправленческого потенциала всех субъектов УВП на всех уровнях (личность, класс, школ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четвер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развитие УУД и навыков;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оспитательной работ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активное и осознанное применение навыков самоуправления всех субъектов УВП на всех его уровн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четвер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развитие творческих умений и навыков;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оспитательной работе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именение навыков самоуправления на творческом уровне, представление своего опыта,  самопрезентация достижений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певаемость  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 четвер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Диаграмма 2" descr=""/>
          <p:cNvPicPr/>
          <p:nvPr/>
        </p:nvPicPr>
        <p:blipFill>
          <a:blip r:embed="rId1"/>
          <a:stretch/>
        </p:blipFill>
        <p:spPr>
          <a:xfrm>
            <a:off x="1523880" y="2214720"/>
            <a:ext cx="2905200" cy="3246120"/>
          </a:xfrm>
          <a:prstGeom prst="rect">
            <a:avLst/>
          </a:prstGeom>
          <a:ln w="0">
            <a:noFill/>
          </a:ln>
        </p:spPr>
      </p:pic>
      <p:pic>
        <p:nvPicPr>
          <p:cNvPr id="168" name="Диаграмма 3" descr=""/>
          <p:cNvPicPr/>
          <p:nvPr/>
        </p:nvPicPr>
        <p:blipFill>
          <a:blip r:embed="rId2"/>
          <a:stretch/>
        </p:blipFill>
        <p:spPr>
          <a:xfrm>
            <a:off x="4714920" y="2000160"/>
            <a:ext cx="414324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2119320" y="115920"/>
            <a:ext cx="473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АПРАВЛЕНИЯ ВОСПИТАТЕЛЬНОЙ РАБО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http://school52-nvkz.ucoz.ru/_bd/1/117.jpg"/>
          <p:cNvPicPr/>
          <p:nvPr/>
        </p:nvPicPr>
        <p:blipFill>
          <a:blip r:embed="rId1"/>
          <a:stretch/>
        </p:blipFill>
        <p:spPr>
          <a:xfrm>
            <a:off x="2050920" y="2421000"/>
            <a:ext cx="2001960" cy="1700280"/>
          </a:xfrm>
          <a:prstGeom prst="rect">
            <a:avLst/>
          </a:prstGeom>
          <a:ln w="0">
            <a:noFill/>
          </a:ln>
        </p:spPr>
      </p:pic>
      <p:pic>
        <p:nvPicPr>
          <p:cNvPr id="171" name="Схема 6" descr=""/>
          <p:cNvPicPr/>
          <p:nvPr/>
        </p:nvPicPr>
        <p:blipFill>
          <a:blip r:embed="rId2"/>
          <a:stretch/>
        </p:blipFill>
        <p:spPr>
          <a:xfrm>
            <a:off x="171360" y="755640"/>
            <a:ext cx="5570640" cy="55594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7"/>
          <p:cNvSpPr/>
          <p:nvPr/>
        </p:nvSpPr>
        <p:spPr>
          <a:xfrm>
            <a:off x="5614920" y="692280"/>
            <a:ext cx="352908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направлениям воспитательной работы  в практике работы используются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иды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внеурочной деятельно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гровая деяте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знавательная деяте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блемно-ценностное общ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сугово-развлекательная деятельность (досуговое общен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удожественное творче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ое творчество (социально преобразующая добровольческая деятельно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удовая (производственная) деяте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ортивно-оздоровительная деяте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уристско-краеведческая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Прямоугольник 1" descr=""/>
          <p:cNvPicPr/>
          <p:nvPr/>
        </p:nvPicPr>
        <p:blipFill>
          <a:blip r:embed="rId1"/>
          <a:stretch/>
        </p:blipFill>
        <p:spPr>
          <a:xfrm>
            <a:off x="1036800" y="-92160"/>
            <a:ext cx="7358040" cy="1079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http://school52-nvkz.ucoz.ru/_bd/1/117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58920" y="2349360"/>
            <a:ext cx="2841480" cy="2413080"/>
          </a:xfrm>
          <a:prstGeom prst="rect">
            <a:avLst/>
          </a:prstGeom>
          <a:ln w="0">
            <a:noFill/>
          </a:ln>
        </p:spPr>
      </p:pic>
      <p:pic>
        <p:nvPicPr>
          <p:cNvPr id="175" name="Схема 3" descr=""/>
          <p:cNvPicPr/>
          <p:nvPr/>
        </p:nvPicPr>
        <p:blipFill>
          <a:blip r:embed="rId4"/>
          <a:stretch/>
        </p:blipFill>
        <p:spPr>
          <a:xfrm>
            <a:off x="-19080" y="781200"/>
            <a:ext cx="6396120" cy="60404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6"/>
          <p:cNvSpPr/>
          <p:nvPr/>
        </p:nvSpPr>
        <p:spPr>
          <a:xfrm>
            <a:off x="6372360" y="1052640"/>
            <a:ext cx="2663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ы организации внеурочной деятель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скур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уж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к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углые ст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фере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спу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кольные научные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лимпи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рев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исковые и научны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ственно полезные прак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друг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Прямоугольник 2" descr=""/>
          <p:cNvPicPr/>
          <p:nvPr/>
        </p:nvPicPr>
        <p:blipFill>
          <a:blip r:embed="rId1"/>
          <a:stretch/>
        </p:blipFill>
        <p:spPr>
          <a:xfrm>
            <a:off x="609480" y="103320"/>
            <a:ext cx="8772480" cy="1049040"/>
          </a:xfrm>
          <a:prstGeom prst="rect">
            <a:avLst/>
          </a:prstGeom>
          <a:ln w="0">
            <a:noFill/>
          </a:ln>
        </p:spPr>
      </p:pic>
      <p:pic>
        <p:nvPicPr>
          <p:cNvPr id="178" name="Диаграмма 3" descr=""/>
          <p:cNvPicPr/>
          <p:nvPr/>
        </p:nvPicPr>
        <p:blipFill>
          <a:blip r:embed="rId2"/>
          <a:stretch/>
        </p:blipFill>
        <p:spPr>
          <a:xfrm>
            <a:off x="1523880" y="1397160"/>
            <a:ext cx="676296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Прямоугольник 2" descr=""/>
          <p:cNvPicPr/>
          <p:nvPr/>
        </p:nvPicPr>
        <p:blipFill>
          <a:blip r:embed="rId1"/>
          <a:stretch/>
        </p:blipFill>
        <p:spPr>
          <a:xfrm>
            <a:off x="603360" y="195120"/>
            <a:ext cx="8443800" cy="901800"/>
          </a:xfrm>
          <a:prstGeom prst="rect">
            <a:avLst/>
          </a:prstGeom>
          <a:ln w="0">
            <a:noFill/>
          </a:ln>
        </p:spPr>
      </p:pic>
      <p:pic>
        <p:nvPicPr>
          <p:cNvPr id="180" name="Диаграмма 3" descr=""/>
          <p:cNvPicPr/>
          <p:nvPr/>
        </p:nvPicPr>
        <p:blipFill>
          <a:blip r:embed="rId2"/>
          <a:stretch/>
        </p:blipFill>
        <p:spPr>
          <a:xfrm>
            <a:off x="0" y="0"/>
            <a:ext cx="8899560" cy="66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19"/>
          <p:cNvSpPr/>
          <p:nvPr/>
        </p:nvSpPr>
        <p:spPr>
          <a:xfrm>
            <a:off x="395280" y="260280"/>
            <a:ext cx="1079640" cy="6408720"/>
          </a:xfrm>
          <a:prstGeom prst="rightArrowCallout">
            <a:avLst>
              <a:gd name="adj1" fmla="val 148413"/>
              <a:gd name="adj2" fmla="val 148399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1402920" y="620640"/>
            <a:ext cx="71640" cy="597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7"/>
          <p:cNvSpPr/>
          <p:nvPr/>
        </p:nvSpPr>
        <p:spPr>
          <a:xfrm>
            <a:off x="1476360" y="620640"/>
            <a:ext cx="571680" cy="343080"/>
          </a:xfrm>
          <a:custGeom>
            <a:avLst/>
            <a:gdLst>
              <a:gd name="textAreaLeft" fmla="*/ 0 w 571680"/>
              <a:gd name="textAreaRight" fmla="*/ 572040 w 57168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Arial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6"/>
          <p:cNvSpPr/>
          <p:nvPr/>
        </p:nvSpPr>
        <p:spPr>
          <a:xfrm>
            <a:off x="2124000" y="549360"/>
            <a:ext cx="50292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  <a:ea typeface="Times New Roman"/>
              </a:rPr>
              <a:t>Атмосфера доброжелательности в классе на протяжении всего уро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1547640" y="1413000"/>
            <a:ext cx="571680" cy="342720"/>
          </a:xfrm>
          <a:custGeom>
            <a:avLst/>
            <a:gdLst>
              <a:gd name="textAreaLeft" fmla="*/ 0 w 571680"/>
              <a:gd name="textAreaRight" fmla="*/ 572040 w 57168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4"/>
          <p:cNvSpPr/>
          <p:nvPr/>
        </p:nvSpPr>
        <p:spPr>
          <a:xfrm>
            <a:off x="1619280" y="2276640"/>
            <a:ext cx="571320" cy="342720"/>
          </a:xfrm>
          <a:custGeom>
            <a:avLst/>
            <a:gdLst>
              <a:gd name="textAreaLeft" fmla="*/ 0 w 571320"/>
              <a:gd name="textAreaRight" fmla="*/ 571680 w 57132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Arial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3"/>
          <p:cNvSpPr/>
          <p:nvPr/>
        </p:nvSpPr>
        <p:spPr>
          <a:xfrm>
            <a:off x="1619280" y="3284640"/>
            <a:ext cx="571320" cy="342720"/>
          </a:xfrm>
          <a:custGeom>
            <a:avLst/>
            <a:gdLst>
              <a:gd name="textAreaLeft" fmla="*/ 0 w 571320"/>
              <a:gd name="textAreaRight" fmla="*/ 571680 w 57132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Arial"/>
                <a:ea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2"/>
          <p:cNvSpPr/>
          <p:nvPr/>
        </p:nvSpPr>
        <p:spPr>
          <a:xfrm>
            <a:off x="1619280" y="4149720"/>
            <a:ext cx="571320" cy="343080"/>
          </a:xfrm>
          <a:custGeom>
            <a:avLst/>
            <a:gdLst>
              <a:gd name="textAreaLeft" fmla="*/ 0 w 571320"/>
              <a:gd name="textAreaRight" fmla="*/ 571680 w 57132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Arial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1"/>
          <p:cNvSpPr/>
          <p:nvPr/>
        </p:nvSpPr>
        <p:spPr>
          <a:xfrm>
            <a:off x="1692360" y="5084640"/>
            <a:ext cx="571320" cy="343080"/>
          </a:xfrm>
          <a:custGeom>
            <a:avLst/>
            <a:gdLst>
              <a:gd name="textAreaLeft" fmla="*/ 0 w 571320"/>
              <a:gd name="textAreaRight" fmla="*/ 571680 w 57132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Arial"/>
                <a:ea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1692360" y="5950080"/>
            <a:ext cx="571320" cy="342720"/>
          </a:xfrm>
          <a:custGeom>
            <a:avLst/>
            <a:gdLst>
              <a:gd name="textAreaLeft" fmla="*/ 0 w 571320"/>
              <a:gd name="textAreaRight" fmla="*/ 571680 w 57132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Arial"/>
                <a:ea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2195640" y="1413000"/>
            <a:ext cx="50292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  <a:ea typeface="Times New Roman"/>
              </a:rPr>
              <a:t>Снятие  стра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2268360" y="2276640"/>
            <a:ext cx="50292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  <a:ea typeface="Times New Roman"/>
              </a:rPr>
              <a:t>Высокая  мотивация: во имя чего?  Ради  чего?  Заче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2268360" y="3213000"/>
            <a:ext cx="502920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  <a:ea typeface="Times New Roman"/>
              </a:rPr>
              <a:t>Скрытая инструкция предстояще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2340000" y="4076640"/>
            <a:ext cx="50292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  <a:ea typeface="Times New Roman"/>
              </a:rPr>
              <a:t>Краткое экспрессивное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2411280" y="5013360"/>
            <a:ext cx="502920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  <a:ea typeface="Times New Roman"/>
              </a:rPr>
              <a:t>Педагогическая поддержка в процессе выполнения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2411280" y="5877000"/>
            <a:ext cx="502920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  <a:ea typeface="Times New Roman"/>
              </a:rPr>
              <a:t>Оценивание действий с акцентом на детали произведен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2"/>
          <p:cNvSpPr/>
          <p:nvPr/>
        </p:nvSpPr>
        <p:spPr>
          <a:xfrm>
            <a:off x="57240" y="-655560"/>
            <a:ext cx="111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1320" rIns="5396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0"/>
          <p:cNvSpPr/>
          <p:nvPr/>
        </p:nvSpPr>
        <p:spPr>
          <a:xfrm>
            <a:off x="58680" y="59292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57240" y="571320"/>
            <a:ext cx="6215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 в творческих группах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проектированию программ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бучения и воспитания успех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Рисунок 3" descr="j0233028.wmf"/>
          <p:cNvPicPr/>
          <p:nvPr/>
        </p:nvPicPr>
        <p:blipFill>
          <a:blip r:embed="rId1"/>
          <a:stretch/>
        </p:blipFill>
        <p:spPr>
          <a:xfrm>
            <a:off x="1357200" y="2571840"/>
            <a:ext cx="2071800" cy="210816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4" descr="j0233999.wmf"/>
          <p:cNvPicPr/>
          <p:nvPr/>
        </p:nvPicPr>
        <p:blipFill>
          <a:blip r:embed="rId2"/>
          <a:stretch/>
        </p:blipFill>
        <p:spPr>
          <a:xfrm>
            <a:off x="4000680" y="1857240"/>
            <a:ext cx="3868560" cy="457200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5" descr="BS01634_.WMF"/>
          <p:cNvPicPr/>
          <p:nvPr/>
        </p:nvPicPr>
        <p:blipFill>
          <a:blip r:embed="rId3"/>
          <a:stretch/>
        </p:blipFill>
        <p:spPr>
          <a:xfrm>
            <a:off x="4552920" y="5553000"/>
            <a:ext cx="531720" cy="60336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6" descr="BS01634_.WMF"/>
          <p:cNvPicPr/>
          <p:nvPr/>
        </p:nvPicPr>
        <p:blipFill>
          <a:blip r:embed="rId4"/>
          <a:stretch/>
        </p:blipFill>
        <p:spPr>
          <a:xfrm>
            <a:off x="5194440" y="5553000"/>
            <a:ext cx="536400" cy="60336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7" descr="BS01634_.WMF"/>
          <p:cNvPicPr/>
          <p:nvPr/>
        </p:nvPicPr>
        <p:blipFill>
          <a:blip r:embed="rId5"/>
          <a:stretch/>
        </p:blipFill>
        <p:spPr>
          <a:xfrm>
            <a:off x="5913360" y="5553000"/>
            <a:ext cx="530280" cy="60336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8" descr="BS01634_.WMF"/>
          <p:cNvPicPr/>
          <p:nvPr/>
        </p:nvPicPr>
        <p:blipFill>
          <a:blip r:embed="rId6"/>
          <a:stretch/>
        </p:blipFill>
        <p:spPr>
          <a:xfrm>
            <a:off x="6626160" y="5553000"/>
            <a:ext cx="530280" cy="60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5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6" dur="3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643040" y="2071440"/>
            <a:ext cx="7058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накомство с научно-методическими и психологическими подходами к принципу обучения и воспитания успех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ознание и осмысление членами педагогического коллектива основных условий ситуации успе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ектирование позитивных программ действий для создания ситуаций успеха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рмирование навыков коллективной творческо-поисковой деятельности педаг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067280" y="1412640"/>
            <a:ext cx="4286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Содержимое 8" descr="DSCN6151.JPG"/>
          <p:cNvPicPr/>
          <p:nvPr/>
        </p:nvPicPr>
        <p:blipFill>
          <a:blip r:embed="rId1"/>
          <a:stretch/>
        </p:blipFill>
        <p:spPr>
          <a:xfrm>
            <a:off x="1116000" y="189000"/>
            <a:ext cx="2376360" cy="1780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ИЯ ПЕДАГОГА НА УРОКЕ 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42560" y="765000"/>
            <a:ext cx="7705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станавливаем внимание на негатив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Улыбка, добрый взгл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Интерес к каждому ученику, великодушие по отношению к люб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Дает прозвища (плохой, ленивый и т. п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Сравнение одного ребенка с друг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Отмечает «персональную исключительн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Аргументирует надобность 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Учит алгоритму 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Оценка действий ученика с акцентом на де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Учитель много говорит за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Высказывает недовольство учеником, групп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Вера в способности уче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Предупреждение и угрозы при невыполнении треб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сти 20–25 возможных вариантов (способов) сказать ученику: «Ты молодец! Отлично!»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42560" y="1844280"/>
            <a:ext cx="5257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 Это великолеп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Молодец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Ты сегодня сделал лучше, чем вчер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 Благодарю за работ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 Вы меня порадовал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 Вот теперь тебя люблю я, вот теперь тебя хвалю 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 Вы превзошли мои ожидани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 У вас сегодня все получилос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 Я поражена вашими знаниями, молодц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Уже намного лучш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Грандиоз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Поздравляю, молодец!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212" name="Рисунок 7"/>
          <p:cNvSpPr/>
          <p:nvPr/>
        </p:nvSpPr>
        <p:spPr>
          <a:xfrm>
            <a:off x="928800" y="0"/>
            <a:ext cx="8215200" cy="61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хема 16"/>
          <p:cNvSpPr/>
          <p:nvPr/>
        </p:nvSpPr>
        <p:spPr>
          <a:xfrm>
            <a:off x="2000160" y="1176480"/>
            <a:ext cx="535788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Заголовок 13"/>
          <p:cNvSpPr/>
          <p:nvPr/>
        </p:nvSpPr>
        <p:spPr>
          <a:xfrm rot="20310600">
            <a:off x="999720" y="5714640"/>
            <a:ext cx="1428840" cy="9288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Предупреждает и угрожает  по невыполнению требовани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Заголовок 13"/>
          <p:cNvSpPr/>
          <p:nvPr/>
        </p:nvSpPr>
        <p:spPr>
          <a:xfrm>
            <a:off x="2357280" y="5214960"/>
            <a:ext cx="1285920" cy="9288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навливает внимание на негативн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Заголовок 13"/>
          <p:cNvSpPr/>
          <p:nvPr/>
        </p:nvSpPr>
        <p:spPr>
          <a:xfrm rot="795000">
            <a:off x="3714480" y="5429160"/>
            <a:ext cx="1428840" cy="9288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ёт прозвища (плохой, ленивый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Заголовок 13"/>
          <p:cNvSpPr/>
          <p:nvPr/>
        </p:nvSpPr>
        <p:spPr>
          <a:xfrm rot="20940600">
            <a:off x="5352840" y="5303520"/>
            <a:ext cx="1009440" cy="7920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 говорит за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Рисунок 10" descr="BS01634_.WMF"/>
          <p:cNvPicPr/>
          <p:nvPr/>
        </p:nvPicPr>
        <p:blipFill>
          <a:blip r:embed="rId1"/>
          <a:stretch/>
        </p:blipFill>
        <p:spPr>
          <a:xfrm>
            <a:off x="3193920" y="5979960"/>
            <a:ext cx="622440" cy="67644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9" descr="BS01634_.WMF"/>
          <p:cNvPicPr/>
          <p:nvPr/>
        </p:nvPicPr>
        <p:blipFill>
          <a:blip r:embed="rId2"/>
          <a:stretch/>
        </p:blipFill>
        <p:spPr>
          <a:xfrm>
            <a:off x="4767120" y="5913360"/>
            <a:ext cx="622440" cy="6699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2" descr="BS01634_.WMF"/>
          <p:cNvPicPr/>
          <p:nvPr/>
        </p:nvPicPr>
        <p:blipFill>
          <a:blip r:embed="rId3"/>
          <a:stretch/>
        </p:blipFill>
        <p:spPr>
          <a:xfrm>
            <a:off x="2054160" y="5913360"/>
            <a:ext cx="615960" cy="669960"/>
          </a:xfrm>
          <a:prstGeom prst="rect">
            <a:avLst/>
          </a:prstGeom>
          <a:ln w="0">
            <a:noFill/>
          </a:ln>
        </p:spPr>
      </p:pic>
      <p:sp>
        <p:nvSpPr>
          <p:cNvPr id="221" name="Заголовок 13"/>
          <p:cNvSpPr/>
          <p:nvPr/>
        </p:nvSpPr>
        <p:spPr>
          <a:xfrm>
            <a:off x="6500880" y="5214960"/>
            <a:ext cx="1500120" cy="85716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ает недовольство учеником, группой уче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118" descr="BS01634_.WMF"/>
          <p:cNvPicPr/>
          <p:nvPr/>
        </p:nvPicPr>
        <p:blipFill>
          <a:blip r:embed="rId4"/>
          <a:stretch/>
        </p:blipFill>
        <p:spPr>
          <a:xfrm>
            <a:off x="7412040" y="5840280"/>
            <a:ext cx="549360" cy="59076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1" descr="BS01634_.WMF"/>
          <p:cNvPicPr/>
          <p:nvPr/>
        </p:nvPicPr>
        <p:blipFill>
          <a:blip r:embed="rId5"/>
          <a:stretch/>
        </p:blipFill>
        <p:spPr>
          <a:xfrm>
            <a:off x="5979960" y="5840280"/>
            <a:ext cx="622440" cy="66996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5"/>
          <p:cNvSpPr/>
          <p:nvPr/>
        </p:nvSpPr>
        <p:spPr>
          <a:xfrm>
            <a:off x="7451640" y="5516640"/>
            <a:ext cx="588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85880" y="57168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Решение педсове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571400" y="1356840"/>
            <a:ext cx="48574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00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3105"/>
                </a:solidFill>
                <a:latin typeface="Arial"/>
              </a:rPr>
              <a:t>Администрации и педагогическому коллективу школы в своей работе ориентироваться на правила педагогической этики при работе с учащими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3105"/>
                </a:solidFill>
                <a:latin typeface="Arial"/>
              </a:rPr>
              <a:t>Каждому педагогу  школы взять  за основу предложенный  алгоритм создания ситуации успеха на уроках и во внеуроч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3105"/>
                </a:solidFill>
                <a:latin typeface="Arial"/>
              </a:rPr>
              <a:t>Классным руководителям продолжить работу  по созданию школьного портфолио уче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3105"/>
                </a:solidFill>
                <a:latin typeface="Arial"/>
              </a:rPr>
              <a:t>Запланировать и провести методический месячник «ОБУЧЕНИЕ И ВОСПИТАНИЕ УСПЕХО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3105"/>
                </a:solidFill>
                <a:latin typeface="Arial"/>
              </a:rPr>
              <a:t>Продолжить взаимопосещение занятий/ уроков учителей с целью обмена опытом по данной проблеме  в рамках методического  месячника «ОБУЧЕНИЕ И ВОСПИТАНИЕ УСПЕХОМ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7" descr="j0198594.wmf"/>
          <p:cNvPicPr/>
          <p:nvPr/>
        </p:nvPicPr>
        <p:blipFill>
          <a:blip r:embed="rId1"/>
          <a:stretch/>
        </p:blipFill>
        <p:spPr>
          <a:xfrm>
            <a:off x="6286680" y="1500120"/>
            <a:ext cx="227772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8" dur="5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2" descr="school10a.gif"/>
          <p:cNvPicPr/>
          <p:nvPr/>
        </p:nvPicPr>
        <p:blipFill>
          <a:blip r:embed="rId1"/>
          <a:srcRect l="7899" t="-6296" r="11490" b="-5627"/>
          <a:stretch/>
        </p:blipFill>
        <p:spPr>
          <a:xfrm>
            <a:off x="3000240" y="1285920"/>
            <a:ext cx="3643560" cy="507204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13"/>
          <p:cNvSpPr/>
          <p:nvPr/>
        </p:nvSpPr>
        <p:spPr>
          <a:xfrm>
            <a:off x="3643200" y="1571760"/>
            <a:ext cx="2500560" cy="10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643200" y="1571760"/>
            <a:ext cx="25718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Благодарим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за сотрудничеств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11" descr="AG00130_.GIF"/>
          <p:cNvPicPr/>
          <p:nvPr/>
        </p:nvPicPr>
        <p:blipFill>
          <a:blip r:embed="rId2"/>
          <a:stretch/>
        </p:blipFill>
        <p:spPr>
          <a:xfrm rot="19426800">
            <a:off x="3249720" y="2285640"/>
            <a:ext cx="672840" cy="5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85560" y="1000080"/>
            <a:ext cx="5915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73105"/>
                </a:solidFill>
                <a:latin typeface="Arial"/>
              </a:rPr>
              <a:t>Вступительное слово. Обоснование выбора те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73105"/>
                </a:solidFill>
                <a:latin typeface="Arial"/>
              </a:rPr>
              <a:t>Теоретическое выступление по теме: «Научно-методические и психологические основы принципа обучения и воспитания успехом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73105"/>
                </a:solidFill>
                <a:latin typeface="Arial"/>
              </a:rPr>
              <a:t>Работа в творческих группах по проектированию программ для создания ситуаций успех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73105"/>
                </a:solidFill>
                <a:latin typeface="Arial"/>
              </a:rPr>
              <a:t>Презентация творческих групп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73105"/>
                </a:solidFill>
                <a:latin typeface="Arial"/>
              </a:rPr>
              <a:t>Рефлексия. Заполне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73105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673105"/>
                </a:solidFill>
                <a:latin typeface="Arial"/>
              </a:rPr>
              <a:t>выходной карты педсове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673105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73105"/>
                </a:solidFill>
                <a:latin typeface="Arial"/>
              </a:rPr>
              <a:t>Подведение итог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73105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673105"/>
                </a:solidFill>
                <a:latin typeface="Arial"/>
              </a:rPr>
              <a:t>Принятие реш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6731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56840" y="500040"/>
            <a:ext cx="54579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2000">
                <a:solidFill>
                  <a:srgbClr val="673105"/>
                </a:solidFill>
                <a:latin typeface="Comic Sans MS"/>
              </a:rPr>
              <a:t>План</a:t>
            </a:r>
            <a:r>
              <a:rPr b="1" lang="ru-RU" sz="2400" spc="-1" strike="noStrike" baseline="2000">
                <a:solidFill>
                  <a:srgbClr val="673105"/>
                </a:solidFill>
                <a:latin typeface="Comic Sans MS"/>
              </a:rPr>
              <a:t> </a:t>
            </a:r>
            <a:r>
              <a:rPr b="1" lang="ru-RU" sz="3600" spc="-1" strike="noStrike" baseline="2000">
                <a:solidFill>
                  <a:srgbClr val="673105"/>
                </a:solidFill>
                <a:latin typeface="Comic Sans MS"/>
              </a:rPr>
              <a:t>проведения педсовета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3" descr="j0343343.wmf"/>
          <p:cNvPicPr/>
          <p:nvPr/>
        </p:nvPicPr>
        <p:blipFill>
          <a:blip r:embed="rId1"/>
          <a:stretch/>
        </p:blipFill>
        <p:spPr>
          <a:xfrm>
            <a:off x="5786280" y="3262320"/>
            <a:ext cx="2943360" cy="30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" dur="1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14520" y="142920"/>
            <a:ext cx="47862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т детей – есть люди, но с иным масштабом понятий, иными источниками опыта, иными стремлениями, иной игрой чувств»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(Януш Корчак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714240" y="642960"/>
            <a:ext cx="378648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431640" y="189000"/>
            <a:ext cx="871236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1643040" y="1285920"/>
            <a:ext cx="67867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Ничего не бойся   -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Ты делаешь для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Лишь на тебя надеем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и верим в твой усп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Получится, как над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и даже сверх то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Листок лежит здесь ряд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Давай начнем с н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дущие понятия т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Diagram 6"/>
          <p:cNvGrpSpPr/>
          <p:nvPr/>
        </p:nvGrpSpPr>
        <p:grpSpPr>
          <a:xfrm>
            <a:off x="1434960" y="1774800"/>
            <a:ext cx="6274080" cy="3341880"/>
            <a:chOff x="1434960" y="1774800"/>
            <a:chExt cx="6274080" cy="3341880"/>
          </a:xfrm>
        </p:grpSpPr>
        <p:sp>
          <p:nvSpPr>
            <p:cNvPr id="102" name="_s1028"/>
            <p:cNvSpPr/>
            <p:nvPr/>
          </p:nvSpPr>
          <p:spPr>
            <a:xfrm>
              <a:off x="3724200" y="2368440"/>
              <a:ext cx="1697040" cy="1697040"/>
            </a:xfrm>
            <a:prstGeom prst="ellipse">
              <a:avLst/>
            </a:prstGeom>
            <a:solidFill>
              <a:srgbClr val="c0504d">
                <a:alpha val="50000"/>
              </a:srgbClr>
            </a:solidFill>
            <a:ln w="4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29"/>
            <p:cNvSpPr/>
            <p:nvPr/>
          </p:nvSpPr>
          <p:spPr>
            <a:xfrm>
              <a:off x="3724200" y="177480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успешно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0"/>
            <p:cNvSpPr/>
            <p:nvPr/>
          </p:nvSpPr>
          <p:spPr>
            <a:xfrm>
              <a:off x="4282920" y="3336840"/>
              <a:ext cx="1697040" cy="169704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31"/>
            <p:cNvSpPr/>
            <p:nvPr/>
          </p:nvSpPr>
          <p:spPr>
            <a:xfrm>
              <a:off x="6012000" y="469260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удач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2"/>
            <p:cNvSpPr/>
            <p:nvPr/>
          </p:nvSpPr>
          <p:spPr>
            <a:xfrm>
              <a:off x="3165480" y="3336840"/>
              <a:ext cx="1697040" cy="1697040"/>
            </a:xfrm>
            <a:prstGeom prst="ellipse">
              <a:avLst/>
            </a:prstGeom>
            <a:solidFill>
              <a:srgbClr val="800080">
                <a:alpha val="50000"/>
              </a:srgbClr>
            </a:solidFill>
            <a:ln w="4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1434960" y="469260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укла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кл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32523"/>
                </a:solidFill>
                <a:uFillTx/>
                <a:latin typeface="Arial"/>
              </a:rPr>
              <a:t>По Ожегову:</a:t>
            </a:r>
            <a:r>
              <a:rPr b="0" lang="ru-RU" sz="3200" spc="-1" strike="noStrike">
                <a:solidFill>
                  <a:srgbClr val="63252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новившийся порядок, сложившееся устройство общественной жизни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32523"/>
                </a:solidFill>
                <a:uFillTx/>
                <a:latin typeface="Arial"/>
              </a:rPr>
              <a:t>По Далю</a:t>
            </a:r>
            <a:r>
              <a:rPr b="1" lang="ru-RU" sz="3200" spc="-1" strike="noStrike">
                <a:solidFill>
                  <a:srgbClr val="632523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ройство, учреждение, порядок, уст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пе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 Ожегов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ача в достижении чего-либ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ественное призн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рошие результаты в работе, учё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 Дал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«успеть»—достигать желаем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5:31:12Z</dcterms:created>
  <dc:creator>administrator</dc:creator>
  <dc:description/>
  <dc:language>en-US</dc:language>
  <cp:lastModifiedBy>Пользователь</cp:lastModifiedBy>
  <dcterms:modified xsi:type="dcterms:W3CDTF">2017-02-22T14:53:20Z</dcterms:modified>
  <cp:revision>128</cp:revision>
  <dc:subject/>
  <dc:title>Обучение и воспитание успехом</dc:title>
</cp:coreProperties>
</file>