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13.gif" ContentType="image/gif"/>
  <Override PartName="/ppt/media/image20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34.png" ContentType="image/png"/>
  <Override PartName="/ppt/media/image46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42.wmf" ContentType="image/x-wmf"/>
  <Override PartName="/ppt/media/image39.png" ContentType="image/png"/>
  <Override PartName="/ppt/media/image51.png" ContentType="image/png"/>
  <Override PartName="/ppt/media/image9.wmf" ContentType="image/x-wmf"/>
  <Override PartName="/ppt/media/image53.png" ContentType="image/png"/>
  <Override PartName="/ppt/media/image33.png" ContentType="image/png"/>
  <Override PartName="/ppt/media/image49.png" ContentType="image/png"/>
  <Override PartName="/ppt/media/image52.wmf" ContentType="image/x-wmf"/>
  <Override PartName="/ppt/media/image12.png" ContentType="image/png"/>
  <Override PartName="/ppt/media/image54.gif" ContentType="image/gif"/>
  <Override PartName="/ppt/media/image10.png" ContentType="image/png"/>
  <Override PartName="/ppt/media/image47.png" ContentType="image/png"/>
  <Override PartName="/ppt/media/image35.jpeg" ContentType="image/jpeg"/>
  <Override PartName="/ppt/media/image8.jpeg" ContentType="image/jpeg"/>
  <Override PartName="/ppt/media/image41.wmf" ContentType="image/x-wmf"/>
  <Override PartName="/ppt/media/image38.png" ContentType="image/png"/>
  <Override PartName="/ppt/media/image2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E7F-F9C0-446E-B2B5-D13E00D4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28C-64C3-4B83-9481-530766EA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611-F670-4C80-8151-575CA94F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F8D-F3E6-4818-BE01-7EF6C90C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716-BCFB-4C3E-9BCC-5BA611FC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946-C9BB-425B-8BA7-0C8FC852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398-3838-4AF8-9823-05359DC9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616-051B-461A-BB09-FD69EB6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188-11DE-4B02-897F-8F405B6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5D3-91EA-4F2E-8480-6011F14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83D-9E85-4BA8-9F17-8FDB3F6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D8F-46E2-464F-8FAA-DEE4216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AEE4-72B2-4EFC-8C74-ECB145F469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30600" y="4913280"/>
            <a:ext cx="4024080" cy="103680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p=24&amp;text=&#1082;&#1083;&#1080;&#1087;&#1072;&#1088;&#1090;&#1099;%20&#1096;&#1082;&#1086;&#1083;&#1072;%20&#1089;&#1082;&#1072;&#1095;&#1072;&#1090;&#1100;%20&#1073;&#1077;&#1089;&#1087;&#1083;&#1072;&#1090;&#1085;&#1086;&amp;fp=24&amp;pos=721&amp;uinfo=ww-1903-wh-955-fw-1678-fh-598-pd-1&amp;rpt=simage&amp;img_url=http://www.zinatullina.iagodnaia.edusite.ru/images/shkol-niki.pn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зовательная среда как условие личностного роста учащихся и повышение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760" y="1928520"/>
            <a:ext cx="3286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етей – есть люди, но с иным масштабом понятий, иными источниками опыта, иными стремлениями, иной игрой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нуш Корч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C:\Documents and Settings\Ольга\Рабочий стол\Новая папка\BKDC0085.JPG"/>
          <p:cNvPicPr/>
          <p:nvPr/>
        </p:nvPicPr>
        <p:blipFill>
          <a:blip r:embed="rId1"/>
          <a:stretch/>
        </p:blipFill>
        <p:spPr>
          <a:xfrm>
            <a:off x="1214280" y="3214800"/>
            <a:ext cx="3429000" cy="24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User\Рабочий стол\101MSDCF\DSC05089.JPG"/>
          <p:cNvPicPr/>
          <p:nvPr/>
        </p:nvPicPr>
        <p:blipFill>
          <a:blip r:embed="rId2"/>
          <a:stretch/>
        </p:blipFill>
        <p:spPr>
          <a:xfrm>
            <a:off x="826920" y="3141720"/>
            <a:ext cx="406908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ая педагогическая цель сегодняшнего дн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Edwardian Script ITC"/>
              </a:rPr>
              <a:t>- воспитать успешного человека и обучить его достижению успеха в жиз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хема 3" descr=""/>
          <p:cNvPicPr/>
          <p:nvPr/>
        </p:nvPicPr>
        <p:blipFill>
          <a:blip r:embed="rId1"/>
          <a:stretch/>
        </p:blipFill>
        <p:spPr>
          <a:xfrm>
            <a:off x="981000" y="1268280"/>
            <a:ext cx="7748640" cy="4205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BD19563_.GIF"/>
          <p:cNvPicPr/>
          <p:nvPr/>
        </p:nvPicPr>
        <p:blipFill>
          <a:blip r:embed="rId2"/>
          <a:stretch/>
        </p:blipFill>
        <p:spPr>
          <a:xfrm>
            <a:off x="7286760" y="3857760"/>
            <a:ext cx="1341360" cy="200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SC00674"/>
          <p:cNvPicPr/>
          <p:nvPr/>
        </p:nvPicPr>
        <p:blipFill>
          <a:blip r:embed="rId3"/>
          <a:stretch/>
        </p:blipFill>
        <p:spPr>
          <a:xfrm>
            <a:off x="826920" y="18900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826920" y="227664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трио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солидар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ждан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 и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диционные российские рели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усств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749160" y="1384200"/>
            <a:ext cx="79311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хема 4" descr=""/>
          <p:cNvPicPr/>
          <p:nvPr/>
        </p:nvPicPr>
        <p:blipFill>
          <a:blip r:embed="rId1"/>
          <a:stretch/>
        </p:blipFill>
        <p:spPr>
          <a:xfrm>
            <a:off x="1279440" y="420840"/>
            <a:ext cx="751068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Stencil"/>
              </a:rPr>
              <a:t>Успешный учен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7"/>
          <p:cNvGrpSpPr/>
          <p:nvPr/>
        </p:nvGrpSpPr>
        <p:grpSpPr>
          <a:xfrm>
            <a:off x="431640" y="1589040"/>
            <a:ext cx="8208000" cy="4463640"/>
            <a:chOff x="431640" y="1589040"/>
            <a:chExt cx="8208000" cy="4463640"/>
          </a:xfrm>
        </p:grpSpPr>
        <p:cxnSp>
          <p:nvCxnSpPr>
            <p:cNvPr id="122" name="_s2052"/>
            <p:cNvCxnSpPr>
              <a:stCxn id="123" idx="1"/>
              <a:endCxn id="124" idx="2"/>
            </p:cNvCxnSpPr>
            <p:nvPr/>
          </p:nvCxnSpPr>
          <p:spPr>
            <a:xfrm rot="10800000">
              <a:off x="2893320" y="2006280"/>
              <a:ext cx="793080" cy="385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1"/>
              <a:endCxn id="124" idx="2"/>
            </p:cNvCxnSpPr>
            <p:nvPr/>
          </p:nvCxnSpPr>
          <p:spPr>
            <a:xfrm rot="10800000">
              <a:off x="2893320" y="2006280"/>
              <a:ext cx="793080" cy="326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1"/>
              <a:endCxn id="124" idx="2"/>
            </p:cNvCxnSpPr>
            <p:nvPr/>
          </p:nvCxnSpPr>
          <p:spPr>
            <a:xfrm rot="10800000">
              <a:off x="2893320" y="2006280"/>
              <a:ext cx="793080" cy="268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1"/>
              <a:endCxn id="124" idx="2"/>
            </p:cNvCxnSpPr>
            <p:nvPr/>
          </p:nvCxnSpPr>
          <p:spPr>
            <a:xfrm rot="10800000">
              <a:off x="2893320" y="2006280"/>
              <a:ext cx="79308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1"/>
              <a:endCxn id="124" idx="2"/>
            </p:cNvCxnSpPr>
            <p:nvPr/>
          </p:nvCxnSpPr>
          <p:spPr>
            <a:xfrm rot="10800000">
              <a:off x="2893320" y="2006280"/>
              <a:ext cx="793080" cy="152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57"/>
            <p:cNvCxnSpPr>
              <a:stCxn id="134" idx="1"/>
              <a:endCxn id="124" idx="2"/>
            </p:cNvCxnSpPr>
            <p:nvPr/>
          </p:nvCxnSpPr>
          <p:spPr>
            <a:xfrm rot="10800000">
              <a:off x="2893320" y="2006280"/>
              <a:ext cx="793080" cy="94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2058"/>
            <p:cNvCxnSpPr>
              <a:stCxn id="136" idx="1"/>
              <a:endCxn id="124" idx="2"/>
            </p:cNvCxnSpPr>
            <p:nvPr/>
          </p:nvCxnSpPr>
          <p:spPr>
            <a:xfrm rot="10800000">
              <a:off x="2893320" y="2006280"/>
              <a:ext cx="793080" cy="36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9"/>
            <p:cNvSpPr/>
            <p:nvPr/>
          </p:nvSpPr>
          <p:spPr>
            <a:xfrm>
              <a:off x="431640" y="158904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Gautami"/>
                </a:rPr>
                <a:t>Составляющие модели лич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60"/>
            <p:cNvSpPr/>
            <p:nvPr/>
          </p:nvSpPr>
          <p:spPr>
            <a:xfrm>
              <a:off x="3714840" y="217152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Отношение к себе и окружающи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1"/>
            <p:cNvSpPr/>
            <p:nvPr/>
          </p:nvSpPr>
          <p:spPr>
            <a:xfrm>
              <a:off x="3714840" y="275400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Мировоззрение, мироощущ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62"/>
            <p:cNvSpPr/>
            <p:nvPr/>
          </p:nvSpPr>
          <p:spPr>
            <a:xfrm>
              <a:off x="3714840" y="333684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Интеллектуальное разви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3"/>
            <p:cNvSpPr/>
            <p:nvPr/>
          </p:nvSpPr>
          <p:spPr>
            <a:xfrm>
              <a:off x="3714840" y="391932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504d"/>
                  </a:solidFill>
                  <a:latin typeface="Gautami"/>
                </a:rPr>
                <a:t>Отношение к труду, деятельности, обязанностям.</a:t>
              </a:r>
              <a:r>
                <a:rPr b="0" lang="en-US" sz="1800" spc="-1" strike="noStrike">
                  <a:solidFill>
                    <a:srgbClr val="000000"/>
                  </a:solidFill>
                  <a:latin typeface="Gautam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4"/>
            <p:cNvSpPr/>
            <p:nvPr/>
          </p:nvSpPr>
          <p:spPr>
            <a:xfrm>
              <a:off x="3714840" y="4502160"/>
              <a:ext cx="4924800" cy="38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Здоровье и здоровый образ жизн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5"/>
            <p:cNvSpPr/>
            <p:nvPr/>
          </p:nvSpPr>
          <p:spPr>
            <a:xfrm>
              <a:off x="3714840" y="5083560"/>
              <a:ext cx="4924800" cy="386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eece1"/>
                  </a:solidFill>
                  <a:latin typeface="Gautami"/>
                </a:rPr>
                <a:t>Отношение к семье, браку, любв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6"/>
            <p:cNvSpPr/>
            <p:nvPr/>
          </p:nvSpPr>
          <p:spPr>
            <a:xfrm>
              <a:off x="3714840" y="5664600"/>
              <a:ext cx="4924800" cy="38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Gautami"/>
                </a:rPr>
                <a:t>Отношение к прир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ители успешного уче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Diagram 6"/>
          <p:cNvGrpSpPr/>
          <p:nvPr/>
        </p:nvGrpSpPr>
        <p:grpSpPr>
          <a:xfrm>
            <a:off x="611280" y="2349360"/>
            <a:ext cx="4021200" cy="3600720"/>
            <a:chOff x="611280" y="2349360"/>
            <a:chExt cx="4021200" cy="3600720"/>
          </a:xfrm>
        </p:grpSpPr>
        <p:sp>
          <p:nvSpPr>
            <p:cNvPr id="139" name="_s3076"/>
            <p:cNvSpPr/>
            <p:nvPr/>
          </p:nvSpPr>
          <p:spPr>
            <a:xfrm>
              <a:off x="611280" y="3789360"/>
              <a:ext cx="2303280" cy="2160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077"/>
            <p:cNvSpPr/>
            <p:nvPr/>
          </p:nvSpPr>
          <p:spPr>
            <a:xfrm>
              <a:off x="3492360" y="4508640"/>
              <a:ext cx="636840" cy="5299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Формирование отноше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между школой и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78"/>
            <p:cNvSpPr/>
            <p:nvPr/>
          </p:nvSpPr>
          <p:spPr>
            <a:xfrm>
              <a:off x="755640" y="3933720"/>
              <a:ext cx="1944720" cy="1830600"/>
            </a:xfrm>
            <a:prstGeom prst="donut">
              <a:avLst>
                <a:gd name="adj" fmla="val 50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079"/>
            <p:cNvSpPr/>
            <p:nvPr/>
          </p:nvSpPr>
          <p:spPr>
            <a:xfrm>
              <a:off x="3995640" y="3284640"/>
              <a:ext cx="636840" cy="530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Формирование отноше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между родителями и их деть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0"/>
            <p:cNvSpPr/>
            <p:nvPr/>
          </p:nvSpPr>
          <p:spPr>
            <a:xfrm>
              <a:off x="971640" y="4149720"/>
              <a:ext cx="1512720" cy="1512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81"/>
            <p:cNvSpPr/>
            <p:nvPr/>
          </p:nvSpPr>
          <p:spPr>
            <a:xfrm>
              <a:off x="3708360" y="2349360"/>
              <a:ext cx="636480" cy="530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Качества родителей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utami"/>
                </a:rPr>
                <a:t>способных воспитать успешного 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тель успешного уче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Diagram 15"/>
          <p:cNvGrpSpPr/>
          <p:nvPr/>
        </p:nvGrpSpPr>
        <p:grpSpPr>
          <a:xfrm>
            <a:off x="2416320" y="1980720"/>
            <a:ext cx="4240080" cy="3672000"/>
            <a:chOff x="2416320" y="1980720"/>
            <a:chExt cx="4240080" cy="3672000"/>
          </a:xfrm>
        </p:grpSpPr>
        <p:sp>
          <p:nvSpPr>
            <p:cNvPr id="147" name="_s4100"/>
            <p:cNvSpPr/>
            <p:nvPr/>
          </p:nvSpPr>
          <p:spPr>
            <a:xfrm flipV="1">
              <a:off x="2416320" y="4734720"/>
              <a:ext cx="4240080" cy="91764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Карьерный рост и материа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благосостоя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01"/>
            <p:cNvSpPr/>
            <p:nvPr/>
          </p:nvSpPr>
          <p:spPr>
            <a:xfrm flipV="1">
              <a:off x="2946240" y="3817080"/>
              <a:ext cx="3179880" cy="91764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59120 h 917640"/>
                <a:gd name="textAreaBottom" fmla="*/ 75852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Самодостаточ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лич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102"/>
            <p:cNvSpPr/>
            <p:nvPr/>
          </p:nvSpPr>
          <p:spPr>
            <a:xfrm flipV="1">
              <a:off x="3476520" y="2898000"/>
              <a:ext cx="2119320" cy="91908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080"/>
                <a:gd name="textAreaBottom" fmla="*/ 717120 h 91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Твор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саморе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3"/>
            <p:cNvSpPr/>
            <p:nvPr/>
          </p:nvSpPr>
          <p:spPr>
            <a:xfrm flipV="1">
              <a:off x="4006800" y="1980360"/>
              <a:ext cx="1058760" cy="91764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640"/>
                <a:gd name="textAreaBottom" fmla="*/ 58860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Обществен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utami"/>
                </a:rPr>
                <a:t>призн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4572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стиль взаимодейств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а и ученика выбираешь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43280" y="2857320"/>
            <a:ext cx="38577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авторитарно- дог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сочувствующий или попустит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6731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3105"/>
                </a:solidFill>
                <a:latin typeface="Arial"/>
              </a:rPr>
              <a:t>демокр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comp-mouse-150.gif"/>
          <p:cNvPicPr/>
          <p:nvPr/>
        </p:nvPicPr>
        <p:blipFill>
          <a:blip r:embed="rId1"/>
          <a:stretch/>
        </p:blipFill>
        <p:spPr>
          <a:xfrm>
            <a:off x="5715000" y="42876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DSC03372"/>
          <p:cNvPicPr/>
          <p:nvPr/>
        </p:nvPicPr>
        <p:blipFill>
          <a:blip r:embed="rId2"/>
          <a:stretch/>
        </p:blipFill>
        <p:spPr>
          <a:xfrm>
            <a:off x="1403280" y="321300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86120" y="571680"/>
            <a:ext cx="4214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мократический стиль руков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43000" y="2214720"/>
            <a:ext cx="5286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косвенные формы побуждения к действию (совет,   просьб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буждение к  самостоятельности;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искренность взаимо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ереживание неудач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радость за успехи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уважение личности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создание комфортного микроклимата в кла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ддержка полезных начинаний каждого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поощрение инициативы и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3105"/>
                </a:solidFill>
                <a:latin typeface="Arial"/>
              </a:rPr>
              <a:t>оказание поддержки  каждому 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j0343341.wmf"/>
          <p:cNvPicPr/>
          <p:nvPr/>
        </p:nvPicPr>
        <p:blipFill>
          <a:blip r:embed="rId1"/>
          <a:stretch/>
        </p:blipFill>
        <p:spPr>
          <a:xfrm>
            <a:off x="2071800" y="28584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j0343299.wmf"/>
          <p:cNvPicPr/>
          <p:nvPr/>
        </p:nvPicPr>
        <p:blipFill>
          <a:blip r:embed="rId2"/>
          <a:stretch/>
        </p:blipFill>
        <p:spPr>
          <a:xfrm>
            <a:off x="6072120" y="4357800"/>
            <a:ext cx="2079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7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9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клад школы, необходимый для личностного роста ребё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школьного уклада – основы воспитания успешного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крат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заимное уважение участников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арактер социального за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сонифик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240" y="642600"/>
            <a:ext cx="7343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педсове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овать формир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едагогов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я в своей работе принципа «Успех порождает успе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j0232896.wmf"/>
          <p:cNvPicPr/>
          <p:nvPr/>
        </p:nvPicPr>
        <p:blipFill>
          <a:blip r:embed="rId1"/>
          <a:stretch/>
        </p:blipFill>
        <p:spPr>
          <a:xfrm>
            <a:off x="5715000" y="3500280"/>
            <a:ext cx="2554200" cy="270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C:\Documents and Settings\Ольга\Рабочий стол\Новая папка\BKDC0091.JPG"/>
          <p:cNvPicPr/>
          <p:nvPr/>
        </p:nvPicPr>
        <p:blipFill>
          <a:blip r:embed="rId2"/>
          <a:stretch/>
        </p:blipFill>
        <p:spPr>
          <a:xfrm>
            <a:off x="1785960" y="3786120"/>
            <a:ext cx="2852640" cy="250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User\Рабочий стол\2013\100MEDIA\100MEDIA\PTDC0350.JPG"/>
          <p:cNvPicPr/>
          <p:nvPr/>
        </p:nvPicPr>
        <p:blipFill>
          <a:blip r:embed="rId3"/>
          <a:stretch/>
        </p:blipFill>
        <p:spPr>
          <a:xfrm>
            <a:off x="1116000" y="3789360"/>
            <a:ext cx="3852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701640" y="731880"/>
            <a:ext cx="84297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13920" y="1071720"/>
            <a:ext cx="7643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Атмосфера доброжелательности в классе на протяжении всего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Снятие стра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Высокая мотивация предлагаем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Реальная помощь в продвижении к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Краткое экспрессивное воз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Педагогическая поддержка в процессе выполнения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3105"/>
                </a:solidFill>
                <a:latin typeface="Arial"/>
              </a:rPr>
              <a:t>Оцени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ситуации успеха на занятии/ урок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j0232983.wmf"/>
          <p:cNvPicPr/>
          <p:nvPr/>
        </p:nvPicPr>
        <p:blipFill>
          <a:blip r:embed="rId1"/>
          <a:stretch/>
        </p:blipFill>
        <p:spPr>
          <a:xfrm>
            <a:off x="6286680" y="4143240"/>
            <a:ext cx="219060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258920" y="115920"/>
            <a:ext cx="7705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ирование рабо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циклам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рассматривая процессы обучения и воспитания в их неразрывном един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осстановление утраченных за лето знаний умений,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) актуализация норм школьной жизни; 2) организация самоуправления: педагогического, родительского, ученического – на уровнях: личность, класс, ш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вершенствование репродуктивных умений и навыков;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1) наращивание самоуправленческого потенциала всех субъектов УВП на всех уровнях (личность, класс, шко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развитие УУД и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активное и осознанное применение навыков самоуправления всех субъектов УВП на всех его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развитие творческих умений и навыков;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ой работ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именение навыков самоуправления на творческом уровне, представление своего опыта,  самопрезентация достижений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 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 четвер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Диаграмма 2" descr=""/>
          <p:cNvPicPr/>
          <p:nvPr/>
        </p:nvPicPr>
        <p:blipFill>
          <a:blip r:embed="rId1"/>
          <a:stretch/>
        </p:blipFill>
        <p:spPr>
          <a:xfrm>
            <a:off x="1523880" y="2214720"/>
            <a:ext cx="2905200" cy="3246120"/>
          </a:xfrm>
          <a:prstGeom prst="rect">
            <a:avLst/>
          </a:prstGeom>
          <a:ln w="0">
            <a:noFill/>
          </a:ln>
        </p:spPr>
      </p:pic>
      <p:pic>
        <p:nvPicPr>
          <p:cNvPr id="168" name="Диаграмма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41432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119320" y="115920"/>
            <a:ext cx="47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ПРАВЛЕНИЯ ВОСПИТАТЕЛЬНОЙ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://school52-nvkz.ucoz.ru/_bd/1/117.jpg"/>
          <p:cNvPicPr/>
          <p:nvPr/>
        </p:nvPicPr>
        <p:blipFill>
          <a:blip r:embed="rId1"/>
          <a:stretch/>
        </p:blipFill>
        <p:spPr>
          <a:xfrm>
            <a:off x="2050920" y="2421000"/>
            <a:ext cx="2001960" cy="1700280"/>
          </a:xfrm>
          <a:prstGeom prst="rect">
            <a:avLst/>
          </a:prstGeom>
          <a:ln w="0">
            <a:noFill/>
          </a:ln>
        </p:spPr>
      </p:pic>
      <p:pic>
        <p:nvPicPr>
          <p:cNvPr id="171" name="Схема 6" descr=""/>
          <p:cNvPicPr/>
          <p:nvPr/>
        </p:nvPicPr>
        <p:blipFill>
          <a:blip r:embed="rId2"/>
          <a:stretch/>
        </p:blipFill>
        <p:spPr>
          <a:xfrm>
            <a:off x="171360" y="755640"/>
            <a:ext cx="5570640" cy="5559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5614920" y="692280"/>
            <a:ext cx="35290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направлениям воспитательной работы  в практике работы использу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неурочно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но-ценностное общ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сугово-развлекательная деятельность (досуговое общ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ристско-краевед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-92160"/>
            <a:ext cx="735804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school52-nvkz.ucoz.ru/_bd/1/1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349360"/>
            <a:ext cx="2841480" cy="2413080"/>
          </a:xfrm>
          <a:prstGeom prst="rect">
            <a:avLst/>
          </a:prstGeom>
          <a:ln w="0">
            <a:noFill/>
          </a:ln>
        </p:spPr>
      </p:pic>
      <p:pic>
        <p:nvPicPr>
          <p:cNvPr id="175" name="Схема 3" descr=""/>
          <p:cNvPicPr/>
          <p:nvPr/>
        </p:nvPicPr>
        <p:blipFill>
          <a:blip r:embed="rId4"/>
          <a:stretch/>
        </p:blipFill>
        <p:spPr>
          <a:xfrm>
            <a:off x="-19080" y="781200"/>
            <a:ext cx="6396120" cy="6040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6372360" y="1052640"/>
            <a:ext cx="266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организации внеурочн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ж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е ст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е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ьные научны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овые и науч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 полезные прак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у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103320"/>
            <a:ext cx="8772480" cy="1049040"/>
          </a:xfrm>
          <a:prstGeom prst="rect">
            <a:avLst/>
          </a:prstGeom>
          <a:ln w="0">
            <a:noFill/>
          </a:ln>
        </p:spPr>
      </p:pic>
      <p:pic>
        <p:nvPicPr>
          <p:cNvPr id="178" name="Диаграмма 3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67629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Прямоугольник 2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443800" cy="901800"/>
          </a:xfrm>
          <a:prstGeom prst="rect">
            <a:avLst/>
          </a:prstGeom>
          <a:ln w="0">
            <a:noFill/>
          </a:ln>
        </p:spPr>
      </p:pic>
      <p:pic>
        <p:nvPicPr>
          <p:cNvPr id="180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88995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9"/>
          <p:cNvSpPr/>
          <p:nvPr/>
        </p:nvSpPr>
        <p:spPr>
          <a:xfrm>
            <a:off x="395280" y="260280"/>
            <a:ext cx="1079640" cy="6408720"/>
          </a:xfrm>
          <a:prstGeom prst="rightArrowCallout">
            <a:avLst>
              <a:gd name="adj1" fmla="val 148413"/>
              <a:gd name="adj2" fmla="val 14839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1402920" y="620640"/>
            <a:ext cx="7164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1476360" y="620640"/>
            <a:ext cx="571680" cy="343080"/>
          </a:xfrm>
          <a:custGeom>
            <a:avLst/>
            <a:gdLst>
              <a:gd name="textAreaLeft" fmla="*/ 0 w 571680"/>
              <a:gd name="textAreaRight" fmla="*/ 572040 w 5716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2124000" y="549360"/>
            <a:ext cx="50292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Атмосфера доброжелательности в классе на протяжении всего ур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1547640" y="1413000"/>
            <a:ext cx="571680" cy="342720"/>
          </a:xfrm>
          <a:custGeom>
            <a:avLst/>
            <a:gdLst>
              <a:gd name="textAreaLeft" fmla="*/ 0 w 571680"/>
              <a:gd name="textAreaRight" fmla="*/ 572040 w 5716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1619280" y="227664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328464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619280" y="4149720"/>
            <a:ext cx="571320" cy="343080"/>
          </a:xfrm>
          <a:custGeom>
            <a:avLst/>
            <a:gdLst>
              <a:gd name="textAreaLeft" fmla="*/ 0 w 571320"/>
              <a:gd name="textAreaRight" fmla="*/ 571680 w 571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1692360" y="5084640"/>
            <a:ext cx="571320" cy="343080"/>
          </a:xfrm>
          <a:custGeom>
            <a:avLst/>
            <a:gdLst>
              <a:gd name="textAreaLeft" fmla="*/ 0 w 571320"/>
              <a:gd name="textAreaRight" fmla="*/ 571680 w 571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692360" y="5950080"/>
            <a:ext cx="571320" cy="342720"/>
          </a:xfrm>
          <a:custGeom>
            <a:avLst/>
            <a:gdLst>
              <a:gd name="textAreaLeft" fmla="*/ 0 w 571320"/>
              <a:gd name="textAreaRight" fmla="*/ 571680 w 571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Arial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195640" y="141300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нятие  стра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268360" y="2276640"/>
            <a:ext cx="50292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Высокая  мотивация: во имя чего?  Ради  чего?  За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268360" y="3213000"/>
            <a:ext cx="50292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Скрытая инструкция предстояще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2340000" y="407664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Краткое экспрессивное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11280" y="5013360"/>
            <a:ext cx="50292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Педагогическая поддержка в процессе выполне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411280" y="5877000"/>
            <a:ext cx="50292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  <a:ea typeface="Times New Roman"/>
              </a:rPr>
              <a:t>Оценивание действий с акцентом на детали произвед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57240" y="-655560"/>
            <a:ext cx="111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132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58680" y="5929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в творческих группа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оектированию программ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бучения и воспитания успе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3" descr="j0233028.wmf"/>
          <p:cNvPicPr/>
          <p:nvPr/>
        </p:nvPicPr>
        <p:blipFill>
          <a:blip r:embed="rId1"/>
          <a:stretch/>
        </p:blipFill>
        <p:spPr>
          <a:xfrm>
            <a:off x="1357200" y="2571840"/>
            <a:ext cx="2071800" cy="2108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j0233999.wmf"/>
          <p:cNvPicPr/>
          <p:nvPr/>
        </p:nvPicPr>
        <p:blipFill>
          <a:blip r:embed="rId2"/>
          <a:stretch/>
        </p:blipFill>
        <p:spPr>
          <a:xfrm>
            <a:off x="4000680" y="1857240"/>
            <a:ext cx="3868560" cy="4572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BS01634_.WMF"/>
          <p:cNvPicPr/>
          <p:nvPr/>
        </p:nvPicPr>
        <p:blipFill>
          <a:blip r:embed="rId3"/>
          <a:stretch/>
        </p:blipFill>
        <p:spPr>
          <a:xfrm>
            <a:off x="4552920" y="5553000"/>
            <a:ext cx="531720" cy="603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BS01634_.WMF"/>
          <p:cNvPicPr/>
          <p:nvPr/>
        </p:nvPicPr>
        <p:blipFill>
          <a:blip r:embed="rId4"/>
          <a:stretch/>
        </p:blipFill>
        <p:spPr>
          <a:xfrm>
            <a:off x="5194440" y="5553000"/>
            <a:ext cx="536400" cy="6033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BS01634_.WMF"/>
          <p:cNvPicPr/>
          <p:nvPr/>
        </p:nvPicPr>
        <p:blipFill>
          <a:blip r:embed="rId5"/>
          <a:stretch/>
        </p:blipFill>
        <p:spPr>
          <a:xfrm>
            <a:off x="5913360" y="5553000"/>
            <a:ext cx="530280" cy="6033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BS01634_.WMF"/>
          <p:cNvPicPr/>
          <p:nvPr/>
        </p:nvPicPr>
        <p:blipFill>
          <a:blip r:embed="rId6"/>
          <a:stretch/>
        </p:blipFill>
        <p:spPr>
          <a:xfrm>
            <a:off x="6626160" y="5553000"/>
            <a:ext cx="53028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43040" y="2071440"/>
            <a:ext cx="7058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комство с научно-методическими и психологическими подходами к принципу обучения и воспитания успе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знание и осмысление членами педагогического коллектива основных условий ситуации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ирование позитивных программ действий для создания ситуаций успеха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ирование навыков коллективной творческо-поисковой деятельност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067280" y="1412640"/>
            <a:ext cx="4286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8" descr="DSCN6151.JPG"/>
          <p:cNvPicPr/>
          <p:nvPr/>
        </p:nvPicPr>
        <p:blipFill>
          <a:blip r:embed="rId1"/>
          <a:stretch/>
        </p:blipFill>
        <p:spPr>
          <a:xfrm>
            <a:off x="1116000" y="18900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 ПЕДАГОГА НА УРОКЕ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765000"/>
            <a:ext cx="7705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станавливаем внимание на негатив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лыбка, добрый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нтерес к каждому ученику, великодушие по отношению к люб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ет прозвища (плохой, ленивый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авнение одного ребенка с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Отмечает «персональную исключите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Аргументирует надобность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чит алгоритму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Оценка действий ученика с акцентом на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Учитель много говорит з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Высказывает недовольство учеником, груп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Вера в способности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редупреждение и угрозы при невыполнении треб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сти 20–25 возможных вариантов (способов) сказать ученику: «Ты молодец! Отлично!»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844280"/>
            <a:ext cx="525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Это великолеп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Молоде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Ты сегодня сделал лучше, чем вч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Благодарю за работ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Вы меня порадова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Вот теперь тебя люблю я, вот теперь тебя хвалю 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Вы превзошли мои ожида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У вас сегодня все получ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Я поражена вашими знаниями, 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Уже намного лучш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Грандиоз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Поздравляю, молодец!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12" name="Рисунок 7"/>
          <p:cNvSpPr/>
          <p:nvPr/>
        </p:nvSpPr>
        <p:spPr>
          <a:xfrm>
            <a:off x="928800" y="0"/>
            <a:ext cx="821520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хема 16"/>
          <p:cNvSpPr/>
          <p:nvPr/>
        </p:nvSpPr>
        <p:spPr>
          <a:xfrm>
            <a:off x="2000160" y="1176480"/>
            <a:ext cx="53578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3"/>
          <p:cNvSpPr/>
          <p:nvPr/>
        </p:nvSpPr>
        <p:spPr>
          <a:xfrm rot="20310600">
            <a:off x="999720" y="5714640"/>
            <a:ext cx="142884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редупреждает и угрожает  по невыполнению требова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оловок 13"/>
          <p:cNvSpPr/>
          <p:nvPr/>
        </p:nvSpPr>
        <p:spPr>
          <a:xfrm>
            <a:off x="2357280" y="5214960"/>
            <a:ext cx="128592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авливает внимание на негатив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Заголовок 13"/>
          <p:cNvSpPr/>
          <p:nvPr/>
        </p:nvSpPr>
        <p:spPr>
          <a:xfrm rot="795000">
            <a:off x="3714480" y="5429160"/>
            <a:ext cx="1428840" cy="9288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ёт прозвища (плохой, ленивый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13"/>
          <p:cNvSpPr/>
          <p:nvPr/>
        </p:nvSpPr>
        <p:spPr>
          <a:xfrm rot="20940600">
            <a:off x="5352840" y="5303520"/>
            <a:ext cx="1009440" cy="792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 говорит за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0" descr="BS01634_.WMF"/>
          <p:cNvPicPr/>
          <p:nvPr/>
        </p:nvPicPr>
        <p:blipFill>
          <a:blip r:embed="rId1"/>
          <a:stretch/>
        </p:blipFill>
        <p:spPr>
          <a:xfrm>
            <a:off x="3193920" y="5979960"/>
            <a:ext cx="622440" cy="6764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9" descr="BS01634_.WMF"/>
          <p:cNvPicPr/>
          <p:nvPr/>
        </p:nvPicPr>
        <p:blipFill>
          <a:blip r:embed="rId2"/>
          <a:stretch/>
        </p:blipFill>
        <p:spPr>
          <a:xfrm>
            <a:off x="4767120" y="5913360"/>
            <a:ext cx="622440" cy="669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BS01634_.WMF"/>
          <p:cNvPicPr/>
          <p:nvPr/>
        </p:nvPicPr>
        <p:blipFill>
          <a:blip r:embed="rId3"/>
          <a:stretch/>
        </p:blipFill>
        <p:spPr>
          <a:xfrm>
            <a:off x="2054160" y="5913360"/>
            <a:ext cx="615960" cy="669960"/>
          </a:xfrm>
          <a:prstGeom prst="rect">
            <a:avLst/>
          </a:prstGeom>
          <a:ln w="0">
            <a:noFill/>
          </a:ln>
        </p:spPr>
      </p:pic>
      <p:sp>
        <p:nvSpPr>
          <p:cNvPr id="221" name="Заголовок 13"/>
          <p:cNvSpPr/>
          <p:nvPr/>
        </p:nvSpPr>
        <p:spPr>
          <a:xfrm>
            <a:off x="6500880" y="5214960"/>
            <a:ext cx="150012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 недовольство учеником, группой уче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18" descr="BS01634_.WMF"/>
          <p:cNvPicPr/>
          <p:nvPr/>
        </p:nvPicPr>
        <p:blipFill>
          <a:blip r:embed="rId4"/>
          <a:stretch/>
        </p:blipFill>
        <p:spPr>
          <a:xfrm>
            <a:off x="7412040" y="5840280"/>
            <a:ext cx="549360" cy="5907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BS01634_.WMF"/>
          <p:cNvPicPr/>
          <p:nvPr/>
        </p:nvPicPr>
        <p:blipFill>
          <a:blip r:embed="rId5"/>
          <a:stretch/>
        </p:blipFill>
        <p:spPr>
          <a:xfrm>
            <a:off x="5979960" y="5840280"/>
            <a:ext cx="622440" cy="6699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7451640" y="5516640"/>
            <a:ext cx="588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шение педсов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571400" y="1356840"/>
            <a:ext cx="4857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Администрации и педагогическому коллективу школы в своей работе ориентироваться на правила педагогической этики при работе с учащими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Каждому педагогу  школы взять  за основу предложенный  алгоритм создания ситуации успеха на уроках и во внеуроч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Классным руководителям продолжить работу  по созданию школьного портфолио уче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Запланировать и провести методический месячник «ОБУЧЕНИЕ И ВОСПИТАНИЕ УСПЕХ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3105"/>
                </a:solidFill>
                <a:latin typeface="Arial"/>
              </a:rPr>
              <a:t>Продолжить взаимопосещение занятий/ уроков учителей с целью обмена опытом по данной проблеме  в рамках методического  месячника «ОБУЧЕНИЕ И ВОСПИТАНИЕ УСПЕХО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7" descr="j0198594.wmf"/>
          <p:cNvPicPr/>
          <p:nvPr/>
        </p:nvPicPr>
        <p:blipFill>
          <a:blip r:embed="rId1"/>
          <a:stretch/>
        </p:blipFill>
        <p:spPr>
          <a:xfrm>
            <a:off x="6286680" y="1500120"/>
            <a:ext cx="227772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8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2" descr="school10a.gif"/>
          <p:cNvPicPr/>
          <p:nvPr/>
        </p:nvPicPr>
        <p:blipFill>
          <a:blip r:embed="rId1"/>
          <a:srcRect l="7899" t="-6296" r="11490" b="-5627"/>
          <a:stretch/>
        </p:blipFill>
        <p:spPr>
          <a:xfrm>
            <a:off x="3000240" y="1285920"/>
            <a:ext cx="3643560" cy="50720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3"/>
          <p:cNvSpPr/>
          <p:nvPr/>
        </p:nvSpPr>
        <p:spPr>
          <a:xfrm>
            <a:off x="3643200" y="1571760"/>
            <a:ext cx="250056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43200" y="1571760"/>
            <a:ext cx="2571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лагодари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 сотрудничест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1" descr="AG00130_.GIF"/>
          <p:cNvPicPr/>
          <p:nvPr/>
        </p:nvPicPr>
        <p:blipFill>
          <a:blip r:embed="rId2"/>
          <a:stretch/>
        </p:blipFill>
        <p:spPr>
          <a:xfrm rot="19426800">
            <a:off x="3249720" y="2285640"/>
            <a:ext cx="67284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85560" y="1000080"/>
            <a:ext cx="5915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Вступительное слово. Обоснование выбора 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Теоретическое выступление по теме: «Научно-методические и психологические основы принципа обучения и воспитания успехом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Работа в творческих группах по проектированию программ для создания ситуаций успе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резентация творческих груп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Рефлексия. Заполн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выходной карты педсове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одведение итог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73105"/>
                </a:solidFill>
                <a:latin typeface="Arial"/>
              </a:rPr>
              <a:t>Принятие ре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6731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56840" y="500040"/>
            <a:ext cx="54579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2000">
                <a:solidFill>
                  <a:srgbClr val="673105"/>
                </a:solidFill>
                <a:latin typeface="Comic Sans MS"/>
              </a:rPr>
              <a:t>План</a:t>
            </a:r>
            <a:r>
              <a:rPr b="1" lang="ru-RU" sz="2400" spc="-1" strike="noStrike" baseline="2000">
                <a:solidFill>
                  <a:srgbClr val="673105"/>
                </a:solidFill>
                <a:latin typeface="Comic Sans MS"/>
              </a:rPr>
              <a:t> </a:t>
            </a:r>
            <a:r>
              <a:rPr b="1" lang="ru-RU" sz="3600" spc="-1" strike="noStrike" baseline="2000">
                <a:solidFill>
                  <a:srgbClr val="673105"/>
                </a:solidFill>
                <a:latin typeface="Comic Sans MS"/>
              </a:rPr>
              <a:t>проведения педсовет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j0343343.wmf"/>
          <p:cNvPicPr/>
          <p:nvPr/>
        </p:nvPicPr>
        <p:blipFill>
          <a:blip r:embed="rId1"/>
          <a:stretch/>
        </p:blipFill>
        <p:spPr>
          <a:xfrm>
            <a:off x="5786280" y="3262320"/>
            <a:ext cx="294336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14520" y="142920"/>
            <a:ext cx="4786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т детей – есть люди, но с иным масштабом понятий, иными источниками опыта, иными стремлениями, иной игрой чувств»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Януш Корч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786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31640" y="189000"/>
            <a:ext cx="871236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643040" y="1285920"/>
            <a:ext cx="6786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Ничего не бойся  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Ты делаешь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Лишь на тебя надеем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и верим в твой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Получится, как над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и даже сверх т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Листок лежит здесь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Давай начнем с н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дущи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434960" y="1774800"/>
            <a:ext cx="6274080" cy="3341880"/>
            <a:chOff x="1434960" y="1774800"/>
            <a:chExt cx="6274080" cy="3341880"/>
          </a:xfrm>
        </p:grpSpPr>
        <p:sp>
          <p:nvSpPr>
            <p:cNvPr id="102" name="_s1028"/>
            <p:cNvSpPr/>
            <p:nvPr/>
          </p:nvSpPr>
          <p:spPr>
            <a:xfrm>
              <a:off x="3724200" y="2368440"/>
              <a:ext cx="1697040" cy="16970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724200" y="17748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спеш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>
              <a:off x="4282920" y="3336840"/>
              <a:ext cx="1697040" cy="169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6012000" y="46926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дач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165480" y="3336840"/>
              <a:ext cx="1697040" cy="169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1434960" y="46926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укла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к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</a:rPr>
              <a:t>По Ожегову:</a:t>
            </a: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вшийся порядок, сложившееся устройство общественной жизн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</a:rPr>
              <a:t>По Далю</a:t>
            </a: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ройство, учреждение, порядок, у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Ожегов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ча в достижении чего-либ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енное призн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результаты в работе, учё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Дал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«успеть»—достигать желае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Пользователь</cp:lastModifiedBy>
  <dcterms:modified xsi:type="dcterms:W3CDTF">2017-02-22T14:53:20Z</dcterms:modified>
  <cp:revision>128</cp:revision>
  <dc:subject/>
  <dc:title>Обучение и воспитание успехом</dc:title>
</cp:coreProperties>
</file>