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EAB-5FCE-4E28-A6A7-1987E4EA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F7E-4CA9-44E6-B44E-7669869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8D5-284A-41EE-BFDD-418D964F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CF0-7E0B-41DC-87A4-FD57550D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D37F-53F6-44BF-93EF-76C6A02C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6541-05D9-463A-B75A-BDA53D5F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ECC-ECB7-411A-911A-2D8A6BC6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D71-3AE3-47CF-BE17-5AC0B0D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DD43-D410-4A19-8C91-9817D717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9315-6498-4BE8-8CA5-DF6AA89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D244-C992-42AC-B4E8-FC28E5C2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65D-2BB5-4720-ABBC-C7972C5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B525-3A35-4D04-BF40-5EA653A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ABF2-0DFD-4403-9566-CC5D38A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781-E681-4B19-920B-60B5FD2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1D50-B727-4818-90CD-0C4FF27B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F80A-4994-499C-8E48-4B0B6F1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851-B50A-4E8D-9125-28A1B90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40F-BE75-457F-831B-A1C5CE4E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AAC-CE31-41A7-B0D1-4DC117D0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6C6-8927-4EA0-A823-9F628315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416-B90C-493E-AF15-AE12285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773-C149-4F58-900B-07CAE49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19-3E29-40EC-B0BF-6F93064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634-C85E-4551-A3A9-1FAD7D69582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63B-81FC-4855-91FA-8DD4CA99288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4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Сочинение «Что осуждается в русских баснях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10082"/>
                </a:solidFill>
                <a:latin typeface="Arial"/>
              </a:rPr>
              <a:t>учитель русского языка и литературы МБОУ «Шугуровская  средняя общеобразовательная школа» Ромашкина А</a:t>
            </a:r>
            <a:r>
              <a:rPr b="0" i="1" lang="en-US" sz="4800" spc="-1" strike="noStrike">
                <a:solidFill>
                  <a:srgbClr val="410082"/>
                </a:solidFill>
                <a:latin typeface="Arial"/>
              </a:rPr>
              <a:t>.</a:t>
            </a:r>
            <a:r>
              <a:rPr b="0" i="1" lang="ru-RU" sz="4800" spc="-1" strike="noStrike">
                <a:solidFill>
                  <a:srgbClr val="410082"/>
                </a:solidFill>
                <a:latin typeface="Arial"/>
              </a:rPr>
              <a:t> И</a:t>
            </a:r>
            <a:r>
              <a:rPr b="0" i="1" lang="en-US" sz="4800" spc="-1" strike="noStrike">
                <a:solidFill>
                  <a:srgbClr val="41008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19080"/>
            <a:ext cx="3432240" cy="1719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3157560" cy="1451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1</cp:lastModifiedBy>
  <dcterms:modified xsi:type="dcterms:W3CDTF">2017-02-22T08:39:55Z</dcterms:modified>
  <cp:revision>41</cp:revision>
  <dc:subject/>
  <dc:title>Урок литературы в 6 классе.</dc:title>
</cp:coreProperties>
</file>