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9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A118-26CB-4B2C-84AD-6A485010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AAA3-6924-4B54-9B5A-4AD13093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8497-D18C-4015-A09D-52639160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93A7-505C-4E3F-88FB-BFFE21D9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F35B-145E-4EC4-9191-28526633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3971-CFA1-4D27-A904-6BB0EE9D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2877-9F98-45D5-8BA4-E17D49D1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2CDE-FD9F-4F6D-8A60-63AAEDD3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21BB-64CA-4914-A51B-84C1C312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DF68-DB2E-4CC3-AAEF-2826F2FE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C1F4-034C-496E-B856-3E4A3A7D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D95-4479-4AE3-91E7-7BFFBF95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5B84-2E3C-4DA3-814D-3C9438BA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92C6-F20F-4E71-9BF9-3C2C7314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7C4E-C143-429A-8705-38F21434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1230-2A6B-4E84-A8B9-6ADF25B0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74CD-7608-4D77-9452-DDFE1928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82AC-679A-43CF-9131-2B5603C8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7B6-EE2C-4649-8C62-FAC6924D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3AB0-A6B4-4A37-A44A-70403ADF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E91-9A33-4C66-890C-F84E2E24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FCC-6AA5-4E8E-AC7E-EBD3F3C8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1FFA-E2A8-4CF0-BF71-FF100C72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999-C884-4F85-80AD-12892EEC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EFA3-82CF-4C1E-9B1C-20C8B127261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6416-4220-4C80-8646-D8EEC3BCF7A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426960"/>
            <a:ext cx="8229600" cy="242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23640" y="2565000"/>
            <a:ext cx="81435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10082"/>
                </a:solidFill>
                <a:latin typeface="Times New Roman"/>
              </a:rPr>
              <a:t>Обличение человеческих пороков в баснях И.А.Крылова</a:t>
            </a:r>
            <a:r>
              <a:rPr b="0" lang="ru-RU" sz="4400" spc="-1" strike="noStrike">
                <a:solidFill>
                  <a:srgbClr val="410082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360360" y="274680"/>
            <a:ext cx="3102120" cy="13716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3079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Случается нередко н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И труд и мудрость видеть та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Где стоит только догада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За дело просто взя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Содержимое 4" descr="list3_b.jpg"/>
          <p:cNvPicPr/>
          <p:nvPr/>
        </p:nvPicPr>
        <p:blipFill>
          <a:blip r:embed="rId2"/>
          <a:stretch/>
        </p:blipFill>
        <p:spPr>
          <a:xfrm>
            <a:off x="3701880" y="500040"/>
            <a:ext cx="51562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пробуйте перечислить, какие пороки человека высмеивает Крылов в басня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1. «А Васька слушает …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2. «Чтоб музыкантом быть, так надобно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3. «Хоть видит око, да зуб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4. «Ай, Моська, знать, она сильна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5. « Когда в товарищах согласья нет, на лад их дело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WordArt 5"/>
          <p:cNvSpPr txBox="1"/>
          <p:nvPr/>
        </p:nvSpPr>
        <p:spPr>
          <a:xfrm>
            <a:off x="395280" y="620640"/>
            <a:ext cx="80391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"Закончи строчку из басни Крылова"</a:t>
            </a:r>
            <a:endParaRPr b="0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54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410082"/>
                </a:solidFill>
                <a:latin typeface="Times New Roman"/>
              </a:rPr>
              <a:t>«Из каких басен Крылова   взяты эти строчки?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WordArt 14"/>
          <p:cNvGrpSpPr/>
          <p:nvPr/>
        </p:nvGrpSpPr>
        <p:grpSpPr>
          <a:xfrm>
            <a:off x="438120" y="262080"/>
            <a:ext cx="8261280" cy="1170000"/>
            <a:chOff x="438120" y="262080"/>
            <a:chExt cx="8261280" cy="1170000"/>
          </a:xfrm>
        </p:grpSpPr>
        <p:pic>
          <p:nvPicPr>
            <p:cNvPr id="114" name="WordArt 14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38120" y="262080"/>
              <a:ext cx="82612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викторин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-4182840"/>
            <a:ext cx="71280" cy="11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10082"/>
                </a:solidFill>
                <a:latin typeface="Arial"/>
              </a:rPr>
              <a:t>Уж сколько раз твердили миру, что лесть гнусна, вредна; но только всё не впрок, и в сердце льстец всегда отыщет угол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410082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410082"/>
                </a:solidFill>
                <a:latin typeface="Arial"/>
              </a:rPr>
              <a:t>(«Ворона и         Лисица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9" descr="Рисунок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920" y="836640"/>
            <a:ext cx="4714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464400"/>
            <a:ext cx="719280" cy="36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12000" y="620640"/>
            <a:ext cx="2890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Когда в товарищах согласья нет, на лад их дело не пойдёт и выйдет из него не дело, только му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(«Лебедь, Щука и Рак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1" descr="Рисунок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812880"/>
            <a:ext cx="608472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-3602880"/>
            <a:ext cx="71280" cy="91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10082"/>
                </a:solidFill>
                <a:latin typeface="Times New Roman"/>
              </a:rPr>
              <a:t>У сильного всегда бессильный винова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(«Волк и  Ягнёнок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Рисунок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6280"/>
            <a:ext cx="46432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-4477320"/>
            <a:ext cx="92160" cy="11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00720" y="1413000"/>
            <a:ext cx="418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Попрыгунья Стрекоза лето красное пропела; оглянуться не успела, как зима катит в глаз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(«Стрекоза и Муравей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9" descr="Рисунок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49360"/>
            <a:ext cx="47005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-2005200"/>
            <a:ext cx="71640" cy="91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Невежда так же в ослепленье бранит науки и ученье и все учёные труды, не чувствуя, что он вкушает их пл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10082"/>
                </a:solidFill>
                <a:latin typeface="Times New Roman"/>
              </a:rPr>
              <a:t>(«Свинья под дубом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9" descr="Фотка 0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84280"/>
            <a:ext cx="4707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-354960"/>
            <a:ext cx="946080" cy="31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87640" y="1341000"/>
            <a:ext cx="3887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Arial"/>
              </a:rPr>
              <a:t>Голодная кума Лиса залезла в сад; в нём винограду кисти рдели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Arial"/>
              </a:rPr>
              <a:t>(«Лисица и виноград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7" descr="Рисунок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81000"/>
            <a:ext cx="4716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7640" y="440640"/>
            <a:ext cx="69840" cy="61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33112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10082"/>
                </a:solidFill>
                <a:latin typeface="Times New Roman"/>
              </a:rPr>
              <a:t>Люблю, где случай есть, пороки пощипа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921e81"/>
                </a:solidFill>
                <a:latin typeface="Times New Roman"/>
              </a:rPr>
              <a:t>И.А.Кры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Содержимое 4" descr="Эггинк ИЕ.jpg"/>
          <p:cNvPicPr/>
          <p:nvPr/>
        </p:nvPicPr>
        <p:blipFill>
          <a:blip r:embed="rId1"/>
          <a:stretch/>
        </p:blipFill>
        <p:spPr>
          <a:xfrm>
            <a:off x="4143240" y="285840"/>
            <a:ext cx="44294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Times New Roman"/>
              </a:rPr>
              <a:t>Сочинение «Что осуждается в русских баснях?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410082"/>
                </a:solidFill>
                <a:latin typeface="Arial"/>
              </a:rPr>
              <a:t>учитель русского языка и литературы МБОУ «Шугуровская  средняя общеобразовательная школа» Ромашкина А</a:t>
            </a:r>
            <a:r>
              <a:rPr b="0" i="1" lang="en-US" sz="4800" spc="-1" strike="noStrike">
                <a:solidFill>
                  <a:srgbClr val="410082"/>
                </a:solidFill>
                <a:latin typeface="Arial"/>
              </a:rPr>
              <a:t>.</a:t>
            </a:r>
            <a:r>
              <a:rPr b="0" i="1" lang="ru-RU" sz="4800" spc="-1" strike="noStrike">
                <a:solidFill>
                  <a:srgbClr val="410082"/>
                </a:solidFill>
                <a:latin typeface="Arial"/>
              </a:rPr>
              <a:t> И</a:t>
            </a:r>
            <a:r>
              <a:rPr b="0" i="1" lang="en-US" sz="4800" spc="-1" strike="noStrike">
                <a:solidFill>
                  <a:srgbClr val="41008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9280" y="333360"/>
            <a:ext cx="8445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Басня  - это…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26"/>
                </a:solidFill>
                <a:latin typeface="Arial"/>
              </a:rPr>
              <a:t>краткий стихотворный или прозаический рассказ нравоучительного характера, имеющий иносказательный, аллегорический смыс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Мораль – эт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26"/>
                </a:solidFill>
                <a:latin typeface="Arial"/>
              </a:rPr>
              <a:t>начальные или заключительные строки басни с нравоучительным выво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Аллегория – это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26"/>
                </a:solidFill>
                <a:latin typeface="Arial"/>
              </a:rPr>
              <a:t>изображение предмета, за которым скрывается другое понятие или другой предм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0" y="922320"/>
            <a:ext cx="69840" cy="61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Times New Roman"/>
              </a:rPr>
              <a:t>«Осёл и Соловей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Times New Roman"/>
              </a:rPr>
              <a:t>1811 г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Содержимое 4" descr="list5_b.jpg"/>
          <p:cNvPicPr/>
          <p:nvPr/>
        </p:nvPicPr>
        <p:blipFill>
          <a:blip r:embed="rId1"/>
          <a:stretch/>
        </p:blipFill>
        <p:spPr>
          <a:xfrm>
            <a:off x="4286160" y="714240"/>
            <a:ext cx="421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Что было причиной появления басни «Осёл и Соловей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Над чем заставляет читателя смеяться баснописец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Чем восхищались современни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Почему особенно важно было показать в басне красоту пения Соловья и восхищение слушател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311040" y="-19080"/>
            <a:ext cx="3432240" cy="17193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300816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…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Избави Бог и нас  от этаких суде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Содержимое 4" descr="krylov16.gif"/>
          <p:cNvPicPr/>
          <p:nvPr/>
        </p:nvPicPr>
        <p:blipFill>
          <a:blip r:embed="rId2"/>
          <a:stretch/>
        </p:blipFill>
        <p:spPr>
          <a:xfrm>
            <a:off x="4000680" y="285840"/>
            <a:ext cx="46432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328680" y="195120"/>
            <a:ext cx="3157560" cy="14511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Как вы объясните иллюстрацию художника К.Трутовского к басне «Листы и Корни»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Почему там нет ни листов ни корн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Содержимое 4" descr="Тургенев 008.jpg"/>
          <p:cNvPicPr/>
          <p:nvPr/>
        </p:nvPicPr>
        <p:blipFill>
          <a:blip r:embed="rId2"/>
          <a:stretch/>
        </p:blipFill>
        <p:spPr>
          <a:xfrm>
            <a:off x="3714840" y="357120"/>
            <a:ext cx="50720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Что хотел сказать И.А.Крылов басней «Листы и Корни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В каких словах выражена мораль в этой басн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О каких жизненных ситуациях говорится в этих строка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281160" y="262080"/>
            <a:ext cx="3181320" cy="14810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1.Над чем смеётся баснописец в басне «Ларчик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2.Что изменилось бы в басне от перестановки ударения (на слове «просто» или «открывался»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Содержимое 4" descr="Тургенев.jpg"/>
          <p:cNvPicPr/>
          <p:nvPr/>
        </p:nvPicPr>
        <p:blipFill>
          <a:blip r:embed="rId2"/>
          <a:stretch/>
        </p:blipFill>
        <p:spPr>
          <a:xfrm>
            <a:off x="4143240" y="285840"/>
            <a:ext cx="46436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8:49:10Z</dcterms:created>
  <dc:creator>Kolpbushka333</dc:creator>
  <dc:description/>
  <dc:language>en-US</dc:language>
  <cp:lastModifiedBy>1</cp:lastModifiedBy>
  <dcterms:modified xsi:type="dcterms:W3CDTF">2017-02-22T08:39:55Z</dcterms:modified>
  <cp:revision>41</cp:revision>
  <dc:subject/>
  <dc:title>Урок литературы в 6 классе.</dc:title>
</cp:coreProperties>
</file>