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EF00-86C5-42AF-B668-9EF628A6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219E-04B0-4EBA-B637-73A58C3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545B-17FF-4703-A18A-7CD70521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E5B9-BD7C-46B1-BD86-14B77821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EA2A-DA61-45E9-AC71-E69E4C71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FD3A-28BA-4B78-8A08-1DA97CC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D8E-ED99-4866-9CF4-915CB68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78EF-99BE-433C-BCC5-DCB95C23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C06F-77C2-4020-8A18-8D7A78C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850-9144-4430-8219-F68A8B72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9208-D9A3-44D8-A085-E62E535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44EC-7A2F-4F98-A294-8ABDBA6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743B-608A-4527-9334-E90F773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C36-56BD-4553-99B2-6EE04CB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5E33-621F-482E-BF47-5DCCDF46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1E6C-94D0-4DEF-A320-E7F7D6FD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87A-AE68-400B-9E45-942EF4C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4129-B674-4DDE-8C09-AA92D4E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7FB0-9555-48E8-9DF8-492A5F2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70F9-A7FA-4C72-A6D0-C7B0906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3A6F-F5BA-4149-82CC-F0E3EEF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7E3F-4E15-4FF2-A068-0618E04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D4ED-F991-4B99-9BA6-F0164F7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23A6-6553-4FA6-ADB1-ADC1F63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982-2F03-4601-A5EC-B4A940D3C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79B7-73E2-4E59-981A-EF310E081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chools around the world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8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students of school 198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acher Tulupova 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565440" y="-1324080"/>
            <a:ext cx="14630400" cy="9753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541440" y="836640"/>
            <a:ext cx="123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Schools around the worl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22936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y the students of school 198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 Tulupova N.V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7101000"/>
            <a:ext cx="316692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ry British school has its rules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ol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y hello when you see a teac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e to school 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nd up when a teacher comes into the classro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ar your school uni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drink or eat at sch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not run in the corrid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les in our schoo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be polite to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come to school i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work hard at the les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not smo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not run in the corri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wear a school uni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s in England and America use their own marks: letters or percent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90-100 excell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-80-89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-70-79 satisfac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- 60-60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-0-59 po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rks in Russi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- excell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 satisfac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very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58920" y="40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chool uniform in Amer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uniform in our school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43000" y="-857160"/>
            <a:ext cx="11430000" cy="857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0920" y="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 uniform in ou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водная диаграмма проведенного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опрос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: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что для тебя самое важное в школе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11280" y="1989000"/>
          <a:ext cx="765324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765324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42920" y="54936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2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aim of the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492280"/>
            <a:ext cx="828036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To know more information about schools, systems of education in different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. To compare t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 To find advantages of studying in ou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опрос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цени по 10-бальной шкале следующие возможности нашей школы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Оцени по 10-балльной систем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03280" y="62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s in the wor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13372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great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kthrough in your life comes when you realize it that you can learn anything you need to learn to accomplish any goal that you set for yourself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Brian T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020000" y="6093000"/>
            <a:ext cx="2124000" cy="765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9520" cy="690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01080" y="6237360"/>
            <a:ext cx="1042920" cy="620640"/>
          </a:xfrm>
          <a:prstGeom prst="rect">
            <a:avLst/>
          </a:prstGeom>
          <a:solidFill>
            <a:srgbClr val="f571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1728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British sch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661400" y="1049760"/>
            <a:ext cx="5535360" cy="5571360"/>
            <a:chOff x="1661400" y="1049760"/>
            <a:chExt cx="5535360" cy="5571360"/>
          </a:xfrm>
        </p:grpSpPr>
        <p:sp>
          <p:nvSpPr>
            <p:cNvPr id="132" name="_s38946"/>
            <p:cNvSpPr/>
            <p:nvPr/>
          </p:nvSpPr>
          <p:spPr>
            <a:xfrm flipH="1" flipV="1">
              <a:off x="3463560" y="2353680"/>
              <a:ext cx="694440" cy="109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38945"/>
            <p:cNvSpPr/>
            <p:nvPr/>
          </p:nvSpPr>
          <p:spPr>
            <a:xfrm>
              <a:off x="2688840" y="141696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boarding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38944"/>
            <p:cNvSpPr/>
            <p:nvPr/>
          </p:nvSpPr>
          <p:spPr>
            <a:xfrm flipH="1" flipV="1">
              <a:off x="2804040" y="3125520"/>
              <a:ext cx="1169280" cy="54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8943"/>
            <p:cNvSpPr/>
            <p:nvPr/>
          </p:nvSpPr>
          <p:spPr>
            <a:xfrm>
              <a:off x="1844280" y="240804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-educationa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38942"/>
            <p:cNvSpPr/>
            <p:nvPr/>
          </p:nvSpPr>
          <p:spPr>
            <a:xfrm flipH="1">
              <a:off x="2660400" y="3954600"/>
              <a:ext cx="1274400" cy="18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38941"/>
            <p:cNvSpPr/>
            <p:nvPr/>
          </p:nvSpPr>
          <p:spPr>
            <a:xfrm>
              <a:off x="1661400" y="3704400"/>
              <a:ext cx="100260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maintain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8940"/>
            <p:cNvSpPr/>
            <p:nvPr/>
          </p:nvSpPr>
          <p:spPr>
            <a:xfrm flipH="1">
              <a:off x="3077640" y="4215600"/>
              <a:ext cx="974160" cy="85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8939"/>
            <p:cNvSpPr/>
            <p:nvPr/>
          </p:nvSpPr>
          <p:spPr>
            <a:xfrm>
              <a:off x="2197440" y="489600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prim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8936"/>
            <p:cNvSpPr/>
            <p:nvPr/>
          </p:nvSpPr>
          <p:spPr>
            <a:xfrm flipH="1">
              <a:off x="3924720" y="4369680"/>
              <a:ext cx="365760" cy="1252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8935"/>
            <p:cNvSpPr/>
            <p:nvPr/>
          </p:nvSpPr>
          <p:spPr>
            <a:xfrm>
              <a:off x="3283200" y="560340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mpehensiv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8934"/>
            <p:cNvSpPr/>
            <p:nvPr/>
          </p:nvSpPr>
          <p:spPr>
            <a:xfrm>
              <a:off x="4572000" y="4367880"/>
              <a:ext cx="359280" cy="125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8933"/>
            <p:cNvSpPr/>
            <p:nvPr/>
          </p:nvSpPr>
          <p:spPr>
            <a:xfrm>
              <a:off x="4574160" y="560340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ix-form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colleg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38932"/>
            <p:cNvSpPr/>
            <p:nvPr/>
          </p:nvSpPr>
          <p:spPr>
            <a:xfrm>
              <a:off x="4808520" y="4211280"/>
              <a:ext cx="969840" cy="85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8931"/>
            <p:cNvSpPr/>
            <p:nvPr/>
          </p:nvSpPr>
          <p:spPr>
            <a:xfrm>
              <a:off x="5659200" y="48934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nurse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38930"/>
            <p:cNvSpPr/>
            <p:nvPr/>
          </p:nvSpPr>
          <p:spPr>
            <a:xfrm>
              <a:off x="4923720" y="3950280"/>
              <a:ext cx="1274400" cy="18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38929"/>
            <p:cNvSpPr/>
            <p:nvPr/>
          </p:nvSpPr>
          <p:spPr>
            <a:xfrm>
              <a:off x="6193800" y="37018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ingle-sex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choo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8927"/>
            <p:cNvSpPr/>
            <p:nvPr/>
          </p:nvSpPr>
          <p:spPr>
            <a:xfrm flipV="1">
              <a:off x="4882680" y="3128040"/>
              <a:ext cx="1171440" cy="54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8926"/>
            <p:cNvSpPr/>
            <p:nvPr/>
          </p:nvSpPr>
          <p:spPr>
            <a:xfrm>
              <a:off x="6008760" y="240624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eco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8925"/>
            <p:cNvSpPr/>
            <p:nvPr/>
          </p:nvSpPr>
          <p:spPr>
            <a:xfrm flipV="1">
              <a:off x="4697640" y="2355480"/>
              <a:ext cx="696600" cy="109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8924"/>
            <p:cNvSpPr/>
            <p:nvPr/>
          </p:nvSpPr>
          <p:spPr>
            <a:xfrm>
              <a:off x="5164200" y="141696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gramm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8923"/>
            <p:cNvSpPr/>
            <p:nvPr/>
          </p:nvSpPr>
          <p:spPr>
            <a:xfrm flipV="1">
              <a:off x="4428000" y="2067480"/>
              <a:ext cx="0" cy="1306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8922"/>
            <p:cNvSpPr/>
            <p:nvPr/>
          </p:nvSpPr>
          <p:spPr>
            <a:xfrm>
              <a:off x="3926520" y="1049760"/>
              <a:ext cx="1002960" cy="1017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public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8921"/>
            <p:cNvSpPr/>
            <p:nvPr/>
          </p:nvSpPr>
          <p:spPr>
            <a:xfrm>
              <a:off x="3926520" y="3374280"/>
              <a:ext cx="1002960" cy="10184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school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87280" y="40464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404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chools in Rus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773360"/>
            <a:ext cx="662472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eral secondary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yceu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ymnasiu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ivate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pecialized sch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19120" y="6400800"/>
            <a:ext cx="743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9116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0T15:47:25Z</dcterms:created>
  <dc:creator>Admin</dc:creator>
  <dc:description/>
  <dc:language>en-US</dc:language>
  <cp:lastModifiedBy>Admin</cp:lastModifiedBy>
  <dcterms:modified xsi:type="dcterms:W3CDTF">2017-02-22T16:17:28Z</dcterms:modified>
  <cp:revision>8</cp:revision>
  <dc:subject/>
  <dc:title>Schools around the world</dc:title>
</cp:coreProperties>
</file>