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5E12-23B1-4F3C-B404-5CFC508E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53F3-0BFC-47CB-A075-34C72700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6EBF-BB29-49BD-B6FC-0B9AEAD8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76FC-6239-4448-B8EE-6B1B7117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DBF1-C843-4234-8A80-72D2DE99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E101-E3D6-4D00-AE51-7EA9F66E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9AB5-419D-4184-94ED-AABBF5BC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CC5A-161C-4AA6-8115-99DBBBCC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FBC2-6274-4DB8-814C-DFCADA7D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C16E-B62E-4E48-9B3D-F0B7A8ED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ED2F-C46D-4545-978D-3530DDC6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C367-E2A3-445F-AA96-09FBFE00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D159-E37A-4882-AFEA-983D3B9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9A11-4408-41C9-B53C-1F6D5D2F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BDF5-848D-48D3-8F34-3DDE9FA1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D598-464C-4135-829E-F4DF24C7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0A06-620E-4209-BBB1-F810FFAE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261E-743B-4A51-A2E8-409DAC04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9D6D-607B-4155-A3C5-B8A686B7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2F27-4C3F-4862-A35D-9861125E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D729-379B-419B-909D-CC619988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F59F-95BE-4029-816D-AA93B29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76B8-AE21-46E1-9AD5-14DECE93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5885-9022-4287-92B1-A5A903C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F347-1CBE-4609-B1E3-7B403AD9E2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9081-F5A7-4376-8A8D-0223996C04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chools around the worl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8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students of school 198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acher Tulupova 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565440" y="-1324080"/>
            <a:ext cx="14630400" cy="9753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541440" y="836640"/>
            <a:ext cx="1236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Schools around the worl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22936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y the students of school 198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acher Tulupova N.V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7101000"/>
            <a:ext cx="3166920" cy="12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ry British school has its rules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pol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y hello when you see a teac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e to school on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nd up when a teacher comes into the classro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ar your school uni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drink or eat at scho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run in the corrid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ules in our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be polite to your 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come to school in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work hard at the les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not smo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not run in the corrid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wear a school uni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s in England and America use their own marks: letters or percent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90-100 excell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-80-89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-70-79 satisfac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- 60-60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-0-59 po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s in Russia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excell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 satisfac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very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58920" y="404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chool uniform in Amer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uniform in our school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43000" y="-857160"/>
            <a:ext cx="11430000" cy="8572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0920" y="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 uniform in our scho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водная диаграмма проведенного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опрос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: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что для тебя самое важное в школе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11280" y="1989000"/>
          <a:ext cx="7653240" cy="44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765324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42920" y="54936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20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aim of the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492280"/>
            <a:ext cx="828036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 To know more information about schools, systems of education in different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. To compare t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. To find advantages of studying in our scho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опрос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: 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цени по 10-бальной шкале следующие возможности нашей школы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Оцени по 10-балльной систем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0328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s in the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13372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great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kthrough in your life comes when you realize it that you can learn anything you need to learn to accomplish any goal that you set for yourself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Brian Tra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7020000" y="6093000"/>
            <a:ext cx="2124000" cy="7650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101080" y="6237360"/>
            <a:ext cx="1042920" cy="620640"/>
          </a:xfrm>
          <a:prstGeom prst="rect">
            <a:avLst/>
          </a:prstGeom>
          <a:solidFill>
            <a:srgbClr val="f571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728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British sch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61400" y="1049760"/>
            <a:ext cx="5535360" cy="5571360"/>
            <a:chOff x="1661400" y="1049760"/>
            <a:chExt cx="5535360" cy="5571360"/>
          </a:xfrm>
        </p:grpSpPr>
        <p:sp>
          <p:nvSpPr>
            <p:cNvPr id="132" name="_s38946"/>
            <p:cNvSpPr/>
            <p:nvPr/>
          </p:nvSpPr>
          <p:spPr>
            <a:xfrm flipH="1" flipV="1">
              <a:off x="3463560" y="2353680"/>
              <a:ext cx="694440" cy="109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38945"/>
            <p:cNvSpPr/>
            <p:nvPr/>
          </p:nvSpPr>
          <p:spPr>
            <a:xfrm>
              <a:off x="2688840" y="141696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boarding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38944"/>
            <p:cNvSpPr/>
            <p:nvPr/>
          </p:nvSpPr>
          <p:spPr>
            <a:xfrm flipH="1" flipV="1">
              <a:off x="2804040" y="3125520"/>
              <a:ext cx="1169280" cy="54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8943"/>
            <p:cNvSpPr/>
            <p:nvPr/>
          </p:nvSpPr>
          <p:spPr>
            <a:xfrm>
              <a:off x="1844280" y="240804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Co-educationa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38942"/>
            <p:cNvSpPr/>
            <p:nvPr/>
          </p:nvSpPr>
          <p:spPr>
            <a:xfrm flipH="1">
              <a:off x="2660400" y="3954600"/>
              <a:ext cx="1274400" cy="18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38941"/>
            <p:cNvSpPr/>
            <p:nvPr/>
          </p:nvSpPr>
          <p:spPr>
            <a:xfrm>
              <a:off x="1661400" y="3704400"/>
              <a:ext cx="100260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maintain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8940"/>
            <p:cNvSpPr/>
            <p:nvPr/>
          </p:nvSpPr>
          <p:spPr>
            <a:xfrm flipH="1">
              <a:off x="3077640" y="4215600"/>
              <a:ext cx="974160" cy="853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38939"/>
            <p:cNvSpPr/>
            <p:nvPr/>
          </p:nvSpPr>
          <p:spPr>
            <a:xfrm>
              <a:off x="2197440" y="489600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prim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8936"/>
            <p:cNvSpPr/>
            <p:nvPr/>
          </p:nvSpPr>
          <p:spPr>
            <a:xfrm flipH="1">
              <a:off x="3924720" y="4369680"/>
              <a:ext cx="365760" cy="1252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38935"/>
            <p:cNvSpPr/>
            <p:nvPr/>
          </p:nvSpPr>
          <p:spPr>
            <a:xfrm>
              <a:off x="3283200" y="5603400"/>
              <a:ext cx="1002960" cy="10177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compehensiv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8934"/>
            <p:cNvSpPr/>
            <p:nvPr/>
          </p:nvSpPr>
          <p:spPr>
            <a:xfrm>
              <a:off x="4572000" y="4367880"/>
              <a:ext cx="359280" cy="125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38933"/>
            <p:cNvSpPr/>
            <p:nvPr/>
          </p:nvSpPr>
          <p:spPr>
            <a:xfrm>
              <a:off x="4574160" y="5603400"/>
              <a:ext cx="1002960" cy="10177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ix-form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colleg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38932"/>
            <p:cNvSpPr/>
            <p:nvPr/>
          </p:nvSpPr>
          <p:spPr>
            <a:xfrm>
              <a:off x="4808520" y="4211280"/>
              <a:ext cx="969840" cy="857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38931"/>
            <p:cNvSpPr/>
            <p:nvPr/>
          </p:nvSpPr>
          <p:spPr>
            <a:xfrm>
              <a:off x="5659200" y="489348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nurse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38930"/>
            <p:cNvSpPr/>
            <p:nvPr/>
          </p:nvSpPr>
          <p:spPr>
            <a:xfrm>
              <a:off x="4923720" y="3950280"/>
              <a:ext cx="1274400" cy="18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38929"/>
            <p:cNvSpPr/>
            <p:nvPr/>
          </p:nvSpPr>
          <p:spPr>
            <a:xfrm>
              <a:off x="6193800" y="370188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ingle-sex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chool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8927"/>
            <p:cNvSpPr/>
            <p:nvPr/>
          </p:nvSpPr>
          <p:spPr>
            <a:xfrm flipV="1">
              <a:off x="4882680" y="3128040"/>
              <a:ext cx="1171440" cy="54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8926"/>
            <p:cNvSpPr/>
            <p:nvPr/>
          </p:nvSpPr>
          <p:spPr>
            <a:xfrm>
              <a:off x="6008760" y="240624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eco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38925"/>
            <p:cNvSpPr/>
            <p:nvPr/>
          </p:nvSpPr>
          <p:spPr>
            <a:xfrm flipV="1">
              <a:off x="4697640" y="2355480"/>
              <a:ext cx="696600" cy="109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38924"/>
            <p:cNvSpPr/>
            <p:nvPr/>
          </p:nvSpPr>
          <p:spPr>
            <a:xfrm>
              <a:off x="5164200" y="141696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gramma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38923"/>
            <p:cNvSpPr/>
            <p:nvPr/>
          </p:nvSpPr>
          <p:spPr>
            <a:xfrm flipV="1">
              <a:off x="4428000" y="2067480"/>
              <a:ext cx="0" cy="13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38922"/>
            <p:cNvSpPr/>
            <p:nvPr/>
          </p:nvSpPr>
          <p:spPr>
            <a:xfrm>
              <a:off x="3926520" y="1049760"/>
              <a:ext cx="1002960" cy="10177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public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8921"/>
            <p:cNvSpPr/>
            <p:nvPr/>
          </p:nvSpPr>
          <p:spPr>
            <a:xfrm>
              <a:off x="3926520" y="337428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chool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87280" y="40464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404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chools in 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773360"/>
            <a:ext cx="662472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neral secondary sch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yceu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ymnasiu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ivate sch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pecialized sch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19120" y="6400800"/>
            <a:ext cx="743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649116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0T15:47:25Z</dcterms:created>
  <dc:creator>Admin</dc:creator>
  <dc:description/>
  <dc:language>en-US</dc:language>
  <cp:lastModifiedBy>Admin</cp:lastModifiedBy>
  <dcterms:modified xsi:type="dcterms:W3CDTF">2017-02-22T16:17:28Z</dcterms:modified>
  <cp:revision>8</cp:revision>
  <dc:subject/>
  <dc:title>Schools around the world</dc:title>
</cp:coreProperties>
</file>