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AC9-FBB6-4411-BEC5-DAE7B9BE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E500-6419-41D3-9576-C225986B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4B8F-0650-4945-871A-15F755C9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1402-6C30-4E74-BB56-734B7E42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2EDD-BBFE-4AA8-B54A-9A16D879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B1E-3C89-4F3C-97A6-8E0E5AD4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3390-2A8A-4E23-9014-4B1C5939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952-5E20-46A2-A645-937E8109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9130-CA3A-49CA-ABB1-077B9307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351-9BC7-490E-A75F-A1471CB9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08D-1D1E-4010-ADEA-9D1EA0AB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3AB-CB45-437F-96FF-3FA459E9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F82A-2000-4C0B-82CF-5F001553A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74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79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595520" y="2789280"/>
            <a:ext cx="5952960" cy="14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дные богатства Брянщи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9T15:07:35Z</dcterms:created>
  <dc:creator>KOMP</dc:creator>
  <dc:description/>
  <dc:language>en-US</dc:language>
  <cp:lastModifiedBy>KOMP</cp:lastModifiedBy>
  <dcterms:modified xsi:type="dcterms:W3CDTF">2017-01-29T15:36:50Z</dcterms:modified>
  <cp:revision>2</cp:revision>
  <dc:subject/>
  <dc:title>Слайд 1</dc:title>
</cp:coreProperties>
</file>