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055-EE63-4B78-BF63-6E6D899D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DEB-D3C4-4A73-B62E-75D00289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646-7A08-49EE-A9D8-49B3228A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EC5-E3C3-41F5-B63E-6D367209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4B2-7490-4B27-968F-099151CC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976-D07D-4A3C-84C4-9FA535C1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2CD-0018-4B49-88C6-6B822C43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2F0-9A51-422E-A8C1-146AE218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0C5A-4EE3-484F-B417-CFA76959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EB3-5571-465C-962A-2ED0A846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DA1-8BE7-4F6C-8ED1-43BDE43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57B-C627-48AC-B6C9-DA561F2D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7F12-F8A8-4425-8FC7-BEFCC6CED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9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595520" y="2789280"/>
            <a:ext cx="595296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дные богатства Брянщи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9T15:07:35Z</dcterms:created>
  <dc:creator>KOMP</dc:creator>
  <dc:description/>
  <dc:language>en-US</dc:language>
  <cp:lastModifiedBy>KOMP</cp:lastModifiedBy>
  <dcterms:modified xsi:type="dcterms:W3CDTF">2017-01-29T15:36:50Z</dcterms:modified>
  <cp:revision>2</cp:revision>
  <dc:subject/>
  <dc:title>Слайд 1</dc:title>
</cp:coreProperties>
</file>