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BB96-ADA1-4556-A8D2-CC519EA4E0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6AA6-8D45-4D26-9B22-8D58B33254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09C2-A75C-4EA8-9CBB-79398983C7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808A-6618-47DD-B8CE-0329A0B2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B922-9FB7-438B-8ABF-02CEC42C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E732-757F-4097-AFF3-26659577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A3D9-B6B4-4C61-9444-D0363B40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11D2-B4DD-4107-9ADB-6157DA50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0F3B-F92D-4790-BFEE-82285B88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09AA-9E62-4FF3-A9D0-37B51A82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5534-B092-47A8-BE58-B60BD6AC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10E6-8817-4670-B96A-64794D87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63DA-3D48-49D3-9440-687119E9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E4AE-731E-4F4C-9618-644F5E83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72BF-9602-4F65-9CDB-5B52C88E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DE04-2489-4864-892C-3209B3C064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http://2.bp.blogspot.com/-Om-WBSuu_1E/UVSq9ePy0_I/AAAAAAAAAFM/c3WSPWZwUl8/s220/%25D0%259A%25D0%25B0%25D1%2580%25D1%2582%25D0%25BE%25D1%2587%25D0%25BA%25D0%25B0%2B%25D0%2594%25D0%25B5%25D1%2582%25D1%2581%25D0%25B0%25D0%25B4%2B8%2B7.png"/>
          <p:cNvPicPr/>
          <p:nvPr/>
        </p:nvPicPr>
        <p:blipFill>
          <a:blip r:embed="rId1"/>
          <a:stretch/>
        </p:blipFill>
        <p:spPr>
          <a:xfrm>
            <a:off x="357120" y="500040"/>
            <a:ext cx="80010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4294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История возникновения копилк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713880" y="1214280"/>
            <a:ext cx="8215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рс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 происхождении копилки существуе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скольк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рической родиной копилки считаю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ерманию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ам они появились в 17 веке в виде кружек или иной ёмкости для сбора пожертв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другим источникам считают, что копилки родом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 Кит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Там появились копилк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винь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.к. в этой стране свинья считается символом достатка и процвет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1000080" y="571680"/>
            <a:ext cx="7572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http://mdou202-teremok.ucoz.ru/v/metod.jpg"/>
          <p:cNvPicPr/>
          <p:nvPr/>
        </p:nvPicPr>
        <p:blipFill>
          <a:blip r:embed="rId1"/>
          <a:stretch/>
        </p:blipFill>
        <p:spPr>
          <a:xfrm>
            <a:off x="1000080" y="285840"/>
            <a:ext cx="750096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тодическая копилк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42600" y="1214280"/>
            <a:ext cx="8001000" cy="514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толковому словарю Ефремовой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опилк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- это знания, опыт, которыми кто-либо располага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ировой и отечественный опыт оценивания качества труда педагога свидетельствуют о том, что всем этим условиям соответствует такой метод предъявления профессионализма  деятельности  учителя как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етодическая копилка учител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http://www.wiki.vladimir.i-edu.ru/images/thumb/f/f4/%D0%9A%D0%BE%D0%BF%D0%B8%D0%BB%D0%BA%D0%B0.jpg/175px-%D0%9A%D0%BE%D0%BF%D0%B8%D0%BB%D0%BA%D0%B0.jpg"/>
          <p:cNvPicPr/>
          <p:nvPr/>
        </p:nvPicPr>
        <p:blipFill>
          <a:blip r:embed="rId1"/>
          <a:stretch/>
        </p:blipFill>
        <p:spPr>
          <a:xfrm>
            <a:off x="642960" y="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Методическая копилка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чителя – это совокупность документов, которые необходимы для организации учебно-методической деятельности учителя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5" descr="http://aktalant.ru/uploads/image/30725.12.jpg"/>
          <p:cNvPicPr/>
          <p:nvPr/>
        </p:nvPicPr>
        <p:blipFill>
          <a:blip r:embed="rId1"/>
          <a:stretch/>
        </p:blipFill>
        <p:spPr>
          <a:xfrm>
            <a:off x="1714680" y="285840"/>
            <a:ext cx="36432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Под методической копилкой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дагога  подразумевается всё то, что учитель считает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ужным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ля  своей работы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Разработки  лучших уроков, мероприятий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Презентации к урокам, к  внеклассным мероприятиям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.Наглядные  и учебные средства для организации деятельности учащихся.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.Карточки, тесты, задания и т.д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.Методическая литература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стематизированный склад-библиоте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не только готовых материалов по предмету (интересные статьи коллег, планы уроков, тесты, контрольные и проверочные работы, таблицы, плакаты и т. п.), но и вообще всего, что может когда-либо понадобиться учителю в его работ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2" descr="http://abc.wmxufa.ru/wp-content/uploads/2013/07/catalog-300x287-150x150.gif"/>
          <p:cNvPicPr/>
          <p:nvPr/>
        </p:nvPicPr>
        <p:blipFill>
          <a:blip r:embed="rId1"/>
          <a:stretch/>
        </p:blipFill>
        <p:spPr>
          <a:xfrm>
            <a:off x="857160" y="0"/>
            <a:ext cx="32148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зависимости от специфики предмета и интересов самого учителя тут могут быть отдельные занимательные задачи/задания, тексты, загадки, афоризмы, описания новаторских методов и подходов, красивый иллюстративный материал, подборки из журналов и так далее. В методическую копилку  набирают то, с чем будут работа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Методическая копилка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 это не только и не столько сумма или набор каких либо работ, а целенаправленная  педагогическая деятельность в единстве с теоретической, практической и самообразовательной деятельностью педагога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57120" y="2499840"/>
            <a:ext cx="842976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Методическая копилка учителя (педагога) – это рабочее понятие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 наполнении копилки мы ориентируемся на будуще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совсем необязательно всё это богатство плод работы одного только хозяина копилки. Учитель (педагог) может не быть автором  работ в своей коллекции. Разве это помешает профессионалу грамотно ею пользоваться в своей работе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4" descr="http://tom-bgschool.edu.tomsk.ru/wp-content/uploads/image/14.JPG"/>
          <p:cNvPicPr/>
          <p:nvPr/>
        </p:nvPicPr>
        <p:blipFill>
          <a:blip r:embed="rId1"/>
          <a:stretch/>
        </p:blipFill>
        <p:spPr>
          <a:xfrm>
            <a:off x="714240" y="500040"/>
            <a:ext cx="25005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БОУ «СОШ» с. Хову-Ак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320" y="157176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898989"/>
                </a:solidFill>
                <a:latin typeface="Calibri"/>
              </a:rPr>
              <a:t>Семинар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898989"/>
                </a:solidFill>
                <a:latin typeface="Calibri"/>
              </a:rPr>
              <a:t>для  аттестующихся учителей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898989"/>
                </a:solidFill>
                <a:latin typeface="Calibri"/>
              </a:rPr>
              <a:t>Тема лекции: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642960" y="3857760"/>
            <a:ext cx="814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Методическая копилка педагога» 18 .12.2013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едагогический опыт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это тоже своего рода методическая копилка, определённый уровень профессиональной квалификации и компетентности педагог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4" descr="http://tvorite.ru/uploads/posts/2011-09/1315207317_1309505176_sova.jpg"/>
          <p:cNvPicPr/>
          <p:nvPr/>
        </p:nvPicPr>
        <p:blipFill>
          <a:blip r:embed="rId1"/>
          <a:stretch/>
        </p:blipFill>
        <p:spPr>
          <a:xfrm>
            <a:off x="571680" y="285840"/>
            <a:ext cx="22143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едагогический опыт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это практика, содержащая в себе элементы творческого поиска, новизны, оригинальности, экономичность, оптимальность и  эстетичность  средств обучения, а также глубина, прочность и системность знаний учащихс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общая свой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едагогический опыт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читель оформляет его в виде доклада или статьи, методической разработки или брошюры, рекомендаций или книги и т.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МУЛЬТИМЕДИЙНАЯ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 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МЕТОДИЧЕСКАЯ КОПИЛКА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 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УЧИТЕЛ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ТО БАНК ЦИФРОВЫХ ОБРАЗОВАТЕЛЬНЫХ РЕСУРСОВ, В ТОМ ЧИСЛЕ И РЕСУРСОВ МЕТОДИЧЕСКОЙ ПОДДЕРЖКИ УЧИТЕЛЕЙ, КОТОРЫЙ ПОСТОЯННО ПОПОЛНЯЕТСЯ И ФОРМИРУЕТСЯ УЧИТЕЛЕМ С УЧЕТОМ ПРЕДМЕТНОЙ НАПРАВЛЕННОСТИ И ЦЕЛИ ИСПОЛЬЗОВАНИЯ В УЧЕБНОМ ПРОЦЕССЕ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2" descr="http://tapisarevskaya.rusedu.net/gallery/1415/378.gif"/>
          <p:cNvPicPr/>
          <p:nvPr/>
        </p:nvPicPr>
        <p:blipFill>
          <a:blip r:embed="rId1"/>
          <a:stretch/>
        </p:blipFill>
        <p:spPr>
          <a:xfrm>
            <a:off x="642960" y="0"/>
            <a:ext cx="2928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АЙТЫ ШКОЛ И СОБСТВЕННЫЕ САЙТЫ ПЕДАГОГОВ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СЕТЕВЫЕ СООБЩЕСТВА УЧИТЕЛЕЙ-ПРЕДМЕТНИКОВ, САЙТЫ МЕТОДИЧЕСКОЙ ПОМОЩИ, ГДЕ МОЖНО НАЙТИ НЕ ТОЛЬКО РАЗРАБОТКИ С КОНСПЕКТАМИ УРОКОВ, НО</a:t>
            </a: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И ПОУЧАСТВОВАТЬ В МАСТЕР-КЛАССАХ, ОБМЕНЯТЬСЯ ОПЫТОМ ПОЛУЧИТЬ КОНСУЛЬТАЦИЮ ПО ТЕОРЕТИЧЕСКИМ ВОПРОСА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УЧИТЕЛЬСКИЕ БЛОГИ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. В НИХ МОЖНО НАЙТИ БОЛЬШОЕ КОЛИЧЕСТВО ПОЛЕЗНОЙ ИНФОРМАЦИИ И МЕТОДИЧЕСКИХ ИДЕЙ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ИНТЕРНЕТ-ЖУРНАЛ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ПО ПРЕДМЕТАМ, ПО ВОПРОСАМ ИСПОЛЬЗОВАНИЯ ИКТ В ОБУЧЕНИИ ОТДЕЛЬНЫМ ПРЕДМЕТАМ, ИНТЕРНЕТ-ВЕРСИИ ПЕЧАТНЫХ МЕТОДИЧЕСКИХ ЖУРНАЛОВ, ИНТЕРНЕТ-ВЕРСИИ УЧЕБНИКОВ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АЙТЫ С ОБУЧАЮЩИМИ МАТЕРИАЛАМИ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: УПРАЖНЕНИЯМИ ПО РАЗЛИЧНЫМ СТОРОНАМ РЕЧИ И ВИДАМ РЕЧЕВОЙ ДЕЯТЕЛЬНОСТИ, ТЕКСТАМИ ДЛЯ ЧТЕНИЯ И АУДИРОВАНИЯ.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САЙТЫ,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НА КОТОРЫХ УЧИТЕЛЯ  ВЫКЛАДЫВАЮТ СОБСТВЕННЫЙ ГОТОВЫЙ РАЗДАТОЧНЫЙ МАТЕРИАЛ В ВИДЕ УПРАЖНЕН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щё существуют большие образовательные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ртал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с тысячами работ по различным предметам. Ведут свою работу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орумы,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где можно обсудить с коллегами всё, что угодно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формационные ресурсы для педагогов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В Интернете доступны электронные версии многих газет и журналов, посвященных вопросам воспитания 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ния, базы рефератов, диссертаций, энциклопедии, электронные толковые словари, виртуальные учебники, информация о важных событиях и мероприятиях в сфере педагогической науки и образования, законодательные и нормативные документы разных уровней. Некоторые порталы и сайты, которые оказывают значительную помощь в поиске информации по вопросам воспитания и образования, приведены ниже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Федеральный портал Российское образование: http://www.edu.ru/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оссийский общеобразовательный портал: http://www.school.edu.ru/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инистерство образования и науки РФ: http://www.mon.gov.ru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Федеральное агентство по образованию РФ": http://www.ed.gov.ru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 лек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928800" y="1357200"/>
            <a:ext cx="72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Что такое копил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357120" y="221472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 История возникновения копил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428760" y="300024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. Методическая копилка педаго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инистерство образования Московской области: http://www.mo.mosreg.ru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У Педагогическая академия: http://www.pacad.ru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ссийская Государственная Библиотека: http://www.rsl.ru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сударственная публичная научно-техническая библиотека: http://www.gpntb.ru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сударственная научная педагогическая библиотека им. К.Д. Ушинского: http://www.gnpbu.r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2" descr="http://ped-kopilka.ru/upload/blogs/d290df30ae513bcfed2f14f331f8b320.png.jpg"/>
          <p:cNvPicPr/>
          <p:nvPr/>
        </p:nvPicPr>
        <p:blipFill>
          <a:blip r:embed="rId1"/>
          <a:stretch/>
        </p:blipFill>
        <p:spPr>
          <a:xfrm>
            <a:off x="1643040" y="285840"/>
            <a:ext cx="635796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ортфолио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это полное собрание собственных достижений, своеобразное дось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2" descr="http://tapisarevskaya.rusedu.net/gallery/1415/vorona3.jpg"/>
          <p:cNvPicPr/>
          <p:nvPr/>
        </p:nvPicPr>
        <p:blipFill>
          <a:blip r:embed="rId1"/>
          <a:stretch/>
        </p:blipFill>
        <p:spPr>
          <a:xfrm>
            <a:off x="1601640" y="428760"/>
            <a:ext cx="4899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ртфель достижений учителя, потому что в него входят 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олько те материалы из копилки, автором или соавтором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которых является хозяин портфоли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2" descr="http://tom-bgschool.edu.tomsk.ru/wp-content/uploads/image/14.JPG"/>
          <p:cNvPicPr/>
          <p:nvPr/>
        </p:nvPicPr>
        <p:blipFill>
          <a:blip r:embed="rId1"/>
          <a:stretch/>
        </p:blipFill>
        <p:spPr>
          <a:xfrm>
            <a:off x="500040" y="285840"/>
            <a:ext cx="3571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дставленные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 портфолио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атериалы оцениваются как свидетельства профессионализма учителя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В разделе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Методическая работа» учитель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речисляет современные образовательные технологии, используемые в работе. Указывает эффективные приёмы и формы организации деятельности учащихся, виды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чебных средств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ля организации деятельности учащихся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амообразовани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– это профессиональное совершенствование учителя посредством самообразовательной, рефлексивной деятель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черкнём также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ажность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для учителя желания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аморазвит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 этом отметил ещё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.Д.Ушинский,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учитель живёт до тех пор, пока он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читс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, как только он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ерестаёт учитьс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, в нём умирает учител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,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 такое копил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0040" y="1785960"/>
            <a:ext cx="84297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ПИЛК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ер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рание чего-нибудь занимательного, цен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. курьезов ”собрание занимательных фактов”. В копилку зн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ПИЛК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местилище с узкой щелью для опускания монет с целью накоп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лковый словар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жег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5010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опилка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, копилки, ж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большой ящичек или кружка с узким отверстием для опускания монет в целях сбережения их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олковый словарь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шаков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57120" y="2928600"/>
            <a:ext cx="850104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0" name="Рисунок 5" descr=""/>
          <p:cNvPicPr/>
          <p:nvPr/>
        </p:nvPicPr>
        <p:blipFill>
          <a:blip r:embed="rId1"/>
          <a:stretch/>
        </p:blipFill>
        <p:spPr>
          <a:xfrm>
            <a:off x="357120" y="3000240"/>
            <a:ext cx="3786120" cy="35719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http://abc.wmxufa.ru/wp-content/themes/Kontur/Kontur/timthumb.php?src=http://abc.wmxufa.ru/wp-content/uploads/2013/07/sunduk_.png&amp;h=170&amp;w=260&amp;q=50&amp;zc=1"/>
          <p:cNvPicPr/>
          <p:nvPr/>
        </p:nvPicPr>
        <p:blipFill>
          <a:blip r:embed="rId2"/>
          <a:stretch/>
        </p:blipFill>
        <p:spPr>
          <a:xfrm>
            <a:off x="4000680" y="2928960"/>
            <a:ext cx="4714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) Маленький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ящичек или шкатулка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узким отверстием для опускания туда монет с целью их сбережения, накопления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м. и ж. разг.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от, кто любит копить деньги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) перен. разг.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нания, опыт,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торыми кто-либо располагает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олковый словарь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Ефремово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опи́лк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— ёмкость или специальное приспособление для хранения и накопления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нет или бон.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адиционная копилка представляет собой полую керамическую фигурку, изображающую животных, фрукты, овощи и т. д., с небольшой прорезью, в которую опускаются монеты или боны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"/>
          <p:cNvPicPr/>
          <p:nvPr/>
        </p:nvPicPr>
        <p:blipFill>
          <a:blip r:embed="rId1"/>
          <a:stretch/>
        </p:blipFill>
        <p:spPr>
          <a:xfrm>
            <a:off x="428760" y="571680"/>
            <a:ext cx="3643200" cy="59292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"/>
          <p:cNvPicPr/>
          <p:nvPr/>
        </p:nvPicPr>
        <p:blipFill>
          <a:blip r:embed="rId2"/>
          <a:stretch/>
        </p:blipFill>
        <p:spPr>
          <a:xfrm>
            <a:off x="4572000" y="571680"/>
            <a:ext cx="42861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пил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могут быть предназначены дл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дноразового и многоразовог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ния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в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е имеют отверстия для выемки денег, и после наполнения их разбивают. Поэтому они чаще всего изготавливаются из керамики, гипса или фарфор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ногоразовы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пилки могут быть сделаны из различных материалов — стекла, дерева, металла, пластика — и иметь разнообразную форму, начиная от прозрачной коробочки и заканчивая макетом сейфа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1-12-31T23:18:48Z</dcterms:modified>
  <cp:revision>35</cp:revision>
  <dc:subject/>
  <dc:title>МБОУ «НОШ» с. Хову-Аксы</dc:title>
</cp:coreProperties>
</file>