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8DA-8884-4C3D-ACD5-EF693A533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0939-DDB0-4C42-A94C-E4DDD5BFD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A99E-5445-4A65-A08A-273A84B426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235-28B6-42A6-8A36-EABF99E7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E80-9A6C-45DB-9C0E-19AC536E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E35-11DD-45C8-9960-47B0241C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7AA-CB31-483D-85EF-8CE71389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702-C93F-4899-83D9-CE06C64F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0B2-2960-4865-AAA1-8F816D5D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021-674B-4E2E-A2C5-79EAF8C3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7C6-B38E-4F42-8062-9370318E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3DE-58AC-4E81-9ECB-C1841702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D82-1B8A-4A53-BFAB-823DADE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E6F-DA10-4053-85FD-4667558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3B7-24E7-4D1B-B727-1A9B1F07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4C69-4E05-4091-B0E5-066B7C01D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http://2.bp.blogspot.com/-Om-WBSuu_1E/UVSq9ePy0_I/AAAAAAAAAFM/c3WSPWZwUl8/s220/%25D0%259A%25D0%25B0%25D1%2580%25D1%2582%25D0%25BE%25D1%2587%25D0%25BA%25D0%25B0%2B%25D0%2594%25D0%25B5%25D1%2582%25D1%2581%25D0%25B0%25D0%25B4%2B8%2B7.png"/>
          <p:cNvPicPr/>
          <p:nvPr/>
        </p:nvPicPr>
        <p:blipFill>
          <a:blip r:embed="rId1"/>
          <a:stretch/>
        </p:blipFill>
        <p:spPr>
          <a:xfrm>
            <a:off x="357120" y="500040"/>
            <a:ext cx="8001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История возникновения копил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13880" y="121428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 происхождении копилки существу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сколь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ой родиной копилки счит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рманию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м они появились в 17 веке в виде кружек или иной ёмкости для сбора пожер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ругим источникам считают, что копилки род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Кит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м появились копилк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инь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в этой стране свинья считается символом достатка и процве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572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http://mdou202-teremok.ucoz.ru/v/metod.jpg"/>
          <p:cNvPicPr/>
          <p:nvPr/>
        </p:nvPicPr>
        <p:blipFill>
          <a:blip r:embed="rId1"/>
          <a:stretch/>
        </p:blipFill>
        <p:spPr>
          <a:xfrm>
            <a:off x="1000080" y="285840"/>
            <a:ext cx="7500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ческая копил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8001000" cy="514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толковому словарю Ефремовой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пил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это знания, опыт, которыми кто-либо располаг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ровой и отечественный опыт оценивания качества труда педагога свидетельствуют о том, что всем этим условиям соответствует такой метод предъявления профессионализма  деятельности  учителя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ическая копилка учи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http://www.wiki.vladimir.i-edu.ru/images/thumb/f/f4/%D0%9A%D0%BE%D0%BF%D0%B8%D0%BB%D0%BA%D0%B0.jpg/175px-%D0%9A%D0%BE%D0%BF%D0%B8%D0%BB%D0%BA%D0%B0.jpg"/>
          <p:cNvPicPr/>
          <p:nvPr/>
        </p:nvPicPr>
        <p:blipFill>
          <a:blip r:embed="rId1"/>
          <a:stretch/>
        </p:blipFill>
        <p:spPr>
          <a:xfrm>
            <a:off x="642960" y="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етодическая копилка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я – это совокупность документов, которые необходимы для организации учебно-методической деятельности учител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http://aktalant.ru/uploads/image/30725.12.jpg"/>
          <p:cNvPicPr/>
          <p:nvPr/>
        </p:nvPicPr>
        <p:blipFill>
          <a:blip r:embed="rId1"/>
          <a:stretch/>
        </p:blipFill>
        <p:spPr>
          <a:xfrm>
            <a:off x="1714680" y="285840"/>
            <a:ext cx="3643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д методической копилкой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дагога  подразумевается всё то, что учитель считает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жным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 своей работ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Разработки  лучших уроков, мероприяти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Презентации к урокам, к  внеклассным мероприятия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Наглядные  и учебные средства для организации деятельности учащихся.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Карточки, тесты, задания и т.д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Методическая литерату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тизированный склад-библиот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 только готовых материалов по предмету (интересные статьи коллег, планы уроков, тесты, контрольные и проверочные работы, таблицы, плакаты и т. п.), но и вообще всего, что может когда-либо понадобиться учителю в его рабо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abc.wmxufa.ru/wp-content/uploads/2013/07/catalog-300x287-150x150.gif"/>
          <p:cNvPicPr/>
          <p:nvPr/>
        </p:nvPicPr>
        <p:blipFill>
          <a:blip r:embed="rId1"/>
          <a:stretch/>
        </p:blipFill>
        <p:spPr>
          <a:xfrm>
            <a:off x="857160" y="0"/>
            <a:ext cx="32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зависимости от специфики предмета и интересов самого учителя тут могут быть отдельные занимательные задачи/задания, тексты, загадки, афоризмы, описания новаторских методов и подходов, красивый иллюстративный материал, подборки из журналов и так далее. В методическую копилку  набирают то, с чем будут работ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етодическая копил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не только и не столько сумма или набор каких либо работ, а целенаправленная  педагогическая деятельность в единстве с теоретической, практической и самообразовательной деятельностью педагог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57120" y="2499840"/>
            <a:ext cx="8429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етодическая копилка учителя (педагога) – это рабочее поняти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наполнении копилки мы ориентируемся на будуще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совсем необязательно всё это богатство плод работы одного только хозяина копилки. Учитель (педагог) может не быть автором  работ в своей коллекции. Разве это помешает профессионалу грамотно ею пользоваться в своей работ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tom-bgschool.edu.tomsk.ru/wp-content/uploads/image/14.JPG"/>
          <p:cNvPicPr/>
          <p:nvPr/>
        </p:nvPicPr>
        <p:blipFill>
          <a:blip r:embed="rId1"/>
          <a:stretch/>
        </p:blipFill>
        <p:spPr>
          <a:xfrm>
            <a:off x="714240" y="500040"/>
            <a:ext cx="2500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БОУ «СОШ» с. Хову-Ак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5717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Семинар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для  аттестующихся учителей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98989"/>
                </a:solidFill>
                <a:latin typeface="Calibri"/>
              </a:rPr>
              <a:t>Тема лекции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42960" y="385776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Методическая копилка педагога» 18 .12.201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тоже своего рода методическая копилка, определённый уровень профессиональной квалификации и компетентности педаго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http://tvorite.ru/uploads/posts/2011-09/1315207317_1309505176_sova.jpg"/>
          <p:cNvPicPr/>
          <p:nvPr/>
        </p:nvPicPr>
        <p:blipFill>
          <a:blip r:embed="rId1"/>
          <a:stretch/>
        </p:blipFill>
        <p:spPr>
          <a:xfrm>
            <a:off x="571680" y="285840"/>
            <a:ext cx="2214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практика, содержащая в себе элементы творческого поиска, новизны, оригинальности, экономичность, оптимальность и  эстетичность  средств обучения, а также глубина, прочность и системность знаний учащих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бщая свой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дагогический опыт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 оформляет его в виде доклада или статьи, методической разработки или брошюры, рекомендаций или книги и т.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ЛЬТИМЕДИЙНАЯ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ЕТОДИЧЕСКАЯ КОПИЛКА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ИТЕЛ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БАНК ЦИФРОВЫХ ОБРАЗОВАТЕЛЬНЫХ РЕСУРСОВ, В ТОМ ЧИСЛЕ И РЕСУРСОВ МЕТОДИЧЕСКОЙ ПОДДЕРЖКИ УЧИТЕЛЕЙ, КОТОРЫЙ ПОСТОЯННО ПОПОЛНЯЕТСЯ И ФОРМИРУЕТСЯ УЧИТЕЛЕМ С УЧЕТОМ ПРЕДМЕТНОЙ НАПРАВЛЕННОСТИ И ЦЕЛИ ИСПОЛЬЗОВАНИЯ В УЧЕБНОМ ПРОЦЕССЕ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http://tapisarevskaya.rusedu.net/gallery/1415/378.gif"/>
          <p:cNvPicPr/>
          <p:nvPr/>
        </p:nvPicPr>
        <p:blipFill>
          <a:blip r:embed="rId1"/>
          <a:stretch/>
        </p:blipFill>
        <p:spPr>
          <a:xfrm>
            <a:off x="642960" y="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ЙТЫ ШКОЛ И СОБСТВЕННЫЕ САЙТЫ ПЕДАГОГО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СЕТЕВЫЕ СООБЩЕСТВА УЧИТЕЛЕЙ-ПРЕДМЕТНИКОВ, САЙТЫ МЕТОДИЧЕСКОЙ ПОМОЩИ, ГДЕ МОЖНО НАЙТИ НЕ ТОЛЬКО РАЗРАБОТКИ С КОНСПЕКТАМИ УРОКОВ, НО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ОУЧАСТВОВАТЬ В МАСТЕР-КЛАССАХ, ОБМЕНЯТЬСЯ ОПЫТОМ ПОЛУЧИТЬ КОНСУЛЬТАЦИЮ ПО ТЕОРЕТИЧЕСКИМ ВОПРОС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ИТЕЛЬСКИЕ БЛОГ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В НИХ МОЖНО НАЙТИ БОЛЬШОЕ КОЛИЧЕСТВО ПОЛЕЗНОЙ ИНФОРМАЦИИ И МЕТОДИЧЕСКИХ ИДЕЙ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НТЕРНЕТ-ЖУРНАЛ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ПО ПРЕДМЕТАМ, ПО ВОПРОСАМ ИСПОЛЬЗОВАНИЯ ИКТ В ОБУЧЕНИИ ОТДЕЛЬНЫМ ПРЕДМЕТАМ, ИНТЕРНЕТ-ВЕРСИИ ПЕЧАТНЫХ МЕТОДИЧЕСКИХ ЖУРНАЛОВ, ИНТЕРНЕТ-ВЕРСИИ УЧЕБНИКОВ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ЙТЫ С ОБУЧАЮЩИМИ МАТЕРИАЛ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 УПРАЖНЕНИЯМИ ПО РАЗЛИЧНЫМ СТОРОНАМ РЕЧИ И ВИДАМ РЕЧЕВОЙ ДЕЯТЕЛЬНОСТИ, ТЕКСТАМИ ДЛЯ ЧТЕНИЯ И АУДИРОВАНИЯ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АЙТЫ,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НА КОТОРЫХ УЧИТЕЛЯ  ВЫКЛАДЫВАЮТ СОБСТВЕННЫЙ ГОТОВЫЙ РАЗДАТОЧНЫЙ МАТЕРИАЛ В ВИДЕ УПРАЖНЕ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щё существуют большие образовательные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ртал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 тысячами работ по различным предметам. Ведут свою работу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умы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где можно обсудить с коллегами всё, что угодн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 для педагогов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В Интернете доступны электронные версии многих газет и журналов, посвященных вопросам воспитания 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, базы рефератов, диссертаций, энциклопедии, электронные толковые словари, виртуальные учебники, информация о важных событиях и мероприятиях в сфере педагогической науки и образования, законодательные и нормативные документы разных уровней. Некоторые порталы и сайты, которые оказывают значительную помощь в поиске информации по вопросам воспитания и образования, приведены ниже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едеральный портал Российское образование: http://www.edu.ru/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ссийский общеобразовательный портал: http://www.school.edu.ru/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Ф: http://www.mon.gov.ru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едеральное агентство по образованию РФ": http://www.ed.gov.ru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928800" y="1357200"/>
            <a:ext cx="72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Что такое копил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57120" y="221472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История возникновения копи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28760" y="30002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Методическая копилка педаго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истерство образования Московской области: http://www.mo.mosreg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У Педагогическая академия: http://www.pacad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Государственная Библиотека: http://www.rsl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сударственная публичная научно-техническая библиотека: http://www.gpntb.ru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сударственная научная педагогическая библиотека им. К.Д. Ушинского: http://www.gnpbu.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2" descr="http://ped-kopilka.ru/upload/blogs/d290df30ae513bcfed2f14f331f8b320.png.jpg"/>
          <p:cNvPicPr/>
          <p:nvPr/>
        </p:nvPicPr>
        <p:blipFill>
          <a:blip r:embed="rId1"/>
          <a:stretch/>
        </p:blipFill>
        <p:spPr>
          <a:xfrm>
            <a:off x="1643040" y="285840"/>
            <a:ext cx="63579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фолио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это полное собрание собственных достижений, своеобразное дось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http://tapisarevskaya.rusedu.net/gallery/1415/vorona3.jpg"/>
          <p:cNvPicPr/>
          <p:nvPr/>
        </p:nvPicPr>
        <p:blipFill>
          <a:blip r:embed="rId1"/>
          <a:stretch/>
        </p:blipFill>
        <p:spPr>
          <a:xfrm>
            <a:off x="1601640" y="428760"/>
            <a:ext cx="4899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ртфель достижений учителя, потому что в него входят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ько те материалы из копилки, автором или соавтор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которых является хозяин портфоли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http://tom-bgschool.edu.tomsk.ru/wp-content/uploads/image/14.JPG"/>
          <p:cNvPicPr/>
          <p:nvPr/>
        </p:nvPicPr>
        <p:blipFill>
          <a:blip r:embed="rId1"/>
          <a:stretch/>
        </p:blipFill>
        <p:spPr>
          <a:xfrm>
            <a:off x="500040" y="28584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ставленны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портфолио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териалы оцениваются как свидетельства профессионализма учител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раздел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Методическая работа» учитель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числяет современные образовательные технологии, используемые в работе. Указывает эффективные приёмы и формы организации деятельности учащихся, виды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ебных средств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ля организации деятельности учащихс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ообразова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– это профессиональное совершенствование учителя посредством самообразовательной, рефлексив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черкнём такж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ж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для учителя желани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моразвит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 этом отметил ещё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.Д.Ушинский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читель живёт до тех пор, пока 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итс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как только он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таёт учитьс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в нём умирает уч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копил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ер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рание чего-нибудь занимательного, ц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курьезов ”собрание занимательных фактов”. В копилку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местилище с узкой щелью для опускания монет с целью нако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ег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пилка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, копилки, ж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ольшой ящичек или кружка с узким отверстием для опускания монет в целях сбережения их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шако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292860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1"/>
          <a:stretch/>
        </p:blipFill>
        <p:spPr>
          <a:xfrm>
            <a:off x="357120" y="3000240"/>
            <a:ext cx="378612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http://abc.wmxufa.ru/wp-content/themes/Kontur/Kontur/timthumb.php?src=http://abc.wmxufa.ru/wp-content/uploads/2013/07/sunduk_.png&amp;h=170&amp;w=260&amp;q=50&amp;zc=1"/>
          <p:cNvPicPr/>
          <p:nvPr/>
        </p:nvPicPr>
        <p:blipFill>
          <a:blip r:embed="rId2"/>
          <a:stretch/>
        </p:blipFill>
        <p:spPr>
          <a:xfrm>
            <a:off x="4000680" y="2928960"/>
            <a:ext cx="4714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Маленький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щичек или шкатулк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узким отверстием для опускания туда монет с целью их сбережения, накопления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м. и ж. разг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от, кто любит копить деньг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перен. разг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ния, опыт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торыми кто-либо располагает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ковый словарь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фремово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пи́л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— ёмкость или специальное приспособление для хранения и накоплени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нет или бон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адиционная копилка представляет собой полую керамическую фигурку, изображающую животных, фрукты, овощи и т. д., с небольшой прорезью, в которую опускаются монеты или боны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3643200" cy="5929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4286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пил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огут быть предназначены дл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норазового и многоразов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я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 имеют отверстия для выемки денег, и после наполнения их разбивают. Поэтому они чаще всего изготавливаются из керамики, гипса или фарфор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разов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лки могут быть сделаны из различных материалов — стекла, дерева, металла, пластика — и иметь разнообразную форму, начиная от прозрачной коробочки и заканчивая макетом сейф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01-12-31T23:18:48Z</dcterms:modified>
  <cp:revision>35</cp:revision>
  <dc:subject/>
  <dc:title>МБОУ «НОШ» с. Хову-Аксы</dc:title>
</cp:coreProperties>
</file>