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8FB-BA0F-4E8B-871C-F1F3F43D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D03-E7C5-45EB-8D31-87A715EC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E55-8140-49C0-9048-EAE45139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050-24C3-4306-92BB-395209F3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74E-F280-464C-9953-400179C4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981-0AC1-4B8D-986D-80B084A7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51B-BE03-4BB3-AD77-D5944A43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12A-22C0-4030-941E-392AC42D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B02-9D7E-4B56-80BD-B4ACE769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65E-9306-4A82-AB4C-C167B5AD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242-796A-4411-A8F0-92FF28A4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357-0D22-4C3F-8DAE-E4B66373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58BB-8B24-4EED-8F94-547681055F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Arial"/>
              </a:rPr>
              <a:t>Безопасный Интернет – детя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ezopas_in-t_1_5"/>
          <p:cNvPicPr/>
          <p:nvPr/>
        </p:nvPicPr>
        <p:blipFill>
          <a:blip r:embed="rId1"/>
          <a:stretch/>
        </p:blipFill>
        <p:spPr>
          <a:xfrm>
            <a:off x="1547640" y="2060640"/>
            <a:ext cx="60487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становите четкие правила пользования интернетом для своего ребенка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2562120"/>
            <a:ext cx="8569080" cy="302004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несколько четких и жестких правил для ребенка, чтобы контролировать расписание, время подключения и способ использования им интернета. Убедитесь, что установленные правила выполняются. Особенно важно контролировать выход ребенка в интернет в ночное врем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1265711355_day_internet"/>
          <p:cNvPicPr/>
          <p:nvPr/>
        </p:nvPicPr>
        <p:blipFill>
          <a:blip r:embed="rId1"/>
          <a:stretch/>
        </p:blipFill>
        <p:spPr>
          <a:xfrm>
            <a:off x="4572000" y="4437000"/>
            <a:ext cx="3843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013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ебенок должен понять, что его виртуальный собеседник может выдавать себя за другого. 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11280" y="1696680"/>
            <a:ext cx="7416720" cy="3020040"/>
          </a:xfrm>
          <a:prstGeom prst="rect">
            <a:avLst/>
          </a:prstGeom>
          <a:solidFill>
            <a:srgbClr val="8d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м возможности видеть и слышать других пользователей легко воспользоваться. И 10-летний друг вашего ребенка по чату в реальности может оказаться злоумышленником. Поэтому запретите ребенку назначать встречи с виртуальными знакомым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gbi3"/>
          <p:cNvPicPr/>
          <p:nvPr/>
        </p:nvPicPr>
        <p:blipFill>
          <a:blip r:embed="rId1"/>
          <a:stretch/>
        </p:blipFill>
        <p:spPr>
          <a:xfrm>
            <a:off x="4643280" y="371628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Не разрешайте ребенку предоставлять личную информацию через интернет.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268280"/>
            <a:ext cx="5616720" cy="558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ку нужно знать, что нельзя через интернет давать сведения о своем имени, возрасте, номере телефона, номере школы или домашнем адресе, и т.д. Убедитесь, что у него нет доступа к номеру кредитной карты или банковским данным. Научите ребенка использовать прозвища (ники) при общении через интернет: анонимность - отличный способ защиты. Не выкладывайте фотографии ребенка на веб-страницах или публичных форума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Безымянный17"/>
          <p:cNvPicPr/>
          <p:nvPr/>
        </p:nvPicPr>
        <p:blipFill>
          <a:blip r:embed="rId1"/>
          <a:stretch/>
        </p:blipFill>
        <p:spPr>
          <a:xfrm>
            <a:off x="5796000" y="2637000"/>
            <a:ext cx="31701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градите ребенка от ненадлежащего веб-содержи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36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е его, как следует поступать при столкновении с подозрительным материалом, расскажите, что не нужно нажимать на ссылки в электронных сообщениях от неизвестных источников, открывать различные вложения. Такие ссылки могут вести на нежелательные сайты, или содержать вирусы, которые заразят ваш компьютер. Удаляйте с вашего компьютера следы информации, которую нежелательно обнаружить вашему ребенку (журнал событий браузера, электронные сообщения, документы и т.д.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езымянный19"/>
          <p:cNvPicPr/>
          <p:nvPr/>
        </p:nvPicPr>
        <p:blipFill>
          <a:blip r:embed="rId1"/>
          <a:stretch/>
        </p:blipFill>
        <p:spPr>
          <a:xfrm>
            <a:off x="3708360" y="4705200"/>
            <a:ext cx="30956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становите на компьютер антивирусную программ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07520" cy="1224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ий антивирус – союзник в защите вашего ребенка от опасностей интернета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700"/>
            </a:br>
            <a:br>
              <a:rPr sz="900"/>
            </a:br>
            <a:br>
              <a:rPr sz="9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Безымянный8"/>
          <p:cNvPicPr/>
          <p:nvPr/>
        </p:nvPicPr>
        <p:blipFill>
          <a:blip r:embed="rId1"/>
          <a:stretch/>
        </p:blipFill>
        <p:spPr>
          <a:xfrm>
            <a:off x="2340000" y="3284640"/>
            <a:ext cx="402732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6:33:12Z</dcterms:created>
  <dc:creator>Formoza</dc:creator>
  <dc:description/>
  <dc:language>en-US</dc:language>
  <cp:lastModifiedBy>Елена</cp:lastModifiedBy>
  <dcterms:modified xsi:type="dcterms:W3CDTF">2015-02-05T18:28:28Z</dcterms:modified>
  <cp:revision>9</cp:revision>
  <dc:subject/>
  <dc:title>Безопасный интеренет – детям!</dc:title>
</cp:coreProperties>
</file>