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203-34A4-45CE-A81B-A2E1031E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039-7B76-4704-BC51-15DAD2F2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56F-FF02-484D-B1A3-22989B2E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B1C-9B3B-42A4-BCA7-A933B4AD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A53-D210-442B-8055-7B55E3C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03C-D823-4056-AEA6-968E253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8D0-6AA4-425A-BBC3-DBB9AC9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0DA-CA63-40F3-BFCC-1249272B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FB2-DAEA-4155-8A26-443FA4D0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44D-C786-4190-B3B3-DDBE4F9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2D5-EB4B-4F49-9950-0C1DECE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93A-1533-47C7-A0B5-1219EFF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F3E-C696-4580-8485-ED95D54EC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Arial"/>
              </a:rPr>
              <a:t>Безопасный Интернет – детя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zopas_in-t_1_5"/>
          <p:cNvPicPr/>
          <p:nvPr/>
        </p:nvPicPr>
        <p:blipFill>
          <a:blip r:embed="rId1"/>
          <a:stretch/>
        </p:blipFill>
        <p:spPr>
          <a:xfrm>
            <a:off x="1547640" y="2060640"/>
            <a:ext cx="60487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становите четкие правила пользования интернетом для своего ребенка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2562120"/>
            <a:ext cx="8569080" cy="302004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несколько четких и жестких правил для ребенка, чтобы контролировать расписание, время подключения и способ использования им интернета. Убедитесь, что установленные правила выполняются. Особенно важно контролировать выход ребенка в интернет в ночное врем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265711355_day_internet"/>
          <p:cNvPicPr/>
          <p:nvPr/>
        </p:nvPicPr>
        <p:blipFill>
          <a:blip r:embed="rId1"/>
          <a:stretch/>
        </p:blipFill>
        <p:spPr>
          <a:xfrm>
            <a:off x="4572000" y="4437000"/>
            <a:ext cx="3843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013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ебенок должен понять, что его виртуальный собеседник может выдавать себя за другого.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11280" y="1696680"/>
            <a:ext cx="7416720" cy="302004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gbi3"/>
          <p:cNvPicPr/>
          <p:nvPr/>
        </p:nvPicPr>
        <p:blipFill>
          <a:blip r:embed="rId1"/>
          <a:stretch/>
        </p:blipFill>
        <p:spPr>
          <a:xfrm>
            <a:off x="4643280" y="3716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Не разрешайте ребенку предоставлять личную информацию через интернет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268280"/>
            <a:ext cx="5616720" cy="558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Безымянный17"/>
          <p:cNvPicPr/>
          <p:nvPr/>
        </p:nvPicPr>
        <p:blipFill>
          <a:blip r:embed="rId1"/>
          <a:stretch/>
        </p:blipFill>
        <p:spPr>
          <a:xfrm>
            <a:off x="5796000" y="2637000"/>
            <a:ext cx="31701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градите ребенка от ненадлежащего веб-содержи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36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 (журнал событий браузера, электронные сообщения, документы и т.д.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зымянный19"/>
          <p:cNvPicPr/>
          <p:nvPr/>
        </p:nvPicPr>
        <p:blipFill>
          <a:blip r:embed="rId1"/>
          <a:stretch/>
        </p:blipFill>
        <p:spPr>
          <a:xfrm>
            <a:off x="3708360" y="4705200"/>
            <a:ext cx="30956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становите на компьютер антивирусную программ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07520" cy="1224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ий антивирус – союзник в защите вашего ребенка от опасностей интернета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700"/>
            </a:br>
            <a:br>
              <a:rPr sz="900"/>
            </a:br>
            <a:br>
              <a:rPr sz="9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Безымянный8"/>
          <p:cNvPicPr/>
          <p:nvPr/>
        </p:nvPicPr>
        <p:blipFill>
          <a:blip r:embed="rId1"/>
          <a:stretch/>
        </p:blipFill>
        <p:spPr>
          <a:xfrm>
            <a:off x="2340000" y="3284640"/>
            <a:ext cx="402732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6:33:12Z</dcterms:created>
  <dc:creator>Formoza</dc:creator>
  <dc:description/>
  <dc:language>en-US</dc:language>
  <cp:lastModifiedBy>Елена</cp:lastModifiedBy>
  <dcterms:modified xsi:type="dcterms:W3CDTF">2015-02-05T18:28:28Z</dcterms:modified>
  <cp:revision>9</cp:revision>
  <dc:subject/>
  <dc:title>Безопасный интеренет – детям!</dc:title>
</cp:coreProperties>
</file>