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42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7.jpeg" ContentType="image/jpeg"/>
  <Override PartName="/ppt/media/image13.png" ContentType="image/png"/>
  <Override PartName="/ppt/media/image27.jpeg" ContentType="image/jpeg"/>
  <Override PartName="/ppt/media/image50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30.jpeg" ContentType="image/jpeg"/>
  <Override PartName="/ppt/media/image9.jpeg" ContentType="image/jpeg"/>
  <Override PartName="/ppt/media/image28.jpeg" ContentType="image/jpeg"/>
  <Override PartName="/ppt/media/image51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045C-770B-4B12-86DD-DD1A218A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45B-2C0E-4E33-9C80-9BB8B39F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3195-F26F-4606-BBA4-8961F37F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EB93-ACF3-4632-AC6C-40D3547C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56CE-01A9-4F21-8152-DC57180B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F7BB-FAC8-4D35-9BBA-6CEDA9CB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D3A3-E0FE-4812-8E77-9F9B8A8C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81B8-C618-4888-AAC1-51FE0FD3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E65D-D170-45F6-B946-353E2B66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85FF-D79A-42E2-BEDD-B8ADCBA8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DB75-CE35-4607-B5F0-14A63CCC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B7B9-9965-4F52-A146-13461CF0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42FE-4DCA-4CC8-862D-EE8B3495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9A8B-57D3-44C9-9E76-7905FDB6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1581-72F0-4A5E-8EF1-7751262A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3541-7698-4A58-9104-10BBBA17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C316-366F-47A3-9966-67DDAD2B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F882-5FC4-435D-B442-D8328E9A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CD46-3A55-4745-9486-EB8EA519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DD4F-B57E-4708-A8DE-7B3CDE90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8805-9417-4B9B-9B33-E4103605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C20C-4269-4EF6-823A-2178F615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0C18-9FC1-4296-8792-77996002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79FD-0527-4D52-BAA9-6BE652B9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D06E-B531-4632-82D9-B8CF3BF5C5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B86B-6875-4209-A17A-E6104166982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c9e6"/>
                </a:solidFill>
                <a:latin typeface="Arial"/>
              </a:rPr>
              <a:t>МОАУ СОШ №1</a:t>
            </a:r>
            <a:br>
              <a:rPr sz="2400"/>
            </a:br>
            <a:r>
              <a:rPr b="1" lang="ru-RU" sz="2400" spc="-1" strike="noStrike">
                <a:solidFill>
                  <a:srgbClr val="edc9e6"/>
                </a:solidFill>
                <a:latin typeface="Arial"/>
              </a:rPr>
              <a:t>Научно-исследовательский проект на тему </a:t>
            </a:r>
            <a:br>
              <a:rPr sz="2400"/>
            </a:br>
            <a:r>
              <a:rPr b="1" lang="ru-RU" sz="2400" spc="-1" strike="noStrike">
                <a:solidFill>
                  <a:srgbClr val="edc9e6"/>
                </a:solidFill>
                <a:latin typeface="Arial"/>
              </a:rPr>
              <a:t>«Человеческим возможностям нет предела»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99920"/>
            <a:ext cx="8540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r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ил: ученик 4 «А»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r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АУ СОШ №1 г. Шимановска                                                                                           Кучеренко Михаи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r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ководитель работы: Влавацкая О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r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r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r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ctr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ctr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ctr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15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6" descr="DSCF0615"/>
          <p:cNvPicPr/>
          <p:nvPr/>
        </p:nvPicPr>
        <p:blipFill>
          <a:blip r:embed="rId1"/>
          <a:stretch/>
        </p:blipFill>
        <p:spPr>
          <a:xfrm>
            <a:off x="179280" y="1628640"/>
            <a:ext cx="3456000" cy="309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атамаран</a:t>
            </a:r>
            <a:br>
              <a:rPr sz="4000"/>
            </a:b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На катамаране вместо колес, применялись маленькие лодки, похожие на водные лыжи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9" name="Picture 4" descr="фото 2015 106"/>
          <p:cNvPicPr/>
          <p:nvPr/>
        </p:nvPicPr>
        <p:blipFill>
          <a:blip r:embed="rId1"/>
          <a:stretch/>
        </p:blipFill>
        <p:spPr>
          <a:xfrm>
            <a:off x="316080" y="1676520"/>
            <a:ext cx="8439120" cy="4422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апирусное судно древних египтян </a:t>
            </a:r>
            <a:br>
              <a:rPr sz="4000"/>
            </a:b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Парус - одно из самых великих изобретений всех времен и народов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Picture 4" descr="фото 2015 111"/>
          <p:cNvPicPr/>
          <p:nvPr/>
        </p:nvPicPr>
        <p:blipFill>
          <a:blip r:embed="rId1"/>
          <a:stretch/>
        </p:blipFill>
        <p:spPr>
          <a:xfrm>
            <a:off x="395280" y="1773360"/>
            <a:ext cx="8406000" cy="489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Древнеегипетский корабль</a:t>
            </a:r>
            <a:br>
              <a:rPr sz="4000"/>
            </a:b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Египтяне заострили переднюю и заднюю часть плота и сделали борта повыше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3" name="Picture 4" descr="Древнеегипетский корабль"/>
          <p:cNvPicPr/>
          <p:nvPr/>
        </p:nvPicPr>
        <p:blipFill>
          <a:blip r:embed="rId1"/>
          <a:stretch/>
        </p:blipFill>
        <p:spPr>
          <a:xfrm>
            <a:off x="468360" y="1600200"/>
            <a:ext cx="8207280" cy="4924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Одна из моделей корабля фараона </a:t>
            </a:r>
            <a:br>
              <a:rPr sz="4000"/>
            </a:b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Древние египтяне придумали– руль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5" name="Picture 4" descr="Одна из моделей корабля фараона"/>
          <p:cNvPicPr/>
          <p:nvPr/>
        </p:nvPicPr>
        <p:blipFill>
          <a:blip r:embed="rId1"/>
          <a:stretch/>
        </p:blipFill>
        <p:spPr>
          <a:xfrm>
            <a:off x="539640" y="1916280"/>
            <a:ext cx="8136000" cy="4392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финикийский корабль"/>
          <p:cNvPicPr/>
          <p:nvPr/>
        </p:nvPicPr>
        <p:blipFill>
          <a:blip r:embed="rId1"/>
          <a:stretch/>
        </p:blipFill>
        <p:spPr>
          <a:xfrm>
            <a:off x="3429000" y="3699000"/>
            <a:ext cx="5715000" cy="315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Греческий корабль"/>
          <p:cNvPicPr/>
          <p:nvPr/>
        </p:nvPicPr>
        <p:blipFill>
          <a:blip r:embed="rId2"/>
          <a:stretch/>
        </p:blipFill>
        <p:spPr>
          <a:xfrm>
            <a:off x="0" y="0"/>
            <a:ext cx="5987880" cy="32860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6"/>
          <p:cNvSpPr/>
          <p:nvPr/>
        </p:nvSpPr>
        <p:spPr>
          <a:xfrm>
            <a:off x="0" y="4653000"/>
            <a:ext cx="29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никийский кораб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Прямоугольник 7" descr=""/>
          <p:cNvPicPr/>
          <p:nvPr/>
        </p:nvPicPr>
        <p:blipFill>
          <a:blip r:embed="rId3"/>
          <a:stretch/>
        </p:blipFill>
        <p:spPr>
          <a:xfrm>
            <a:off x="6076800" y="165240"/>
            <a:ext cx="2603520" cy="1054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Финикийская бирема</a:t>
            </a:r>
            <a:br>
              <a:rPr sz="4400"/>
            </a:b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Корабль в два «этажа»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1" name="Picture 4" descr="Финикийская бирема"/>
          <p:cNvPicPr/>
          <p:nvPr/>
        </p:nvPicPr>
        <p:blipFill>
          <a:blip r:embed="rId1"/>
          <a:stretch/>
        </p:blipFill>
        <p:spPr>
          <a:xfrm>
            <a:off x="468360" y="1773360"/>
            <a:ext cx="8064360" cy="4535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Финикийская трирема</a:t>
            </a:r>
            <a:br>
              <a:rPr sz="4000"/>
            </a:b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«Трехэтажные» корабли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Picture 4" descr="Финикийская трирема"/>
          <p:cNvPicPr/>
          <p:nvPr/>
        </p:nvPicPr>
        <p:blipFill>
          <a:blip r:embed="rId1"/>
          <a:stretch/>
        </p:blipFill>
        <p:spPr>
          <a:xfrm>
            <a:off x="468360" y="1700280"/>
            <a:ext cx="8136000" cy="4608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ентера – один из самых крупных римских кораблей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5" name="Picture 4" descr="фото 2015 117"/>
          <p:cNvPicPr/>
          <p:nvPr/>
        </p:nvPicPr>
        <p:blipFill>
          <a:blip r:embed="rId1"/>
          <a:stretch/>
        </p:blipFill>
        <p:spPr>
          <a:xfrm>
            <a:off x="1357200" y="2071800"/>
            <a:ext cx="5889600" cy="3512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Дракар – корабль викингов</a:t>
            </a:r>
            <a:br>
              <a:rPr sz="4000"/>
            </a:b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Корабль достигал в длину 25 метров и мог плыть как под парусом, так и на веслах.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7" name="Picture 4" descr="Дракар – корабль викингов"/>
          <p:cNvPicPr/>
          <p:nvPr/>
        </p:nvPicPr>
        <p:blipFill>
          <a:blip r:embed="rId1"/>
          <a:stretch/>
        </p:blipFill>
        <p:spPr>
          <a:xfrm>
            <a:off x="1857240" y="2071800"/>
            <a:ext cx="6104160" cy="3609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оч поморов</a:t>
            </a:r>
            <a:br>
              <a:rPr sz="4000"/>
            </a:b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Долговечный и прочный корабль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9" name="Picture 4" descr="Коч поморов"/>
          <p:cNvPicPr/>
          <p:nvPr/>
        </p:nvPicPr>
        <p:blipFill>
          <a:blip r:embed="rId1"/>
          <a:stretch/>
        </p:blipFill>
        <p:spPr>
          <a:xfrm>
            <a:off x="1428840" y="2214720"/>
            <a:ext cx="6175440" cy="3552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бъект исследования: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стория строительства корабле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ель: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тразить искусство кораблестрое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адачи исследован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зучить  историю кораблестроения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знакомиться с видами корабле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знать какие существуют корабли в наше врем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оказать, что постройка кораблей всегда опиралась на весь арсенал наук и ремесел, на опыт профессионалов и техническое искусство инженеров, в свою очередь отражавших стиль жизни, мировоззрение людей и их общие устремле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«Санта-Мария» - корабль Колумба</a:t>
            </a:r>
            <a:br>
              <a:rPr sz="4000"/>
            </a:b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Длинной около 29 метров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1" name="Picture 4" descr="«Санта-Мария» - корабль Колумба"/>
          <p:cNvPicPr/>
          <p:nvPr/>
        </p:nvPicPr>
        <p:blipFill>
          <a:blip r:embed="rId1"/>
          <a:stretch/>
        </p:blipFill>
        <p:spPr>
          <a:xfrm>
            <a:off x="1500120" y="2214720"/>
            <a:ext cx="6072120" cy="3579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фото 2015 133"/>
          <p:cNvPicPr/>
          <p:nvPr/>
        </p:nvPicPr>
        <p:blipFill>
          <a:blip r:embed="rId1"/>
          <a:stretch/>
        </p:blipFill>
        <p:spPr>
          <a:xfrm>
            <a:off x="0" y="620640"/>
            <a:ext cx="3851280" cy="27370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5" descr="фото 2015 136"/>
          <p:cNvPicPr/>
          <p:nvPr/>
        </p:nvPicPr>
        <p:blipFill>
          <a:blip r:embed="rId2"/>
          <a:stretch/>
        </p:blipFill>
        <p:spPr>
          <a:xfrm>
            <a:off x="4932360" y="620640"/>
            <a:ext cx="4211640" cy="2737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Баркентина"/>
          <p:cNvPicPr/>
          <p:nvPr/>
        </p:nvPicPr>
        <p:blipFill>
          <a:blip r:embed="rId3"/>
          <a:stretch/>
        </p:blipFill>
        <p:spPr>
          <a:xfrm>
            <a:off x="1928880" y="3860640"/>
            <a:ext cx="5211720" cy="299736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8" descr=""/>
          <p:cNvPicPr/>
          <p:nvPr/>
        </p:nvPicPr>
        <p:blipFill>
          <a:blip r:embed="rId4"/>
          <a:stretch/>
        </p:blipFill>
        <p:spPr>
          <a:xfrm>
            <a:off x="2987640" y="3187800"/>
            <a:ext cx="2432160" cy="62856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9" descr=""/>
          <p:cNvPicPr/>
          <p:nvPr/>
        </p:nvPicPr>
        <p:blipFill>
          <a:blip r:embed="rId5"/>
          <a:stretch/>
        </p:blipFill>
        <p:spPr>
          <a:xfrm>
            <a:off x="6431040" y="-96840"/>
            <a:ext cx="1285920" cy="62712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10" descr=""/>
          <p:cNvPicPr/>
          <p:nvPr/>
        </p:nvPicPr>
        <p:blipFill>
          <a:blip r:embed="rId6"/>
          <a:stretch/>
        </p:blipFill>
        <p:spPr>
          <a:xfrm>
            <a:off x="1176480" y="-96840"/>
            <a:ext cx="1261800" cy="627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Фрегат</a:t>
            </a:r>
            <a:br>
              <a:rPr sz="4000"/>
            </a:b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На военном фрегате можно было разместить до 80 пушек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9" name="Picture 4" descr="Фрегат"/>
          <p:cNvPicPr/>
          <p:nvPr/>
        </p:nvPicPr>
        <p:blipFill>
          <a:blip r:embed="rId1"/>
          <a:stretch/>
        </p:blipFill>
        <p:spPr>
          <a:xfrm>
            <a:off x="539640" y="1773360"/>
            <a:ext cx="8209080" cy="4608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Ботик Петра 1</a:t>
            </a:r>
            <a:br>
              <a:rPr sz="4000"/>
            </a:b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Родоначальник русского военного флота принято считать маленькое суденышко - ботик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1" name="Picture 4" descr="Ботик Петра 1"/>
          <p:cNvPicPr/>
          <p:nvPr/>
        </p:nvPicPr>
        <p:blipFill>
          <a:blip r:embed="rId1"/>
          <a:stretch/>
        </p:blipFill>
        <p:spPr>
          <a:xfrm>
            <a:off x="539640" y="1700280"/>
            <a:ext cx="8209080" cy="475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Русский военный корабль «Орел» </a:t>
            </a: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В 1669 году был построен первый русский военный корабль «Орел».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3" name="Picture 4" descr="Русский военный корабль «Орел»"/>
          <p:cNvPicPr/>
          <p:nvPr/>
        </p:nvPicPr>
        <p:blipFill>
          <a:blip r:embed="rId1"/>
          <a:stretch/>
        </p:blipFill>
        <p:spPr>
          <a:xfrm>
            <a:off x="684360" y="1600200"/>
            <a:ext cx="7848360" cy="4853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92000" y="404280"/>
            <a:ext cx="3779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b7e7ff"/>
                </a:solidFill>
                <a:latin typeface="Arial"/>
              </a:rPr>
              <a:t>Линейный корабль «Полтава»</a:t>
            </a:r>
            <a:br>
              <a:rPr sz="2800"/>
            </a:b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Можно разместить 54 пушки 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5" name="Picture 4" descr="Линейный корабль «Полтава»"/>
          <p:cNvPicPr/>
          <p:nvPr/>
        </p:nvPicPr>
        <p:blipFill>
          <a:blip r:embed="rId1"/>
          <a:stretch/>
        </p:blipFill>
        <p:spPr>
          <a:xfrm>
            <a:off x="5651640" y="0"/>
            <a:ext cx="3492360" cy="20829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755640" y="2781360"/>
            <a:ext cx="34560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7e7ff"/>
                </a:solidFill>
                <a:latin typeface="Arial"/>
              </a:rPr>
              <a:t>Шнява «Мункер» </a:t>
            </a:r>
            <a:br>
              <a:rPr sz="2800"/>
            </a:b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Можно разместить 14 пуше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Шнява «Мункер»"/>
          <p:cNvPicPr/>
          <p:nvPr/>
        </p:nvPicPr>
        <p:blipFill>
          <a:blip r:embed="rId2"/>
          <a:stretch/>
        </p:blipFill>
        <p:spPr>
          <a:xfrm>
            <a:off x="4284720" y="2060640"/>
            <a:ext cx="3840120" cy="223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Фрегат «Штандарт»2"/>
          <p:cNvPicPr/>
          <p:nvPr/>
        </p:nvPicPr>
        <p:blipFill>
          <a:blip r:embed="rId3"/>
          <a:stretch/>
        </p:blipFill>
        <p:spPr>
          <a:xfrm>
            <a:off x="2556000" y="4365720"/>
            <a:ext cx="3600360" cy="249228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8"/>
          <p:cNvSpPr/>
          <p:nvPr/>
        </p:nvSpPr>
        <p:spPr>
          <a:xfrm>
            <a:off x="0" y="5013360"/>
            <a:ext cx="25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регат «Штандарт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9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ароход «Клермонт» </a:t>
            </a:r>
            <a:br>
              <a:rPr sz="4000"/>
            </a:b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Судно двигалось благодаря гребным колесам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2" name="Picture 4" descr="Пароход «Клермонт»"/>
          <p:cNvPicPr/>
          <p:nvPr/>
        </p:nvPicPr>
        <p:blipFill>
          <a:blip r:embed="rId1"/>
          <a:stretch/>
        </p:blipFill>
        <p:spPr>
          <a:xfrm>
            <a:off x="468360" y="1773360"/>
            <a:ext cx="8280360" cy="482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Английский пароход 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«Грейт Бритн» </a:t>
            </a:r>
            <a:br>
              <a:rPr sz="4000"/>
            </a:b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Пароход был сделан целиком из железа, имел длину 100 метров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4" name="Picture 4" descr="Американский пароход «Грейт Бритн»"/>
          <p:cNvPicPr/>
          <p:nvPr/>
        </p:nvPicPr>
        <p:blipFill>
          <a:blip r:embed="rId1"/>
          <a:stretch/>
        </p:blipFill>
        <p:spPr>
          <a:xfrm>
            <a:off x="539640" y="2060640"/>
            <a:ext cx="8136000" cy="439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Океанский лайнер «Нормандия»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6" name="Picture 4" descr="Океанский лайнер «Нормандия»"/>
          <p:cNvPicPr/>
          <p:nvPr/>
        </p:nvPicPr>
        <p:blipFill>
          <a:blip r:embed="rId1"/>
          <a:stretch/>
        </p:blipFill>
        <p:spPr>
          <a:xfrm>
            <a:off x="468360" y="1719360"/>
            <a:ext cx="8136000" cy="4734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434196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7e7ff"/>
                </a:solidFill>
                <a:latin typeface="Arial"/>
              </a:rPr>
              <a:t>Броненосец «Петр Великий»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8" name="Picture 4" descr="броненосец «Петр Великий»,"/>
          <p:cNvPicPr/>
          <p:nvPr/>
        </p:nvPicPr>
        <p:blipFill>
          <a:blip r:embed="rId1"/>
          <a:stretch/>
        </p:blipFill>
        <p:spPr>
          <a:xfrm>
            <a:off x="0" y="907920"/>
            <a:ext cx="4467240" cy="26654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5435640" y="260280"/>
            <a:ext cx="3376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7e7ff"/>
                </a:solidFill>
                <a:latin typeface="Arial"/>
              </a:rPr>
              <a:t>Броненосец «Потемкин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броненосец «Потемкин"/>
          <p:cNvPicPr/>
          <p:nvPr/>
        </p:nvPicPr>
        <p:blipFill>
          <a:blip r:embed="rId2"/>
          <a:stretch/>
        </p:blipFill>
        <p:spPr>
          <a:xfrm>
            <a:off x="4932360" y="884160"/>
            <a:ext cx="4032360" cy="26892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2"/>
          <p:cNvSpPr/>
          <p:nvPr/>
        </p:nvSpPr>
        <p:spPr>
          <a:xfrm>
            <a:off x="0" y="3716280"/>
            <a:ext cx="40831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b7e7ff"/>
                </a:solidFill>
                <a:latin typeface="Arial"/>
              </a:rPr>
              <a:t>Крейсер «Аврор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», крейсер «Аврора"/>
          <p:cNvPicPr/>
          <p:nvPr/>
        </p:nvPicPr>
        <p:blipFill>
          <a:blip r:embed="rId3"/>
          <a:stretch/>
        </p:blipFill>
        <p:spPr>
          <a:xfrm>
            <a:off x="0" y="4167360"/>
            <a:ext cx="4427640" cy="2690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Линкор"/>
          <p:cNvPicPr/>
          <p:nvPr/>
        </p:nvPicPr>
        <p:blipFill>
          <a:blip r:embed="rId4"/>
          <a:stretch/>
        </p:blipFill>
        <p:spPr>
          <a:xfrm>
            <a:off x="4500720" y="4149720"/>
            <a:ext cx="4749480" cy="27082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6012000" y="3645000"/>
            <a:ext cx="2543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7e7ff"/>
                </a:solidFill>
                <a:latin typeface="Arial"/>
              </a:rPr>
              <a:t>Линк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0" y="0"/>
            <a:ext cx="91440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ктуаль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о-первых, расширение знаний путей эволюции в кораблестроении, знание конструкции отдельных кораблей и судов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о-вторых, углубление знаний истории возникновения морского фло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0" y="335772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ипотеза: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орской флот существовал во все времена человеческой цивилизации и всегда являлся олицетворением самой передовой научной мысли и производственного потенциала морских государст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Американские атомные авианосцы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6" name="Picture 4" descr="американский атомный авианосец «Нимиц»,"/>
          <p:cNvPicPr/>
          <p:nvPr/>
        </p:nvPicPr>
        <p:blipFill>
          <a:blip r:embed="rId1"/>
          <a:stretch/>
        </p:blipFill>
        <p:spPr>
          <a:xfrm>
            <a:off x="0" y="1844640"/>
            <a:ext cx="4356000" cy="259884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5"/>
          <p:cNvSpPr/>
          <p:nvPr/>
        </p:nvSpPr>
        <p:spPr>
          <a:xfrm>
            <a:off x="1270080" y="1197000"/>
            <a:ext cx="13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ими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авианосец «Игл»"/>
          <p:cNvPicPr/>
          <p:nvPr/>
        </p:nvPicPr>
        <p:blipFill>
          <a:blip r:embed="rId2"/>
          <a:stretch/>
        </p:blipFill>
        <p:spPr>
          <a:xfrm>
            <a:off x="4670280" y="1844640"/>
            <a:ext cx="4473720" cy="259236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7"/>
          <p:cNvSpPr/>
          <p:nvPr/>
        </p:nvSpPr>
        <p:spPr>
          <a:xfrm>
            <a:off x="6660720" y="1197000"/>
            <a:ext cx="80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г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одводный минный заградитель «Краб» </a:t>
            </a:r>
            <a:br>
              <a:rPr sz="4000"/>
            </a:b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В России в 1892 году построили минный заградитель «Краб», который тайно расставлял повсюду мины.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1" name="Picture 7" descr="Подводный минный заградитель «Краб»"/>
          <p:cNvPicPr/>
          <p:nvPr/>
        </p:nvPicPr>
        <p:blipFill>
          <a:blip r:embed="rId1"/>
          <a:stretch/>
        </p:blipFill>
        <p:spPr>
          <a:xfrm>
            <a:off x="372960" y="2060640"/>
            <a:ext cx="4044960" cy="4464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Подводный минный заградитель «Краб»2"/>
          <p:cNvPicPr/>
          <p:nvPr/>
        </p:nvPicPr>
        <p:blipFill>
          <a:blip r:embed="rId2"/>
          <a:stretch/>
        </p:blipFill>
        <p:spPr>
          <a:xfrm>
            <a:off x="4649760" y="2060640"/>
            <a:ext cx="4192560" cy="4464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61160" cy="17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Российская подводная лодка «Акула» </a:t>
            </a:r>
            <a:br>
              <a:rPr sz="4000"/>
            </a:b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Российская подводная лодка «Акула» 1911 года постройки была способна совершать дальние морские переходы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4" name="Picture 7" descr="Российская подводная лодка «Акула»"/>
          <p:cNvPicPr/>
          <p:nvPr/>
        </p:nvPicPr>
        <p:blipFill>
          <a:blip r:embed="rId1"/>
          <a:stretch/>
        </p:blipFill>
        <p:spPr>
          <a:xfrm>
            <a:off x="457200" y="2133720"/>
            <a:ext cx="4038480" cy="4319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Российская подводная лодка «Акула»2"/>
          <p:cNvPicPr/>
          <p:nvPr/>
        </p:nvPicPr>
        <p:blipFill>
          <a:blip r:embed="rId2"/>
          <a:stretch/>
        </p:blipFill>
        <p:spPr>
          <a:xfrm>
            <a:off x="4648320" y="2205000"/>
            <a:ext cx="4038480" cy="4248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одводные дома</a:t>
            </a:r>
            <a:br>
              <a:rPr sz="4000"/>
            </a:b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 1963 году у побережья Красного моря были спущены под воду два дома , в которых люди жили в течение целого месяца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7" name="Picture 7" descr="Подводные дома"/>
          <p:cNvPicPr/>
          <p:nvPr/>
        </p:nvPicPr>
        <p:blipFill>
          <a:blip r:embed="rId1"/>
          <a:stretch/>
        </p:blipFill>
        <p:spPr>
          <a:xfrm>
            <a:off x="642960" y="2214720"/>
            <a:ext cx="3321000" cy="3774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Подводные дома2"/>
          <p:cNvPicPr/>
          <p:nvPr/>
        </p:nvPicPr>
        <p:blipFill>
          <a:blip r:embed="rId2"/>
          <a:stretch/>
        </p:blipFill>
        <p:spPr>
          <a:xfrm>
            <a:off x="5286240" y="2143080"/>
            <a:ext cx="3353040" cy="3754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19104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7e7ff"/>
                </a:solidFill>
                <a:latin typeface="Arial"/>
              </a:rPr>
              <a:t>Батисфера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0" name="Picture 4" descr="Батисфера"/>
          <p:cNvPicPr/>
          <p:nvPr/>
        </p:nvPicPr>
        <p:blipFill>
          <a:blip r:embed="rId1"/>
          <a:stretch/>
        </p:blipFill>
        <p:spPr>
          <a:xfrm>
            <a:off x="0" y="476280"/>
            <a:ext cx="4788000" cy="2811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фото 2015 146"/>
          <p:cNvPicPr/>
          <p:nvPr/>
        </p:nvPicPr>
        <p:blipFill>
          <a:blip r:embed="rId2"/>
          <a:stretch/>
        </p:blipFill>
        <p:spPr>
          <a:xfrm>
            <a:off x="0" y="3959280"/>
            <a:ext cx="4788000" cy="2898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"/>
          <p:cNvSpPr/>
          <p:nvPr/>
        </p:nvSpPr>
        <p:spPr>
          <a:xfrm>
            <a:off x="0" y="3500280"/>
            <a:ext cx="326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7e7ff"/>
                </a:solidFill>
                <a:latin typeface="Arial"/>
              </a:rPr>
              <a:t>Батиста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7" descr="Батискаф «Триест»"/>
          <p:cNvPicPr/>
          <p:nvPr/>
        </p:nvPicPr>
        <p:blipFill>
          <a:blip r:embed="rId3"/>
          <a:stretch/>
        </p:blipFill>
        <p:spPr>
          <a:xfrm>
            <a:off x="6443640" y="981000"/>
            <a:ext cx="2408400" cy="2695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Батискаф «Триест»2"/>
          <p:cNvPicPr/>
          <p:nvPr/>
        </p:nvPicPr>
        <p:blipFill>
          <a:blip r:embed="rId4"/>
          <a:stretch/>
        </p:blipFill>
        <p:spPr>
          <a:xfrm>
            <a:off x="6372360" y="3747960"/>
            <a:ext cx="2771640" cy="31100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6026040" y="189000"/>
            <a:ext cx="31179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7e7ff"/>
                </a:solidFill>
                <a:latin typeface="Arial"/>
              </a:rPr>
              <a:t>Батискаф «Триест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91400" cy="17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7e7ff"/>
                </a:solidFill>
                <a:latin typeface="Arial"/>
              </a:rPr>
              <a:t>Морской флот развивался во все времена человеческой цивилизации.</a:t>
            </a:r>
            <a:br>
              <a:rPr sz="2800"/>
            </a:br>
            <a:br>
              <a:rPr sz="2400"/>
            </a:b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 Английский эсминец «Шэффилд»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7" name="Рисунок 49" descr="http://sakhgu.ru/Expert/Ship/Img-S/Pic_A010.jpg"/>
          <p:cNvPicPr/>
          <p:nvPr/>
        </p:nvPicPr>
        <p:blipFill>
          <a:blip r:embed="rId1"/>
          <a:srcRect l="19482" t="12464" r="13605" b="0"/>
          <a:stretch/>
        </p:blipFill>
        <p:spPr>
          <a:xfrm>
            <a:off x="2071800" y="2571840"/>
            <a:ext cx="5643360" cy="4014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 ходе моей работы было достигнуто следующее: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ла изучена история кораблестро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лены вопросы по данной теме для одноклассник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обрал иллюстративный материал для презента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елился своими знаниями с одноклассни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3" descr="Allure of the Seas"/>
          <p:cNvPicPr/>
          <p:nvPr/>
        </p:nvPicPr>
        <p:blipFill>
          <a:blip r:embed="rId1"/>
          <a:stretch/>
        </p:blipFill>
        <p:spPr>
          <a:xfrm>
            <a:off x="1500120" y="1428840"/>
            <a:ext cx="5715000" cy="4290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2"/>
          <p:cNvSpPr/>
          <p:nvPr/>
        </p:nvSpPr>
        <p:spPr>
          <a:xfrm>
            <a:off x="395280" y="620640"/>
            <a:ext cx="8209080" cy="32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етоды исследо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нализ  публикаций, материалов Интернета по данной теме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нализ прочитанной книги «Корабли» из серии «Узнай мир» (наука и техника), автор: Кацаф А.М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нализ собранных иллюстраций кораблей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нализ представлений о кораблях учащихся моей школы при помощи вопросо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50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1071720" y="1000080"/>
          <a:ext cx="6819840" cy="5695920"/>
        </p:xfrm>
        <a:graphic>
          <a:graphicData uri="http://schemas.openxmlformats.org/drawingml/2006/table">
            <a:tbl>
              <a:tblPr/>
              <a:tblGrid>
                <a:gridCol w="357120"/>
                <a:gridCol w="3682800"/>
                <a:gridCol w="1728720"/>
                <a:gridCol w="525600"/>
                <a:gridCol w="525600"/>
              </a:tblGrid>
              <a:tr h="709560"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про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тве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Что такое кораб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орское суд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rowSpan="2"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т какого слова образовано слово «корабль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 знают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Каким было первое морское судно»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 знаю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 rowSpan="3"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Как выглядел первый морской корабль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 паруса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 вёсла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 знаю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з чего делали кораб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Из брёве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 rowSpan="3"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ля чего изобрели корабль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ля перевозки люд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ля охраны грани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орговл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 rowSpan="2"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Какое государство считается родиной кораблестроения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 знае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7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1"/>
          <p:cNvSpPr/>
          <p:nvPr/>
        </p:nvSpPr>
        <p:spPr>
          <a:xfrm>
            <a:off x="1679040" y="-181800"/>
            <a:ext cx="651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Результаты анкетирования, проводившего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среди моих сверст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Прямоугольник 1" descr=""/>
          <p:cNvPicPr/>
          <p:nvPr/>
        </p:nvPicPr>
        <p:blipFill>
          <a:blip r:embed="rId1"/>
          <a:stretch/>
        </p:blipFill>
        <p:spPr>
          <a:xfrm>
            <a:off x="109440" y="-42840"/>
            <a:ext cx="9150480" cy="8759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324000" y="0"/>
            <a:ext cx="818496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исхождение слова «КОРАБЛЬ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ffff"/>
                </a:solidFill>
                <a:uFillTx/>
                <a:latin typeface="Arial"/>
              </a:rPr>
              <a:t>Этимологический словарь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Были попытки связать слово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«корабль»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с исконно славянскими корнями "кора" и "корыто", но они отвергнуты по фонетическим причинам. 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орабль - слово греческого происхождения, из καραβιον 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(судно, корабль)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. Из того же источника ведет свое происхождение и итальянская каравелл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Эскимосский каяк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5" name="Picture 59" descr="Эскимосский каяк 2"/>
          <p:cNvPicPr/>
          <p:nvPr/>
        </p:nvPicPr>
        <p:blipFill>
          <a:blip r:embed="rId1"/>
          <a:stretch/>
        </p:blipFill>
        <p:spPr>
          <a:xfrm>
            <a:off x="684360" y="1600200"/>
            <a:ext cx="8064360" cy="4525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аноэ индейцев </a:t>
            </a:r>
            <a:br>
              <a:rPr sz="4000"/>
            </a:b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Сделан он был по принципу детского велосипеда, к которому прилепляются сбоку маленькие колеса, чтобы он не падал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7" name="Picture 6" descr="фото 2015 147"/>
          <p:cNvPicPr/>
          <p:nvPr/>
        </p:nvPicPr>
        <p:blipFill>
          <a:blip r:embed="rId1"/>
          <a:stretch/>
        </p:blipFill>
        <p:spPr>
          <a:xfrm>
            <a:off x="468360" y="1600200"/>
            <a:ext cx="8207280" cy="4781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6:37:59Z</dcterms:created>
  <dc:creator>Admin</dc:creator>
  <dc:description/>
  <dc:language>en-US</dc:language>
  <cp:lastModifiedBy>Vladimir</cp:lastModifiedBy>
  <dcterms:modified xsi:type="dcterms:W3CDTF">2017-02-23T11:25:05Z</dcterms:modified>
  <cp:revision>35</cp:revision>
  <dc:subject/>
  <dc:title>Слайд 1</dc:title>
</cp:coreProperties>
</file>