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28.jpeg" ContentType="image/jpeg"/>
  <Override PartName="/ppt/media/image5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9AB-8AA3-4739-960E-7C68E3FF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E9E-2935-43C2-88BF-E43CDE2D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9DE-D00C-46C0-A68D-CE07B01A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A8F-3DEA-4C37-8444-F22F531B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9C59-EFA0-4FBD-8CCB-DD68C7DA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B7C2-73AE-4384-828A-41AEB67E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F5D8-10B5-4E52-AFF7-6D370A0F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C566-A375-4362-8FA2-44E57D92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B011-3895-4F2D-B1F5-66AFDC6F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6606-4493-4FAC-936E-5DA0F5F1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DEB4-B7C3-4BF2-AC45-5AF62D5A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4A1-4EDB-4A0E-B9F4-2BF05767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DD5E-8261-4E9C-A7F7-436FE79F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EEFE-A2FB-44BA-8F3E-DC01B370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FDBA-AB32-4167-BE94-054A2E46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291C-B376-4CDB-9CAD-4B84964C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FF79-EDFF-4A32-9AD2-19142A1E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C54-DCAD-48B9-B14D-665D31CD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AC5-4969-4590-8E6A-4A1DE9BE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899-0CC0-4F97-8616-806E36F3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247-7B88-4A7A-8DDB-FCFBFC6F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2AD-2DF7-45D0-AECF-3F65994A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D17-C410-4C9D-A069-07FAA79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6D9-8F06-40DB-8964-96DAA66E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3D58-F76D-48A5-B896-9372BE7EB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767C-D4F1-40DC-BCAB-61F1C133BB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c9e6"/>
                </a:solidFill>
                <a:latin typeface="Arial"/>
              </a:rPr>
              <a:t>МОАУ СОШ №1</a:t>
            </a:r>
            <a:br>
              <a:rPr sz="2400"/>
            </a:br>
            <a:r>
              <a:rPr b="1" lang="ru-RU" sz="2400" spc="-1" strike="noStrike">
                <a:solidFill>
                  <a:srgbClr val="edc9e6"/>
                </a:solidFill>
                <a:latin typeface="Arial"/>
              </a:rPr>
              <a:t>Научно-исследовательский проект на тему </a:t>
            </a:r>
            <a:br>
              <a:rPr sz="2400"/>
            </a:br>
            <a:r>
              <a:rPr b="1" lang="ru-RU" sz="2400" spc="-1" strike="noStrike">
                <a:solidFill>
                  <a:srgbClr val="edc9e6"/>
                </a:solidFill>
                <a:latin typeface="Arial"/>
              </a:rPr>
              <a:t>«Человеческим возможностям нет предела»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ил: ученик 4 «А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АУ СОШ №1 г. Шимановска                                                                                           Кучеренко Миха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ь работы: Влавацкая О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r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15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DSCF0615"/>
          <p:cNvPicPr/>
          <p:nvPr/>
        </p:nvPicPr>
        <p:blipFill>
          <a:blip r:embed="rId1"/>
          <a:stretch/>
        </p:blipFill>
        <p:spPr>
          <a:xfrm>
            <a:off x="179280" y="1628640"/>
            <a:ext cx="3456000" cy="30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атамаран</a:t>
            </a:r>
            <a:br>
              <a:rPr sz="4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На катамаране вместо колес, применялись маленькие лодки, похожие на водные лыжи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Picture 4" descr="фото 2015 106"/>
          <p:cNvPicPr/>
          <p:nvPr/>
        </p:nvPicPr>
        <p:blipFill>
          <a:blip r:embed="rId1"/>
          <a:stretch/>
        </p:blipFill>
        <p:spPr>
          <a:xfrm>
            <a:off x="316080" y="1676520"/>
            <a:ext cx="8439120" cy="4422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апирусное судно древних египтян </a:t>
            </a:r>
            <a:br>
              <a:rPr sz="4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Парус - одно из самых великих изобретений всех времен и народов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4" descr="фото 2015 111"/>
          <p:cNvPicPr/>
          <p:nvPr/>
        </p:nvPicPr>
        <p:blipFill>
          <a:blip r:embed="rId1"/>
          <a:stretch/>
        </p:blipFill>
        <p:spPr>
          <a:xfrm>
            <a:off x="395280" y="1773360"/>
            <a:ext cx="8406000" cy="48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ревнеегипетский корабль</a:t>
            </a:r>
            <a:br>
              <a:rPr sz="4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Египтяне заострили переднюю и заднюю часть плота и сделали борта повыше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Picture 4" descr="Древнеегипетский корабль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92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дна из моделей корабля фараона </a:t>
            </a:r>
            <a:br>
              <a:rPr sz="4000"/>
            </a:b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Древние египтяне придумали– руль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4" descr="Одна из моделей корабля фараона"/>
          <p:cNvPicPr/>
          <p:nvPr/>
        </p:nvPicPr>
        <p:blipFill>
          <a:blip r:embed="rId1"/>
          <a:stretch/>
        </p:blipFill>
        <p:spPr>
          <a:xfrm>
            <a:off x="539640" y="1916280"/>
            <a:ext cx="8136000" cy="439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финикийский корабль"/>
          <p:cNvPicPr/>
          <p:nvPr/>
        </p:nvPicPr>
        <p:blipFill>
          <a:blip r:embed="rId1"/>
          <a:stretch/>
        </p:blipFill>
        <p:spPr>
          <a:xfrm>
            <a:off x="3429000" y="3699000"/>
            <a:ext cx="5715000" cy="315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Греческий корабль"/>
          <p:cNvPicPr/>
          <p:nvPr/>
        </p:nvPicPr>
        <p:blipFill>
          <a:blip r:embed="rId2"/>
          <a:stretch/>
        </p:blipFill>
        <p:spPr>
          <a:xfrm>
            <a:off x="0" y="0"/>
            <a:ext cx="5987880" cy="3286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0" y="465300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никийский кораб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Прямоугольник 7" descr=""/>
          <p:cNvPicPr/>
          <p:nvPr/>
        </p:nvPicPr>
        <p:blipFill>
          <a:blip r:embed="rId3"/>
          <a:stretch/>
        </p:blipFill>
        <p:spPr>
          <a:xfrm>
            <a:off x="6076800" y="165240"/>
            <a:ext cx="2603520" cy="105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Финикийская бирема</a:t>
            </a:r>
            <a:br>
              <a:rPr sz="44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Корабль в два «этажа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Picture 4" descr="Финикийская бирема"/>
          <p:cNvPicPr/>
          <p:nvPr/>
        </p:nvPicPr>
        <p:blipFill>
          <a:blip r:embed="rId1"/>
          <a:stretch/>
        </p:blipFill>
        <p:spPr>
          <a:xfrm>
            <a:off x="468360" y="1773360"/>
            <a:ext cx="8064360" cy="45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Финикийская трирема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«Трехэтажные» корабл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4" descr="Финикийская трирема"/>
          <p:cNvPicPr/>
          <p:nvPr/>
        </p:nvPicPr>
        <p:blipFill>
          <a:blip r:embed="rId1"/>
          <a:stretch/>
        </p:blipFill>
        <p:spPr>
          <a:xfrm>
            <a:off x="468360" y="1700280"/>
            <a:ext cx="8136000" cy="46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нтера – один из самых крупных римских корабле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5" name="Picture 4" descr="фото 2015 117"/>
          <p:cNvPicPr/>
          <p:nvPr/>
        </p:nvPicPr>
        <p:blipFill>
          <a:blip r:embed="rId1"/>
          <a:stretch/>
        </p:blipFill>
        <p:spPr>
          <a:xfrm>
            <a:off x="1357200" y="2071800"/>
            <a:ext cx="5889600" cy="3512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ракар – корабль викингов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Корабль достигал в длину 25 метров и мог плыть как под парусом, так и на веслах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7" name="Picture 4" descr="Дракар – корабль викингов"/>
          <p:cNvPicPr/>
          <p:nvPr/>
        </p:nvPicPr>
        <p:blipFill>
          <a:blip r:embed="rId1"/>
          <a:stretch/>
        </p:blipFill>
        <p:spPr>
          <a:xfrm>
            <a:off x="1857240" y="2071800"/>
            <a:ext cx="6104160" cy="360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ч поморов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Долговечный и прочный корабль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Picture 4" descr="Коч поморов"/>
          <p:cNvPicPr/>
          <p:nvPr/>
        </p:nvPicPr>
        <p:blipFill>
          <a:blip r:embed="rId1"/>
          <a:stretch/>
        </p:blipFill>
        <p:spPr>
          <a:xfrm>
            <a:off x="1428840" y="2214720"/>
            <a:ext cx="6175440" cy="3552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ъект исследования: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стория строительства корабл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разить искусство кораблестро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и исследова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зучить  историю кораблестроени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знакомиться с видами корабл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знать какие существуют корабли в наше врем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оказать, что постройка кораблей всегда опиралась на весь арсенал наук и ремесел, на опыт профессионалов и техническое искусство инженеров, в свою очередь отражавших стиль жизни, мировоззрение людей и их общие устремл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«Санта-Мария» - корабль Колумба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Длинной около 29 метров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Picture 4" descr="«Санта-Мария» - корабль Колумба"/>
          <p:cNvPicPr/>
          <p:nvPr/>
        </p:nvPicPr>
        <p:blipFill>
          <a:blip r:embed="rId1"/>
          <a:stretch/>
        </p:blipFill>
        <p:spPr>
          <a:xfrm>
            <a:off x="1500120" y="2214720"/>
            <a:ext cx="6072120" cy="3579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фото 2015 133"/>
          <p:cNvPicPr/>
          <p:nvPr/>
        </p:nvPicPr>
        <p:blipFill>
          <a:blip r:embed="rId1"/>
          <a:stretch/>
        </p:blipFill>
        <p:spPr>
          <a:xfrm>
            <a:off x="0" y="620640"/>
            <a:ext cx="3851280" cy="2737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фото 2015 136"/>
          <p:cNvPicPr/>
          <p:nvPr/>
        </p:nvPicPr>
        <p:blipFill>
          <a:blip r:embed="rId2"/>
          <a:stretch/>
        </p:blipFill>
        <p:spPr>
          <a:xfrm>
            <a:off x="4932360" y="620640"/>
            <a:ext cx="4211640" cy="273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Баркентина"/>
          <p:cNvPicPr/>
          <p:nvPr/>
        </p:nvPicPr>
        <p:blipFill>
          <a:blip r:embed="rId3"/>
          <a:stretch/>
        </p:blipFill>
        <p:spPr>
          <a:xfrm>
            <a:off x="1928880" y="3860640"/>
            <a:ext cx="5211720" cy="299736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8" descr=""/>
          <p:cNvPicPr/>
          <p:nvPr/>
        </p:nvPicPr>
        <p:blipFill>
          <a:blip r:embed="rId4"/>
          <a:stretch/>
        </p:blipFill>
        <p:spPr>
          <a:xfrm>
            <a:off x="2987640" y="3187800"/>
            <a:ext cx="2432160" cy="62856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" descr=""/>
          <p:cNvPicPr/>
          <p:nvPr/>
        </p:nvPicPr>
        <p:blipFill>
          <a:blip r:embed="rId5"/>
          <a:stretch/>
        </p:blipFill>
        <p:spPr>
          <a:xfrm>
            <a:off x="6431040" y="-96840"/>
            <a:ext cx="1285920" cy="62712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10" descr=""/>
          <p:cNvPicPr/>
          <p:nvPr/>
        </p:nvPicPr>
        <p:blipFill>
          <a:blip r:embed="rId6"/>
          <a:stretch/>
        </p:blipFill>
        <p:spPr>
          <a:xfrm>
            <a:off x="1176480" y="-96840"/>
            <a:ext cx="1261800" cy="627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Фрегат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На военном фрегате можно было разместить до 80 пушек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9" name="Picture 4" descr="Фрегат"/>
          <p:cNvPicPr/>
          <p:nvPr/>
        </p:nvPicPr>
        <p:blipFill>
          <a:blip r:embed="rId1"/>
          <a:stretch/>
        </p:blipFill>
        <p:spPr>
          <a:xfrm>
            <a:off x="539640" y="1773360"/>
            <a:ext cx="8209080" cy="46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Ботик Петра 1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Родоначальник русского военного флота принято считать маленькое суденышко - ботик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1" name="Picture 4" descr="Ботик Петра 1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75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Русский военный корабль «Орел» </a:t>
            </a: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В 1669 году был построен первый русский военный корабль «Орел»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4" descr="Русский военный корабль «Орел»"/>
          <p:cNvPicPr/>
          <p:nvPr/>
        </p:nvPicPr>
        <p:blipFill>
          <a:blip r:embed="rId1"/>
          <a:stretch/>
        </p:blipFill>
        <p:spPr>
          <a:xfrm>
            <a:off x="684360" y="1600200"/>
            <a:ext cx="7848360" cy="4853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377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Линейный корабль «Полтава»</a:t>
            </a:r>
            <a:br>
              <a:rPr sz="28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Можно разместить 54 пушки 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Picture 4" descr="Линейный корабль «Полтава»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20829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755640" y="2781360"/>
            <a:ext cx="34560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Шнява «Мункер» </a:t>
            </a:r>
            <a:br>
              <a:rPr sz="28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Можно разместить 14 пуше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Шнява «Мункер»"/>
          <p:cNvPicPr/>
          <p:nvPr/>
        </p:nvPicPr>
        <p:blipFill>
          <a:blip r:embed="rId2"/>
          <a:stretch/>
        </p:blipFill>
        <p:spPr>
          <a:xfrm>
            <a:off x="4284720" y="2060640"/>
            <a:ext cx="384012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Фрегат «Штандарт»2"/>
          <p:cNvPicPr/>
          <p:nvPr/>
        </p:nvPicPr>
        <p:blipFill>
          <a:blip r:embed="rId3"/>
          <a:stretch/>
        </p:blipFill>
        <p:spPr>
          <a:xfrm>
            <a:off x="2556000" y="4365720"/>
            <a:ext cx="3600360" cy="24922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8"/>
          <p:cNvSpPr/>
          <p:nvPr/>
        </p:nvSpPr>
        <p:spPr>
          <a:xfrm>
            <a:off x="0" y="5013360"/>
            <a:ext cx="25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регат «Штандар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ароход «Клермонт» 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Судно двигалось благодаря гребным колесам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2" name="Picture 4" descr="Пароход «Клермонт»"/>
          <p:cNvPicPr/>
          <p:nvPr/>
        </p:nvPicPr>
        <p:blipFill>
          <a:blip r:embed="rId1"/>
          <a:stretch/>
        </p:blipFill>
        <p:spPr>
          <a:xfrm>
            <a:off x="468360" y="177336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Английский пароход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«Грейт Бритн» </a:t>
            </a:r>
            <a:br>
              <a:rPr sz="40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Пароход был сделан целиком из железа, имел длину 100 метров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Picture 4" descr="Американский пароход «Грейт Бритн»"/>
          <p:cNvPicPr/>
          <p:nvPr/>
        </p:nvPicPr>
        <p:blipFill>
          <a:blip r:embed="rId1"/>
          <a:stretch/>
        </p:blipFill>
        <p:spPr>
          <a:xfrm>
            <a:off x="539640" y="206064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кеанский лайнер «Нормандия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6" name="Picture 4" descr="Океанский лайнер «Нормандия»"/>
          <p:cNvPicPr/>
          <p:nvPr/>
        </p:nvPicPr>
        <p:blipFill>
          <a:blip r:embed="rId1"/>
          <a:stretch/>
        </p:blipFill>
        <p:spPr>
          <a:xfrm>
            <a:off x="468360" y="1719360"/>
            <a:ext cx="8136000" cy="473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34196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Броненосец «Петр Великий»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8" name="Picture 4" descr="броненосец «Петр Великий»,"/>
          <p:cNvPicPr/>
          <p:nvPr/>
        </p:nvPicPr>
        <p:blipFill>
          <a:blip r:embed="rId1"/>
          <a:stretch/>
        </p:blipFill>
        <p:spPr>
          <a:xfrm>
            <a:off x="0" y="907920"/>
            <a:ext cx="4467240" cy="26654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5435640" y="260280"/>
            <a:ext cx="3376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Броненосец «Потемки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броненосец «Потемкин"/>
          <p:cNvPicPr/>
          <p:nvPr/>
        </p:nvPicPr>
        <p:blipFill>
          <a:blip r:embed="rId2"/>
          <a:stretch/>
        </p:blipFill>
        <p:spPr>
          <a:xfrm>
            <a:off x="4932360" y="884160"/>
            <a:ext cx="4032360" cy="26892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0" y="3716280"/>
            <a:ext cx="4083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Крейсер «Аврор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», крейсер «Аврора"/>
          <p:cNvPicPr/>
          <p:nvPr/>
        </p:nvPicPr>
        <p:blipFill>
          <a:blip r:embed="rId3"/>
          <a:stretch/>
        </p:blipFill>
        <p:spPr>
          <a:xfrm>
            <a:off x="0" y="4167360"/>
            <a:ext cx="4427640" cy="2690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Линкор"/>
          <p:cNvPicPr/>
          <p:nvPr/>
        </p:nvPicPr>
        <p:blipFill>
          <a:blip r:embed="rId4"/>
          <a:stretch/>
        </p:blipFill>
        <p:spPr>
          <a:xfrm>
            <a:off x="4500720" y="4149720"/>
            <a:ext cx="4749480" cy="27082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6012000" y="3645000"/>
            <a:ext cx="2543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Линк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0" y="0"/>
            <a:ext cx="9144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ктуаль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о-первых, расширение знаний путей эволюции в кораблестроении, знание конструкции отдельных кораблей и судов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о-вторых, углубление знаний истории возникновения морского фло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0" y="33577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потеза: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рской флот существовал во все времена человеческой цивилизации и всегда являлся олицетворением самой передовой научной мысли и производственного потенциала морских государст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Американские атомные авианосц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6" name="Picture 4" descr="американский атомный авианосец «Нимиц»,"/>
          <p:cNvPicPr/>
          <p:nvPr/>
        </p:nvPicPr>
        <p:blipFill>
          <a:blip r:embed="rId1"/>
          <a:stretch/>
        </p:blipFill>
        <p:spPr>
          <a:xfrm>
            <a:off x="0" y="1844640"/>
            <a:ext cx="4356000" cy="25988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5"/>
          <p:cNvSpPr/>
          <p:nvPr/>
        </p:nvSpPr>
        <p:spPr>
          <a:xfrm>
            <a:off x="1270080" y="119700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м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авианосец «Игл»"/>
          <p:cNvPicPr/>
          <p:nvPr/>
        </p:nvPicPr>
        <p:blipFill>
          <a:blip r:embed="rId2"/>
          <a:stretch/>
        </p:blipFill>
        <p:spPr>
          <a:xfrm>
            <a:off x="4670280" y="1844640"/>
            <a:ext cx="4473720" cy="25923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6660720" y="119700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водный минный заградитель «Краб» </a:t>
            </a:r>
            <a:br>
              <a:rPr sz="4000"/>
            </a:b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В России в 1892 году построили минный заградитель «Краб», который тайно расставлял повсюду мины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1" name="Picture 7" descr="Подводный минный заградитель «Краб»"/>
          <p:cNvPicPr/>
          <p:nvPr/>
        </p:nvPicPr>
        <p:blipFill>
          <a:blip r:embed="rId1"/>
          <a:stretch/>
        </p:blipFill>
        <p:spPr>
          <a:xfrm>
            <a:off x="372960" y="2060640"/>
            <a:ext cx="40449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Подводный минный заградитель «Краб»2"/>
          <p:cNvPicPr/>
          <p:nvPr/>
        </p:nvPicPr>
        <p:blipFill>
          <a:blip r:embed="rId2"/>
          <a:stretch/>
        </p:blipFill>
        <p:spPr>
          <a:xfrm>
            <a:off x="4649760" y="2060640"/>
            <a:ext cx="4192560" cy="446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6116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Российская подводная лодка «Акула» </a:t>
            </a:r>
            <a:br>
              <a:rPr sz="40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Российская подводная лодка «Акула» 1911 года постройки была способна совершать дальние морские переходы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Picture 7" descr="Российская подводная лодка «Акула»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431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Российская подводная лодка «Акула»2"/>
          <p:cNvPicPr/>
          <p:nvPr/>
        </p:nvPicPr>
        <p:blipFill>
          <a:blip r:embed="rId2"/>
          <a:stretch/>
        </p:blipFill>
        <p:spPr>
          <a:xfrm>
            <a:off x="4648320" y="2205000"/>
            <a:ext cx="4038480" cy="424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водные дома</a:t>
            </a:r>
            <a:br>
              <a:rPr sz="4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 1963 году у побережья Красного моря были спущены под воду два дома , в которых люди жили в течение целого месяца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7" name="Picture 7" descr="Подводные дома"/>
          <p:cNvPicPr/>
          <p:nvPr/>
        </p:nvPicPr>
        <p:blipFill>
          <a:blip r:embed="rId1"/>
          <a:stretch/>
        </p:blipFill>
        <p:spPr>
          <a:xfrm>
            <a:off x="642960" y="2214720"/>
            <a:ext cx="3321000" cy="3774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Подводные дома2"/>
          <p:cNvPicPr/>
          <p:nvPr/>
        </p:nvPicPr>
        <p:blipFill>
          <a:blip r:embed="rId2"/>
          <a:stretch/>
        </p:blipFill>
        <p:spPr>
          <a:xfrm>
            <a:off x="5286240" y="2143080"/>
            <a:ext cx="3353040" cy="375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19104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Батисфер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0" name="Picture 4" descr="Батисфера"/>
          <p:cNvPicPr/>
          <p:nvPr/>
        </p:nvPicPr>
        <p:blipFill>
          <a:blip r:embed="rId1"/>
          <a:stretch/>
        </p:blipFill>
        <p:spPr>
          <a:xfrm>
            <a:off x="0" y="476280"/>
            <a:ext cx="4788000" cy="2811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фото 2015 146"/>
          <p:cNvPicPr/>
          <p:nvPr/>
        </p:nvPicPr>
        <p:blipFill>
          <a:blip r:embed="rId2"/>
          <a:stretch/>
        </p:blipFill>
        <p:spPr>
          <a:xfrm>
            <a:off x="0" y="3959280"/>
            <a:ext cx="4788000" cy="2898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0" y="3500280"/>
            <a:ext cx="326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Батиста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Батискаф «Триест»"/>
          <p:cNvPicPr/>
          <p:nvPr/>
        </p:nvPicPr>
        <p:blipFill>
          <a:blip r:embed="rId3"/>
          <a:stretch/>
        </p:blipFill>
        <p:spPr>
          <a:xfrm>
            <a:off x="6443640" y="981000"/>
            <a:ext cx="2408400" cy="269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Батискаф «Триест»2"/>
          <p:cNvPicPr/>
          <p:nvPr/>
        </p:nvPicPr>
        <p:blipFill>
          <a:blip r:embed="rId4"/>
          <a:stretch/>
        </p:blipFill>
        <p:spPr>
          <a:xfrm>
            <a:off x="6372360" y="3747960"/>
            <a:ext cx="2771640" cy="31100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6026040" y="189000"/>
            <a:ext cx="3117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Батискаф «Триес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9140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e7ff"/>
                </a:solidFill>
                <a:latin typeface="Arial"/>
              </a:rPr>
              <a:t>Морской флот развивался во все времена человеческой цивилизации.</a:t>
            </a:r>
            <a:br>
              <a:rPr sz="2800"/>
            </a:br>
            <a:br>
              <a:rPr sz="24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 Английский эсминец «Шэффилд»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7" name="Рисунок 49" descr="http://sakhgu.ru/Expert/Ship/Img-S/Pic_A010.jpg"/>
          <p:cNvPicPr/>
          <p:nvPr/>
        </p:nvPicPr>
        <p:blipFill>
          <a:blip r:embed="rId1"/>
          <a:srcRect l="19482" t="12464" r="13605" b="0"/>
          <a:stretch/>
        </p:blipFill>
        <p:spPr>
          <a:xfrm>
            <a:off x="2071800" y="2571840"/>
            <a:ext cx="5643360" cy="401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 ходе моей работы было достигнуто следующее: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ла изучена история кораблестро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ы вопросы по данной теме для однокласс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обрал иллюстративный материал для презент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елился своими знаниями с одноклассн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3" descr="Allure of the Seas"/>
          <p:cNvPicPr/>
          <p:nvPr/>
        </p:nvPicPr>
        <p:blipFill>
          <a:blip r:embed="rId1"/>
          <a:stretch/>
        </p:blipFill>
        <p:spPr>
          <a:xfrm>
            <a:off x="1500120" y="1428840"/>
            <a:ext cx="5715000" cy="4290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"/>
          <p:cNvSpPr/>
          <p:nvPr/>
        </p:nvSpPr>
        <p:spPr>
          <a:xfrm>
            <a:off x="395280" y="620640"/>
            <a:ext cx="820908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тоды исслед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нализ  публикаций, материалов Интернета по данной тем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нализ прочитанной книги «Корабли» из серии «Узнай мир» (наука и техника), автор: Кацаф А.М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нализ собранных иллюстраций кораблей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нализ представлений о кораблях учащихся моей школы при помощи вопрос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50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071720" y="1000080"/>
          <a:ext cx="6819840" cy="5695920"/>
        </p:xfrm>
        <a:graphic>
          <a:graphicData uri="http://schemas.openxmlformats.org/drawingml/2006/table">
            <a:tbl>
              <a:tblPr/>
              <a:tblGrid>
                <a:gridCol w="357120"/>
                <a:gridCol w="3682800"/>
                <a:gridCol w="1728720"/>
                <a:gridCol w="525600"/>
                <a:gridCol w="525600"/>
              </a:tblGrid>
              <a:tr h="70956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про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в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Что такое кораб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рское суд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rowSpan="2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т какого слова образовано слово «корабль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 знают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аким было первое морское судно»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 знаю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 rowSpan="3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ак выглядел первый морской корабль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 парус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 вёсл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 знаю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з чего делали кораб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з брёве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 rowSpan="3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ля чего изобрели корабль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ля перевозки люд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ля охраны гран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орговл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 rowSpan="2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акое государство считается родиной кораблестроения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 зна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1"/>
          <p:cNvSpPr/>
          <p:nvPr/>
        </p:nvSpPr>
        <p:spPr>
          <a:xfrm>
            <a:off x="1679040" y="-181800"/>
            <a:ext cx="65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Результаты анкетирования, проводившего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среди моих сверст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1" descr=""/>
          <p:cNvPicPr/>
          <p:nvPr/>
        </p:nvPicPr>
        <p:blipFill>
          <a:blip r:embed="rId1"/>
          <a:stretch/>
        </p:blipFill>
        <p:spPr>
          <a:xfrm>
            <a:off x="109440" y="-42840"/>
            <a:ext cx="9150480" cy="8759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24000" y="0"/>
            <a:ext cx="818496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исхождение слова «КОРАБЛ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Arial"/>
              </a:rPr>
              <a:t>Этимологический словарь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ыли попытки связать слово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корабль»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с исконно славянскими корнями "кора" и "корыто", но они отвергнуты по фонетическим причинам.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орабль - слово греческого происхождения, из καραβιον 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(судно, корабль)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 Из того же источника ведет свое происхождение и итальянская каравелл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Эскимосский каяк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59" descr="Эскимосский каяк 2"/>
          <p:cNvPicPr/>
          <p:nvPr/>
        </p:nvPicPr>
        <p:blipFill>
          <a:blip r:embed="rId1"/>
          <a:stretch/>
        </p:blipFill>
        <p:spPr>
          <a:xfrm>
            <a:off x="684360" y="1600200"/>
            <a:ext cx="8064360" cy="452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аноэ индейцев </a:t>
            </a:r>
            <a:br>
              <a:rPr sz="4000"/>
            </a:b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делан он был по принципу детского велосипеда, к которому прилепляются сбоку маленькие колеса, чтобы он не падал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Picture 6" descr="фото 2015 147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781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6:37:59Z</dcterms:created>
  <dc:creator>Admin</dc:creator>
  <dc:description/>
  <dc:language>en-US</dc:language>
  <cp:lastModifiedBy>Vladimir</cp:lastModifiedBy>
  <dcterms:modified xsi:type="dcterms:W3CDTF">2017-02-23T11:25:05Z</dcterms:modified>
  <cp:revision>35</cp:revision>
  <dc:subject/>
  <dc:title>Слайд 1</dc:title>
</cp:coreProperties>
</file>