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120-7542-4760-835A-008DDCF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7FA-BD66-4541-8FFF-36B7FC8C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18E-F33B-4E8B-BC8E-E81E0016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B24-1576-46EA-A622-39F515A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49C-91EE-4D39-AEF9-34CFE367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CF7-B0C9-4274-B555-7E78873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FD2-E589-43BD-AEB0-A3419D1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09C-7443-494A-9F2A-B759DBC8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6FD-A319-472F-9012-5E818FE3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652-CBB4-4C67-A361-C3B4A07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200-AF75-4AB4-864A-FC14E8B6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F96-B257-402C-B5AF-93771BE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BA3F-C5C9-46C9-BEC4-35C1D709A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642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Внешняя политика Николая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6215040" y="3500280"/>
            <a:ext cx="2656080" cy="316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Прямоугольник 3"/>
          <p:cNvSpPr/>
          <p:nvPr/>
        </p:nvSpPr>
        <p:spPr>
          <a:xfrm>
            <a:off x="2143080" y="257184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82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324000" y="2060640"/>
            <a:ext cx="8715240" cy="115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Ирана вернуть закавказские территории, отошедшие к России по Гюлистанскому мирному договору 18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2"/>
          <p:cNvGrpSpPr/>
          <p:nvPr/>
        </p:nvGrpSpPr>
        <p:grpSpPr>
          <a:xfrm>
            <a:off x="1298520" y="774720"/>
            <a:ext cx="6473880" cy="657360"/>
            <a:chOff x="1298520" y="774720"/>
            <a:chExt cx="6473880" cy="657360"/>
          </a:xfrm>
        </p:grpSpPr>
        <p:pic>
          <p:nvPicPr>
            <p:cNvPr id="97" name="Rectangle 2" descr=""/>
            <p:cNvPicPr/>
            <p:nvPr/>
          </p:nvPicPr>
          <p:blipFill>
            <a:blip r:embed="rId2"/>
            <a:stretch/>
          </p:blipFill>
          <p:spPr>
            <a:xfrm>
              <a:off x="1298520" y="774720"/>
              <a:ext cx="647388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357200" y="857160"/>
              <a:ext cx="6357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Русско-иранская война 1826-1828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"/>
          <p:cNvSpPr/>
          <p:nvPr/>
        </p:nvSpPr>
        <p:spPr>
          <a:xfrm>
            <a:off x="250920" y="4005360"/>
            <a:ext cx="8715240" cy="25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28 г. – Туркманчайский ми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говор между Россией и Иран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оединение к Росс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нского и Нахичеванского ха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нание исключительного права России иметь военный флот на Кас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Иран должен выплатить России 20 млн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Rectangle 4"/>
          <p:cNvGrpSpPr/>
          <p:nvPr/>
        </p:nvGrpSpPr>
        <p:grpSpPr>
          <a:xfrm>
            <a:off x="2724120" y="1371600"/>
            <a:ext cx="3914640" cy="652320"/>
            <a:chOff x="2724120" y="1371600"/>
            <a:chExt cx="3914640" cy="652320"/>
          </a:xfrm>
        </p:grpSpPr>
        <p:pic>
          <p:nvPicPr>
            <p:cNvPr id="101" name="Rectangle 4" descr=""/>
            <p:cNvPicPr/>
            <p:nvPr/>
          </p:nvPicPr>
          <p:blipFill>
            <a:blip r:embed="rId3"/>
            <a:stretch/>
          </p:blipFill>
          <p:spPr>
            <a:xfrm>
              <a:off x="2724120" y="1371600"/>
              <a:ext cx="39146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86040" y="1444680"/>
              <a:ext cx="37958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Причин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Rectangle 4"/>
          <p:cNvGrpSpPr/>
          <p:nvPr/>
        </p:nvGrpSpPr>
        <p:grpSpPr>
          <a:xfrm>
            <a:off x="2724120" y="3316320"/>
            <a:ext cx="3914640" cy="652320"/>
            <a:chOff x="2724120" y="3316320"/>
            <a:chExt cx="3914640" cy="652320"/>
          </a:xfrm>
        </p:grpSpPr>
        <p:pic>
          <p:nvPicPr>
            <p:cNvPr id="104" name="Rectangle 4" descr=""/>
            <p:cNvPicPr/>
            <p:nvPr/>
          </p:nvPicPr>
          <p:blipFill>
            <a:blip r:embed="rId4"/>
            <a:stretch/>
          </p:blipFill>
          <p:spPr>
            <a:xfrm>
              <a:off x="2724120" y="3316320"/>
              <a:ext cx="39146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86040" y="3389400"/>
              <a:ext cx="37958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Итог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Rectangle 2"/>
          <p:cNvGrpSpPr/>
          <p:nvPr/>
        </p:nvGrpSpPr>
        <p:grpSpPr>
          <a:xfrm>
            <a:off x="1298520" y="768240"/>
            <a:ext cx="6473880" cy="731880"/>
            <a:chOff x="1298520" y="768240"/>
            <a:chExt cx="6473880" cy="731880"/>
          </a:xfrm>
        </p:grpSpPr>
        <p:pic>
          <p:nvPicPr>
            <p:cNvPr id="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298520" y="768240"/>
              <a:ext cx="6473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357200" y="857160"/>
              <a:ext cx="63579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Русско-турецкая война 1828-1829 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110" name="Rectangle 2" descr=""/>
            <p:cNvPicPr/>
            <p:nvPr/>
          </p:nvPicPr>
          <p:blipFill>
            <a:blip r:embed="rId2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3"/>
          <p:cNvGrpSpPr/>
          <p:nvPr/>
        </p:nvGrpSpPr>
        <p:grpSpPr>
          <a:xfrm>
            <a:off x="152280" y="1938240"/>
            <a:ext cx="1500480" cy="536760"/>
            <a:chOff x="152280" y="1938240"/>
            <a:chExt cx="1500480" cy="536760"/>
          </a:xfrm>
        </p:grpSpPr>
        <p:pic>
          <p:nvPicPr>
            <p:cNvPr id="113" name="Rectangle 3" descr=""/>
            <p:cNvPicPr/>
            <p:nvPr/>
          </p:nvPicPr>
          <p:blipFill>
            <a:blip r:embed="rId3"/>
            <a:stretch/>
          </p:blipFill>
          <p:spPr>
            <a:xfrm>
              <a:off x="152280" y="1938240"/>
              <a:ext cx="1500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14200" y="2000160"/>
              <a:ext cx="1371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Причи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Стрелка вправо 14"/>
          <p:cNvSpPr/>
          <p:nvPr/>
        </p:nvSpPr>
        <p:spPr>
          <a:xfrm>
            <a:off x="1571760" y="214308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Rectangle 4"/>
          <p:cNvGrpSpPr/>
          <p:nvPr/>
        </p:nvGrpSpPr>
        <p:grpSpPr>
          <a:xfrm>
            <a:off x="176040" y="2822400"/>
            <a:ext cx="8834760" cy="847800"/>
            <a:chOff x="176040" y="2822400"/>
            <a:chExt cx="8834760" cy="847800"/>
          </a:xfrm>
        </p:grpSpPr>
        <p:pic>
          <p:nvPicPr>
            <p:cNvPr id="117" name="Rectangle 4" descr=""/>
            <p:cNvPicPr/>
            <p:nvPr/>
          </p:nvPicPr>
          <p:blipFill>
            <a:blip r:embed="rId4"/>
            <a:stretch/>
          </p:blipFill>
          <p:spPr>
            <a:xfrm>
              <a:off x="176040" y="2822400"/>
              <a:ext cx="8834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читайте о ходе военных действий русско-турецкой войны (стр. 7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2"/>
          <p:cNvGrpSpPr/>
          <p:nvPr/>
        </p:nvGrpSpPr>
        <p:grpSpPr>
          <a:xfrm>
            <a:off x="66600" y="4438800"/>
            <a:ext cx="1487520" cy="566640"/>
            <a:chOff x="66600" y="4438800"/>
            <a:chExt cx="1487520" cy="566640"/>
          </a:xfrm>
        </p:grpSpPr>
        <p:pic>
          <p:nvPicPr>
            <p:cNvPr id="120" name="Rectangle 2" descr=""/>
            <p:cNvPicPr/>
            <p:nvPr/>
          </p:nvPicPr>
          <p:blipFill>
            <a:blip r:embed="rId5"/>
            <a:stretch/>
          </p:blipFill>
          <p:spPr>
            <a:xfrm>
              <a:off x="66600" y="4438800"/>
              <a:ext cx="14875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27080" y="4500720"/>
              <a:ext cx="13716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Ит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3"/>
          <p:cNvGrpSpPr/>
          <p:nvPr/>
        </p:nvGrpSpPr>
        <p:grpSpPr>
          <a:xfrm>
            <a:off x="1547640" y="3718080"/>
            <a:ext cx="7444080" cy="2938320"/>
            <a:chOff x="1547640" y="3718080"/>
            <a:chExt cx="7444080" cy="2938320"/>
          </a:xfrm>
        </p:grpSpPr>
        <p:pic>
          <p:nvPicPr>
            <p:cNvPr id="123" name="Rectangle 3" descr=""/>
            <p:cNvPicPr/>
            <p:nvPr/>
          </p:nvPicPr>
          <p:blipFill>
            <a:blip r:embed="rId6"/>
            <a:stretch/>
          </p:blipFill>
          <p:spPr>
            <a:xfrm>
              <a:off x="1547640" y="3718080"/>
              <a:ext cx="744408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666800" y="3787920"/>
              <a:ext cx="7270920" cy="27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829 г.  - п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беда Росси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люче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Андрианопольского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 мирного договора между Россией и Турцией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Закрепление за Россией устья Дуная и восточного побережья Чёрного мор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ткрытие черноморских проливов для русских суд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ризнание автономии Греции, Сербии, Молдавии и Валах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4)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Контрибуция Турции Росс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Стрелка вправо 17"/>
          <p:cNvSpPr/>
          <p:nvPr/>
        </p:nvSpPr>
        <p:spPr>
          <a:xfrm>
            <a:off x="1484280" y="4572000"/>
            <a:ext cx="14292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4"/>
          <p:cNvGrpSpPr/>
          <p:nvPr/>
        </p:nvGrpSpPr>
        <p:grpSpPr>
          <a:xfrm>
            <a:off x="1957320" y="1444680"/>
            <a:ext cx="7186680" cy="1073160"/>
            <a:chOff x="1957320" y="1444680"/>
            <a:chExt cx="7186680" cy="1073160"/>
          </a:xfrm>
        </p:grpSpPr>
        <p:pic>
          <p:nvPicPr>
            <p:cNvPr id="127" name="Rectangle 4" descr=""/>
            <p:cNvPicPr/>
            <p:nvPr/>
          </p:nvPicPr>
          <p:blipFill>
            <a:blip r:embed="rId7"/>
            <a:stretch/>
          </p:blipFill>
          <p:spPr>
            <a:xfrm>
              <a:off x="1957320" y="1444680"/>
              <a:ext cx="7186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16000" y="1536840"/>
              <a:ext cx="707256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504d"/>
                  </a:solidFill>
                  <a:latin typeface="Arial"/>
                  <a:ea typeface="Arial"/>
                </a:rPr>
                <a:t>Что такое «восточный вопрос»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ectangle 4"/>
          <p:cNvGrpSpPr/>
          <p:nvPr/>
        </p:nvGrpSpPr>
        <p:grpSpPr>
          <a:xfrm>
            <a:off x="1957320" y="1487520"/>
            <a:ext cx="7186680" cy="1170000"/>
            <a:chOff x="1957320" y="1487520"/>
            <a:chExt cx="7186680" cy="1170000"/>
          </a:xfrm>
        </p:grpSpPr>
        <p:pic>
          <p:nvPicPr>
            <p:cNvPr id="130" name="Rectangle 4" descr=""/>
            <p:cNvPicPr/>
            <p:nvPr/>
          </p:nvPicPr>
          <p:blipFill>
            <a:blip r:embed="rId8"/>
            <a:stretch/>
          </p:blipFill>
          <p:spPr>
            <a:xfrm>
              <a:off x="1957320" y="1487520"/>
              <a:ext cx="7186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то взаимоотношения с Турцией ( безопасность черноморского побережья, благоприятный режим черноморских проливов – Босфора и Дардане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ectangle 4"/>
          <p:cNvGrpSpPr/>
          <p:nvPr/>
        </p:nvGrpSpPr>
        <p:grpSpPr>
          <a:xfrm>
            <a:off x="1957320" y="1487520"/>
            <a:ext cx="7186680" cy="1170000"/>
            <a:chOff x="1957320" y="1487520"/>
            <a:chExt cx="7186680" cy="1170000"/>
          </a:xfrm>
        </p:grpSpPr>
        <p:pic>
          <p:nvPicPr>
            <p:cNvPr id="133" name="Rectangle 4" descr=""/>
            <p:cNvPicPr/>
            <p:nvPr/>
          </p:nvPicPr>
          <p:blipFill>
            <a:blip r:embed="rId9"/>
            <a:stretch/>
          </p:blipFill>
          <p:spPr>
            <a:xfrm>
              <a:off x="1957320" y="1487520"/>
              <a:ext cx="7186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йдите на карт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южные границы Росс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ливы Босфор и Дардане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ectangle 4"/>
          <p:cNvGrpSpPr/>
          <p:nvPr/>
        </p:nvGrpSpPr>
        <p:grpSpPr>
          <a:xfrm>
            <a:off x="1957320" y="1468440"/>
            <a:ext cx="7186680" cy="1189080"/>
            <a:chOff x="1957320" y="1468440"/>
            <a:chExt cx="7186680" cy="1189080"/>
          </a:xfrm>
        </p:grpSpPr>
        <p:pic>
          <p:nvPicPr>
            <p:cNvPr id="136" name="Rectangle 4" descr=""/>
            <p:cNvPicPr/>
            <p:nvPr/>
          </p:nvPicPr>
          <p:blipFill>
            <a:blip r:embed="rId10"/>
            <a:stretch/>
          </p:blipFill>
          <p:spPr>
            <a:xfrm>
              <a:off x="1957320" y="1468440"/>
              <a:ext cx="71866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016000" y="1542960"/>
              <a:ext cx="70725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крытие Турцией проливов для прохода русских суд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ectangle 4"/>
          <p:cNvGrpSpPr/>
          <p:nvPr/>
        </p:nvGrpSpPr>
        <p:grpSpPr>
          <a:xfrm>
            <a:off x="176040" y="2803680"/>
            <a:ext cx="8834760" cy="866520"/>
            <a:chOff x="176040" y="2803680"/>
            <a:chExt cx="8834760" cy="866520"/>
          </a:xfrm>
        </p:grpSpPr>
        <p:pic>
          <p:nvPicPr>
            <p:cNvPr id="139" name="Rectangle 4" descr=""/>
            <p:cNvPicPr/>
            <p:nvPr/>
          </p:nvPicPr>
          <p:blipFill>
            <a:blip r:embed="rId11"/>
            <a:stretch/>
          </p:blipFill>
          <p:spPr>
            <a:xfrm>
              <a:off x="176040" y="2803680"/>
              <a:ext cx="88347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Назовите основные театры военных действ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Rectangle 4"/>
          <p:cNvGrpSpPr/>
          <p:nvPr/>
        </p:nvGrpSpPr>
        <p:grpSpPr>
          <a:xfrm>
            <a:off x="176040" y="2803680"/>
            <a:ext cx="8834760" cy="866520"/>
            <a:chOff x="176040" y="2803680"/>
            <a:chExt cx="8834760" cy="866520"/>
          </a:xfrm>
        </p:grpSpPr>
        <p:pic>
          <p:nvPicPr>
            <p:cNvPr id="142" name="Rectangle 4" descr=""/>
            <p:cNvPicPr/>
            <p:nvPr/>
          </p:nvPicPr>
          <p:blipFill>
            <a:blip r:embed="rId12"/>
            <a:stretch/>
          </p:blipFill>
          <p:spPr>
            <a:xfrm>
              <a:off x="176040" y="2803680"/>
              <a:ext cx="88347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39760" y="2881440"/>
              <a:ext cx="87152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ойна велась на Балканах, Кавказе, в Черном мор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145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Rectangle 2"/>
          <p:cNvGrpSpPr/>
          <p:nvPr/>
        </p:nvGrpSpPr>
        <p:grpSpPr>
          <a:xfrm>
            <a:off x="1365120" y="701640"/>
            <a:ext cx="6473880" cy="657360"/>
            <a:chOff x="1365120" y="701640"/>
            <a:chExt cx="6473880" cy="657360"/>
          </a:xfrm>
        </p:grpSpPr>
        <p:pic>
          <p:nvPicPr>
            <p:cNvPr id="148" name="Rectangle 2" descr=""/>
            <p:cNvPicPr/>
            <p:nvPr/>
          </p:nvPicPr>
          <p:blipFill>
            <a:blip r:embed="rId2"/>
            <a:stretch/>
          </p:blipFill>
          <p:spPr>
            <a:xfrm>
              <a:off x="1365120" y="701640"/>
              <a:ext cx="647388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28840" y="785880"/>
              <a:ext cx="6357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авказская война 1817-1864 г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ectangle 3"/>
          <p:cNvGrpSpPr/>
          <p:nvPr/>
        </p:nvGrpSpPr>
        <p:grpSpPr>
          <a:xfrm>
            <a:off x="79200" y="1725480"/>
            <a:ext cx="1487520" cy="536760"/>
            <a:chOff x="79200" y="1725480"/>
            <a:chExt cx="1487520" cy="536760"/>
          </a:xfrm>
        </p:grpSpPr>
        <p:pic>
          <p:nvPicPr>
            <p:cNvPr id="151" name="Rectangle 3" descr=""/>
            <p:cNvPicPr/>
            <p:nvPr/>
          </p:nvPicPr>
          <p:blipFill>
            <a:blip r:embed="rId3"/>
            <a:stretch/>
          </p:blipFill>
          <p:spPr>
            <a:xfrm>
              <a:off x="79200" y="1725480"/>
              <a:ext cx="1487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1785960"/>
              <a:ext cx="1371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Причи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4"/>
          <p:cNvGrpSpPr/>
          <p:nvPr/>
        </p:nvGrpSpPr>
        <p:grpSpPr>
          <a:xfrm>
            <a:off x="1749600" y="1341360"/>
            <a:ext cx="7394400" cy="1494000"/>
            <a:chOff x="1749600" y="1341360"/>
            <a:chExt cx="7394400" cy="1494000"/>
          </a:xfrm>
        </p:grpSpPr>
        <p:pic>
          <p:nvPicPr>
            <p:cNvPr id="154" name="Rectangle 4" descr=""/>
            <p:cNvPicPr/>
            <p:nvPr/>
          </p:nvPicPr>
          <p:blipFill>
            <a:blip r:embed="rId4"/>
            <a:stretch/>
          </p:blipFill>
          <p:spPr>
            <a:xfrm>
              <a:off x="1749600" y="1341360"/>
              <a:ext cx="73944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871640" y="1406520"/>
              <a:ext cx="7215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Попытки России подчинить Кавказ и утвердить там российские законы и обыча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Стремление России обезопасить  свои границы от набегов горце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Стрелка вправо 10"/>
          <p:cNvSpPr/>
          <p:nvPr/>
        </p:nvSpPr>
        <p:spPr>
          <a:xfrm>
            <a:off x="1500120" y="19288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14200" y="287244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о жестокой политики генерала А.Ермолова по усмирению горских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динение правителей Дагестана против царских войск и начало вое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вление у мусульман Северного Кавказ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учения «о пути к спасению» – мюридиз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здание горского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усульманского государства – имама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авителем ст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Шамил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ъявление горцами священной войны против неверных (газават) – 1829 г., одного из положений мюридизма. Оказание помощи горцам со стороны Англ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ые боевые действия с обеих сторон. Взят в плен имам Шамиль. Окончательное подавление сопротивления гор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Rectangle 2"/>
          <p:cNvGrpSpPr/>
          <p:nvPr/>
        </p:nvGrpSpPr>
        <p:grpSpPr>
          <a:xfrm>
            <a:off x="189000" y="5962680"/>
            <a:ext cx="8766000" cy="876240"/>
            <a:chOff x="189000" y="5962680"/>
            <a:chExt cx="8766000" cy="876240"/>
          </a:xfrm>
        </p:grpSpPr>
        <p:pic>
          <p:nvPicPr>
            <p:cNvPr id="159" name="Rectangle 2" descr=""/>
            <p:cNvPicPr/>
            <p:nvPr/>
          </p:nvPicPr>
          <p:blipFill>
            <a:blip r:embed="rId5"/>
            <a:stretch/>
          </p:blipFill>
          <p:spPr>
            <a:xfrm>
              <a:off x="189000" y="5962680"/>
              <a:ext cx="87660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6022800"/>
              <a:ext cx="865188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тогом войны стало утверждение власти России на Кавказе и расширение влияния России на Восто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2960" y="35676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12-пересказ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записи в тетр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ережающий реферат: «Герцен А.И.», «В.Г. Белинский», «П.Я. Чаада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помните основные события внешней политики </a:t>
            </a:r>
            <a:br>
              <a:rPr sz="4000"/>
            </a:b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лександра I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857240"/>
            <a:ext cx="85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со Швецией 1808-1809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рному договору, подписанному 5 сентября 1809 г. России передавалась вся территория Финлянд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klin-demianovo.ru/wp-content/uploads/2013/10/91098998_pic02b1.jpg"/>
          <p:cNvPicPr/>
          <p:nvPr/>
        </p:nvPicPr>
        <p:blipFill>
          <a:blip r:embed="rId1"/>
          <a:stretch/>
        </p:blipFill>
        <p:spPr>
          <a:xfrm>
            <a:off x="5000760" y="4000680"/>
            <a:ext cx="4014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йна с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раном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804-1813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юлистанский мирный договор (1813 г.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получала право иметь флот на каспийском море,· Иран признавал присоединение к России Северного Азербайджана и Дагест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йна с Турцией </a:t>
            </a:r>
            <a:r>
              <a:rPr b="1" lang="ru-RU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806-1812 гг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143000"/>
            <a:ext cx="8472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арестский мирный договор (1812 г.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оссия получала Бессарабию, границу по реке Прут и ряд областей в Закавказь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Молдавия и Валахия возвращались Турции, получив право внутренней автоном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России обеспечивалось право покровительства христианам – подданным Турц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вернутый ответ на вопрос:</a:t>
            </a:r>
            <a:br>
              <a:rPr sz="3600"/>
            </a:b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аковы итоги Венского конгресса для России и Европы?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этого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был созван кон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был созван кон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траны участвовали в его рабо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ешения были приняты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вывод о том, как Венский конгресс изменил положение России на мировой аре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азвернутый ответ на вопрос: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роль Священного союза для России и Европ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20001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этого ответьте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был создан Священный союз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траны вошли в союз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он был соз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 союзе играла Рос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2"/>
          <p:cNvGrpSpPr/>
          <p:nvPr/>
        </p:nvGrpSpPr>
        <p:grpSpPr>
          <a:xfrm>
            <a:off x="579600" y="30240"/>
            <a:ext cx="7978680" cy="755640"/>
            <a:chOff x="579600" y="30240"/>
            <a:chExt cx="7978680" cy="755640"/>
          </a:xfrm>
        </p:grpSpPr>
        <p:pic>
          <p:nvPicPr>
            <p:cNvPr id="56" name="Rectangle 2" descr=""/>
            <p:cNvPicPr/>
            <p:nvPr/>
          </p:nvPicPr>
          <p:blipFill>
            <a:blip r:embed="rId1"/>
            <a:stretch/>
          </p:blipFill>
          <p:spPr>
            <a:xfrm>
              <a:off x="579600" y="30240"/>
              <a:ext cx="797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42960" y="142920"/>
              <a:ext cx="78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GungsuhChe"/>
                  <a:ea typeface="GungsuhChe"/>
                </a:rPr>
                <a:t>Внешняя поли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"/>
          <p:cNvSpPr/>
          <p:nvPr/>
        </p:nvSpPr>
        <p:spPr>
          <a:xfrm>
            <a:off x="2357280" y="785880"/>
            <a:ext cx="4429440" cy="428400"/>
          </a:xfrm>
          <a:prstGeom prst="rect">
            <a:avLst/>
          </a:prstGeom>
          <a:solidFill>
            <a:srgbClr val="f2dcd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Rectangle 4"/>
          <p:cNvGrpSpPr/>
          <p:nvPr/>
        </p:nvGrpSpPr>
        <p:grpSpPr>
          <a:xfrm>
            <a:off x="274680" y="1590840"/>
            <a:ext cx="3797280" cy="512640"/>
            <a:chOff x="274680" y="1590840"/>
            <a:chExt cx="3797280" cy="512640"/>
          </a:xfrm>
        </p:grpSpPr>
        <p:pic>
          <p:nvPicPr>
            <p:cNvPr id="60" name="Rectangle 4" descr=""/>
            <p:cNvPicPr/>
            <p:nvPr/>
          </p:nvPicPr>
          <p:blipFill>
            <a:blip r:embed="rId2"/>
            <a:stretch/>
          </p:blipFill>
          <p:spPr>
            <a:xfrm>
              <a:off x="274680" y="1590840"/>
              <a:ext cx="379728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34800" y="1652760"/>
              <a:ext cx="36831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вропейское на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539640" y="6021360"/>
            <a:ext cx="381636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оссия – «жандарм Евро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484360" y="3500280"/>
            <a:ext cx="2303640" cy="2089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ение венгерск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84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788000" y="2565360"/>
            <a:ext cx="1368360" cy="1571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о-иранская война 1826-182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632720" y="2565360"/>
            <a:ext cx="151128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вказск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17-18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940360" y="4797360"/>
            <a:ext cx="230364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ымская война 1853-185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156360" y="2565360"/>
            <a:ext cx="1485720" cy="158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о-турецк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28-182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8"/>
          <p:cNvSpPr/>
          <p:nvPr/>
        </p:nvSpPr>
        <p:spPr>
          <a:xfrm>
            <a:off x="2571840" y="1285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9"/>
          <p:cNvSpPr/>
          <p:nvPr/>
        </p:nvSpPr>
        <p:spPr>
          <a:xfrm>
            <a:off x="536400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20"/>
          <p:cNvSpPr/>
          <p:nvPr/>
        </p:nvSpPr>
        <p:spPr>
          <a:xfrm>
            <a:off x="6357960" y="12859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Rectangle 5"/>
          <p:cNvGrpSpPr/>
          <p:nvPr/>
        </p:nvGrpSpPr>
        <p:grpSpPr>
          <a:xfrm>
            <a:off x="4668840" y="1609560"/>
            <a:ext cx="4054320" cy="547920"/>
            <a:chOff x="4668840" y="1609560"/>
            <a:chExt cx="4054320" cy="547920"/>
          </a:xfrm>
        </p:grpSpPr>
        <p:pic>
          <p:nvPicPr>
            <p:cNvPr id="72" name="Rectangle 5" descr=""/>
            <p:cNvPicPr/>
            <p:nvPr/>
          </p:nvPicPr>
          <p:blipFill>
            <a:blip r:embed="rId3"/>
            <a:stretch/>
          </p:blipFill>
          <p:spPr>
            <a:xfrm>
              <a:off x="4668840" y="1609560"/>
              <a:ext cx="40543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734000" y="1670040"/>
              <a:ext cx="3932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сточный во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ectangle 4"/>
          <p:cNvGrpSpPr/>
          <p:nvPr/>
        </p:nvGrpSpPr>
        <p:grpSpPr>
          <a:xfrm>
            <a:off x="201600" y="2127240"/>
            <a:ext cx="3932280" cy="1017720"/>
            <a:chOff x="201600" y="2127240"/>
            <a:chExt cx="3932280" cy="1017720"/>
          </a:xfrm>
        </p:grpSpPr>
        <p:pic>
          <p:nvPicPr>
            <p:cNvPr id="75" name="Rectangle 4" descr=""/>
            <p:cNvPicPr/>
            <p:nvPr/>
          </p:nvPicPr>
          <p:blipFill>
            <a:blip r:embed="rId4"/>
            <a:stretch/>
          </p:blipFill>
          <p:spPr>
            <a:xfrm>
              <a:off x="201600" y="2127240"/>
              <a:ext cx="39322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4960" y="2189160"/>
              <a:ext cx="375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кой была реакция Николая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на революционные события в Европе?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4"/>
          <p:cNvGrpSpPr/>
          <p:nvPr/>
        </p:nvGrpSpPr>
        <p:grpSpPr>
          <a:xfrm>
            <a:off x="201600" y="2127240"/>
            <a:ext cx="3870360" cy="1017720"/>
            <a:chOff x="201600" y="2127240"/>
            <a:chExt cx="3870360" cy="1017720"/>
          </a:xfrm>
        </p:grpSpPr>
        <p:pic>
          <p:nvPicPr>
            <p:cNvPr id="78" name="Rectangle 4" descr=""/>
            <p:cNvPicPr/>
            <p:nvPr/>
          </p:nvPicPr>
          <p:blipFill>
            <a:blip r:embed="rId5"/>
            <a:stretch/>
          </p:blipFill>
          <p:spPr>
            <a:xfrm>
              <a:off x="201600" y="2127240"/>
              <a:ext cx="38703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64960" y="2189160"/>
              <a:ext cx="375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орьба с революционной «заразой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низ 18"/>
          <p:cNvSpPr/>
          <p:nvPr/>
        </p:nvSpPr>
        <p:spPr>
          <a:xfrm>
            <a:off x="755640" y="3141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08000" y="3500280"/>
            <a:ext cx="223200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была политика российских властей по отношению к П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08000" y="3500280"/>
            <a:ext cx="230328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лександр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зовано Царство Польское, имело Конституцию, законосовещатель-ный орган - Сей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08000" y="3500280"/>
            <a:ext cx="2303280" cy="2071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икола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авление польского восстания 1830-1831 гг. и отмена конституц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18"/>
          <p:cNvSpPr/>
          <p:nvPr/>
        </p:nvSpPr>
        <p:spPr>
          <a:xfrm>
            <a:off x="3203640" y="3141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19"/>
          <p:cNvSpPr/>
          <p:nvPr/>
        </p:nvSpPr>
        <p:spPr>
          <a:xfrm>
            <a:off x="680400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19"/>
          <p:cNvSpPr/>
          <p:nvPr/>
        </p:nvSpPr>
        <p:spPr>
          <a:xfrm>
            <a:off x="8101080" y="2133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9"/>
          <p:cNvSpPr/>
          <p:nvPr/>
        </p:nvSpPr>
        <p:spPr>
          <a:xfrm>
            <a:off x="7020000" y="43657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4722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я и революции в Европе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текст параграфа и ответьте на вопрос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Россию называли "Жандарм Европы"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обытия об этом свидетельству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связано с внутренней политикой Николая 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цу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1033560"/>
          <a:ext cx="8358120" cy="559440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-иранс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-турец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вказская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ологические рам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8396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участ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5652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и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55:48Z</dcterms:created>
  <dc:creator>user</dc:creator>
  <dc:description/>
  <dc:language>en-US</dc:language>
  <cp:lastModifiedBy>Grizli</cp:lastModifiedBy>
  <dcterms:modified xsi:type="dcterms:W3CDTF">2015-10-20T13:54:14Z</dcterms:modified>
  <cp:revision>115</cp:revision>
  <dc:subject/>
  <dc:title>Александр I</dc:title>
</cp:coreProperties>
</file>