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6.jpeg" ContentType="image/jpeg"/>
  <Override PartName="/ppt/media/image5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4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EA80-28BD-432E-A491-842D820737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2F9C-85A4-40A4-AE92-8F8F53871E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FBF-2A43-4F7C-AEDE-C4BEB039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8DE7-8A01-492B-B606-B089C16B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58DA-5402-4045-B27E-49DECAB4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BE8F-F0F3-495C-A8EA-848A12E8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15A6-BEED-48AE-B70D-335C5C76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6505-56AE-47D4-9E29-8DF0E889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C854-0903-4DD7-854F-B6833718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E4DF-0A56-4074-A9F8-3275D1D6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B07C-ECFE-457F-9F29-6E902026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8D53-7B30-4CBD-8628-F66E7DAE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56B0-939A-4869-899B-EE22D11A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98AB-01B7-4618-8C79-877CFB73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19A9-9404-4803-B7C4-FDBDD12B215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500040" y="1004760"/>
            <a:ext cx="82152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учное общество уча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214280" y="3087360"/>
            <a:ext cx="635796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шкина Ю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1 А класс МБОУ «Гимназия № 136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исеенко А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физической культу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шей катег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 «Гимназия № 136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.Н.Нов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01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8" descr="444"/>
          <p:cNvPicPr/>
          <p:nvPr/>
        </p:nvPicPr>
        <p:blipFill>
          <a:blip r:embed="rId1"/>
          <a:stretch/>
        </p:blipFill>
        <p:spPr>
          <a:xfrm>
            <a:off x="4357800" y="285840"/>
            <a:ext cx="695160" cy="9046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1000080" y="186156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ВЛИЯНИЕ ДВИГАТЕЛЬНОЙ АКТИВ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НА ФИЗИЧЕСКУЮ ПОДГОТОВЛЕННОСТЬ ПОДРОСТ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User\Pictures\контрольная группа ноу.png"/>
          <p:cNvPicPr/>
          <p:nvPr/>
        </p:nvPicPr>
        <p:blipFill>
          <a:blip r:embed="rId1"/>
          <a:stretch/>
        </p:blipFill>
        <p:spPr>
          <a:xfrm>
            <a:off x="785880" y="1071720"/>
            <a:ext cx="7072200" cy="5703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285840" y="21672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Показатели уровня  физической подготовленност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контрольной группы за 6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 8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5"/>
          <p:cNvSpPr/>
          <p:nvPr/>
        </p:nvSpPr>
        <p:spPr>
          <a:xfrm>
            <a:off x="214200" y="50720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401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Диаграмма 5" descr=""/>
          <p:cNvPicPr/>
          <p:nvPr/>
        </p:nvPicPr>
        <p:blipFill>
          <a:blip r:embed="rId1"/>
          <a:stretch/>
        </p:blipFill>
        <p:spPr>
          <a:xfrm>
            <a:off x="1000080" y="1214280"/>
            <a:ext cx="6858000" cy="4643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4"/>
          <p:cNvSpPr/>
          <p:nvPr/>
        </p:nvSpPr>
        <p:spPr>
          <a:xfrm>
            <a:off x="1143000" y="21600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Челночный бег 4х9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Диаграмма 1" descr=""/>
          <p:cNvPicPr/>
          <p:nvPr/>
        </p:nvPicPr>
        <p:blipFill>
          <a:blip r:embed="rId1"/>
          <a:stretch/>
        </p:blipFill>
        <p:spPr>
          <a:xfrm>
            <a:off x="928800" y="1143000"/>
            <a:ext cx="7215120" cy="4929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1000080" y="35892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Бег 6 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Диаграмма 2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7000920" cy="47862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1143000" y="28800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  <a:ea typeface="Times New Roman"/>
              </a:rPr>
              <a:t>Прыжки в длину с ме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8"/>
          <p:cNvSpPr/>
          <p:nvPr/>
        </p:nvSpPr>
        <p:spPr>
          <a:xfrm>
            <a:off x="1714680" y="542916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Диаграмма 3" descr=""/>
          <p:cNvPicPr/>
          <p:nvPr/>
        </p:nvPicPr>
        <p:blipFill>
          <a:blip r:embed="rId1"/>
          <a:stretch/>
        </p:blipFill>
        <p:spPr>
          <a:xfrm>
            <a:off x="857160" y="1071720"/>
            <a:ext cx="7215120" cy="43243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8"/>
          <p:cNvSpPr/>
          <p:nvPr/>
        </p:nvSpPr>
        <p:spPr>
          <a:xfrm>
            <a:off x="642960" y="2160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Подтяги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2"/>
          <p:cNvSpPr/>
          <p:nvPr/>
        </p:nvSpPr>
        <p:spPr>
          <a:xfrm>
            <a:off x="0" y="35712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401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214200" y="50720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401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Диаграмма 4" descr=""/>
          <p:cNvPicPr/>
          <p:nvPr/>
        </p:nvPicPr>
        <p:blipFill>
          <a:blip r:embed="rId1"/>
          <a:stretch/>
        </p:blipFill>
        <p:spPr>
          <a:xfrm>
            <a:off x="1285920" y="928800"/>
            <a:ext cx="6929280" cy="4357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1000080" y="21600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Гибк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Диаграмма 1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6500880" cy="37861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214200" y="35712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тоговый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физической подготовленности подро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6149520" y="2143080"/>
            <a:ext cx="270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ьчики экспериментальная  груп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6294960" y="2714760"/>
            <a:ext cx="256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вочки экспериментальная  груп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6499080" y="4000680"/>
            <a:ext cx="21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ьчики контрольная груп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9"/>
          <p:cNvSpPr/>
          <p:nvPr/>
        </p:nvSpPr>
        <p:spPr>
          <a:xfrm>
            <a:off x="6716520" y="4500720"/>
            <a:ext cx="21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вочки  контрольная груп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1"/>
          <p:cNvSpPr/>
          <p:nvPr/>
        </p:nvSpPr>
        <p:spPr>
          <a:xfrm>
            <a:off x="214200" y="221760"/>
            <a:ext cx="8643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м образом,  в 8 классе физическая подготовленность  мальчиков экспериментальной группы  возросла в среднем  на 19,6 %,  контрольной группы  лишь на 7,9 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ческая подготовленность  девочек экспериментальной группы  возросла в среднем  на 14,2 %,  контрольной группы  лишь на 3,4 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42960" y="2500200"/>
          <a:ext cx="6095880" cy="1812960"/>
        </p:xfrm>
        <a:graphic>
          <a:graphicData uri="http://schemas.openxmlformats.org/drawingml/2006/table">
            <a:tbl>
              <a:tblPr/>
              <a:tblGrid>
                <a:gridCol w="978120"/>
                <a:gridCol w="169920"/>
                <a:gridCol w="970200"/>
                <a:gridCol w="973080"/>
                <a:gridCol w="978120"/>
                <a:gridCol w="1050120"/>
                <a:gridCol w="976320"/>
              </a:tblGrid>
              <a:tr h="514800">
                <a:tc grid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г 4х9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г 6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ыжок в дл/мес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тягивания, отжим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ибк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ьч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,6%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 grid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,6 %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ее знач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 grid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в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6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,2 %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среднее знач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" name="Rectangle 12"/>
          <p:cNvSpPr/>
          <p:nvPr/>
        </p:nvSpPr>
        <p:spPr>
          <a:xfrm>
            <a:off x="357120" y="2072160"/>
            <a:ext cx="857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четы показателе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ческой подготовленности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спериментальной группы 6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8 к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500040" y="4429080"/>
            <a:ext cx="83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еты показателей физической подготовленности        контрольной группы 6 – 8 к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71680" y="4786200"/>
          <a:ext cx="6095880" cy="1820880"/>
        </p:xfrm>
        <a:graphic>
          <a:graphicData uri="http://schemas.openxmlformats.org/drawingml/2006/table">
            <a:tbl>
              <a:tblPr/>
              <a:tblGrid>
                <a:gridCol w="1009440"/>
                <a:gridCol w="996840"/>
                <a:gridCol w="997200"/>
                <a:gridCol w="1004760"/>
                <a:gridCol w="1081080"/>
                <a:gridCol w="1006560"/>
              </a:tblGrid>
              <a:tr h="42012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г 4х9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г 6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ыжок в дл/мес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тягивания, отжим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ибк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ьч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8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9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,3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6 %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9 %  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среднее знач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в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7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4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9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2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4 %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4 %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среднее знач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2"/>
          <p:cNvSpPr/>
          <p:nvPr/>
        </p:nvSpPr>
        <p:spPr>
          <a:xfrm>
            <a:off x="642960" y="21420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401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0"/>
          <p:cNvSpPr/>
          <p:nvPr/>
        </p:nvSpPr>
        <p:spPr>
          <a:xfrm>
            <a:off x="1947240" y="214200"/>
            <a:ext cx="66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Мониторинг уровня заболевае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Таблица 11" descr=""/>
          <p:cNvPicPr/>
          <p:nvPr/>
        </p:nvPicPr>
        <p:blipFill>
          <a:blip r:embed="rId1"/>
          <a:stretch/>
        </p:blipFill>
        <p:spPr>
          <a:xfrm>
            <a:off x="334800" y="835200"/>
            <a:ext cx="690120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Таблица 12" descr=""/>
          <p:cNvPicPr/>
          <p:nvPr/>
        </p:nvPicPr>
        <p:blipFill>
          <a:blip r:embed="rId2"/>
          <a:stretch/>
        </p:blipFill>
        <p:spPr>
          <a:xfrm>
            <a:off x="2054160" y="3840120"/>
            <a:ext cx="6918480" cy="2798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2"/>
          <p:cNvSpPr/>
          <p:nvPr/>
        </p:nvSpPr>
        <p:spPr>
          <a:xfrm>
            <a:off x="642960" y="21420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401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790560" y="21420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Мониторинг уровня заболевае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Диаграмма 1" descr=""/>
          <p:cNvPicPr/>
          <p:nvPr/>
        </p:nvPicPr>
        <p:blipFill>
          <a:blip r:embed="rId1"/>
          <a:stretch/>
        </p:blipFill>
        <p:spPr>
          <a:xfrm>
            <a:off x="1500120" y="785880"/>
            <a:ext cx="6643800" cy="41432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285840" y="51436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период с 6 по 8 класс заболеваемость  у подростков, экспериментальной  группы  снизилась на 46,5 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 подростков контрольной  группы лишь  на  8%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214200" y="21600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ижение - жизнь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ристотел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://www.chuvsu.ru/images/stories/novosty/2015/10/programm.jpg"/>
          <p:cNvPicPr/>
          <p:nvPr/>
        </p:nvPicPr>
        <p:blipFill>
          <a:blip r:embed="rId1"/>
          <a:stretch/>
        </p:blipFill>
        <p:spPr>
          <a:xfrm>
            <a:off x="428760" y="4143240"/>
            <a:ext cx="3749400" cy="250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http://www.nedugamnet.ru/sites/default/files/note5498.jpg"/>
          <p:cNvPicPr/>
          <p:nvPr/>
        </p:nvPicPr>
        <p:blipFill>
          <a:blip r:embed="rId2"/>
          <a:stretch/>
        </p:blipFill>
        <p:spPr>
          <a:xfrm>
            <a:off x="4714920" y="4214880"/>
            <a:ext cx="3662280" cy="23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12"/>
          <p:cNvGraphicFramePr/>
          <p:nvPr/>
        </p:nvGraphicFramePr>
        <p:xfrm>
          <a:off x="357120" y="1000080"/>
          <a:ext cx="4292640" cy="32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20" y="1000080"/>
                    <a:ext cx="4292640" cy="32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4"/>
          <p:cNvGraphicFramePr/>
          <p:nvPr/>
        </p:nvGraphicFramePr>
        <p:xfrm>
          <a:off x="4572000" y="928800"/>
          <a:ext cx="4048200" cy="302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928800"/>
                    <a:ext cx="4048200" cy="30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2"/>
          <p:cNvSpPr/>
          <p:nvPr/>
        </p:nvSpPr>
        <p:spPr>
          <a:xfrm>
            <a:off x="0" y="35712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401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4643280" y="35712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401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428760" y="4437360"/>
            <a:ext cx="3214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игательная активность подростков контрольной группы на 19 % меньше нор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7"/>
          <p:cNvSpPr/>
          <p:nvPr/>
        </p:nvSpPr>
        <p:spPr>
          <a:xfrm>
            <a:off x="428760" y="28584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Шагомет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8"/>
          <p:cNvSpPr/>
          <p:nvPr/>
        </p:nvSpPr>
        <p:spPr>
          <a:xfrm>
            <a:off x="500040" y="78588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суточная норма двигательной активности подрос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Диаграмма 3" descr=""/>
          <p:cNvPicPr/>
          <p:nvPr/>
        </p:nvPicPr>
        <p:blipFill>
          <a:blip r:embed="rId1"/>
          <a:stretch/>
        </p:blipFill>
        <p:spPr>
          <a:xfrm>
            <a:off x="4643280" y="4071960"/>
            <a:ext cx="3929400" cy="250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C:\Users\User\Desktop\ноу 1.png"/>
          <p:cNvPicPr/>
          <p:nvPr/>
        </p:nvPicPr>
        <p:blipFill>
          <a:blip r:embed="rId2"/>
          <a:stretch/>
        </p:blipFill>
        <p:spPr>
          <a:xfrm>
            <a:off x="214200" y="1143000"/>
            <a:ext cx="8572680" cy="2811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3505680" y="214200"/>
            <a:ext cx="19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14200" y="491040"/>
            <a:ext cx="864396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ческая подготовленность подростков экспериментальной группы  выше , чем  у подростков  контрольной группы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результаты тестирования физ.качест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болеваемость у подростко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спериментальной  группы  за 8 класс  в 2 раза ниже,  чем у подростков контрольной группы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мониторинг статистики пропусков уроков по болезн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ростки контрольной группы двигаются на 19 % меньше установленной нормы, что сказывается на уровне их физической подготовленности, заболеваемости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показатели шагометр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лагодаря занятиям в группах дополнительного образования, повышаетс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игательная активность учащихся,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крепляется их здоровье,  повышается физическая подготовл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2"/>
          <p:cNvSpPr/>
          <p:nvPr/>
        </p:nvSpPr>
        <p:spPr>
          <a:xfrm>
            <a:off x="0" y="35712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401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5"/>
          <p:cNvSpPr/>
          <p:nvPr/>
        </p:nvSpPr>
        <p:spPr>
          <a:xfrm>
            <a:off x="214200" y="50720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401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14200" y="452160"/>
            <a:ext cx="8501040" cy="60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401"/>
                </a:solidFill>
                <a:latin typeface="Times New Roman"/>
                <a:ea typeface="Times New Roman"/>
              </a:rPr>
              <a:t>1.  Настольная книга учителя физической культуры. Под ред. Л. Б. Кофмана. М., «Физкультура и спорт», 199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401"/>
                </a:solidFill>
                <a:latin typeface="Times New Roman"/>
                <a:ea typeface="Times New Roman"/>
              </a:rPr>
              <a:t>2. Вавилов  Ю.Н.,  Фомин  Н.А.  Физиологические  основы  двигательной  ак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401"/>
                </a:solidFill>
                <a:latin typeface="Times New Roman"/>
                <a:ea typeface="Times New Roman"/>
              </a:rPr>
              <a:t>тивности. – М.: ФиС, 1997. – 123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401"/>
                </a:solidFill>
                <a:latin typeface="Times New Roman"/>
                <a:ea typeface="Calibri"/>
              </a:rPr>
              <a:t>4. Гигиена физического воспитания и спорта: Учеб. посо­бие для студ. высш. пед. учеб. заведений / Я.С. Вайнбаум, В.И. Коваль, T.А.Родионова. — М.: Издательский центр «Академия», 2002. — 240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401"/>
                </a:solidFill>
                <a:latin typeface="Times New Roman"/>
                <a:ea typeface="Calibri"/>
              </a:rPr>
              <a:t>3. Научно – методический журнал «Физическое воспитание и спортивная тренировка» № 2(16) – 2016 г. Волгоград. ISSN   2311-877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401"/>
                </a:solidFill>
                <a:latin typeface="Times New Roman"/>
                <a:ea typeface="Calibri"/>
              </a:rPr>
              <a:t>Богословский  И.Н.,  Шептикин  С.А.  Анализ  двигатель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401"/>
                </a:solidFill>
                <a:latin typeface="Times New Roman"/>
                <a:ea typeface="Calibri"/>
              </a:rPr>
              <a:t>активности школьников в течение учебного года., с.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401"/>
                </a:solidFill>
                <a:latin typeface="Times New Roman"/>
                <a:ea typeface="Calibri"/>
              </a:rPr>
              <a:t>5. Моисеенко А.В. "Методика воспитания выносливости с использованием системы полос препятствий", Материалы </a:t>
            </a:r>
            <a:r>
              <a:rPr b="0" lang="en-US" sz="1600" spc="-1" strike="noStrike">
                <a:solidFill>
                  <a:srgbClr val="000401"/>
                </a:solidFill>
                <a:latin typeface="Times New Roman"/>
                <a:ea typeface="Calibri"/>
              </a:rPr>
              <a:t>IV</a:t>
            </a:r>
            <a:r>
              <a:rPr b="0" lang="ru-RU" sz="1600" spc="-1" strike="noStrike">
                <a:solidFill>
                  <a:srgbClr val="000401"/>
                </a:solidFill>
                <a:latin typeface="Times New Roman"/>
                <a:ea typeface="Calibri"/>
              </a:rPr>
              <a:t> Всероссийской научно-практической конференции "Физическое воспитание учащейся молодёжи" НИРО, 2005г., методическая газета для учителей физкультуры "Спорт в школе" №1, 2006г.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401"/>
                </a:solidFill>
                <a:latin typeface="Times New Roman"/>
                <a:ea typeface="Calibri"/>
              </a:rPr>
              <a:t>6. http://nsportal.ru/shkola/fizkultura-i-sport/library/2014/11/29/metodika-kompleksnogo-razvitiya-vynoslivosti-u </a:t>
            </a:r>
            <a:r>
              <a:rPr b="0" lang="ru-RU" sz="1400" spc="-1" strike="noStrike">
                <a:solidFill>
                  <a:srgbClr val="000401"/>
                </a:solidFill>
                <a:latin typeface="Times New Roman"/>
                <a:ea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401"/>
                </a:solidFill>
                <a:latin typeface="Times New Roman"/>
                <a:ea typeface="Times New Roman"/>
              </a:rPr>
              <a:t>7. </a:t>
            </a:r>
            <a:r>
              <a:rPr b="0" lang="ru-RU" sz="1400" spc="-1" strike="noStrike">
                <a:solidFill>
                  <a:srgbClr val="000401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401"/>
                </a:solidFill>
                <a:latin typeface="Times New Roman"/>
                <a:ea typeface="Times New Roman"/>
              </a:rPr>
              <a:t>http://www.studfiles.ru/preview/5249740/page:5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401"/>
                </a:solidFill>
                <a:latin typeface="Times New Roman"/>
                <a:ea typeface="Times New Roman"/>
              </a:rPr>
              <a:t>8. </a:t>
            </a:r>
            <a:r>
              <a:rPr b="0" lang="en-US" sz="1400" spc="-1" strike="noStrike">
                <a:solidFill>
                  <a:srgbClr val="000401"/>
                </a:solidFill>
                <a:latin typeface="Times New Roman"/>
                <a:ea typeface="Times New Roman"/>
              </a:rPr>
              <a:t>https://www.zakon-i-normativ.info/index.php/component/lica/?view=text&amp;base=1&amp;id=516520&amp;menu=644</a:t>
            </a:r>
            <a:r>
              <a:rPr b="0" lang="ru-RU" sz="1400" spc="-1" strike="noStrike">
                <a:solidFill>
                  <a:srgbClr val="000401"/>
                </a:solidFill>
                <a:latin typeface="Times New Roman"/>
                <a:ea typeface="Times New Roman"/>
              </a:rPr>
              <a:t>33</a:t>
            </a:r>
            <a:r>
              <a:rPr b="0" lang="en-US" sz="1400" spc="-1" strike="noStrike">
                <a:solidFill>
                  <a:srgbClr val="000401"/>
                </a:solidFill>
                <a:latin typeface="Times New Roman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401"/>
                </a:solidFill>
                <a:latin typeface="Times New Roman"/>
                <a:ea typeface="Times New Roman"/>
              </a:rPr>
              <a:t>                                                        9. http://www.astromeridian.ru/medicina/1956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401"/>
                </a:solidFill>
                <a:latin typeface="Times New Roman"/>
                <a:ea typeface="Times New Roman"/>
              </a:rPr>
              <a:t>10. http://www.zakon-i-normativ.info/index.php/component/lica/?view=text&amp;base=1&amp;id=516520&amp;menu=6443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401"/>
                </a:solidFill>
                <a:latin typeface="Times New Roman"/>
                <a:ea typeface="Times New Roman"/>
              </a:rPr>
              <a:t>11. https://refdb.ru/look/1967549-pall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401"/>
                </a:solidFill>
                <a:latin typeface="Times New Roman"/>
                <a:ea typeface="Calibri"/>
              </a:rPr>
              <a:t>12. https://regnum.ru/news/society/1925967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401"/>
                </a:solidFill>
                <a:latin typeface="Times New Roman"/>
                <a:ea typeface="Times New Roman"/>
              </a:rPr>
              <a:t>13.http://school101nn.ucoz.ru/Files/FGOS/harmony/rab_program/fizicheskaja_kultura-chichikin-program-1-4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Прямоугольник 5" descr=""/>
          <p:cNvPicPr/>
          <p:nvPr/>
        </p:nvPicPr>
        <p:blipFill>
          <a:blip r:embed="rId1"/>
          <a:stretch/>
        </p:blipFill>
        <p:spPr>
          <a:xfrm>
            <a:off x="633240" y="1054080"/>
            <a:ext cx="787752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357120" y="138600"/>
            <a:ext cx="842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Arial"/>
                <a:ea typeface="Times New Roman"/>
              </a:rPr>
              <a:t>Цель   рабо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28760" y="1094400"/>
            <a:ext cx="8429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Довести</a:t>
            </a:r>
            <a:r>
              <a:rPr b="1" lang="ru-RU" sz="28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 учащихся информацию  о влиянии двигательной активности на  физическую подготовленность подрос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  <a:ea typeface="Calibri"/>
              </a:rPr>
              <a:t>Оцени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с помощью измерений показатели  физической  подготовленности  учащихся 6 - 8 классо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БОУ «Гимназия  № 136»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в динам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  <a:ea typeface="Calibri"/>
              </a:rPr>
              <a:t>Сравни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показатели физического развития учащихся, активно  занимающихся спортом, и, не занимающихся  спор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Сформирова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у молодежи стремление к здоровому образу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85840" y="217080"/>
            <a:ext cx="857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Arial"/>
                <a:ea typeface="Times New Roman"/>
              </a:rPr>
              <a:t>Задачи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85840" y="883080"/>
            <a:ext cx="8572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Изучи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и проанализировать литературу по данной   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Сформирова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у подростков  знания о влиянии двигательной активности на физическое разви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ове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исследование физической   подготовленности  подрост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Исследова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помощью измерений, расчетов, показатели физической   подготовленности учащихся  в период с 6-го по 8й класс МБОУ «Гимназ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№ 136»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ове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анкетирование среди учащих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 отношении к физическим нагрузкам и спор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Сделать выводы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8"/>
          <p:cNvSpPr/>
          <p:nvPr/>
        </p:nvSpPr>
        <p:spPr>
          <a:xfrm>
            <a:off x="285840" y="294840"/>
            <a:ext cx="8643960" cy="30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Объект исследования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уровень физической подготовленности  подрост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Предмет исследования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лияние двигательной активности на физическую подготовленность  подростк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https://fispassport.ru/wp-content/uploads/2010/03/prig_hed.jpg"/>
          <p:cNvPicPr/>
          <p:nvPr/>
        </p:nvPicPr>
        <p:blipFill>
          <a:blip r:embed="rId1"/>
          <a:stretch/>
        </p:blipFill>
        <p:spPr>
          <a:xfrm>
            <a:off x="4214880" y="3643200"/>
            <a:ext cx="4684680" cy="2973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http://russiasport.ru/sites/default/files/styles/mod_wall_photos_popup_slide/public/dsc_1152_1.jpg?itok=Dbivok2l"/>
          <p:cNvPicPr/>
          <p:nvPr/>
        </p:nvPicPr>
        <p:blipFill>
          <a:blip r:embed="rId2"/>
          <a:stretch/>
        </p:blipFill>
        <p:spPr>
          <a:xfrm>
            <a:off x="285840" y="3643200"/>
            <a:ext cx="4000320" cy="2946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0"/>
          <p:cNvSpPr/>
          <p:nvPr/>
        </p:nvSpPr>
        <p:spPr>
          <a:xfrm>
            <a:off x="214200" y="224640"/>
            <a:ext cx="81439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  <a:ea typeface="Times New Roman"/>
              </a:rPr>
              <a:t>Двигательная актив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естественная и специально организованная двигательная деятельность человека, которая  обеспечивает его успешное физическое и психическое развитие.  Это  сумма движений, выполняемых человеком в процессе повседневной жизне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285840" y="2623320"/>
            <a:ext cx="864396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деляют пять основных двигательных качеств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сил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быстро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вынослив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гиб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ловк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http://likeni.info/wp-content/uploads/2016/11/1-13.jpg"/>
          <p:cNvPicPr/>
          <p:nvPr/>
        </p:nvPicPr>
        <p:blipFill>
          <a:blip r:embed="rId1"/>
          <a:stretch/>
        </p:blipFill>
        <p:spPr>
          <a:xfrm>
            <a:off x="4071960" y="3786120"/>
            <a:ext cx="4151160" cy="2671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85840" y="286200"/>
            <a:ext cx="87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ttps://ukracy.com/uploads/news/537880331365016261_b.jpg"/>
          <p:cNvPicPr/>
          <p:nvPr/>
        </p:nvPicPr>
        <p:blipFill>
          <a:blip r:embed="rId1"/>
          <a:stretch/>
        </p:blipFill>
        <p:spPr>
          <a:xfrm>
            <a:off x="785880" y="4071960"/>
            <a:ext cx="3143160" cy="2282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https://om-saratov.ru/files/pages/41489/1475848636general_pages_07_october_2016_i41489_v_ekaterinovskom_raione_shk.jpg"/>
          <p:cNvPicPr/>
          <p:nvPr/>
        </p:nvPicPr>
        <p:blipFill>
          <a:blip r:embed="rId2"/>
          <a:stretch/>
        </p:blipFill>
        <p:spPr>
          <a:xfrm>
            <a:off x="4857840" y="4179960"/>
            <a:ext cx="3214440" cy="24098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285840" y="373680"/>
            <a:ext cx="5000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ильными не рождаются, сильными становя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езультате мышечной деятельности. Двигательная активность подростков стимулирует не только физическое, но и умственное разви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http://hotuser.ru/images/stories/68/shutterstock_945089741.jpg"/>
          <p:cNvPicPr/>
          <p:nvPr/>
        </p:nvPicPr>
        <p:blipFill>
          <a:blip r:embed="rId3"/>
          <a:stretch/>
        </p:blipFill>
        <p:spPr>
          <a:xfrm>
            <a:off x="5357880" y="1000080"/>
            <a:ext cx="3603600" cy="2403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214200" y="87480"/>
            <a:ext cx="86439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  <a:ea typeface="Times New Roman"/>
              </a:rPr>
              <a:t>Экспериментальные исследования физической  подготовленности</a:t>
            </a:r>
            <a:r>
              <a:rPr b="0" lang="ru-RU" sz="2800" spc="-1" strike="noStrike">
                <a:solidFill>
                  <a:srgbClr val="00b0f0"/>
                </a:solidFill>
                <a:latin typeface="Arial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  <a:ea typeface="Times New Roman"/>
              </a:rPr>
              <a:t>подро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следование проведено с сентября 2014г. - по май 2016 г. на базе Гимназии №  136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нем приняли участие 28 школьников 13-15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14 мальчиков и  14 девочек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щиеся поделены на контрольную (14 чел.)  и экспериментальную (14 чел.)  групп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Экспериментальна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групп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те, кто занимался в группах дополнительно 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школьных, спортивных секциях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Контрольная группа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ещали только уроки физкуль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вень  физической подготовленности   оценивался по региональным тестам, разработанным на кафедре физкультуры  и ОБЖ НИРО  под руководством профессора   Чичикина В. 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C:\Users\User\Pictures\экспериментальная группа ноу.png"/>
          <p:cNvPicPr/>
          <p:nvPr/>
        </p:nvPicPr>
        <p:blipFill>
          <a:blip r:embed="rId1"/>
          <a:stretch/>
        </p:blipFill>
        <p:spPr>
          <a:xfrm>
            <a:off x="714240" y="785880"/>
            <a:ext cx="7572600" cy="58640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0"/>
          <p:cNvSpPr/>
          <p:nvPr/>
        </p:nvSpPr>
        <p:spPr>
          <a:xfrm>
            <a:off x="357120" y="21600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Показатели уровня  физической подготовленност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зкспериментальной  группы за 6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 8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20:43:35Z</dcterms:created>
  <dc:creator>*</dc:creator>
  <dc:description/>
  <dc:language>en-US</dc:language>
  <cp:lastModifiedBy>Andrey</cp:lastModifiedBy>
  <dcterms:modified xsi:type="dcterms:W3CDTF">2017-02-23T07:45:58Z</dcterms:modified>
  <cp:revision>528</cp:revision>
  <dc:subject/>
  <dc:title>Слайд 1</dc:title>
</cp:coreProperties>
</file>