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6.jpeg" ContentType="image/jpeg"/>
  <Override PartName="/ppt/media/image5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4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4786-E3A7-4619-AAF0-666223E72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5EE1-7BDF-4DA8-AA48-30CC276C7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219-16DE-4C82-A2C2-69B49104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930-F930-4D86-BDC8-60826D8E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707-B2BD-4605-A7F9-A7C42010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CEA-83C5-41B7-AEAC-3AEBCEB5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32A-103C-49DB-A964-31423B9C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2A2-E9C9-4F58-854C-0EB3CFB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FA4-7F66-42F4-A864-905CF22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20B-ECBA-4CFF-920D-C091AB8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5C5-9AFE-42EC-8B08-8EB81BAD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17F-7EE3-4A25-8F01-0A42577C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906-C5A3-4848-991F-988CD3B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8C0-B97B-441D-AD20-C63DDF3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4807-2ECF-4D44-B6D3-E76FB49D03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00040" y="1004760"/>
            <a:ext cx="8215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учное общество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214280" y="3087360"/>
            <a:ext cx="63579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шкина Ю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1 А класс МБОУ «Гимназия № 13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сеенко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ческой куль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«Гимназия № 13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Н.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01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8" descr="444"/>
          <p:cNvPicPr/>
          <p:nvPr/>
        </p:nvPicPr>
        <p:blipFill>
          <a:blip r:embed="rId1"/>
          <a:stretch/>
        </p:blipFill>
        <p:spPr>
          <a:xfrm>
            <a:off x="4357800" y="285840"/>
            <a:ext cx="695160" cy="904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000080" y="186156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ЛИЯНИЕ ДВИГАТЕЛЬНОЙ АКТИВ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 ФИЗИЧЕСКУЮ ПОДГОТОВЛЕНН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User\Pictures\контрольная группа ноу.png"/>
          <p:cNvPicPr/>
          <p:nvPr/>
        </p:nvPicPr>
        <p:blipFill>
          <a:blip r:embed="rId1"/>
          <a:stretch/>
        </p:blipFill>
        <p:spPr>
          <a:xfrm>
            <a:off x="785880" y="1071720"/>
            <a:ext cx="7072200" cy="5703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285840" y="2167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казатели уровня  физической подготовлен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трольной группы за 6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214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40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Диаграмма 5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6858000" cy="4643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4"/>
          <p:cNvSpPr/>
          <p:nvPr/>
        </p:nvSpPr>
        <p:spPr>
          <a:xfrm>
            <a:off x="1143000" y="2160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Челночный бег 4х9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Диаграмма 1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215120" cy="4929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000080" y="358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Бег 6 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Диаграмма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143000" y="2880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Times New Roman"/>
              </a:rPr>
              <a:t>Прыжки в длину с м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8"/>
          <p:cNvSpPr/>
          <p:nvPr/>
        </p:nvSpPr>
        <p:spPr>
          <a:xfrm>
            <a:off x="1714680" y="54291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3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215120" cy="4324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42960" y="21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Подтяги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14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40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4" descr=""/>
          <p:cNvPicPr/>
          <p:nvPr/>
        </p:nvPicPr>
        <p:blipFill>
          <a:blip r:embed="rId1"/>
          <a:stretch/>
        </p:blipFill>
        <p:spPr>
          <a:xfrm>
            <a:off x="1285920" y="928800"/>
            <a:ext cx="6929280" cy="43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1000080" y="2160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Гиб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1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6500880" cy="3786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1420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тоговый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зической подготовленност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149520" y="2143080"/>
            <a:ext cx="270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ьчики экспериментальная 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6294960" y="2714760"/>
            <a:ext cx="25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 экспериментальная 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6499080" y="4000680"/>
            <a:ext cx="21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ьчики контрольная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6716520" y="450072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вочки  контрольная 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214200" y="22176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 в 8 классе физическая подготовленность  мальчиков экспериментальной группы  возросла в среднем  на 19,6 %,  контрольной группы  лишь на 7,9 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подготовленность  девочек экспериментальной группы  возросла в среднем  на 14,2 %,  контрольной группы  лишь на 3,4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2960" y="2500200"/>
          <a:ext cx="6095880" cy="1812960"/>
        </p:xfrm>
        <a:graphic>
          <a:graphicData uri="http://schemas.openxmlformats.org/drawingml/2006/table">
            <a:tbl>
              <a:tblPr/>
              <a:tblGrid>
                <a:gridCol w="978120"/>
                <a:gridCol w="169920"/>
                <a:gridCol w="970200"/>
                <a:gridCol w="973080"/>
                <a:gridCol w="978120"/>
                <a:gridCol w="1050120"/>
                <a:gridCol w="976320"/>
              </a:tblGrid>
              <a:tr h="51480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4х9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6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ок в дл/ме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ягивания, отжи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6%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,6 %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 %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2"/>
          <p:cNvSpPr/>
          <p:nvPr/>
        </p:nvSpPr>
        <p:spPr>
          <a:xfrm>
            <a:off x="357120" y="2072160"/>
            <a:ext cx="857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четы показател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ой подготовленности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альной группы 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8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00040" y="4429080"/>
            <a:ext cx="83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ы показателей физической подготовленности        контрольной группы 6 – 8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1680" y="4786200"/>
          <a:ext cx="6095880" cy="1820880"/>
        </p:xfrm>
        <a:graphic>
          <a:graphicData uri="http://schemas.openxmlformats.org/drawingml/2006/table">
            <a:tbl>
              <a:tblPr/>
              <a:tblGrid>
                <a:gridCol w="1009440"/>
                <a:gridCol w="996840"/>
                <a:gridCol w="997200"/>
                <a:gridCol w="1004760"/>
                <a:gridCol w="1081080"/>
                <a:gridCol w="1006560"/>
              </a:tblGrid>
              <a:tr h="4201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4х9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г 6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ок в дл/ме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ягивания, отжи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ь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6 %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 %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 %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 %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401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1947240" y="214200"/>
            <a:ext cx="66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Мониторинг уровня заболевае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Таблица 11" descr=""/>
          <p:cNvPicPr/>
          <p:nvPr/>
        </p:nvPicPr>
        <p:blipFill>
          <a:blip r:embed="rId1"/>
          <a:stretch/>
        </p:blipFill>
        <p:spPr>
          <a:xfrm>
            <a:off x="334800" y="835200"/>
            <a:ext cx="6901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Таблица 12" descr=""/>
          <p:cNvPicPr/>
          <p:nvPr/>
        </p:nvPicPr>
        <p:blipFill>
          <a:blip r:embed="rId2"/>
          <a:stretch/>
        </p:blipFill>
        <p:spPr>
          <a:xfrm>
            <a:off x="2054160" y="3840120"/>
            <a:ext cx="691848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642960" y="2142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401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7905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Мониторинг уровня забол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500120" y="785880"/>
            <a:ext cx="6643800" cy="4143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285840" y="5143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ериод с 6 по 8 класс заболеваемость  у подростков, экспериментальной  группы  снизилась на 46,5 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 подростков контрольной  группы лишь  на  8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14200" y="2160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- жиз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ристот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chuvsu.ru/images/stories/novosty/2015/10/programm.jpg"/>
          <p:cNvPicPr/>
          <p:nvPr/>
        </p:nvPicPr>
        <p:blipFill>
          <a:blip r:embed="rId1"/>
          <a:stretch/>
        </p:blipFill>
        <p:spPr>
          <a:xfrm>
            <a:off x="428760" y="4143240"/>
            <a:ext cx="3749400" cy="250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www.nedugamnet.ru/sites/default/files/note5498.jpg"/>
          <p:cNvPicPr/>
          <p:nvPr/>
        </p:nvPicPr>
        <p:blipFill>
          <a:blip r:embed="rId2"/>
          <a:stretch/>
        </p:blipFill>
        <p:spPr>
          <a:xfrm>
            <a:off x="4714920" y="4214880"/>
            <a:ext cx="36622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2"/>
          <p:cNvGraphicFramePr/>
          <p:nvPr/>
        </p:nvGraphicFramePr>
        <p:xfrm>
          <a:off x="357120" y="1000080"/>
          <a:ext cx="4292640" cy="32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000080"/>
                    <a:ext cx="429264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4"/>
          <p:cNvGraphicFramePr/>
          <p:nvPr/>
        </p:nvGraphicFramePr>
        <p:xfrm>
          <a:off x="4572000" y="928800"/>
          <a:ext cx="4048200" cy="30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928800"/>
                    <a:ext cx="404820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4643280" y="357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28760" y="4437360"/>
            <a:ext cx="3214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гательная активность подростков контрольной группы на 19 % меньше нор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428760" y="285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Шаг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500040" y="7858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суточная норма двигательной активности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3" descr=""/>
          <p:cNvPicPr/>
          <p:nvPr/>
        </p:nvPicPr>
        <p:blipFill>
          <a:blip r:embed="rId1"/>
          <a:stretch/>
        </p:blipFill>
        <p:spPr>
          <a:xfrm>
            <a:off x="4643280" y="4071960"/>
            <a:ext cx="392940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User\Desktop\ноу 1.png"/>
          <p:cNvPicPr/>
          <p:nvPr/>
        </p:nvPicPr>
        <p:blipFill>
          <a:blip r:embed="rId2"/>
          <a:stretch/>
        </p:blipFill>
        <p:spPr>
          <a:xfrm>
            <a:off x="214200" y="1143000"/>
            <a:ext cx="8572680" cy="281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505680" y="21420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14200" y="491040"/>
            <a:ext cx="86439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подготовленность подростков экспериментальной группы  выше , чем  у подростков  контрольной групп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езультаты тестирования физ.качест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олеваемость у подрост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альной  группы  за 8 класс  в 2 раза ниже,  чем у подростков контрольной групп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мониторинг статистики пропусков уроков по болезн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остки контрольной группы двигаются на 19 % меньше установленной нормы, что сказывается на уровне их физической подготовленности, заболеваемост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казатели шагомет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агодаря занятиям в группах дополнительного образования, повышает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гательная активность учащихся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репляется их здоровье,  повышается физическая подготовл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401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14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40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14200" y="452160"/>
            <a:ext cx="850104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.  Настольная книга учителя физической культуры. Под ред. Л. Б. Кофмана. М., «Физкультура и спорт»,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2. Вавилов  Ю.Н.,  Фомин  Н.А.  Физиологические  основы  двигательной  ак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тивности. – М.: ФиС, 1997. – 123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4. Гигиена физического воспитания и спорта: Учеб. посо­бие для студ. высш. пед. учеб. заведений / Я.С. Вайнбаум, В.И. Коваль, T.А.Родионова. — М.: Издательский центр «Академия», 2002. — 24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3. Научно – методический журнал «Физическое воспитание и спортивная тренировка» № 2(16) – 2016 г. Волгоград. ISSN   2311-877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Богословский  И.Н.,  Шептикин  С.А.  Анализ  двига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активности школьников в течение учебного года., с.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5. Моисеенко А.В. "Методика воспитания выносливости с использованием системы полос препятствий", Материалы </a:t>
            </a:r>
            <a:r>
              <a:rPr b="0" lang="en-US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IV</a:t>
            </a: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 Всероссийской научно-практической конференции "Физическое воспитание учащейся молодёжи" НИРО, 2005г., методическая газета для учителей физкультуры "Спорт в школе" №1, 2006г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401"/>
                </a:solidFill>
                <a:latin typeface="Times New Roman"/>
                <a:ea typeface="Calibri"/>
              </a:rPr>
              <a:t>6. http://nsportal.ru/shkola/fizkultura-i-sport/library/2014/11/29/metodika-kompleksnogo-razvitiya-vynoslivosti-u 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7. 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http://www.studfiles.ru/preview/5249740/page:5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8. </a:t>
            </a:r>
            <a:r>
              <a:rPr b="0" lang="en-US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https://www.zakon-i-normativ.info/index.php/component/lica/?view=text&amp;base=1&amp;id=516520&amp;menu=644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33</a:t>
            </a:r>
            <a:r>
              <a:rPr b="0" lang="en-US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                                                        9. http://www.astromeridian.ru/medicina/195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0. http://www.zakon-i-normativ.info/index.php/component/lica/?view=text&amp;base=1&amp;id=516520&amp;menu=6443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1. https://refdb.ru/look/1967549-pall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Calibri"/>
              </a:rPr>
              <a:t>12. https://regnum.ru/news/society/1925967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401"/>
                </a:solidFill>
                <a:latin typeface="Times New Roman"/>
                <a:ea typeface="Times New Roman"/>
              </a:rPr>
              <a:t>13.http://school101nn.ucoz.ru/Files/FGOS/harmony/rab_program/fizicheskaja_kultura-chichikin-program-1-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5" descr=""/>
          <p:cNvPicPr/>
          <p:nvPr/>
        </p:nvPicPr>
        <p:blipFill>
          <a:blip r:embed="rId1"/>
          <a:stretch/>
        </p:blipFill>
        <p:spPr>
          <a:xfrm>
            <a:off x="633240" y="1054080"/>
            <a:ext cx="78775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57120" y="13860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Arial"/>
                <a:ea typeface="Times New Roman"/>
              </a:rPr>
              <a:t>Цель   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28760" y="1094400"/>
            <a:ext cx="8429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Довести</a:t>
            </a:r>
            <a:r>
              <a:rPr b="1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 учащихся информацию  о влиянии двигательной активности на  физическую подготовленность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Оцени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с помощью измерений показатели  физической  подготовленности  учащихся 6 - 8 класс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БОУ «Гимназия  № 136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в динам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Calibri"/>
              </a:rPr>
              <a:t>Сравни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показатели физического развития учащихся, активно  занимающихся спортом, и, не занимающихся 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С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молодежи стремление к здоровому образу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85840" y="21708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Задач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5840" y="88308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Изуч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и проанализировать литературу по данной   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формир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у подростков  знания о влиянии двигательной активности на физическ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сследование физической   подготовленности  подрост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Исслед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помощью измерений, расчетов, показатели физической   подготовленности учащихся  в период с 6-го по 8й класс МБОУ «Гимназ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№ 136»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нкетирование сред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 отношении к физическим нагрузкам и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Сделать вывод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285840" y="294840"/>
            <a:ext cx="8643960" cy="30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Объект исследования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уровень физической подготовленности 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Предмет исследования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лияние двигательной активности на физическую подготовленность  подрост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https://fispassport.ru/wp-content/uploads/2010/03/prig_hed.jpg"/>
          <p:cNvPicPr/>
          <p:nvPr/>
        </p:nvPicPr>
        <p:blipFill>
          <a:blip r:embed="rId1"/>
          <a:stretch/>
        </p:blipFill>
        <p:spPr>
          <a:xfrm>
            <a:off x="4214880" y="3643200"/>
            <a:ext cx="4684680" cy="2973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http://russiasport.ru/sites/default/files/styles/mod_wall_photos_popup_slide/public/dsc_1152_1.jpg?itok=Dbivok2l"/>
          <p:cNvPicPr/>
          <p:nvPr/>
        </p:nvPicPr>
        <p:blipFill>
          <a:blip r:embed="rId2"/>
          <a:stretch/>
        </p:blipFill>
        <p:spPr>
          <a:xfrm>
            <a:off x="285840" y="3643200"/>
            <a:ext cx="400032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214200" y="224640"/>
            <a:ext cx="8143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Двигательная актив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естественная и специально организованная двигательная деятельность человека, которая  обеспечивает его успешное физическое и психическое развитие.  Это  сумма движений, выполняемых человеком в процессе повседневной жизне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285840" y="2623320"/>
            <a:ext cx="86439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яют пять основных двигательных качеств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си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стро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вынослив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гиб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ловк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http://likeni.info/wp-content/uploads/2016/11/1-13.jpg"/>
          <p:cNvPicPr/>
          <p:nvPr/>
        </p:nvPicPr>
        <p:blipFill>
          <a:blip r:embed="rId1"/>
          <a:stretch/>
        </p:blipFill>
        <p:spPr>
          <a:xfrm>
            <a:off x="4071960" y="3786120"/>
            <a:ext cx="4151160" cy="267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85840" y="286200"/>
            <a:ext cx="87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ukracy.com/uploads/news/537880331365016261_b.jpg"/>
          <p:cNvPicPr/>
          <p:nvPr/>
        </p:nvPicPr>
        <p:blipFill>
          <a:blip r:embed="rId1"/>
          <a:stretch/>
        </p:blipFill>
        <p:spPr>
          <a:xfrm>
            <a:off x="785880" y="4071960"/>
            <a:ext cx="3143160" cy="228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s://om-saratov.ru/files/pages/41489/1475848636general_pages_07_october_2016_i41489_v_ekaterinovskom_raione_shk.jpg"/>
          <p:cNvPicPr/>
          <p:nvPr/>
        </p:nvPicPr>
        <p:blipFill>
          <a:blip r:embed="rId2"/>
          <a:stretch/>
        </p:blipFill>
        <p:spPr>
          <a:xfrm>
            <a:off x="4857840" y="4179960"/>
            <a:ext cx="3214440" cy="2409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285840" y="373680"/>
            <a:ext cx="50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ьными не рождаются, сильными становя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мышечной деятельности. Двигательная активность подростков стимулирует не только физическое, но и умствен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ttp://hotuser.ru/images/stories/68/shutterstock_945089741.jpg"/>
          <p:cNvPicPr/>
          <p:nvPr/>
        </p:nvPicPr>
        <p:blipFill>
          <a:blip r:embed="rId3"/>
          <a:stretch/>
        </p:blipFill>
        <p:spPr>
          <a:xfrm>
            <a:off x="5357880" y="1000080"/>
            <a:ext cx="3603600" cy="240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214200" y="87480"/>
            <a:ext cx="86439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Экспериментальные исследования физической  подготовленности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следование проведено с сентября 2014г. - по май 2016 г. на базе Гимназии №  13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м приняли участие 28 школьников 13-1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4 мальчиков и  14 девоч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поделены на контрольную (14 чел.)  и экспериментальную (14 чел.) 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Эксперименталь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групп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, кто занимался в группах дополнительно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школьных, спортивных секция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трольная групп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ещали только уроки физ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 физической подготовленности   оценивался по региональным тестам, разработанным на кафедре физкультуры  и ОБЖ НИРО  под руководством профессора   Чичикина В. 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:\Users\User\Pictures\экспериментальная группа ноу.png"/>
          <p:cNvPicPr/>
          <p:nvPr/>
        </p:nvPicPr>
        <p:blipFill>
          <a:blip r:embed="rId1"/>
          <a:stretch/>
        </p:blipFill>
        <p:spPr>
          <a:xfrm>
            <a:off x="714240" y="785880"/>
            <a:ext cx="7572600" cy="5864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357120" y="216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казатели уровня  физической подготовлен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зкспериментальной  группы за 6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20:43:35Z</dcterms:created>
  <dc:creator>*</dc:creator>
  <dc:description/>
  <dc:language>en-US</dc:language>
  <cp:lastModifiedBy>Andrey</cp:lastModifiedBy>
  <dcterms:modified xsi:type="dcterms:W3CDTF">2017-02-23T07:45:58Z</dcterms:modified>
  <cp:revision>528</cp:revision>
  <dc:subject/>
  <dc:title>Слайд 1</dc:title>
</cp:coreProperties>
</file>