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12F4-E814-4AE9-A123-99BB1FAE80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E652-EA24-425B-81E4-CA0FD5AB48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875D-3AE3-4754-884F-A7971AE6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C43E-1CDB-4B51-820A-0D035296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4C9-13C7-4466-83FA-D7829563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1BEA-5E70-48A6-9FD7-2C31FC37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B9EF-7CFB-48DB-9970-3C70502D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02F-1300-4D40-A84B-38E080F7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2274-2F60-46DD-90EE-3865CF56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4A6A-FDC7-424C-ADA4-1BE1A5FA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77E8-1721-4EB6-993C-B68A8B60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877-860B-4F5E-85BA-E108807E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FAB-BED7-443A-96CC-D734DDBE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B90-55E3-4C73-BEF5-B155AD89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DE96-5CEF-4E60-A17E-D02E32C37F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630920" cy="2232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зентация проекта  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по экологическому    воспитанию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Временами года»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тель:   первой квалификационной категори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москанова Татьяна Юрьевна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 rot="10800000">
            <a:off x="1116000" y="328428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C:\Users\Free\Pictures\ФОТО ПО ЭКОЛОГИИИ\P1030250.JPG"/>
          <p:cNvPicPr/>
          <p:nvPr/>
        </p:nvPicPr>
        <p:blipFill>
          <a:blip r:embed="rId1"/>
          <a:stretch/>
        </p:blipFill>
        <p:spPr>
          <a:xfrm>
            <a:off x="358920" y="115920"/>
            <a:ext cx="8605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юнь–авгу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468360" y="1844640"/>
            <a:ext cx="7848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Игра “Когда это бывает”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основные приметы времен года.Разучивание песен о лет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Беседа “Как я отдыхал летом”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ь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ждать детей к составлению рассказа о своем отдыхе; учить отбирать нужные приметы ле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Изготовление картин о лете из природного и бросового материала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звивать художественный вкус, воображ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Занятия по изобразительному искусству “Летнее настроение”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знакомить с новой техникой рисования мыльными пузырями, кляксографи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ние музыки: А. Вивальди “Времена года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Лето в народном календаре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накомить детей с народными примет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Отвечай быстро”, “Укрась слово”, “Кузовок”, “Испорченный телефон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Развлечение “Круглый год”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крепить знания о сезонных изменения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езентация для детей «Времена года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семье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леса, пруда «Торфянки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атрибутов, костюмов к развлечению “Круглый год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2" descr="C:\Users\Free\Pictures\ФОТО ПО ЭКОЛОГИИИ\DSC00219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писок литератур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468360" y="1166760"/>
            <a:ext cx="784872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общеобразовательная программа дошкольного образования « Радуга» Т.Н.Доронов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ценко Л. Работа с родителями по экологическому воспитанию детей. Ребенок в детском саду. 2002. N 5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кевич. О.А. Добро пожаловать в экологию! СПБ., Детство-пресс. 2002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бина О.В., Рахманова Н.П., Щетинина В.В. Неизведанное рядом: Занимательные опыты и эксперименты для дошкольников. М.: ТЦ Сфера, 2005. (серия «Вместе с детьми» 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жова Н.А. Экологическое образование в детском саду. М.: Изд. дом «Карапуз», 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и задачи проект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знавательно-творческий. Долгосрочны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оспитать у детей эмоциональное, положительное отношение к природе, умение видеть прекрасное в разное время года. Раскрытие ценности совместного творчества детей и их родите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сезонными изменениями природы, с цветовой гаммой, присущей тому или иному времени год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детей отражать в рисунках признаки природы в разные времена года, используя различные способы и средства изображ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 нетрадиционными техниками рисования: печать листьями, кляксография, цветной и черно-белый гратаж, , скатывание бумаги и др.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 детей познавательный интерес к окружающему миру, родной природ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 группы, дети старшей группы , музыкальный руководитель, родител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езентация проекта в форме развлеч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20240" y="333000"/>
            <a:ext cx="4428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395280" y="1305000"/>
            <a:ext cx="8353440" cy="466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ы реализации проек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 (проблемы проекта). Вызвать интерес детей и родителей к теме проек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лана проек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проекта на родительском собрании с родителя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проекта с воспитателем, музыкальным руководителе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нформации, литературы, дополнительного материа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плану с детьми, родителями, педагог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, анализ ожидаемого результа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роек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жидаемые результаты планирующиеся в ходе реализации проек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выставки детских рабо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“Осень золотая”, “ Портрет весны!», «Ах-лето!», «Зимушка-зима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ки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ры – осени», «Необычная елочка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альбома совместно с родителями “Времена года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выставки детских рисунков “Шедевры живописи глазами детей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и и обогащению педагогических знаний и умений родите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сихолого-педагогической культуры родите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Ы РАБОТЫ</a:t>
            </a: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детьми и с родителя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971640" y="1855800"/>
            <a:ext cx="7416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; НОД; рассматривание альбомов, картин, иллюстраций; выставки детских работ по проекту «Времена года»; дидактические игры по проекту «Времена года»; экскурсия на участок детского сада; заучивание стихов, пословиц, поговорок; творческая речевая деятельность; утренники, развлечения; конкурсы; театрализованная деятельность; сочинение рассказов и сказок; создание мини-проектов; видеопрасмот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ая пропаганда; беседы и консультации; анкетирование; дни открытых дверей; круглый стол; конкурс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ый план долгосрочного проект «Времена год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ентябрь–ноябр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324000" y="1582560"/>
            <a:ext cx="82803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ая беседа с детьми на тему “Как природа рисует красками”, рассматривание иллюстраций художников: И. Шишкина, И. Левита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эстетическое восприятие детей, формировать навыки эстетических контактов с произведениями искусств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, стихов, загадок, примет. Заучивание стихотворений: “Осень” К.Д. Бальмонта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Времена года”, “Когда это бывает”, “Сложи картинку”, “Такой листик, лети ко мне”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 детей смекалку, сообразительнос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ослушивание аудиозаписи А. Вивальди “Осень” из цикла “Времена года”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Рассматривание гербар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в памяти детей названия деревье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“С какого дерева листок”, “Не ошибись”, “К дереву беги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по изобразительному искусству по теме “Осень золотая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ые краски осени”. Цель: познакомить с техникой печатания листьями.– “Грибочки в лукошке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ое развлечение “Праздник осени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знания о сезонных изменениях, происходящих в природе осенью; создать эмоциональный настрой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семье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ь родителей к изготовлению костюмов к развлечени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альбомы на тему: «Осень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поделок из природного материа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2" descr="C:\Users\Free\Pictures\ФОТО ПО ЭКОЛОГИИИ\P1030291.JPG"/>
          <p:cNvPicPr/>
          <p:nvPr/>
        </p:nvPicPr>
        <p:blipFill>
          <a:blip r:embed="rId1"/>
          <a:stretch/>
        </p:blipFill>
        <p:spPr>
          <a:xfrm>
            <a:off x="539640" y="317520"/>
            <a:ext cx="806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1" i="1" lang="ru-RU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екабрь–февраль.</a:t>
            </a: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Экскурсия по зимнему участку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детей видеть красоту и мощь природы. Обратить внимание на тихую грусть “засыпания” природы с наступлением зимы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искусством – рассматривание “зимних” пейзажей. Выставки-загадки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крепить знания детей о сезонных изменениях в природе.Игра “Времена года”, “Узнай по описанию”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звивать внимание, сообразительность. Рассказ-загадка о разных предметах и явлениях природы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Рассматривание репродукций картин по теме “Зима”: К.Юона “Русская зима»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братить внимание детей, какими выразительными средствами пользовались художники для более яркой передачи зимнего пейзажа. Искусст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Прослушивание аудиозаписи. П.Чайковский “Декабрь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и, пословицы, поговорки, приметы о зиме.Цель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детей понимать смысл пословиц и народных примет, помочь в придумывании своих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учивание стихотворений: И. Суриков “Зима”, А. Федоров “Мороз”, Л. Толстой “Декабрь”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Занятия по изобразительному искусству по теме “Волшебница-зима”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“Мои волшебные снежинки”. 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ять в рисовании (свеча и акварель)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семьей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ь родителей к оформлению альбомов на тему: «Зима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чивание стихов с детьми о зиме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C:\Users\Free\Pictures\ФОТО ПО ЭКОЛОГИИИ\P1030444.JPG"/>
          <p:cNvPicPr/>
          <p:nvPr/>
        </p:nvPicPr>
        <p:blipFill>
          <a:blip r:embed="rId1"/>
          <a:stretch/>
        </p:blipFill>
        <p:spPr>
          <a:xfrm>
            <a:off x="420840" y="115920"/>
            <a:ext cx="8424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арт–май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324000" y="1720800"/>
            <a:ext cx="81356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Дидактическая игра “Времена года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крепить представления детей о последовательности  изменений в природе весной, летом, зимой, осенью по существенным признака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иметы, пословицы, поговорки, стихи о весне. Разучивание стихов Ф. Тютчев “Весна”, “Весенние воды”, С. Есенин “Черемуха”, А.Майков “В мае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звивать связную речь, память; продолжать учить детей понимать смысл пословиц, поговорок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Рассматривание фотографий, открыток о весн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казать детям, как фотографы передавали неповторимость, очарование этого времени го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Беседа на тему “Весна”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буждать детей к составлению рассказа об этом времени года; формировать у детей эстетическое отношение к природ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ослушивание русской народной песни “Кулик – весна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анятия по изобразительному искусству “Ветка с первыми листочками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умения и навыки в изобразительных техниках, развивать чувство компози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семье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информационного стенда для родите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ь родителей к подбору бросового и природного материа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5T17:27:12Z</dcterms:created>
  <dc:creator>User</dc:creator>
  <dc:description/>
  <dc:language>en-US</dc:language>
  <cp:lastModifiedBy>-</cp:lastModifiedBy>
  <dcterms:modified xsi:type="dcterms:W3CDTF">2017-02-23T10:19:06Z</dcterms:modified>
  <cp:revision>27</cp:revision>
  <dc:subject/>
  <dc:title>Проект  по экологическому    воспитанию   «Временами года»</dc:title>
</cp:coreProperties>
</file>