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E6D9-06E4-4F8B-824D-4CA7DCADE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7D17-5B90-4B1A-8DA8-348BFE8DD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176E-691B-4801-895D-4A90CFB54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51F-F6B8-47FA-B35E-13FB0FB7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755-0892-4918-A4FA-3B42A969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CC1-C8AE-4BD4-AD67-460A0B89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1A1-7F77-45E7-ACBF-EF88766D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5A2-C76E-44B4-8591-7729B9DA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6EE-03E6-4BF4-93A5-4F7DCFE2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ECE-73F4-456F-B76D-32D273CB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940-AF8E-456D-BB4E-EA298031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78D-CB44-4514-BF6B-AAAC15EF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665-DD31-45AA-B62E-D9F1DE70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E5E-2560-4F77-81FE-E2E228BA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A0E-C2B9-4DA2-91B3-3FF56D54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D63D-7AB5-4D30-A79D-834828BB4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laneta.moy.su/_bl/73/28990855.jpg" TargetMode="External"/><Relationship Id="rId2" Type="http://schemas.openxmlformats.org/officeDocument/2006/relationships/hyperlink" Target="http://img-fotki.yandex.ru/get/4910/elvik2012.0/0_675d7_25ad83c1_X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1"/>
          <a:srcRect l="0" t="0" r="0" b="10112"/>
          <a:stretch/>
        </p:blipFill>
        <p:spPr>
          <a:xfrm>
            <a:off x="3429000" y="1981080"/>
            <a:ext cx="5343480" cy="45799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49" name="Rectangle 5"/>
          <p:cNvSpPr/>
          <p:nvPr/>
        </p:nvSpPr>
        <p:spPr>
          <a:xfrm>
            <a:off x="304920" y="304920"/>
            <a:ext cx="4343400" cy="2438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Сравн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многознач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28600" y="3429000"/>
            <a:ext cx="2895480" cy="2057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Arial"/>
              </a:rPr>
              <a:t>Петрова Т.И</a:t>
            </a:r>
            <a:r>
              <a:rPr b="0" lang="ru-RU" sz="4000" spc="-1" strike="noStrike">
                <a:solidFill>
                  <a:srgbClr val="c0504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876920" y="304920"/>
            <a:ext cx="3886200" cy="1447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380880" y="1832400"/>
            <a:ext cx="8305920" cy="155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веряем количество разрядов в обоих числах: больше то число, в котором разрядов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227520"/>
            <a:ext cx="83059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Порядок сравнения многознач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80880" y="3580200"/>
            <a:ext cx="8305920" cy="253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Если разрядов в числах одинаковое количество, то сравниваем количество единиц поразрядно, как только найден разряд с разным количеством единиц, устанавливается знак с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791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ы наверное уст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у, тогда все дружно в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657600" y="1752120"/>
            <a:ext cx="530712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верх ладошки! Хлоп-хлоп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 коленкам Шлёп-шлёп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 плечам теперь похлопа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 бокам себя пошлёпа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Мы осанку  исправля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пинки дружно прогиб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право, влево мы нагну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о носочков дотянули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лечи вверх, назад и вни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Улыбайся и сад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6890-A070-4C17-8CF8-F521A1EC91B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F2B3-CF28-4ADB-9C9C-3D6A0F7DE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:\Users\Ирина\AppData\Local\Microsoft\Windows\Temporary Internet Files\Content.IE5\2PG09DH7\MP900431196[1].jpg"/>
          <p:cNvPicPr/>
          <p:nvPr/>
        </p:nvPicPr>
        <p:blipFill>
          <a:blip r:embed="rId1"/>
          <a:stretch/>
        </p:blipFill>
        <p:spPr>
          <a:xfrm>
            <a:off x="539640" y="3276720"/>
            <a:ext cx="266076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4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4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4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4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4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4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4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4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4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4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4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4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4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4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4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4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6000"/>
                            </p:stCondLst>
                            <p:childTnLst>
                              <p:par>
                                <p:cTn id="3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4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4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0" y="456120"/>
            <a:ext cx="8915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Работа с учебник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346640" y="2285280"/>
            <a:ext cx="41126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. 27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и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тно 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8, 119, 12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382920" cy="4476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708660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omic Sans MS"/>
              </a:rPr>
              <a:t>Анаграмма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ШЕРИ ЧАД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269720" y="3122640"/>
            <a:ext cx="29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ff"/>
                </a:solidFill>
                <a:latin typeface="Bookman Old Style"/>
              </a:rPr>
              <a:t>РЕШ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429080" y="3143160"/>
            <a:ext cx="441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ff"/>
                </a:solidFill>
                <a:latin typeface="Bookman Old Style"/>
              </a:rPr>
              <a:t>ЗАДАЧ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38080" y="532440"/>
            <a:ext cx="7315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Задача № 12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752480"/>
          <a:ext cx="8229600" cy="41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57200" y="1752480"/>
          <a:ext cx="8229600" cy="4178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57200" y="1752480"/>
          <a:ext cx="8229600" cy="4203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57200" y="1752480"/>
          <a:ext cx="8229600" cy="2692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ч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57200" y="1752480"/>
          <a:ext cx="8229600" cy="4214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57200" y="1752480"/>
          <a:ext cx="8229600" cy="4240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а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ч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ч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д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AutoShape 172"/>
          <p:cNvSpPr/>
          <p:nvPr/>
        </p:nvSpPr>
        <p:spPr>
          <a:xfrm>
            <a:off x="1295280" y="3657600"/>
            <a:ext cx="533520" cy="1676520"/>
          </a:xfrm>
          <a:custGeom>
            <a:avLst/>
            <a:gdLst>
              <a:gd name="textAreaLeft" fmla="*/ 0 w 533520"/>
              <a:gd name="textAreaRight" fmla="*/ 374400 w 53352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74"/>
          <p:cNvSpPr txBox="1"/>
          <p:nvPr/>
        </p:nvSpPr>
        <p:spPr>
          <a:xfrm>
            <a:off x="1981080" y="4191120"/>
            <a:ext cx="685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990720" y="151200"/>
            <a:ext cx="7315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Задача № 12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3520" y="1066680"/>
          <a:ext cx="8229600" cy="1981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а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" name="AutoShape 23"/>
          <p:cNvSpPr/>
          <p:nvPr/>
        </p:nvSpPr>
        <p:spPr>
          <a:xfrm>
            <a:off x="1295280" y="22096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24"/>
          <p:cNvSpPr txBox="1"/>
          <p:nvPr/>
        </p:nvSpPr>
        <p:spPr>
          <a:xfrm>
            <a:off x="1752480" y="2362320"/>
            <a:ext cx="685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32"/>
          <p:cNvSpPr txBox="1"/>
          <p:nvPr/>
        </p:nvSpPr>
        <p:spPr>
          <a:xfrm>
            <a:off x="533520" y="3581280"/>
            <a:ext cx="807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) 70 : 7 = 10 (д.)сделал за 1час рабоч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33"/>
          <p:cNvSpPr txBox="1"/>
          <p:nvPr/>
        </p:nvSpPr>
        <p:spPr>
          <a:xfrm>
            <a:off x="457200" y="4114800"/>
            <a:ext cx="8229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34"/>
          <p:cNvSpPr txBox="1"/>
          <p:nvPr/>
        </p:nvSpPr>
        <p:spPr>
          <a:xfrm>
            <a:off x="533520" y="4343400"/>
            <a:ext cx="807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) 42 : 6 = 7 (д.)сделал за 1 час уче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35"/>
          <p:cNvSpPr txBox="1"/>
          <p:nvPr/>
        </p:nvSpPr>
        <p:spPr>
          <a:xfrm>
            <a:off x="533520" y="487692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36"/>
          <p:cNvSpPr txBox="1"/>
          <p:nvPr/>
        </p:nvSpPr>
        <p:spPr>
          <a:xfrm>
            <a:off x="533520" y="5181480"/>
            <a:ext cx="4876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) 10 - 7 = 3 (д.)больш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37"/>
          <p:cNvSpPr txBox="1"/>
          <p:nvPr/>
        </p:nvSpPr>
        <p:spPr>
          <a:xfrm>
            <a:off x="457200" y="5943600"/>
            <a:ext cx="8305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вет: на 3 детали больше в час делает рабочи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90720" y="151200"/>
            <a:ext cx="7315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Задача № 12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1066680"/>
          <a:ext cx="8229600" cy="3200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1 час детале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але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ч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д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д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ч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д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WordArt 27"/>
          <p:cNvSpPr txBox="1"/>
          <p:nvPr/>
        </p:nvSpPr>
        <p:spPr>
          <a:xfrm>
            <a:off x="609480" y="4648320"/>
            <a:ext cx="807732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колько всего деталей вытачиваю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1 час рабочий и его ученик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WordArt 30"/>
          <p:cNvSpPr txBox="1"/>
          <p:nvPr/>
        </p:nvSpPr>
        <p:spPr>
          <a:xfrm>
            <a:off x="2590920" y="57913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0 : 7 + 42 :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" name="WordArt 32"/>
          <p:cNvSpPr txBox="1"/>
          <p:nvPr/>
        </p:nvSpPr>
        <p:spPr>
          <a:xfrm>
            <a:off x="1981080" y="3200400"/>
            <a:ext cx="76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2" name="AutoShape 33"/>
          <p:cNvSpPr/>
          <p:nvPr/>
        </p:nvSpPr>
        <p:spPr>
          <a:xfrm>
            <a:off x="1523880" y="2819520"/>
            <a:ext cx="265320" cy="1143000"/>
          </a:xfrm>
          <a:custGeom>
            <a:avLst/>
            <a:gdLst>
              <a:gd name="textAreaLeft" fmla="*/ 0 w 265320"/>
              <a:gd name="textAreaRight" fmla="*/ 95760 w 265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7320" y="3284640"/>
          <a:ext cx="3838320" cy="2665440"/>
        </p:xfrm>
        <a:graphic>
          <a:graphicData uri="http://schemas.openxmlformats.org/drawingml/2006/table">
            <a:tbl>
              <a:tblPr/>
              <a:tblGrid>
                <a:gridCol w="3838320"/>
              </a:tblGrid>
              <a:tr h="26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611280" y="3333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Лестница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Куб 12"/>
          <p:cNvSpPr/>
          <p:nvPr/>
        </p:nvSpPr>
        <p:spPr>
          <a:xfrm>
            <a:off x="2071800" y="3429000"/>
            <a:ext cx="2286000" cy="207180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Плохо понимаю новы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Куб 13"/>
          <p:cNvSpPr/>
          <p:nvPr/>
        </p:nvSpPr>
        <p:spPr>
          <a:xfrm>
            <a:off x="3857760" y="3786120"/>
            <a:ext cx="1857240" cy="171468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Куб 15"/>
          <p:cNvSpPr/>
          <p:nvPr/>
        </p:nvSpPr>
        <p:spPr>
          <a:xfrm>
            <a:off x="5143680" y="3429000"/>
            <a:ext cx="2428560" cy="207180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Куб 18"/>
          <p:cNvSpPr/>
          <p:nvPr/>
        </p:nvSpPr>
        <p:spPr>
          <a:xfrm>
            <a:off x="3643200" y="2143080"/>
            <a:ext cx="2214720" cy="207180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Куб 19"/>
          <p:cNvSpPr/>
          <p:nvPr/>
        </p:nvSpPr>
        <p:spPr>
          <a:xfrm>
            <a:off x="5286240" y="1857240"/>
            <a:ext cx="2286000" cy="214344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Куб 20"/>
          <p:cNvSpPr/>
          <p:nvPr/>
        </p:nvSpPr>
        <p:spPr>
          <a:xfrm>
            <a:off x="5214960" y="714240"/>
            <a:ext cx="2357280" cy="192888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25560">
            <a:solidFill>
              <a:srgbClr val="33cc33"/>
            </a:solidFill>
            <a:miter/>
          </a:ln>
          <a:effectLst>
            <a:outerShdw dist="50760" dir="5400000" blurRad="0" rotWithShape="0">
              <a:srgbClr val="33cc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ff"/>
                </a:solidFill>
                <a:latin typeface="Arial"/>
              </a:rPr>
              <a:t>Всё понимаю, всё получа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22"/>
          <p:cNvSpPr/>
          <p:nvPr/>
        </p:nvSpPr>
        <p:spPr>
          <a:xfrm>
            <a:off x="3571920" y="3929040"/>
            <a:ext cx="3500280" cy="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4"/>
          <p:cNvSpPr/>
          <p:nvPr/>
        </p:nvSpPr>
        <p:spPr>
          <a:xfrm>
            <a:off x="5214960" y="2643120"/>
            <a:ext cx="1857240" cy="1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6"/>
          <p:cNvSpPr/>
          <p:nvPr/>
        </p:nvSpPr>
        <p:spPr>
          <a:xfrm flipV="1">
            <a:off x="7071480" y="2142720"/>
            <a:ext cx="500040" cy="500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30"/>
          <p:cNvSpPr/>
          <p:nvPr/>
        </p:nvSpPr>
        <p:spPr>
          <a:xfrm flipV="1">
            <a:off x="7071480" y="3428640"/>
            <a:ext cx="500040" cy="500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Улыбающееся лицо 31"/>
          <p:cNvSpPr/>
          <p:nvPr/>
        </p:nvSpPr>
        <p:spPr>
          <a:xfrm>
            <a:off x="60008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6f6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36"/>
          <p:cNvSpPr/>
          <p:nvPr/>
        </p:nvSpPr>
        <p:spPr>
          <a:xfrm flipH="1">
            <a:off x="7071840" y="1214280"/>
            <a:ext cx="1800" cy="4286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39"/>
          <p:cNvSpPr/>
          <p:nvPr/>
        </p:nvSpPr>
        <p:spPr>
          <a:xfrm flipH="1">
            <a:off x="7571880" y="785880"/>
            <a:ext cx="1800" cy="4214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42"/>
          <p:cNvSpPr/>
          <p:nvPr/>
        </p:nvSpPr>
        <p:spPr>
          <a:xfrm flipH="1">
            <a:off x="5214960" y="1214280"/>
            <a:ext cx="1440" cy="1428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46"/>
          <p:cNvSpPr/>
          <p:nvPr/>
        </p:nvSpPr>
        <p:spPr>
          <a:xfrm>
            <a:off x="3643200" y="2643120"/>
            <a:ext cx="1571760" cy="1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48"/>
          <p:cNvSpPr/>
          <p:nvPr/>
        </p:nvSpPr>
        <p:spPr>
          <a:xfrm flipH="1">
            <a:off x="3641760" y="2643120"/>
            <a:ext cx="1440" cy="128736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50"/>
          <p:cNvSpPr/>
          <p:nvPr/>
        </p:nvSpPr>
        <p:spPr>
          <a:xfrm flipH="1" flipV="1">
            <a:off x="2071440" y="3929040"/>
            <a:ext cx="1571400" cy="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52"/>
          <p:cNvSpPr/>
          <p:nvPr/>
        </p:nvSpPr>
        <p:spPr>
          <a:xfrm flipH="1">
            <a:off x="2069640" y="3929040"/>
            <a:ext cx="1800" cy="15732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55"/>
          <p:cNvSpPr/>
          <p:nvPr/>
        </p:nvSpPr>
        <p:spPr>
          <a:xfrm>
            <a:off x="2071800" y="5500800"/>
            <a:ext cx="5000400" cy="14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58"/>
          <p:cNvSpPr/>
          <p:nvPr/>
        </p:nvSpPr>
        <p:spPr>
          <a:xfrm flipV="1">
            <a:off x="7071480" y="5000400"/>
            <a:ext cx="500040" cy="5000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63"/>
          <p:cNvSpPr/>
          <p:nvPr/>
        </p:nvSpPr>
        <p:spPr>
          <a:xfrm>
            <a:off x="5214960" y="1214280"/>
            <a:ext cx="1857240" cy="18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65"/>
          <p:cNvSpPr/>
          <p:nvPr/>
        </p:nvSpPr>
        <p:spPr>
          <a:xfrm flipH="1">
            <a:off x="7071840" y="714240"/>
            <a:ext cx="500040" cy="5000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8"/>
          <p:cNvSpPr/>
          <p:nvPr/>
        </p:nvSpPr>
        <p:spPr>
          <a:xfrm>
            <a:off x="3929040" y="2786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онимаю, но нужно ещё по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3520" y="28951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planeta.moy.su/_bl/73/2899085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g-fotki.yandex.ru/get/4910/elvik2012.0/0_675d7_25ad83c1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icturesof.net/_images_300/a_puzzled_child_at_a_blackboard_royalty_free_080915-194018-66201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900igr.net/datas/matematika/Umnozhenie-mnogoznachnykh-chisel/0010-010-Fizkultminutk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opotushki.ucoz.ru/photokartinki/luchik-zaryadka7353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lovo.ws/urok/matematika/04/003/cover_bi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хтина С.В. Поурочные разработки по математике: 4 класс – М.: издательство «Экзамен» -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. 4 класс. В 2ч. Ч. 1/ М.И. Моро, М.А. Бантова, Г.В. Бельтюкова и др. – М.: Просвещение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380880" y="762120"/>
            <a:ext cx="838224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 ЗА  РАБОТУ!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862200"/>
            <a:ext cx="82296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Думай не спеш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Внимательно счит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Красиво напиш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Умело  отвеч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3589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Группа 17"/>
          <p:cNvGrpSpPr/>
          <p:nvPr/>
        </p:nvGrpSpPr>
        <p:grpSpPr>
          <a:xfrm>
            <a:off x="0" y="572760"/>
            <a:ext cx="9144000" cy="1355760"/>
            <a:chOff x="0" y="572760"/>
            <a:chExt cx="9144000" cy="1355760"/>
          </a:xfrm>
        </p:grpSpPr>
        <p:sp>
          <p:nvSpPr>
            <p:cNvPr id="55" name="Rectangle 1"/>
            <p:cNvSpPr/>
            <p:nvPr/>
          </p:nvSpPr>
          <p:spPr>
            <a:xfrm>
              <a:off x="0" y="572760"/>
              <a:ext cx="914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914400" indent="-731880">
                <a:lnSpc>
                  <a:spcPct val="100000"/>
                </a:lnSpc>
                <a:tabLst>
                  <a:tab algn="l" pos="0"/>
                  <a:tab algn="l" pos="1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1. Назовите вариант ответа, в котором цифра 5 стоит в разряде десятков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оугольник 2"/>
            <p:cNvSpPr/>
            <p:nvPr/>
          </p:nvSpPr>
          <p:spPr>
            <a:xfrm>
              <a:off x="5572080" y="12146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) 2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) 951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оугольник 3"/>
            <p:cNvSpPr/>
            <p:nvPr/>
          </p:nvSpPr>
          <p:spPr>
            <a:xfrm>
              <a:off x="2000160" y="128592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)</a:t>
              </a:r>
              <a:r>
                <a:rPr b="1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250</a:t>
              </a:r>
              <a:r>
                <a:rPr b="1" lang="ru-RU" sz="1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) 50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Группа 14"/>
          <p:cNvGrpSpPr/>
          <p:nvPr/>
        </p:nvGrpSpPr>
        <p:grpSpPr>
          <a:xfrm>
            <a:off x="0" y="2323800"/>
            <a:ext cx="9144000" cy="1177200"/>
            <a:chOff x="0" y="2323800"/>
            <a:chExt cx="9144000" cy="1177200"/>
          </a:xfrm>
        </p:grpSpPr>
        <p:sp>
          <p:nvSpPr>
            <p:cNvPr id="59" name="Rectangle 3"/>
            <p:cNvSpPr/>
            <p:nvPr/>
          </p:nvSpPr>
          <p:spPr>
            <a:xfrm>
              <a:off x="0" y="2323800"/>
              <a:ext cx="914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2. Определите правильную запись числа шесть тысяч девять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ольник 6"/>
            <p:cNvSpPr/>
            <p:nvPr/>
          </p:nvSpPr>
          <p:spPr>
            <a:xfrm>
              <a:off x="2000160" y="285840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) 69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) 609</a:t>
              </a:r>
              <a:r>
                <a:rPr b="1" lang="ru-RU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ольник 7"/>
            <p:cNvSpPr/>
            <p:nvPr/>
          </p:nvSpPr>
          <p:spPr>
            <a:xfrm>
              <a:off x="5572080" y="285840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) 6009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) 609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15"/>
          <p:cNvGrpSpPr/>
          <p:nvPr/>
        </p:nvGrpSpPr>
        <p:grpSpPr>
          <a:xfrm>
            <a:off x="0" y="3811320"/>
            <a:ext cx="9144000" cy="1260360"/>
            <a:chOff x="0" y="3811320"/>
            <a:chExt cx="9144000" cy="1260360"/>
          </a:xfrm>
        </p:grpSpPr>
        <p:sp>
          <p:nvSpPr>
            <p:cNvPr id="63" name="Rectangle 3"/>
            <p:cNvSpPr/>
            <p:nvPr/>
          </p:nvSpPr>
          <p:spPr>
            <a:xfrm>
              <a:off x="0" y="3811320"/>
              <a:ext cx="9144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3. Назовите правильную запись числа 975 в виде суммы разрядных слагаемых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оугольник 9"/>
            <p:cNvSpPr/>
            <p:nvPr/>
          </p:nvSpPr>
          <p:spPr>
            <a:xfrm>
              <a:off x="1928520" y="4429080"/>
              <a:ext cx="15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) 9+7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) 900+70+5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оугольник 10"/>
            <p:cNvSpPr/>
            <p:nvPr/>
          </p:nvSpPr>
          <p:spPr>
            <a:xfrm>
              <a:off x="5572080" y="4429080"/>
              <a:ext cx="15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) 970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) 90+700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16"/>
          <p:cNvGrpSpPr/>
          <p:nvPr/>
        </p:nvGrpSpPr>
        <p:grpSpPr>
          <a:xfrm>
            <a:off x="0" y="5262120"/>
            <a:ext cx="9144000" cy="1382760"/>
            <a:chOff x="0" y="5262120"/>
            <a:chExt cx="9144000" cy="1382760"/>
          </a:xfrm>
        </p:grpSpPr>
        <p:sp>
          <p:nvSpPr>
            <p:cNvPr id="67" name="Rectangle 3"/>
            <p:cNvSpPr/>
            <p:nvPr/>
          </p:nvSpPr>
          <p:spPr>
            <a:xfrm>
              <a:off x="0" y="5262120"/>
              <a:ext cx="91440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4. Назовите те выражения, значения которых содержат тридцать десятк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12"/>
            <p:cNvSpPr/>
            <p:nvPr/>
          </p:nvSpPr>
          <p:spPr>
            <a:xfrm>
              <a:off x="2000160" y="5928840"/>
              <a:ext cx="15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) 312 - 4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) 305 +6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оугольник 13"/>
            <p:cNvSpPr/>
            <p:nvPr/>
          </p:nvSpPr>
          <p:spPr>
            <a:xfrm>
              <a:off x="5684400" y="6002280"/>
              <a:ext cx="15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) 297 + 5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) 270 +43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46c0a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2819520"/>
          <a:ext cx="8785440" cy="51732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463760"/>
                <a:gridCol w="1463760"/>
                <a:gridCol w="1465200"/>
                <a:gridCol w="1463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46c0a"/>
                          </a:solidFill>
                          <a:latin typeface="Arial"/>
                        </a:rPr>
                        <a:t>109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46c0a"/>
                          </a:solidFill>
                          <a:latin typeface="Arial"/>
                        </a:rPr>
                        <a:t>900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22"/>
          <p:cNvSpPr/>
          <p:nvPr/>
        </p:nvSpPr>
        <p:spPr>
          <a:xfrm>
            <a:off x="250920" y="130824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Arial"/>
              </a:rPr>
              <a:t>Найдите закономерность и заполните пустые «окош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 flipV="1" rot="10800000">
            <a:off x="1523880" y="371556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10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 flipV="1" rot="10800000">
            <a:off x="1447560" y="46569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2007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 flipV="1" rot="10800000">
            <a:off x="6172200" y="3755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62185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 flipV="1" rot="10800000">
            <a:off x="6171840" y="4686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</a:rPr>
              <a:t>99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116 L -0.62552 -0.26514 E">
                                      <p:cBhvr>
                                        <p:cTn id="80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71567E-006 L -0.32951 -0.12968 E">
                                      <p:cBhvr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22222E-006 4.29496E-006 L 0.33611 -0.12391 E">
                                      <p:cBhvr>
                                        <p:cTn id="8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83726E-006 L 0.4974 -0.26098 E">
                                      <p:cBhvr>
                                        <p:cTn id="9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57200" y="684720"/>
            <a:ext cx="8077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Сравнение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676600" cy="289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1752480" y="2057400"/>
          <a:ext cx="5334120" cy="373680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... 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 ... 9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1 ... 88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... 2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752480" y="2057400"/>
          <a:ext cx="4114800" cy="9144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...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752480" y="2057400"/>
          <a:ext cx="3429000" cy="9144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752480" y="2971800"/>
          <a:ext cx="3886200" cy="9144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... 9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752480" y="3886200"/>
          <a:ext cx="4114800" cy="9144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 ... 88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752480" y="2971800"/>
          <a:ext cx="3505320" cy="9144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9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752480" y="4876920"/>
          <a:ext cx="4038840" cy="91440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...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752480" y="3886200"/>
          <a:ext cx="3962520" cy="9144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gt;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88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752480" y="4876920"/>
          <a:ext cx="3886200" cy="9144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Arial"/>
              </a:rPr>
              <a:t>Сравнение чисел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58920" y="1341360"/>
            <a:ext cx="6624720" cy="1267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Определи место расположения числа в натуральном ряде чисел и ответь на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Когда его называют при сч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825480" y="2924280"/>
            <a:ext cx="3025800" cy="1008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ран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5364000" y="2924280"/>
            <a:ext cx="3025800" cy="1008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поз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59840" y="306396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860360" y="306864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852360" y="306864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8318160" y="306864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234000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8770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826920" y="3429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31400" y="4365720"/>
            <a:ext cx="1343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3851280" y="3429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5364000" y="3429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8388360" y="3429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7671960" y="4365720"/>
            <a:ext cx="1343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4720680" y="4365720"/>
            <a:ext cx="1299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136320" y="4365720"/>
            <a:ext cx="1299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684720"/>
            <a:ext cx="8077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Сравнение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2819520" cy="289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352680" y="1828800"/>
          <a:ext cx="5791320" cy="3657600"/>
        </p:xfrm>
        <a:graphic>
          <a:graphicData uri="http://schemas.openxmlformats.org/drawingml/2006/table">
            <a:tbl>
              <a:tblPr/>
              <a:tblGrid>
                <a:gridCol w="579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6 ... 7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4 ... 103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188 ... 3816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562 ... 183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352680" y="1828800"/>
          <a:ext cx="4648320" cy="91440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 ...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352680" y="2743200"/>
          <a:ext cx="4724640" cy="9144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.. 103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352680" y="1828800"/>
          <a:ext cx="3886200" cy="9144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352680" y="3657600"/>
          <a:ext cx="5791320" cy="914400"/>
        </p:xfrm>
        <a:graphic>
          <a:graphicData uri="http://schemas.openxmlformats.org/drawingml/2006/table">
            <a:tbl>
              <a:tblPr/>
              <a:tblGrid>
                <a:gridCol w="579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... 38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352680" y="2743200"/>
          <a:ext cx="4724640" cy="91440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03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352680" y="4572000"/>
          <a:ext cx="5791320" cy="914400"/>
        </p:xfrm>
        <a:graphic>
          <a:graphicData uri="http://schemas.openxmlformats.org/drawingml/2006/table">
            <a:tbl>
              <a:tblPr/>
              <a:tblGrid>
                <a:gridCol w="579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62 ... 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352680" y="3657600"/>
          <a:ext cx="5029200" cy="91440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g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8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352680" y="4572000"/>
          <a:ext cx="5791320" cy="914400"/>
        </p:xfrm>
        <a:graphic>
          <a:graphicData uri="http://schemas.openxmlformats.org/drawingml/2006/table">
            <a:tbl>
              <a:tblPr/>
              <a:tblGrid>
                <a:gridCol w="579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62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</a:t>
                      </a: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omic Sans MS"/>
              </a:rPr>
              <a:t>Сравнение чисел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684360" y="1557360"/>
            <a:ext cx="7775280" cy="1440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Одинаково ли число циф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в записи натуральных чис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684360" y="227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8459640" y="227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8389440" y="191628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80720" y="191628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08000" y="3429000"/>
            <a:ext cx="362088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Больше число, в записи которого больше циф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5003640" y="3429000"/>
            <a:ext cx="398160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Arial"/>
              </a:rPr>
              <a:t>Больше число, у которого больше цифра в первом несовпадающем разряде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96080" cy="542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456120"/>
            <a:ext cx="4800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66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Вывод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7-02-23T11:01:19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