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4234-A2C1-460B-A2AE-7C3AF707F5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83E6-4161-47AA-B513-E17001B494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FE1-CAE1-42DA-8D72-78F16C9D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3E6-1FFE-477E-9EF8-5B5A6D5E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251E-3E06-49CF-8FA8-0CFF7C1F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B59-FA4D-4B73-9B36-639D7C17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1F5-D2B1-48AF-BC43-0F6BD01E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9AB-810C-4C85-8667-70596B17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588-A6D5-4851-B406-6498E281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4B2-104E-4E8D-999E-33ACBD44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B0E-8065-4C7D-81D3-170B710C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217-A65D-4828-8B67-F7E3D6B7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5F6-3380-44A3-9F51-A04ED842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E3C-4D15-4B87-9E94-BF8001E4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064B-A122-4B67-B33F-8B5AFB6DA6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товность ребёнка к школьному обуче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Педагог-психолог МКДОУ «Детский сад Солнышко» Сидоренко О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оторная готовность</a:t>
            </a: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озрастные особенности организма и морфофункциональные особ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торная готовно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Владеет своим т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Воспринимает своё тело и ощущает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Произвольно направляет движения (владеет внутренней подвижность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Выражает при помощи тела и движения свои импуль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говорят о моторной готовности к школе, то имеют в виду координацию системы «глаз-рука» и развитии тонкой моторики, необходимой для обучению пись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Интеллектуальная готовность </a:t>
            </a: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это уровень развития познавательной сферы психики (восприятие, внимание, память, мышление, речь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ичие познавательного интереса у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еятельности ребёнка появляется действие по правилу  – первый необходимый элемент произвольного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зывает тревогу ребёнок 6, а особенно 7 лет, который не в состоянии сосредоточиться. На необходимой, но неинтересной деятельности хотя бы 10-15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для ребёнка 6-7 лет вполне доступно такое задание – запомнить 10 слов не связанных по смыслу. Ребёнок должен запоминать увиденное и услышанное и некоторое время удерживать это в памя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л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ршенствуется наглядно-действенное мышление (манипулирование предметами), совершенствуется наглядно-образное мышление (манипулирование образами и представления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, чтобы ребёнок мог концентрироваться на какой-либо задаче и выполнять е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товность к школ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совокупность определённых свойств и способов поведения (компетентностей) ребёнка, необходимых ему для восприятия, переработки и усвоения учебных стимулов в начале и при дальнейшем продолжении школь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оры готовности к школ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бования и условия к конкрет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честв каждого конкретного ребёнка и его уровня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ка программ подготовки и адаптации к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товность к школе (как понять родителя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Хочет ли ваш ребёнок идти в шко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Достаточно ли хорошо развиты у ребёнка познавательные процессы, физическое разви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Может ли ребёнок контролировать своё поведение (произвольное поведе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Хороши ли развита мелкая моторика пальцев р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Достаточно ли хорошо развиты у ребёнка речь, навык общения и интелл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Физическая гото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ческое и биологическое развитие соответствует формальному возра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опережает его и не имеет медицинских противопоказ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моциональная готовность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совокупность качеств, которые помогают ребёнку эмоциональную неуверенность и различные блокады, которые мешают воспринимать учебный материал или ведут к тому, что ребёнок замыкается в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41144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адекватно переносить разочарования и справляться с ними – важная сторона эмоциональной компетен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оциальная готовнос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сно связана с эмоциональной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ёнок может быть готов к тому, что он не сможет больше следовать своим желания и импуль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должны уме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шать друг дру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ть собеседнику договорить до кон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ть способность воздерживаться от собственных импуль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ая готовность к школ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и ещё способность ребёнка понимать смысл правил поведения и обхождения людей друг с другом и готовность следовать этим правил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успешно обучаться в школе, ребёнок должен уметь строить адекватные системе обучения отношения со взрослыми, т.е у него должна быть развита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изво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зком уровне произвольност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не видят  за вопросом взрослого учебной задачи, а воспринимают их как повод для непосредственного житейского 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явлен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могут прервать учителя вопросом,  не относящимся к уроку, выкрикивать с места, называть учителя не по имени-от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стойчивая или заниженная самооценк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ворит о дефиците внимания, любви, поддержки, эмоциональной защищённости со стороны взрос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зкая самооценка может стать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чиной неуспеваемости в школ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на порождает страх неудачи, а в своём крайнем проявлении - отказ от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я</cp:lastModifiedBy>
  <dcterms:modified xsi:type="dcterms:W3CDTF">2015-11-09T14:28:1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