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AC5E-02D2-4FB8-9015-9CD82B4201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FFF3-B618-4075-B048-5C4E5AB0E6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E9F9-F10E-4CB9-8474-74F10C13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31D6-4480-4EED-9A7D-03FE9254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8CC-1850-4CD6-AB80-09966F61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2863-DE35-4E5C-B35C-2CBEB727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12C-BA9B-4F98-A37A-D6222B3F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E93A-E054-4160-983F-F104855C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874F-98C7-4BC2-86F7-F8BFC797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C80-C280-4122-9354-FDC91369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589-1CDF-4035-85BC-32ABB9D2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D24-0989-4D4E-9A86-64791E41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7123-9CF0-43AE-81A1-C00DD1D4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7BB7-1622-429A-8F07-019D8407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8778-1608-44F1-A213-2BDA7C6CE4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товность ребёнка к школьному обучен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Педагог-психолог МКДОУ «Детский сад Солнышко» Сидоренко О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оторная готовность</a:t>
            </a: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озрастные особенности организма и морфофункциональные особ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торная готовнос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Владеет своим т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Воспринимает своё тело и ощущает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Произвольно направляет движения (владеет внутренней подвижность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Выражает при помощи тела и движения свои импуль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говорят о моторной готовности к школе, то имеют в виду координацию системы «глаз-рука» и развитии тонкой моторики, необходимой для обучению пись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Интеллектуальная готовность </a:t>
            </a: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это уровень развития познавательной сферы психики (восприятие, внимание, память, мышление, речь)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ичие познавательного интереса у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еятельности ребёнка появляется действие по правилу  – первый необходимый элемент произвольного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зывает тревогу ребёнок 6, а особенно 7 лет, который не в состоянии сосредоточиться. На необходимой, но неинтересной деятельности хотя бы 10-15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для ребёнка 6-7 лет вполне доступно такое задание – запомнить 10 слов не связанных по смыслу. Ребёнок должен запоминать увиденное и услышанное и некоторое время удерживать это в памя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л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ршенствуется наглядно-действенное мышление (манипулирование предметами), совершенствуется наглядно-образное мышление (манипулирование образами и представления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, чтобы ребёнок мог концентрироваться на какой-либо задаче и выполнять е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товность к школ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совокупность определённых свойств и способов поведения (компетентностей) ребёнка, необходимых ему для восприятия, переработки и усвоения учебных стимулов в начале и при дальнейшем продолжении школь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торы готовности к школ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бования и условия к конкрет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честв каждого конкретного ребёнка и его уровня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ка программ подготовки и адаптации к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товность к школе (как понять родителя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Хочет ли ваш ребёнок идти в шко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Достаточно ли хорошо развиты у ребёнка познавательные процессы, физическое разви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Может ли ребёнок контролировать своё поведение (произвольное поведе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Хороши ли развита мелкая моторика пальцев р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Достаточно ли хорошо развиты у ребёнка речь, навык общения и интелл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Физическая гото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ческое и биологическое развитие соответствует формальному возра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опережает его и не имеет медицинских противопоказ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Эмоциональная готовность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совокупность качеств, которые помогают ребёнку эмоциональную неуверенность и различные блокады, которые мешают воспринимать учебный материал или ведут к тому, что ребёнок замыкается в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41144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адекватно переносить разочарования и справляться с ними – важная сторона эмоциональной компетен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оциальная готовност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сно связана с эмоциональной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бёнок может быть готов к тому, что он не сможет больше следовать своим желания и импуль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 должны уме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шать друг дру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ть собеседнику договорить до кон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ть способность воздерживаться от собственных импуль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ая готовность к школ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это и ещё способность ребёнка понимать смысл правил поведения и обхождения людей друг с другом и готовность следовать этим правил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успешно обучаться в школе, ребёнок должен уметь строить адекватные системе обучения отношения со взрослыми, т.е у него должна быть развита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изво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зком уровне произвольност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 не видят  за вопросом взрослого учебной задачи, а воспринимают их как повод для непосредственного житейского 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явлен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могут прервать учителя вопросом,  не относящимся к уроку, выкрикивать с места, называть учителя не по имени-от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стойчивая или заниженная самооценк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ворит о дефиците внимания, любви, поддержки, эмоциональной защищённости со стороны взросл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зкая самооценка может стать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чиной неуспеваемости в школ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на порождает страх неудачи, а в своём крайнем проявлении - отказ от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я</cp:lastModifiedBy>
  <dcterms:modified xsi:type="dcterms:W3CDTF">2015-11-09T14:28:1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