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13.jpeg" ContentType="image/jpeg"/>
  <Override PartName="/ppt/media/image9.jpeg" ContentType="image/jpeg"/>
  <Override PartName="/ppt/media/image11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C4F-77EF-43FE-8595-0E411931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64D-25AF-409D-9D44-870D7D75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14B-0E81-4FB8-92CE-0E9CFE3A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012-D2A6-497B-AD6E-B3F868A5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65D-A672-4824-98DB-446C518F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CE7-238D-4DEB-9C3B-590CA17E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145-00E8-4E9E-BF44-58F4D04F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B3F-161B-43AC-9BC9-800D95BD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3D0-778F-4163-8707-87707216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2E1-1070-4BCB-ABDA-BEEE159E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E12-2755-4AA4-BDD2-8281E14E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E91-B082-42E5-9C56-628A8CB6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A6B0-1AF9-4EE9-9FE4-9187F7CFC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1840" y="12193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лджшзщгнепр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42280" y="2627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дж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1143000"/>
            <a:ext cx="5943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Harlow Solid Italic"/>
              </a:rPr>
              <a:t>Развитие вокально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Harlow Solid Italic"/>
              </a:rPr>
              <a:t>хоровых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Harlow Solid Italic"/>
              </a:rPr>
              <a:t>музыкально-одар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Harlow Solid Italic"/>
              </a:rPr>
              <a:t>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arlow Solid Italic"/>
              </a:rPr>
              <a:t>Вокально-хоровая студия «Искор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arlow Solid Italic"/>
              </a:rPr>
              <a:t>(младший и средний возр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4876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: 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ДОУ ДСКН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убь О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68580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окально – хоровая работа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ВОКАЛЬНО - ХОРОВЫХ НАВЫКОВ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У ДЕТЕЙ ЛЮБВИ И ИНТЕРЕСА К ПЕВЧЕСКОЙ    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АЗВИТИЕ ЭМОЦИОНАЛЬНОЙ ОТЗЫВЧИВОСТИ У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ФОРМИРОВАНИЕ ПЕВЧЕСКИХ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ЗВИТИЕ ИСПОЛНИТЕЛЬСКОГО МАСТ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РАСШИРЕНИЕ МУЗЫКАЛЬНОГО КРУГО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РАЗВИТИЕ ТВОРЧЕСКИХ СПОСОБНОСТЕЙ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3505320"/>
            <a:ext cx="761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СНОВНЫЕ ПЕВЧЕСКИЕ НАВЫ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РАВИЛЬНОЕ ЗВУКО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РАВИЛЬНО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ХОРОШАЯ ДИ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ЧИСТОТА ИНТО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СТРОЙНОЕ, СОГЛАСОВАННОЕ ПЕНИЕ - АНСАМ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ЭМОЦИОНАЛЬНО - ВЫРАЗИТЕЛЬНОЕ ИС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91312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6858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Работа над певческим дых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владеть навыком певческого дыхания детям помогают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дыхательные упражнения без зву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звуковые дыхательные упраж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упражнения под 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и упражнения способствуют оздоровлению всей дыхательной сист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также осуществляют массаж внутренних органов, насыщают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родом, укрепляют нервную сис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4360" y="536400"/>
            <a:ext cx="8614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вукове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 научить детей умению слушать и отличать краси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ние от некрасивого, т.е. умению постоя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ировать себя. Громкое пение не значит краси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дагог должен всегда выполнять пр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вся вокальная работа должна вестись в негромкой динам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обучать навыку пения необходимо на материале простейших попе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еред детьми должна стоять конкретная за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необходимо приучать детей слышать себя и слушать друг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надо сразу пресекать громкое, крикливое п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2054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762120"/>
            <a:ext cx="7620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Артикуляция и ди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ожно использовать следующие методические при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трированный показ артикуляции педагогом на начальном эта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Артикуляционная гимнастик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щая из специальных упражнений, которые направлены на укрепление мышц артикуляционного аппарата, развитие силы, подвижности и дифференцированности движений органов, участвующих в речев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звученная артикуляционная гимна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Музыкальные пальчиковые игр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ют пение с активной артикуляцией и движения мелкой мото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альчиковые игры с предм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Проговаривание и пропевание скороговоро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ом темпе, характ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809880"/>
            <a:ext cx="520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Arial"/>
              </a:rPr>
              <a:t>ТРЕБОВАНИЯ К РЕПЕРТУ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Художественная ценность 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Доступность для понима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Соответствие возрастному диапаз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.Песня должна представлять интерес дл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Песня должна соответствовать вокальному росту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1219320"/>
            <a:ext cx="66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ние и развитие одаренных и талантли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ей является важнейшим условием 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орческого потенциала общества, развития наук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льтуры, всех областей производства и соци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886200"/>
            <a:ext cx="47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259092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144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Одареннос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это системное, развивающиеся в течении жизни качество психики, которое определяет возможность достижения человеком более высоких, незаурядных результатов в одном или нескольких видах деятельности по сравнению с другими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Одаренный ребено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это ребенок, который выделяется, очевидными, иногда выдающимися достижениями, в том или ином виде деятельности, или имеет внутренние предпосылки для таких дост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Талан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это сочетание способностей, дающее возможность самостоятельно и оригинально выполнять какую-либо слож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Способност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это личностные образования, включающие знания и умения, которые сформированы на базе врожденных задатков человека и определяют его возможности в успешном освоении тех или иных видов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914400"/>
            <a:ext cx="80074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Акту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я практика работы музыкальным руководителем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ывает, что музыкально-одаренные дети, не просто готовы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ой работе, но скорей нуждаются в этом. Они испыты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ребность в реализации своего творческого потенциала - с рад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вуют в подготовке сольных номеров, легко усваи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ый материал, их привлекает сцени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уальные занятия воспринимаются ими, как награда, а не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ая нагрузка. Таким образом, проблема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ы с музыкально- одаренными детьми стала актуальной и знач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ое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53080" y="3962520"/>
            <a:ext cx="201960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9600" y="990720"/>
            <a:ext cx="85201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Цель работы с одаренными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условий для реализации и развития творческого потенц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ыкально-одаренных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Исследовать психолого-педагогические подходы из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номена музыкальной одаренности, проявившейся в дошкольном возра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одобрать, разработать методы выявления музык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аренных детей в ходе воспитательно-образов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ыявить детей с выраженной музык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рганизовать индивидуальную работу с детьми с выраж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ык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Организовать просветительскую работу с родителям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дагогами по вопросам взаимодействия с музык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аренными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33520"/>
            <a:ext cx="767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457200"/>
            <a:ext cx="858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ВОКАЛЬНО-ХОРОВ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ВКЛЮЧА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вокальные упраж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работу над певческой установ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работу над певческим дыха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работу над звукообразованием и динами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работу над артикуляцией и дик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работу над ритмом и темп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работа над расширением диапаз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работу над интонацией и вырази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24480" y="3352680"/>
            <a:ext cx="1951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1600200"/>
            <a:ext cx="86104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Предварительная работа с родителями одар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Для родителей детей с высоким уровнем музыкальности провед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уальные консультации по вопросам развития и музык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От них получено согласие на дополнительную работу с их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Мы заручились поддержкой и согласием родителей на участие детей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чных конкурсах и програм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0680" y="3048120"/>
            <a:ext cx="8381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ические принцип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ость зан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чет индивидуальных особенностей психики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Разнообразие музыкального репертуара и его постепенное усложнение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ению с типовой програм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едоставление ребёнку условий для творчества и импров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реативность и эмоциональность педаг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глядность (картины, костюмы, видеоматериалы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еемственность в работе с другими специали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вязь с сем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838080"/>
            <a:ext cx="883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Стратегия взаимодействи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одаренными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ыкально одаренные дети, нуждаются в особом внимании со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ей и педагогов. Такие дети легче усваивают материал занятий,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инужденно справляются с заданиями. Поэтому педагогу необходимо выбрать правильную стратегию взаимодействия с ними на групповом занятии. Чтобы с одной стороны дать возможность реализоваться их способностям, не подавить инициативу и волю к творческой деятельности, а с другой стороны дать возможность выразиться другим дет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секрет, что одаренные дети любят внимание и умеют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тягивать, нередко обладают лидерскими качествами. Поэтому на групповых занятиях такие дети могут реализоваться в различных формах совместной деятельности. Так же их творческий потенциал и развитые способности незаменимы в подготовке сольных номеров или с участием солистов. Ведь радость от хорошо выполненного музыкального номера разделяют все участники поровну, но при этом сложность исполнения может быть нера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9907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Основные формы работы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индивидуальная и подгрупп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При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дактические игры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авленные на развитие различных музыкальных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игры, этюды и упраж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формирующие творческий подход к музыка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просматривание видеоматериалов, прослушивание аудиозапис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нителями в разных видах музыка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сольные выступления или ведущие р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етских праздниках и развлеч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участие в конкурса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знакомство с педагогами и учащимися ДШ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экскурсии, концер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беседа с родителя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целью рекомендации детских творческих студ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ов и ДШ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03:57:07Z</dcterms:created>
  <dc:creator>User-1</dc:creator>
  <dc:description/>
  <dc:language>en-US</dc:language>
  <cp:lastModifiedBy>User-1</cp:lastModifiedBy>
  <dcterms:modified xsi:type="dcterms:W3CDTF">2017-02-23T06:44:20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