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13.jpeg" ContentType="image/jpeg"/>
  <Override PartName="/ppt/media/image9.jpeg" ContentType="image/jpeg"/>
  <Override PartName="/ppt/media/image11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8A5-CE58-403F-9A9E-ADCB06D0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599-F725-4C8A-8B86-6D0A252E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F39-5909-40CF-8C0D-B789E8EE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621-7B00-4025-B29D-AE8B643B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733-0122-4614-8E79-9F466368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6E9-F52C-4F01-84BE-997E5C47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D46-3702-4F15-8707-377FBFC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8F7-3258-4B8B-BBF7-95B6EE7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87D-6B5E-4245-A201-6CF15FA3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74E-8B98-45C6-A8DC-1A3967B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888-AF99-4B4F-BA8D-4EBCB6E7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692-1B9B-48C4-9266-ECDDE205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C436-07B7-4366-8D20-A8DDEFF6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1840" y="12193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лджшзщгнепр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42280" y="2627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дж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143000"/>
            <a:ext cx="5943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Развитие вокально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хоровых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музыкально-одар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Harlow Solid Italic"/>
              </a:rPr>
              <a:t>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Вокально-хоровая студия «Искор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(младший и средний возр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4876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: 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ДОУ ДСКН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убь О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6858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окально – хоровая работа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ВОКАЛЬНО - ХОРОВЫХ НАВЫКОВ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У ДЕТЕЙ ЛЮБВИ И ИНТЕРЕСА К ПЕВЧЕСКОЙ    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АЗВИТИЕ ЭМОЦИОНАЛЬНОЙ ОТЗЫВЧИВОСТИ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ФОРМИРОВАНИЕ ПЕВЧЕСКИ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ЗВИТИЕ ИСПОЛНИТЕЛЬСКОГО МАСТ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АСШИРЕНИЕ МУЗЫКАЛЬНОГО КРУГО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РАЗВИТИЕ ТВОРЧЕСКИХ СПОСОБНОСТЕ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3505320"/>
            <a:ext cx="761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СНОВНЫЕ ПЕВЧЕСКИЕ НАВ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РАВИЛЬНОЕ ЗВУКО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РАВИЛЬ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ХОРОШАЯ ДИ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ЧИСТОТА ИНТО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ТРОЙНОЕ, СОГЛАСОВАННОЕ ПЕНИЕ - АНСАМ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ЭМОЦИОНАЛЬНО - ВЫРАЗИТЕЛЬНОЕ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9131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6858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Работа над певческим дых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владеть навыком певческого дыхания детям помогают упраж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дыхательные упражнения без зв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звуковые дыхательные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упражнения под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и упражнения способствуют оздоровлению всей дыхательной сист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также осуществляют массаж внутренних органов, насыщают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ом, укрепляют нерв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360" y="536400"/>
            <a:ext cx="8614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вук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научить детей умению слушать и отличать крас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ие от некрасивого, т.е. умению постоя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ировать себя. Громкое пение не значит краси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 должен всегда выполнять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вся вокальная работа должна вестись в негромкой динам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бучать навыку пения необходимо на материале простейших попе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еред детьми должна стоять конкретная за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необходимо приучать детей слышать себя и слушать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надо сразу пресекать громкое, крикливое 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054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762120"/>
            <a:ext cx="7620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Артикуляция и ди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ожно использовать следующие методические при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трированный показ артикуляции педагогом на начальном эта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ртикуляционная гимнасти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щая из специальных упражнений, которые направлены на укрепление мышц артикуляционного аппарата, развитие силы, подвижности и дифференцированности движений органов, участвующих в речев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звученная артикуляционная гимн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узыкальные пальчиковые иг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ют пение с активной артикуляцией и движения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альчиковые игры с предм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Проговаривание и пропевание скороговоро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ом темпе, харак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809880"/>
            <a:ext cx="520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Arial"/>
              </a:rPr>
              <a:t>ТРЕБОВАНИЯ К РЕПЕРТУ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Художественная ценность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Доступность для понима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оответствие возрастному диапаз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.Песня должна представлять интерес дл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Песня должна соответствовать вокальному росту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1219320"/>
            <a:ext cx="66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ие и развитие одаренных и талантли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ей является важнейшим условием 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рческого потенциала общества, развития наук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ы, всех областей производства и со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886200"/>
            <a:ext cx="47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59092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144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Одарен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это системное, развивающиеся в течении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Одаренный ребено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ребенок, который выделяется, очевидными, иногда выдающимися достижениями, в том или ином виде деятельности, или имеет внутренние предпосылки для таких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Талан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сочетание способностей, дающее возможность самостоятельно и оригинально выполнять какую-либо сложн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Способност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личностные образования, включающие знания и умения, которые сформированы на базе врожденных задатков человека и определяют его возможности в успешном освоении тех или иных видо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914400"/>
            <a:ext cx="80074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Акту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я практика работы музыкальным руководителем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ывает, что музыкально-одаренные дети, не просто готовы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ой работе, но скорей нуждаются в этом. Они испыт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ребность в реализации своего творческого потенциала - с рад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вуют в подготовке сольных номеров, легко усва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ый материал, их привлекает сцени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занятия воспринимаются ими, как награда, а не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ельная нагрузка. Таким образом, проблема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ы с музыкально- одаренными детьми стала актуальной и знач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ое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201960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9600" y="990720"/>
            <a:ext cx="85201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Цель работы с одаренны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условий для реализации и развития творческого потенц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-одаренных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сследовать психолого-педагогические подходы из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номена музыкальной одаренности, проявившейся в дошкольном возра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одобрать, разработать методы выявления музык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ных детей в ходе воспитательно-образов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ыявить детей с выраженной музык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рганизовать индивидуальную работу с детьми с выраж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Организовать просветительскую работу с родителя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ами по вопросам взаимодействия с музык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аренными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520"/>
            <a:ext cx="767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457200"/>
            <a:ext cx="858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ВОКАЛЬНО-ХОРОВ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ВКЛЮЧА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окальные упраж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работу над певческой установ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работу над певческим дых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аботу над звукообразованием и динами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работу над артикуляцией и дик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работу над ритмом и темп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работа над расширением диапаз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работу над интонацией и вырази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24480" y="3352680"/>
            <a:ext cx="1951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1600200"/>
            <a:ext cx="86104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Предварительная работа с родителями одар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Для родителей детей с высоким уровнем музыкальности провед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консультации по вопросам развития и музык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От них получено согласие на дополнительную работу с их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Мы заручились поддержкой и согласием родителей на участие дете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ных конкурсах и 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0680" y="3048120"/>
            <a:ext cx="8381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е принцип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сть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чет индивидуальных особенностей психики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Разнообразие музыкального репертуара и его постепенное усложнени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ю с типовой програм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едоставление ребёнку условий для творчества и импров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еативность и эмоциональность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глядность (картины, костюмы, видеоматериалы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еемственность в работе с другими специали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вязь с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838080"/>
            <a:ext cx="883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Стратегия взаимодействи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одаренны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 одаренные дети, нуждаются в особом внимании со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ей и педагогов. Такие дети легче усваивают материал занятий,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инужденно справляются с заданиями. Поэтому педагогу необходимо выбрать правильную стратегию взаимодействия с ними на групповом занятии. Чтобы с одной стороны дать возможность реализоваться их способностям, не подавить инициативу и волю к творческой деятельности, а с другой стороны дать возможность выразиться другим дет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екрет, что одаренные дети любят внимание и умею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тягивать, нередко обладают лидерскими качествами. Поэтому на групповых занятиях такие дети могут реализоваться в различных формах совместной деятельности. Так же их творческий потенциал и развитые способности незаменимы в подготовке сольных номеров или с участием солистов. Ведь радость от хорошо выполненного музыкального номера разделяют все участники поровну, но при этом сложность исполнения может быть нера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9907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Основные формы работы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ндивидуальная и подгрупп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При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дактические игры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авленные на развитие различных музыкальных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игры, этюды и упраж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формирующие творческий подход к музыка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просматривание видеоматериалов, прослушивание аудиозапис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ми в разных видах музыка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ольные выступления или ведущие р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етских праздниках и развлеч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частие в конкурса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знакомство с педагогами и учащимися ДШ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экскурсии, конц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беседа с родителя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целью рекомендации детских творческих студ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ов и ДШ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3:57:07Z</dcterms:created>
  <dc:creator>User-1</dc:creator>
  <dc:description/>
  <dc:language>en-US</dc:language>
  <cp:lastModifiedBy>User-1</cp:lastModifiedBy>
  <dcterms:modified xsi:type="dcterms:W3CDTF">2017-02-23T06:44:20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