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406F6-564E-4A29-95B6-019D7746A9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5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0ECBD-CFE0-4834-8944-8403E6D75B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60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9120" y="4193640"/>
            <a:ext cx="37260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65DD7-7047-42EE-9CBB-5D4AB3F67E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8200" y="1937880"/>
            <a:ext cx="245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9760" y="1937880"/>
            <a:ext cx="245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8200" y="4193640"/>
            <a:ext cx="245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9760" y="4193640"/>
            <a:ext cx="245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14C61-96D5-4996-8854-562539F53D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56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71040" y="63468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60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56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2FED2-40B3-45D6-AB6F-7CEEF67862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9120" y="4193640"/>
            <a:ext cx="37260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5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5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60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9120" y="4193640"/>
            <a:ext cx="37260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28200" y="1937880"/>
            <a:ext cx="245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09760" y="1937880"/>
            <a:ext cx="245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28200" y="4193640"/>
            <a:ext cx="245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09760" y="4193640"/>
            <a:ext cx="245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B84C6-BBE6-4C43-BDB6-A38DA64A12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7CA2E-8149-451C-B4EC-7AB088481A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E0141-D274-4AE9-9788-81E8439B2F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63468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42D6E-62EA-41DD-8308-70614B5E6D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60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BA49B-F281-433E-8223-90D68C9352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9120" y="4193640"/>
            <a:ext cx="37260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A2C9B-F1FE-4115-99BE-6309CE5CC5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5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92A2A-96C8-422A-9F93-4884EA5865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39FCFE1-AF97-423F-8DA9-3AA1D03637E9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6280" y="1937880"/>
            <a:ext cx="76356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\\upload.wikimedia.org\wikipedia\commons\0\02\GirondistsForce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\\upload.wikimedia.org\wikipedia\commons\1\12\Robespierre.jpg" TargetMode="External"/><Relationship Id="rId3" Type="http://schemas.openxmlformats.org/officeDocument/2006/relationships/image" Target="../media/image7.jpeg"/><Relationship Id="rId4" Type="http://schemas.openxmlformats.org/officeDocument/2006/relationships/hyperlink" Target="\\upload.wikimedia.org\wikipedia\commons\2\2b\Jean-paul_marat_1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\\upload.wikimedia.org\wikipedia\commons\d\db\Napoleon_at_the_Battle_of_Rivoli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\\upload.wikimedia.org\wikipedia\commons\3\34\Bataille_de_Valmy_ag1.jpg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81080" y="1219320"/>
            <a:ext cx="51818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a50021"/>
                </a:solidFill>
                <a:latin typeface="Arial"/>
                <a:ea typeface="Arial Unicode MS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2819520"/>
            <a:ext cx="74674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 Великая французская революция. От монархии к республике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1371600"/>
            <a:ext cx="4800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  <a:ea typeface="Arial Unicode MS"/>
              </a:rPr>
              <a:t>1  Октября 1791 год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начало работу </a:t>
            </a: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  <a:ea typeface="Arial Unicode MS"/>
              </a:rPr>
              <a:t>Законодательное собрани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.  В нём лидировала группа решительно настроенных депутатов от департамента Жиронда ( их стали называть жирондистам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304920"/>
            <a:ext cx="8763120" cy="1096920"/>
          </a:xfrm>
          <a:prstGeom prst="roundRect">
            <a:avLst>
              <a:gd name="adj" fmla="val 16667"/>
            </a:avLst>
          </a:prstGeom>
          <a:solidFill>
            <a:srgbClr val="d29b64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Законодательное собр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" y="1371600"/>
            <a:ext cx="35863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1523880"/>
            <a:ext cx="43434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03280" indent="-432000">
              <a:spcBef>
                <a:spcPts val="700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Якоби́нц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— крайне радикально настроенные участники  революции.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Получили своё название от монастыря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святого Якоб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, где они обычно собиралис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371600"/>
            <a:ext cx="2374920" cy="30081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52280" y="152280"/>
            <a:ext cx="8534520" cy="1219320"/>
          </a:xfrm>
          <a:prstGeom prst="roundRect">
            <a:avLst>
              <a:gd name="adj" fmla="val 16667"/>
            </a:avLst>
          </a:prstGeom>
          <a:solidFill>
            <a:srgbClr val="d29b64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Якобинц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438280" y="3276720"/>
            <a:ext cx="2292480" cy="25477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228600" y="4343400"/>
            <a:ext cx="2171880" cy="704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аксимилиан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обеспье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133720" y="5791320"/>
            <a:ext cx="2438280" cy="609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Жан Поль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ара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152280"/>
            <a:ext cx="8839440" cy="1219320"/>
          </a:xfrm>
          <a:prstGeom prst="roundRect">
            <a:avLst>
              <a:gd name="adj" fmla="val 16667"/>
            </a:avLst>
          </a:prstGeom>
          <a:solidFill>
            <a:srgbClr val="d29b64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ачало революционных войн. 20 апреля 1792 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523880"/>
            <a:ext cx="8610480" cy="53341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52280" y="5486400"/>
            <a:ext cx="8991720" cy="13716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 апреля 1792 года Законодательное собр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ъявило войну Авс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152280"/>
            <a:ext cx="8534160" cy="1219320"/>
          </a:xfrm>
          <a:prstGeom prst="roundRect">
            <a:avLst>
              <a:gd name="adj" fmla="val 16667"/>
            </a:avLst>
          </a:prstGeom>
          <a:solidFill>
            <a:srgbClr val="d29b64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вержение монарх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0 августа 1792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52280" y="1523880"/>
            <a:ext cx="4114800" cy="26956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724280" y="3581280"/>
            <a:ext cx="4191120" cy="29242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419720" y="1447920"/>
            <a:ext cx="4419360" cy="213336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10 августа 1792 г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ко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 тысяч повстанце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ружили короле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орец Тюиль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4495680"/>
            <a:ext cx="4419720" cy="213372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турм был недолгим, 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овопролитным. Бы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нято решение о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речении короля и созы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ционального конв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 fill="hold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 fill="hold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152280"/>
            <a:ext cx="8534160" cy="1219320"/>
          </a:xfrm>
          <a:prstGeom prst="roundRect">
            <a:avLst>
              <a:gd name="adj" fmla="val 16667"/>
            </a:avLst>
          </a:prstGeom>
          <a:solidFill>
            <a:srgbClr val="d29b64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вержение монарх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47640" y="1447920"/>
            <a:ext cx="7848720" cy="43275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09480" y="5715000"/>
            <a:ext cx="807732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ест Людовика  XV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152280"/>
            <a:ext cx="8534520" cy="1096920"/>
          </a:xfrm>
          <a:prstGeom prst="roundRect">
            <a:avLst>
              <a:gd name="adj" fmla="val 16667"/>
            </a:avLst>
          </a:prstGeom>
          <a:solidFill>
            <a:srgbClr val="d29b64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остав Конвен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3359160" y="1372680"/>
            <a:ext cx="2967120" cy="1524240"/>
          </a:xfrm>
          <a:prstGeom prst="pie">
            <a:avLst/>
          </a:prstGeom>
          <a:solidFill>
            <a:srgbClr val="d29b64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2133720"/>
            <a:ext cx="4038480" cy="1981080"/>
          </a:xfrm>
          <a:prstGeom prst="ellipse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(жирондисты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дели на ниж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амьях Конв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6520" y="4114800"/>
            <a:ext cx="5029200" cy="2362320"/>
          </a:xfrm>
          <a:prstGeom prst="ellipse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ая часть депу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принадлежала ни к правы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 к лев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( равнина или болот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57800" y="1905120"/>
            <a:ext cx="3886200" cy="2666880"/>
          </a:xfrm>
          <a:prstGeom prst="ellipse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(якобинцы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нимали верх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амьи, 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ыв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нтаньяр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04920" y="152280"/>
            <a:ext cx="8686800" cy="1096920"/>
          </a:xfrm>
          <a:prstGeom prst="roundRect">
            <a:avLst>
              <a:gd name="adj" fmla="val 16667"/>
            </a:avLst>
          </a:prstGeom>
          <a:solidFill>
            <a:srgbClr val="d29b64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овозглашение республик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ентябрь 1792 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0800000">
            <a:off x="1979280" y="2153880"/>
            <a:ext cx="5791320" cy="1447920"/>
          </a:xfrm>
          <a:prstGeom prst="upArrowCallout">
            <a:avLst>
              <a:gd name="adj1" fmla="val 100003"/>
              <a:gd name="adj2" fmla="val 59755"/>
              <a:gd name="adj3" fmla="val 16667"/>
              <a:gd name="adj4" fmla="val 81339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тог деятельности Конв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3581280"/>
            <a:ext cx="7848720" cy="23623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 сентябре 1792 год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о Франции бы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озглашена республ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0" y="1295280"/>
            <a:ext cx="45720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  <a:ea typeface="Arial Unicode MS"/>
              </a:rPr>
              <a:t>20 сентября 179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года в сражении у деревни </a:t>
            </a: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  <a:ea typeface="Arial Unicode MS"/>
              </a:rPr>
              <a:t>Вальм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французские войска отбили атаки прусской армии и заставили её отступить. Эта победа стала началом освобождения страны от интерв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280" y="152280"/>
            <a:ext cx="8534520" cy="1096920"/>
          </a:xfrm>
          <a:prstGeom prst="roundRect">
            <a:avLst>
              <a:gd name="adj" fmla="val 16667"/>
            </a:avLst>
          </a:prstGeom>
          <a:solidFill>
            <a:srgbClr val="d29b64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ражение при Вальм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20 сентября 1792 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133720"/>
            <a:ext cx="4876920" cy="32907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1219320" y="5562720"/>
            <a:ext cx="2361960" cy="609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ражение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 Вальм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8920" indent="-358920"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  <a:ea typeface="Arial Unicode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152280"/>
            <a:ext cx="8534520" cy="1096920"/>
          </a:xfrm>
          <a:prstGeom prst="roundRect">
            <a:avLst>
              <a:gd name="adj" fmla="val 16667"/>
            </a:avLst>
          </a:prstGeom>
          <a:solidFill>
            <a:srgbClr val="d29b64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азнь Людовика XVI.             21 января 1793 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38080" y="1295280"/>
            <a:ext cx="7010640" cy="51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58920" indent="-358920"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  <a:ea typeface="Arial Unicode MS"/>
              </a:rPr>
              <a:t>Управл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0"/>
            <a:ext cx="8686800" cy="1447920"/>
          </a:xfrm>
          <a:prstGeom prst="roundRect">
            <a:avLst>
              <a:gd name="adj" fmla="val 16667"/>
            </a:avLst>
          </a:prstGeom>
          <a:solidFill>
            <a:srgbClr val="d29b64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Установление якобинской диктатуры. 2 июня 1793 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43000" y="2590920"/>
            <a:ext cx="7010280" cy="259056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правл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Высший законодатель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ган – Конв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Правительство из 11 человек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итет общественного спас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12640" y="190440"/>
            <a:ext cx="8118720" cy="1311480"/>
          </a:xfrm>
          <a:prstGeom prst="rect">
            <a:avLst/>
          </a:prstGeom>
          <a:solidFill>
            <a:srgbClr val="d29b64"/>
          </a:solidFill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Декларация прав человека и гражданина. 26 августа 1789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038480" y="1447920"/>
            <a:ext cx="49532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екларация прав человека и гражданина – это важнейший документ Великой французской революции, определяющий  права человека. Она была принята </a:t>
            </a:r>
            <a:r>
              <a:rPr b="1" lang="ru-RU" sz="2800" spc="-1" strike="noStrike" u="sng">
                <a:solidFill>
                  <a:srgbClr val="ff3300"/>
                </a:solidFill>
                <a:uFillTx/>
                <a:latin typeface="Times New Roman"/>
                <a:ea typeface="Arial Unicode MS"/>
              </a:rPr>
              <a:t>26 августа 1789 г</a:t>
            </a: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  <a:ea typeface="Arial Unicode MS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Учредительным собрание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Times New Roman"/>
                <a:ea typeface="Arial Unicode MS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52280" y="1523880"/>
            <a:ext cx="3870360" cy="50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5720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Arial Unicode MS"/>
              </a:rPr>
              <a:t>Июнь 1793 г. -  принятие новой конститу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Arial Unicode MS"/>
              </a:rPr>
              <a:t>Окончательное  освобождение крестьян от повин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Arial Unicode MS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Arial Unicode MS"/>
              </a:rPr>
              <a:t>Продажа земель эмигрантов мелкими участками с рассрочкой платежа на 10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Arial Unicode MS"/>
              </a:rPr>
              <a:t>4.     Установление твердых цен на предметы первой необходим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Arial Unicode MS"/>
              </a:rPr>
              <a:t>Установление максимума заработной пл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Arial Unicode MS"/>
              </a:rPr>
              <a:t>17 сентября 1793 г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Arial Unicode MS"/>
              </a:rPr>
              <a:t>. - принятие закона о «подозрительных». Он привел к началу террора в стра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304920"/>
            <a:ext cx="8534520" cy="1218960"/>
          </a:xfrm>
          <a:prstGeom prst="roundRect">
            <a:avLst>
              <a:gd name="adj" fmla="val 16667"/>
            </a:avLst>
          </a:prstGeom>
          <a:solidFill>
            <a:srgbClr val="d29b64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сновные мероприятия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роведенные якобинц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152280"/>
            <a:ext cx="8686800" cy="1447920"/>
          </a:xfrm>
          <a:prstGeom prst="roundRect">
            <a:avLst>
              <a:gd name="adj" fmla="val 16667"/>
            </a:avLst>
          </a:prstGeom>
          <a:solidFill>
            <a:srgbClr val="d29b64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Закрепл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60360" y="2160720"/>
            <a:ext cx="7564320" cy="38592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гласно конституции 1791 г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 Франции устанавливала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республика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парламентская республ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конституционная монархия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) абсолютная монарх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152280"/>
            <a:ext cx="8686800" cy="1447920"/>
          </a:xfrm>
          <a:prstGeom prst="roundRect">
            <a:avLst>
              <a:gd name="adj" fmla="val 16667"/>
            </a:avLst>
          </a:prstGeom>
          <a:solidFill>
            <a:srgbClr val="d29b64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Закрепл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35120" y="1979640"/>
            <a:ext cx="7365960" cy="434664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Жирондистами и якобинц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 время Великой французск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волюции назыв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католиков и гугенотов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группировки в Конвен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представителей втор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третьего сосло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) сторонников и противни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сстановления абсолют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152280"/>
            <a:ext cx="8686800" cy="1447920"/>
          </a:xfrm>
          <a:prstGeom prst="roundRect">
            <a:avLst>
              <a:gd name="adj" fmla="val 16667"/>
            </a:avLst>
          </a:prstGeom>
          <a:solidFill>
            <a:srgbClr val="d29b64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Закрепл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4360" y="1800360"/>
            <a:ext cx="8999640" cy="467964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 Какие мероприятия были провед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редительным собранием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иод револю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берите 2 верных отве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принятие конститу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декрет о запрещении стач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принятие Декларации пр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ловека и граждан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) принятие закона о «подозрительных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60000" y="385920"/>
            <a:ext cx="84596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99284c"/>
                </a:solidFill>
                <a:latin typeface="Arial"/>
              </a:rPr>
              <a:t>О каких событиях Великой французской революции идет речь в стихах</a:t>
            </a:r>
            <a:r>
              <a:rPr b="1" i="1" lang="ru-RU" sz="1100" spc="-1" strike="noStrike">
                <a:solidFill>
                  <a:srgbClr val="99284c"/>
                </a:solidFill>
                <a:latin typeface="Arial"/>
              </a:rPr>
              <a:t> </a:t>
            </a:r>
            <a:endParaRPr b="1" i="1" lang="en-US" sz="1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78920" y="1393920"/>
            <a:ext cx="8202600" cy="55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99284c"/>
                </a:solidFill>
                <a:latin typeface="Arial"/>
              </a:rPr>
              <a:t>1</a:t>
            </a:r>
            <a:r>
              <a:rPr b="1" i="1" lang="ru-RU" sz="2200" spc="-1" strike="noStrike">
                <a:solidFill>
                  <a:srgbClr val="99284c"/>
                </a:solidFill>
                <a:latin typeface="Arial"/>
              </a:rPr>
              <a:t>.Французы пред лицом закона</a:t>
            </a:r>
            <a:br>
              <a:rPr sz="2200"/>
            </a:br>
            <a:r>
              <a:rPr b="1" i="1" lang="ru-RU" sz="2200" spc="-1" strike="noStrike">
                <a:solidFill>
                  <a:srgbClr val="99284c"/>
                </a:solidFill>
                <a:latin typeface="Arial"/>
              </a:rPr>
              <a:t>Теперь в правах уравнены,</a:t>
            </a:r>
            <a:br>
              <a:rPr sz="2200"/>
            </a:br>
            <a:r>
              <a:rPr b="1" i="1" lang="ru-RU" sz="2200" spc="-1" strike="noStrike">
                <a:solidFill>
                  <a:srgbClr val="99284c"/>
                </a:solidFill>
                <a:latin typeface="Arial"/>
              </a:rPr>
              <a:t>И заноситься не должны</a:t>
            </a:r>
            <a:br>
              <a:rPr sz="2200"/>
            </a:br>
            <a:r>
              <a:rPr b="1" i="1" lang="ru-RU" sz="2200" spc="-1" strike="noStrike">
                <a:solidFill>
                  <a:srgbClr val="99284c"/>
                </a:solidFill>
                <a:latin typeface="Arial"/>
              </a:rPr>
              <a:t>Дельцы, дворяне, люди трона.</a:t>
            </a:r>
            <a:br>
              <a:rPr sz="2200"/>
            </a:br>
            <a:r>
              <a:rPr b="1" i="1" lang="ru-RU" sz="2200" spc="-1" strike="noStrike">
                <a:solidFill>
                  <a:srgbClr val="99284c"/>
                </a:solidFill>
                <a:latin typeface="Arial"/>
              </a:rPr>
              <a:t>Пускай башмачник я простой –</a:t>
            </a:r>
            <a:br>
              <a:rPr sz="2200"/>
            </a:br>
            <a:r>
              <a:rPr b="1" i="1" lang="ru-RU" sz="2200" spc="-1" strike="noStrike">
                <a:solidFill>
                  <a:srgbClr val="99284c"/>
                </a:solidFill>
                <a:latin typeface="Arial"/>
              </a:rPr>
              <a:t>Мне по плечу министр любой!</a:t>
            </a:r>
            <a:br>
              <a:rPr sz="2200"/>
            </a:br>
            <a:r>
              <a:rPr b="1" i="1" lang="ru-RU" sz="2200" spc="-1" strike="noStrike">
                <a:solidFill>
                  <a:srgbClr val="99284c"/>
                </a:solidFill>
                <a:latin typeface="Arial"/>
              </a:rPr>
              <a:t>У всех нас общее есть чувство –</a:t>
            </a:r>
            <a:br>
              <a:rPr sz="2200"/>
            </a:br>
            <a:r>
              <a:rPr b="1" i="1" lang="ru-RU" sz="2200" spc="-1" strike="noStrike">
                <a:solidFill>
                  <a:srgbClr val="99284c"/>
                </a:solidFill>
                <a:latin typeface="Arial"/>
              </a:rPr>
              <a:t>Равны все люди меж собой.</a:t>
            </a:r>
            <a:br>
              <a:rPr sz="2200"/>
            </a:br>
            <a:r>
              <a:rPr b="1" i="1" lang="ru-RU" sz="2200" spc="-1" strike="noStrike">
                <a:solidFill>
                  <a:srgbClr val="99284c"/>
                </a:solidFill>
                <a:latin typeface="Arial"/>
              </a:rPr>
              <a:t>Я человек был небольшой,</a:t>
            </a:r>
            <a:br>
              <a:rPr sz="2200"/>
            </a:br>
            <a:r>
              <a:rPr b="1" i="1" lang="ru-RU" sz="2200" spc="-1" strike="noStrike">
                <a:solidFill>
                  <a:srgbClr val="99284c"/>
                </a:solidFill>
                <a:latin typeface="Arial"/>
              </a:rPr>
              <a:t>Никто не чтил мое искусство, -</a:t>
            </a:r>
            <a:br>
              <a:rPr sz="2200"/>
            </a:br>
            <a:r>
              <a:rPr b="1" i="1" lang="ru-RU" sz="2200" spc="-1" strike="noStrike">
                <a:solidFill>
                  <a:srgbClr val="99284c"/>
                </a:solidFill>
                <a:latin typeface="Arial"/>
              </a:rPr>
              <a:t>Теперь я тоже знатным стал,</a:t>
            </a:r>
            <a:br>
              <a:rPr sz="2200"/>
            </a:br>
            <a:r>
              <a:rPr b="1" i="1" lang="ru-RU" sz="2200" spc="-1" strike="noStrike">
                <a:solidFill>
                  <a:srgbClr val="99284c"/>
                </a:solidFill>
                <a:latin typeface="Arial"/>
              </a:rPr>
              <a:t>Как принц любой иль генерал.</a:t>
            </a:r>
            <a:endParaRPr b="0" lang="en-US" sz="2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60000" y="385920"/>
            <a:ext cx="84596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99284c"/>
                </a:solidFill>
                <a:latin typeface="Arial"/>
              </a:rPr>
              <a:t>О каких событиях Великой французской революции идет речь в стихах</a:t>
            </a:r>
            <a:r>
              <a:rPr b="1" i="1" lang="ru-RU" sz="1100" spc="-1" strike="noStrike">
                <a:solidFill>
                  <a:srgbClr val="99284c"/>
                </a:solidFill>
                <a:latin typeface="Arial"/>
              </a:rPr>
              <a:t> </a:t>
            </a:r>
            <a:endParaRPr b="1" i="1" lang="en-US" sz="1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78920" y="1467000"/>
            <a:ext cx="8202600" cy="53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99284c"/>
                </a:solidFill>
                <a:latin typeface="Arial"/>
              </a:rPr>
              <a:t>2.Забыв о клятвах всех своих, </a:t>
            </a:r>
            <a:br>
              <a:rPr sz="1800"/>
            </a:br>
            <a:r>
              <a:rPr b="1" i="1" lang="ru-RU" sz="1800" spc="-1" strike="noStrike">
                <a:solidFill>
                  <a:srgbClr val="99284c"/>
                </a:solidFill>
                <a:latin typeface="Arial"/>
              </a:rPr>
              <a:t>На ветер бросили вы их.</a:t>
            </a:r>
            <a:br>
              <a:rPr sz="1800"/>
            </a:br>
            <a:r>
              <a:rPr b="1" i="1" lang="ru-RU" sz="1800" spc="-1" strike="noStrike">
                <a:solidFill>
                  <a:srgbClr val="99284c"/>
                </a:solidFill>
                <a:latin typeface="Arial"/>
              </a:rPr>
              <a:t>И ваше вероломство-</a:t>
            </a:r>
            <a:br>
              <a:rPr sz="1800"/>
            </a:br>
            <a:r>
              <a:rPr b="1" i="1" lang="ru-RU" sz="1800" spc="-1" strike="noStrike">
                <a:solidFill>
                  <a:srgbClr val="99284c"/>
                </a:solidFill>
                <a:latin typeface="Arial"/>
              </a:rPr>
              <a:t>Что ж, хорошо!-</a:t>
            </a:r>
            <a:br>
              <a:rPr sz="1800"/>
            </a:br>
            <a:r>
              <a:rPr b="1" i="1" lang="ru-RU" sz="1800" spc="-1" strike="noStrike">
                <a:solidFill>
                  <a:srgbClr val="99284c"/>
                </a:solidFill>
                <a:latin typeface="Arial"/>
              </a:rPr>
              <a:t>Оценит и потомство.</a:t>
            </a:r>
            <a:br>
              <a:rPr sz="1800"/>
            </a:br>
            <a:r>
              <a:rPr b="1" i="1" lang="ru-RU" sz="1800" spc="-1" strike="noStrike">
                <a:solidFill>
                  <a:srgbClr val="99284c"/>
                </a:solidFill>
                <a:latin typeface="Arial"/>
              </a:rPr>
              <a:t>Вы слышите ли, хорошо!</a:t>
            </a:r>
            <a:br>
              <a:rPr sz="1800"/>
            </a:br>
            <a:r>
              <a:rPr b="1" i="1" lang="ru-RU" sz="1800" spc="-1" strike="noStrike">
                <a:solidFill>
                  <a:srgbClr val="99284c"/>
                </a:solidFill>
                <a:latin typeface="Arial"/>
              </a:rPr>
              <a:t>И кто вас только убедил</a:t>
            </a:r>
            <a:br>
              <a:rPr sz="1800"/>
            </a:br>
            <a:r>
              <a:rPr b="1" i="1" lang="ru-RU" sz="1800" spc="-1" strike="noStrike">
                <a:solidFill>
                  <a:srgbClr val="99284c"/>
                </a:solidFill>
                <a:latin typeface="Arial"/>
              </a:rPr>
              <a:t>Предать народ, что вас любил?</a:t>
            </a:r>
            <a:br>
              <a:rPr sz="1800"/>
            </a:br>
            <a:r>
              <a:rPr b="1" i="1" lang="ru-RU" sz="1800" spc="-1" strike="noStrike">
                <a:solidFill>
                  <a:srgbClr val="99284c"/>
                </a:solidFill>
                <a:latin typeface="Arial"/>
              </a:rPr>
              <a:t>И вот все это вместе</a:t>
            </a:r>
            <a:br>
              <a:rPr sz="1800"/>
            </a:br>
            <a:r>
              <a:rPr b="1" i="1" lang="ru-RU" sz="1800" spc="-1" strike="noStrike">
                <a:solidFill>
                  <a:srgbClr val="99284c"/>
                </a:solidFill>
                <a:latin typeface="Arial"/>
              </a:rPr>
              <a:t>Не делает вам чести. </a:t>
            </a:r>
            <a:br>
              <a:rPr sz="1800"/>
            </a:br>
            <a:r>
              <a:rPr b="1" i="1" lang="ru-RU" sz="1800" spc="-1" strike="noStrike">
                <a:solidFill>
                  <a:srgbClr val="99284c"/>
                </a:solidFill>
                <a:latin typeface="Arial"/>
              </a:rPr>
              <a:t>Теперь обманутый народ</a:t>
            </a:r>
            <a:br>
              <a:rPr sz="1800"/>
            </a:br>
            <a:r>
              <a:rPr b="1" i="1" lang="ru-RU" sz="1800" spc="-1" strike="noStrike">
                <a:solidFill>
                  <a:srgbClr val="99284c"/>
                </a:solidFill>
                <a:latin typeface="Arial"/>
              </a:rPr>
              <a:t>Уж клятвам веры не дает.</a:t>
            </a:r>
            <a:br>
              <a:rPr sz="1800"/>
            </a:br>
            <a:r>
              <a:rPr b="1" i="1" lang="ru-RU" sz="1800" spc="-1" strike="noStrike">
                <a:solidFill>
                  <a:srgbClr val="99284c"/>
                </a:solidFill>
                <a:latin typeface="Arial"/>
              </a:rPr>
              <a:t>И заклеймил вас кстати</a:t>
            </a:r>
            <a:br>
              <a:rPr sz="1800"/>
            </a:br>
            <a:r>
              <a:rPr b="1" i="1" lang="ru-RU" sz="1800" spc="-1" strike="noStrike">
                <a:solidFill>
                  <a:srgbClr val="99284c"/>
                </a:solidFill>
                <a:latin typeface="Arial"/>
              </a:rPr>
              <a:t>Названием “Предатель!”</a:t>
            </a:r>
            <a:endParaRPr b="0" lang="en-US" sz="18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152280"/>
            <a:ext cx="8686800" cy="1447920"/>
          </a:xfrm>
          <a:prstGeom prst="roundRect">
            <a:avLst>
              <a:gd name="adj" fmla="val 16667"/>
            </a:avLst>
          </a:prstGeom>
          <a:solidFill>
            <a:srgbClr val="d29b64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79640" y="1979640"/>
            <a:ext cx="7010280" cy="327672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раграф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желанию – подготов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полнит. материал 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полеоне Бонапар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60360" y="220680"/>
            <a:ext cx="8118360" cy="1311120"/>
          </a:xfrm>
          <a:prstGeom prst="rect">
            <a:avLst/>
          </a:prstGeom>
          <a:solidFill>
            <a:srgbClr val="d29b64"/>
          </a:solidFill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  <a:ea typeface="Arial Unicode MS"/>
              </a:rPr>
              <a:t>Декларация прав человека и граждани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1752480"/>
            <a:ext cx="8305920" cy="1676520"/>
          </a:xfrm>
          <a:prstGeom prst="bevel">
            <a:avLst>
              <a:gd name="adj" fmla="val 12500"/>
            </a:avLst>
          </a:prstGeom>
          <a:solidFill>
            <a:srgbClr val="d29b64">
              <a:alpha val="83000"/>
            </a:srgbClr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р. 251 – самостоятельное чт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кумента   уч - 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3809880"/>
            <a:ext cx="8458200" cy="2362320"/>
          </a:xfrm>
          <a:prstGeom prst="rect">
            <a:avLst/>
          </a:prstGeom>
          <a:solidFill>
            <a:srgbClr val="d29b64">
              <a:alpha val="83000"/>
            </a:srgbClr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Каковы основные положения Декларац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Сравните ее с Декларацией независимост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нятой в СШ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В чем состоит историческое знач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го докумен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04920" y="152280"/>
            <a:ext cx="8229600" cy="1143000"/>
          </a:xfrm>
          <a:prstGeom prst="roundRect">
            <a:avLst>
              <a:gd name="adj" fmla="val 16667"/>
            </a:avLst>
          </a:prstGeom>
          <a:solidFill>
            <a:srgbClr val="d29b64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екларация прав человека и граждани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295280"/>
            <a:ext cx="8458200" cy="1143000"/>
          </a:xfrm>
          <a:prstGeom prst="bevel">
            <a:avLst>
              <a:gd name="adj" fmla="val 12500"/>
            </a:avLst>
          </a:prstGeom>
          <a:solidFill>
            <a:srgbClr val="d29b64">
              <a:alpha val="85000"/>
            </a:srgbClr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2590920"/>
            <a:ext cx="8496360" cy="1295280"/>
          </a:xfrm>
          <a:prstGeom prst="bevel">
            <a:avLst>
              <a:gd name="adj" fmla="val 12500"/>
            </a:avLst>
          </a:prstGeom>
          <a:solidFill>
            <a:srgbClr val="d29b64">
              <a:alpha val="85000"/>
            </a:srgbClr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Естественные и неотъемлимые пр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человека – жизнь,  свобода, безопас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4038480"/>
            <a:ext cx="8572680" cy="1143000"/>
          </a:xfrm>
          <a:prstGeom prst="bevel">
            <a:avLst>
              <a:gd name="adj" fmla="val 12500"/>
            </a:avLst>
          </a:prstGeom>
          <a:solidFill>
            <a:srgbClr val="d29b64">
              <a:alpha val="85000"/>
            </a:srgbClr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обственность – есть прав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еприкосновенное и священн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5334120"/>
            <a:ext cx="8534520" cy="1218960"/>
          </a:xfrm>
          <a:prstGeom prst="bevel">
            <a:avLst>
              <a:gd name="adj" fmla="val 12500"/>
            </a:avLst>
          </a:prstGeom>
          <a:solidFill>
            <a:srgbClr val="d29b64">
              <a:alpha val="85000"/>
            </a:srgbClr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сточник власти –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8458200" cy="1143000"/>
          </a:xfrm>
          <a:prstGeom prst="bevel">
            <a:avLst>
              <a:gd name="adj" fmla="val 12500"/>
            </a:avLst>
          </a:prstGeom>
          <a:solidFill>
            <a:srgbClr val="d29b64">
              <a:alpha val="85000"/>
            </a:srgbClr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се люди рождаются свободн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 равными в прав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914400" y="1523880"/>
            <a:ext cx="79246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  <a:ea typeface="Arial Unicode MS"/>
              </a:rPr>
              <a:t>В Учредительном собрании депутаты разделились по своим взглядам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2640" y="252360"/>
            <a:ext cx="8118720" cy="1189080"/>
          </a:xfrm>
          <a:prstGeom prst="rect">
            <a:avLst/>
          </a:prstGeom>
          <a:solidFill>
            <a:srgbClr val="d29b64"/>
          </a:solidFill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  <a:ea typeface="Arial Unicode MS"/>
              </a:rPr>
              <a:t>Декларация прав человека и граждани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33720" y="342900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553080" y="342900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4114800"/>
            <a:ext cx="4267440" cy="20574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ронники умерен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порядка сидели справа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ли назыв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прав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00600" y="4114800"/>
            <a:ext cx="4114800" cy="20574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ева сидели сторон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мен - 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ле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27040" y="54000"/>
            <a:ext cx="8167680" cy="1311120"/>
          </a:xfrm>
          <a:prstGeom prst="rect">
            <a:avLst/>
          </a:prstGeom>
          <a:solidFill>
            <a:srgbClr val="d29b64"/>
          </a:solidFill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  <a:ea typeface="Arial Unicode MS"/>
              </a:rPr>
              <a:t>Поход на Версаль – 5-6 октября 1789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66760" y="1981080"/>
            <a:ext cx="8610480" cy="4572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752480" y="1371600"/>
            <a:ext cx="2819520" cy="1066680"/>
          </a:xfrm>
          <a:prstGeom prst="wedgeRoundRectCallout">
            <a:avLst>
              <a:gd name="adj1" fmla="val -67453"/>
              <a:gd name="adj2" fmla="val 156250"/>
              <a:gd name="adj3" fmla="val 16667"/>
            </a:avLst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леб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Версал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38680" y="1447920"/>
            <a:ext cx="2819520" cy="1066680"/>
          </a:xfrm>
          <a:prstGeom prst="wedgeRoundRectCallout">
            <a:avLst>
              <a:gd name="adj1" fmla="val -34458"/>
              <a:gd name="adj2" fmla="val 95537"/>
              <a:gd name="adj3" fmla="val 16667"/>
            </a:avLst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 здравству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ол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5562720"/>
            <a:ext cx="8763120" cy="12952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 октября толпа женщин в 6 – 7 тыс. человек, напрас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стоявшая всю ночь у хлебных лавок,  двинула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Верса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12640" y="190440"/>
            <a:ext cx="8118720" cy="1311480"/>
          </a:xfrm>
          <a:prstGeom prst="rect">
            <a:avLst/>
          </a:prstGeom>
          <a:solidFill>
            <a:srgbClr val="d29b64"/>
          </a:solidFill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  <a:ea typeface="Arial Unicode MS"/>
              </a:rPr>
              <a:t>Варренский кризис. 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Arial"/>
                <a:ea typeface="Arial Unicode MS"/>
              </a:rPr>
              <a:t>20 июня 1791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43400" y="1523880"/>
            <a:ext cx="46483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Людовик XVI попытался бежать за границу. 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  <a:ea typeface="Arial Unicode MS"/>
              </a:rPr>
              <a:t>20 июня 179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  <a:ea typeface="Arial Unicode MS"/>
              </a:rPr>
              <a:t>год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он вместе с семьёй по поддельным документам хотел пересечь границу, но был пойман в местечке Варен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3701880" cy="46389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28600" y="5867280"/>
            <a:ext cx="3962520" cy="6858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довик XV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28600" y="1371600"/>
            <a:ext cx="87631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  <a:ea typeface="Arial Unicode MS"/>
              </a:rPr>
              <a:t>3 сентября 1791 года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  <a:ea typeface="Arial Unicode MS"/>
              </a:rPr>
              <a:t> Учредительное собрание приняло первую в истории Франции  конституци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  <a:ea typeface="Arial Unicode MS"/>
              </a:rPr>
              <a:t>Самостоятельная работа уч- ся с текстом учебника – стр. 242 – 24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  <a:ea typeface="Arial Unicode MS"/>
              </a:rPr>
              <a:t>Задача: назвать основные положение конституции 1791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9760" y="168120"/>
            <a:ext cx="8427960" cy="1311480"/>
          </a:xfrm>
          <a:prstGeom prst="rect">
            <a:avLst/>
          </a:prstGeom>
          <a:solidFill>
            <a:srgbClr val="d29b64"/>
          </a:solidFill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  <a:ea typeface="Arial Unicode MS"/>
              </a:rPr>
              <a:t>Конституция Франции.                3 сентября 1791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295280"/>
            <a:ext cx="86868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9480" indent="-608040"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  <a:ea typeface="Arial Unicode MS"/>
              </a:rPr>
              <a:t>1) В стране установилась конституционная монарх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  <a:ea typeface="Arial Unicode MS"/>
              </a:rPr>
              <a:t>2) Вводилось избирательное право, ограниченное имущественным ценз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  <a:ea typeface="Arial Unicode MS"/>
              </a:rPr>
              <a:t>3) Отменялись все внутренние таможни и цехов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  <a:ea typeface="Arial Unicode MS"/>
              </a:rPr>
              <a:t>4) Франция была разделена на департаменты ( 8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152280"/>
            <a:ext cx="8534520" cy="1096920"/>
          </a:xfrm>
          <a:prstGeom prst="roundRect">
            <a:avLst>
              <a:gd name="adj" fmla="val 16667"/>
            </a:avLst>
          </a:prstGeom>
          <a:solidFill>
            <a:srgbClr val="d29b64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онституция Франции 1791 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5562720"/>
            <a:ext cx="7848720" cy="10666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этом Учредительное собр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кончило свою деятель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12-13T03:26:04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