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74EE-3F4A-4A91-A510-3EF9F02AD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5449-BFDD-47BD-A0D1-CBB64DC3B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3F19-38D4-4594-9216-F1D322B33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820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76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77B8-2F3C-44EB-995A-D6CAC42BF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B6FD-2AA9-4964-AB9F-43FDEACBC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912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912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820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76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7532-4A72-462A-99C6-49B69CBEF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E038-E5AE-4338-A2FA-C1201BA4D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3FEA-E28E-41CF-8942-F32F7B38C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7D8D-C20F-48A7-993E-2AA3D3233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4749-8447-485F-A6F4-49B41C0C1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818B-DE89-4359-8FFB-4743150F9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1247-3DB5-4206-B05C-68A6A8382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86F6AC-6F21-4196-9075-64C2E5709F0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\\upload.wikimedia.org\wikipedia\commons\0\02\GirondistsForce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\\upload.wikimedia.org\wikipedia\commons\1\12\Robespierre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\\upload.wikimedia.org\wikipedia\commons\2\2b\Jean-paul_marat_1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\\upload.wikimedia.org\wikipedia\commons\d\db\Napoleon_at_the_Battle_of_Rivoli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\\upload.wikimedia.org\wikipedia\commons\3\34\Bataille_de_Valmy_ag1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81080" y="1219320"/>
            <a:ext cx="5181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Arial"/>
                <a:ea typeface="Arial Unicode MS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2819520"/>
            <a:ext cx="7467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 Великая французская революция. От монархии к республик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371600"/>
            <a:ext cx="4800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1  Октября 1791 го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начало работу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Законодательное собра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  В нём лидировала группа решительно настроенных депутатов от департамента Жиронда ( их стали называть жирондист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04920"/>
            <a:ext cx="87631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онодательное собр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371600"/>
            <a:ext cx="35863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3280" indent="-4320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Якоби́н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— крайне радикально настроенные участники  революции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лучили своё название от монастыр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того Якоб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, где они обычно собира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371600"/>
            <a:ext cx="2374920" cy="300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152280"/>
            <a:ext cx="8534520" cy="12193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кобин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38280" y="3276720"/>
            <a:ext cx="2292480" cy="2547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28600" y="4343400"/>
            <a:ext cx="2171880" cy="70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ксимили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беспь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3720" y="579132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ан Пол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ра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52280"/>
            <a:ext cx="8839440" cy="12193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чало революционных войн. 20 апреля 1792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38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2280" y="5486400"/>
            <a:ext cx="8991720" cy="1371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 апреля 1792 года Законодательное собр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явило войну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52280"/>
            <a:ext cx="8534160" cy="12193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вержение монарх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 августа 179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114800" cy="2695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4191120" cy="2924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19720" y="1447920"/>
            <a:ext cx="4419360" cy="2133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 августа 1792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к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 тысяч повста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или корол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 Тюиль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495680"/>
            <a:ext cx="4419720" cy="21337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турм был недолгим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опролитным.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о решение 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ечении короля и созы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ого конв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52280"/>
            <a:ext cx="8534160" cy="12193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вержение монарх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7640" y="1447920"/>
            <a:ext cx="7848720" cy="4327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5715000"/>
            <a:ext cx="80773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ест Людовика  X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280"/>
            <a:ext cx="85345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став Конве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3359160" y="1372680"/>
            <a:ext cx="2967120" cy="1524240"/>
          </a:xfrm>
          <a:prstGeom prst="pie">
            <a:avLst/>
          </a:prstGeom>
          <a:solidFill>
            <a:srgbClr val="d29b6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133720"/>
            <a:ext cx="4038480" cy="198108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жирондисты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ли на ниж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мьях Конв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114800"/>
            <a:ext cx="5029200" cy="236232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ая часть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ринадлежала ни к пра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к ле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 равнина или боло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1905120"/>
            <a:ext cx="3886200" cy="266688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якобинцы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ли верх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мьи,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танья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152280"/>
            <a:ext cx="868680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озглашение республи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ентябрь 1792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1979280" y="2153880"/>
            <a:ext cx="5791320" cy="1447920"/>
          </a:xfrm>
          <a:prstGeom prst="upArrowCallout">
            <a:avLst>
              <a:gd name="adj1" fmla="val 100003"/>
              <a:gd name="adj2" fmla="val 59755"/>
              <a:gd name="adj3" fmla="val 16667"/>
              <a:gd name="adj4" fmla="val 81339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ог деятельности Конв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581280"/>
            <a:ext cx="7848720" cy="23623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ентябре 1792 г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о Франции б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озглашена республ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1295280"/>
            <a:ext cx="4572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20 сентября 179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года в сражении у деревни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Валь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французские войска отбили атаки прусской армии и заставили её отступить. Эта победа стала началом освобождения страны от интерв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52280"/>
            <a:ext cx="85345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ражение при Валь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 сентября 1792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133720"/>
            <a:ext cx="4876920" cy="3290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219320" y="5562720"/>
            <a:ext cx="236196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аж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Валь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52280"/>
            <a:ext cx="85345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знь Людовика XVI.             21 января 1793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01064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Arial Unicode MS"/>
              </a:rPr>
              <a:t>Управ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тановление якобинской диктатуры. 2 июня 1793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2590920"/>
            <a:ext cx="7010280" cy="25905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Высший законод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 – Конв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Правительство из 11 челове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итет общественного спас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2640" y="190440"/>
            <a:ext cx="8118720" cy="131148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Декларация прав человека и гражданина. 26 августа 178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1447920"/>
            <a:ext cx="4953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кларация прав человека и гражданина – это важнейший документ Великой французской революции, определяющий  права человека. Она была принята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Arial Unicode MS"/>
              </a:rPr>
              <a:t>26 августа 1789 г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Учредительным собра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Arial Unicode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870360" cy="50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Июнь 1793 г. -  принятие новой конститу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Окончательное  освобождение крестьян от пови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Продажа земель эмигрантов мелкими участками с рассрочкой платежа на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4.     Установление твердых цен на предметы первой необход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Установление максимума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17 сентября 1793 г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. - принятие закона о «подозрительных». Он привел к началу террора в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04920"/>
            <a:ext cx="8534520" cy="121896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мероприят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веденные якобинц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5228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0360" y="2160720"/>
            <a:ext cx="7564320" cy="3859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гласно конституции 1791 г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Франции устанавлива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еспублика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парламентская 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конституционная монархия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абсолют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5228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5120" y="1979640"/>
            <a:ext cx="7365960" cy="434664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Жирондистами и якобинц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я Великой француз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волюции назы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католиков и гугенотов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группировки в Конве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представителей вто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третьего со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сторонников и против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овления абсолют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5228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360" y="1800360"/>
            <a:ext cx="8999640" cy="467964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Какие мероприятия были провед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дительным собранием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 револю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те 2 верных отв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принятие конститу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декрет о запрещении ста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принятие Декларации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а и гражд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принятие закона о «подозрительн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0000" y="385920"/>
            <a:ext cx="84596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О каких событиях Великой французской революции идет речь в стихах</a:t>
            </a:r>
            <a:r>
              <a:rPr b="1" i="1" lang="ru-RU" sz="11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1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78920" y="1393920"/>
            <a:ext cx="820260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99284c"/>
                </a:solidFill>
                <a:latin typeface="Arial"/>
              </a:rPr>
              <a:t>1</a:t>
            </a: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.Французы пред лицом закона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Теперь в правах уравнены,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И заноситься не должны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Дельцы, дворяне, люди трона.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Пускай башмачник я простой –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Мне по плечу министр любой!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У всех нас общее есть чувство –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Равны все люди меж собой.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Я человек был небольшой,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Никто не чтил мое искусство, -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Теперь я тоже знатным стал,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Как принц любой иль генерал.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000" y="385920"/>
            <a:ext cx="84596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О каких событиях Великой французской революции идет речь в стихах</a:t>
            </a:r>
            <a:r>
              <a:rPr b="1" i="1" lang="ru-RU" sz="11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1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78920" y="1467000"/>
            <a:ext cx="8202600" cy="53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2.Забыв о клятвах всех своих, 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На ветер бросили вы их.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И ваше вероломство-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Что ж, хорошо!-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Оценит и потомство.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Вы слышите ли, хорошо!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И кто вас только убедил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Предать народ, что вас любил?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И вот все это вместе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Не делает вам чести. 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Теперь обманутый народ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Уж клятвам веры не дает.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И заклеймил вас кстати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Названием “Предатель!”</a:t>
            </a:r>
            <a:endParaRPr b="0" lang="en-US" sz="18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5228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9640" y="1979640"/>
            <a:ext cx="7010280" cy="32767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граф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желанию – подгот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. материал 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олеоне Бонапа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0360" y="220680"/>
            <a:ext cx="8118360" cy="131112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Декларация прав человека и граждан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752480"/>
            <a:ext cx="8305920" cy="1676520"/>
          </a:xfrm>
          <a:prstGeom prst="bevel">
            <a:avLst>
              <a:gd name="adj" fmla="val 12500"/>
            </a:avLst>
          </a:prstGeom>
          <a:solidFill>
            <a:srgbClr val="d29b64">
              <a:alpha val="83000"/>
            </a:srgbClr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. 251 – самостоятельное чт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умента   уч - 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809880"/>
            <a:ext cx="8458200" cy="2362320"/>
          </a:xfrm>
          <a:prstGeom prst="rect">
            <a:avLst/>
          </a:prstGeom>
          <a:solidFill>
            <a:srgbClr val="d29b64">
              <a:alpha val="83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Каковы основные положения Деклар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равните ее с Декларацией не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ятой в С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 чем состоит историческое зна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го докум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52280"/>
            <a:ext cx="8229600" cy="114300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ларация прав человека и граждан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95280"/>
            <a:ext cx="8458200" cy="114300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590920"/>
            <a:ext cx="8496360" cy="129528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стественные и неотъемлимые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еловека – жизнь,  свобода,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038480"/>
            <a:ext cx="8572680" cy="114300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бственность – есть пра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прикосновенное и священ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334120"/>
            <a:ext cx="8534520" cy="121896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чник власти –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8458200" cy="114300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се люди рождаются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 равными в пра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1523880"/>
            <a:ext cx="79246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 Unicode MS"/>
              </a:rPr>
              <a:t>В Учредительном собрании депутаты разделились по своим взглядам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2640" y="252360"/>
            <a:ext cx="8118720" cy="118908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Декларация прав человека и гражда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42900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342900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114800"/>
            <a:ext cx="4267440" cy="2057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нники умер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рядка сидели справ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 назы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а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114800"/>
            <a:ext cx="4114800" cy="2057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ва сидели сторо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н -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л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54000"/>
            <a:ext cx="8167680" cy="131112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Поход на Версаль – 5-6 октября 178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66760" y="198108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52480" y="1371600"/>
            <a:ext cx="2819520" cy="1066680"/>
          </a:xfrm>
          <a:prstGeom prst="wedgeRoundRectCallout">
            <a:avLst>
              <a:gd name="adj1" fmla="val -67453"/>
              <a:gd name="adj2" fmla="val 156250"/>
              <a:gd name="adj3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леб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ерса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1447920"/>
            <a:ext cx="2819520" cy="1066680"/>
          </a:xfrm>
          <a:prstGeom prst="wedgeRoundRectCallout">
            <a:avLst>
              <a:gd name="adj1" fmla="val -34458"/>
              <a:gd name="adj2" fmla="val 95537"/>
              <a:gd name="adj3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 здрав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562720"/>
            <a:ext cx="8763120" cy="12952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октября толпа женщин в 6 – 7 тыс. человек, напра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оявшая всю ночь у хлебных лавок,  двину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ерс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2640" y="190440"/>
            <a:ext cx="8118720" cy="131148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Варренский кризис.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20 июня 179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1523880"/>
            <a:ext cx="4648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Людовик XVI попытался бежать за границу.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 Unicode MS"/>
              </a:rPr>
              <a:t>20 июня 179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 Unicode MS"/>
              </a:rPr>
              <a:t>го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он вместе с семьёй по поддельным документам хотел пересечь границу, но был пойман в местечке Варен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701880" cy="4638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5867280"/>
            <a:ext cx="39625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овик XV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137160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3 сентября 1791 года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 Учредительное собрание приняло первую в истории Франции  конститу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Самостоятельная работа уч- ся с текстом учебника – стр. 242 – 24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Задача: назвать основные положение конституции 179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760" y="168120"/>
            <a:ext cx="8427960" cy="131148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Конституция Франции.                3 сентября 179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95280"/>
            <a:ext cx="8686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1) В стране установилась конституцион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2) Вводилось избирательное право, ограниченное имущественным цен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3) Отменялись все внутренние таможни и цехов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4) Франция была разделена на департаменты ( 8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52280"/>
            <a:ext cx="85345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титуция Франции 1791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562720"/>
            <a:ext cx="7848720" cy="10666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этом Учредительн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о сво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13T03:26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