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653-5FFE-42C5-8941-934059AA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B60-AF1A-406F-8231-22FBDB7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B68-F569-40A7-B0D8-EAA315DF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F7F-072F-4E4C-BDCD-9308516B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8DA2-C711-42BF-BDD6-7AD6E4B0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E0D3-81DE-4F15-B45A-E57DEA35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A11-C5F0-4D17-A097-F67D478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E0BD-6695-4CCC-B86F-08A161D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95DA-8360-443E-ACFA-0454C00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A729-3437-4DF0-8795-8B272CDF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32CD-65B3-4051-A888-7A8321FC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FB1-B31C-494F-ADDD-A169C26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7CB9-45EF-4C8A-931F-F8D6E5C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8ABB-0BBC-48DF-8851-095A26B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CAC3-A476-4ADE-88FE-CE4AD743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4A05-8F4C-403A-8AFF-907576A4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723-AFA7-4FB4-820F-D3B84ED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A7F49-6E8C-4476-8B77-91B00560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C1B06-9458-4D4A-815C-D62ED94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996BD-78E7-497F-80DC-1D2B102E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916C0-8DD9-42B7-BBCD-69E542E4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FE0F4-A025-4A93-8DBF-873A11E9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EB2-6C0B-46FB-BEF2-824EC0A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A5F03-04F0-4EB6-BE5D-C9EDE202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50A13-3C32-4DA9-88E2-B287A9C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E1101-BABE-4338-A3A0-A29F660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03CAB-48EC-4FE0-89DC-7F0E7B77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9D93C-8C7B-489D-B427-C25DBF4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9C508-9676-4238-AE79-9BE2F880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88A4E-678C-4465-9BF9-2062473E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89C9-4D3D-491A-807D-DD4BAFE4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CFDF-FBF3-4A06-88DB-96C470D7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135F-D464-4C17-8806-9E963A0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C11-175D-4380-841A-F8F2952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CBD5-0084-4B15-8488-FCE638A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4C58-65F4-454B-AAE7-F7869E56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B592-3478-4955-837B-B9228133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942F-8E32-453E-8F58-3A851C4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8E4A-4416-4845-99DA-B02AF59F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7C89-5F3F-4A2A-83A7-37833AC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B058-4A2B-4AE6-98DF-2629301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F035-F7A2-4A4B-B8F9-B331E212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540C-C1A3-4791-B959-E5821F2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A85-256C-4B1D-8FE6-57A25ADC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0A3-6F06-466B-90F4-428EB90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0FA-9545-4741-8DF8-976CA30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159-3177-42F7-97B9-8978E56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EA6-C1AD-489B-9B93-61C0498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1791-94E3-4AD8-A454-64BB0BE5F68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823F-2D0C-4140-B9C9-8E9C27E6E37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560-C5CD-4F24-AF44-5B530FEAA9E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466-CDC1-4B44-A954-F9CED6EA089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ecmz.ru/data/files/plakat_vit%20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529400" cy="33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Формирование у учащихся начальных классов компетенции в области рационального питания по программе </a:t>
            </a: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«Разговор о правильном питании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42760" y="3857400"/>
            <a:ext cx="63104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Выполнила: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Бочарова Неля Александровна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учитель начальных классов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Козьмодемьяновского филиал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МБОУ 2Гавриловской сош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393166 Тамбовской обл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Гавриловского района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с. Козьмодемьяновк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ул. Молодежная 7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8-475-51-27-2-74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G:\DCIM\101MSDCF\DSC07614.JPG"/>
          <p:cNvPicPr/>
          <p:nvPr/>
        </p:nvPicPr>
        <p:blipFill>
          <a:blip r:embed="rId1"/>
          <a:stretch/>
        </p:blipFill>
        <p:spPr>
          <a:xfrm>
            <a:off x="3586320" y="3857760"/>
            <a:ext cx="5557680" cy="2786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G:\DCIM\101MSDCF\DSC07616.JPG"/>
          <p:cNvPicPr/>
          <p:nvPr/>
        </p:nvPicPr>
        <p:blipFill>
          <a:blip r:embed="rId2"/>
          <a:stretch/>
        </p:blipFill>
        <p:spPr>
          <a:xfrm>
            <a:off x="285840" y="1214280"/>
            <a:ext cx="6629400" cy="29005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601200" y="571680"/>
            <a:ext cx="83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Экскурсия в Козьмодемьяновский Ф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G:\DCIM\101MSDCF\DSC07629.JPG"/>
          <p:cNvPicPr/>
          <p:nvPr/>
        </p:nvPicPr>
        <p:blipFill>
          <a:blip r:embed="rId1"/>
          <a:stretch/>
        </p:blipFill>
        <p:spPr>
          <a:xfrm>
            <a:off x="428760" y="1143000"/>
            <a:ext cx="6286320" cy="31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G:\DCIM\101MSDCF\DSC07631.JPG"/>
          <p:cNvPicPr/>
          <p:nvPr/>
        </p:nvPicPr>
        <p:blipFill>
          <a:blip r:embed="rId2"/>
          <a:stretch/>
        </p:blipFill>
        <p:spPr>
          <a:xfrm>
            <a:off x="3071880" y="3643200"/>
            <a:ext cx="5857920" cy="30434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991800" y="42876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Экскурсия в продуктовый маг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G:\DCIM\101MSDCF\DSC07169.JPG"/>
          <p:cNvPicPr/>
          <p:nvPr/>
        </p:nvPicPr>
        <p:blipFill>
          <a:blip r:embed="rId1"/>
          <a:stretch/>
        </p:blipFill>
        <p:spPr>
          <a:xfrm>
            <a:off x="285840" y="121428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G:\DCIM\101MSDCF\DSC07173.JPG"/>
          <p:cNvPicPr/>
          <p:nvPr/>
        </p:nvPicPr>
        <p:blipFill>
          <a:blip r:embed="rId2"/>
          <a:stretch/>
        </p:blipFill>
        <p:spPr>
          <a:xfrm>
            <a:off x="4143240" y="3643200"/>
            <a:ext cx="4786560" cy="29289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3"/>
          <p:cNvSpPr/>
          <p:nvPr/>
        </p:nvSpPr>
        <p:spPr>
          <a:xfrm>
            <a:off x="5040" y="42876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Занятие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«Из чего варят кашу и как сделать кашу вкус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G:\Images\CAM00019.jpg"/>
          <p:cNvPicPr/>
          <p:nvPr/>
        </p:nvPicPr>
        <p:blipFill>
          <a:blip r:embed="rId1"/>
          <a:stretch/>
        </p:blipFill>
        <p:spPr>
          <a:xfrm>
            <a:off x="2286000" y="2714760"/>
            <a:ext cx="6643800" cy="392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G:\Images\CAM00017.jpg"/>
          <p:cNvPicPr/>
          <p:nvPr/>
        </p:nvPicPr>
        <p:blipFill>
          <a:blip r:embed="rId2"/>
          <a:stretch/>
        </p:blipFill>
        <p:spPr>
          <a:xfrm>
            <a:off x="357120" y="1143000"/>
            <a:ext cx="5786640" cy="4071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875160" y="57168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Экскурсия в Козьмодемьяновскую библио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G:\Images\CAM00029.jpg"/>
          <p:cNvPicPr/>
          <p:nvPr/>
        </p:nvPicPr>
        <p:blipFill>
          <a:blip r:embed="rId1"/>
          <a:stretch/>
        </p:blipFill>
        <p:spPr>
          <a:xfrm>
            <a:off x="214200" y="1143000"/>
            <a:ext cx="5929560" cy="3214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G:\Images\CAM00028.jpg"/>
          <p:cNvPicPr/>
          <p:nvPr/>
        </p:nvPicPr>
        <p:blipFill>
          <a:blip r:embed="rId2"/>
          <a:stretch/>
        </p:blipFill>
        <p:spPr>
          <a:xfrm>
            <a:off x="3143160" y="4071960"/>
            <a:ext cx="578664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1119240" y="571680"/>
            <a:ext cx="74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рок технологии «Каждому овощу свое врем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7429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Georgia"/>
              </a:rPr>
              <a:t>Дети главное богатство-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Georgia"/>
              </a:rPr>
              <a:t>деткам нужно развиваться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Им для роста очень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нужно правильно питаться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По утрам на завтрак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кушать вкусную всем кашу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На обед , без исключенья ,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кушать для пищеваренья с хлебом суп 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                     А на ужин перед сном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есть оладья с молоком 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И еще конечно нужно,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улыбаться, соки пить ,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про учебу не забыть 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Бегать, прыгать и играть,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книжки умные читать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Есть морковку и капусту,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быть здоровым , сильным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и не грустным!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Рисунок 3" descr="H:\DCIM\100_PANA\P1000234.JPG"/>
          <p:cNvPicPr/>
          <p:nvPr/>
        </p:nvPicPr>
        <p:blipFill>
          <a:blip r:embed="rId1"/>
          <a:stretch/>
        </p:blipFill>
        <p:spPr>
          <a:xfrm>
            <a:off x="5429160" y="3929040"/>
            <a:ext cx="3443400" cy="27860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C:\Documents and Settings\школа\Рабочий стол\столовая\P1010668.JPG"/>
          <p:cNvPicPr/>
          <p:nvPr/>
        </p:nvPicPr>
        <p:blipFill>
          <a:blip r:embed="rId2"/>
          <a:stretch/>
        </p:blipFill>
        <p:spPr>
          <a:xfrm>
            <a:off x="5357880" y="214200"/>
            <a:ext cx="350028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457200" y="714240"/>
            <a:ext cx="5507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Дети главное богатств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Деткам нужно развив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Им для роста очень ну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авильно пит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о утрам на завтр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Кушать вкусную всем ка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На обед без исключен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Кушать для пищеваренья – с хлебом суп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А на ужин перед сн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есть оладьи с молок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И конечно нужно улыб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Соки пить , про учебу не заб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егать, прыгать и иг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Книжки умные чит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Есть морковку и капус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ыть здоровым, си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И не грустны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G:\DCIM\101MSDCF\DSC07623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72120" cy="311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G:\DCIM\101MSDCF\DSC07621.JPG"/>
          <p:cNvPicPr/>
          <p:nvPr/>
        </p:nvPicPr>
        <p:blipFill>
          <a:blip r:embed="rId2"/>
          <a:stretch/>
        </p:blipFill>
        <p:spPr>
          <a:xfrm>
            <a:off x="357120" y="1357200"/>
            <a:ext cx="5643720" cy="31435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868320" y="642960"/>
            <a:ext cx="70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Экскурсия в школьную столо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317520" y="414360"/>
            <a:ext cx="7991280" cy="73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14240" y="15001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Электрическая плита трехсекционна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2 новых холодиль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Микроволновая печ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Водонагреватель горячей воды на 30 литр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Рисунок 3" descr="C:\Documents and Settings\школа\Рабочий стол\столовая\P1010649.JPG"/>
          <p:cNvPicPr/>
          <p:nvPr/>
        </p:nvPicPr>
        <p:blipFill>
          <a:blip r:embed="rId2"/>
          <a:stretch/>
        </p:blipFill>
        <p:spPr>
          <a:xfrm>
            <a:off x="2928960" y="3214800"/>
            <a:ext cx="3500280" cy="3162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C:\Documents and Settings\школа\Рабочий стол\столовая\P1010651.JPG"/>
          <p:cNvPicPr/>
          <p:nvPr/>
        </p:nvPicPr>
        <p:blipFill>
          <a:blip r:embed="rId3"/>
          <a:stretch/>
        </p:blipFill>
        <p:spPr>
          <a:xfrm>
            <a:off x="214200" y="3071880"/>
            <a:ext cx="2571840" cy="32860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C:\Documents and Settings\школа\Рабочий стол\столовая\P1010652.JPG"/>
          <p:cNvPicPr/>
          <p:nvPr/>
        </p:nvPicPr>
        <p:blipFill>
          <a:blip r:embed="rId4"/>
          <a:stretch/>
        </p:blipFill>
        <p:spPr>
          <a:xfrm>
            <a:off x="6715080" y="3071880"/>
            <a:ext cx="2214720" cy="33098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C:\Documents and Settings\школа\Рабочий стол\столовая\P1010656.JPG"/>
          <p:cNvPicPr/>
          <p:nvPr/>
        </p:nvPicPr>
        <p:blipFill>
          <a:blip r:embed="rId5"/>
          <a:stretch/>
        </p:blipFill>
        <p:spPr>
          <a:xfrm>
            <a:off x="6429240" y="428760"/>
            <a:ext cx="2419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706320" y="438120"/>
            <a:ext cx="7785360" cy="1287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5716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Основными целями и задачами проекта являются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оздоровление детей села Козьмодемьяновка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Формирование у школьников осознанного отношения к  здоровому питан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Рисунок 3" descr="C:\Documents and Settings\школа\Рабочий стол\столовая\P1010662.JPG"/>
          <p:cNvPicPr/>
          <p:nvPr/>
        </p:nvPicPr>
        <p:blipFill>
          <a:blip r:embed="rId2"/>
          <a:stretch/>
        </p:blipFill>
        <p:spPr>
          <a:xfrm>
            <a:off x="571680" y="3286080"/>
            <a:ext cx="3732120" cy="292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C:\Documents and Settings\школа\Рабочий стол\столовая\P1010661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08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:\DCIM\101MSDCF\DSC07625.JPG"/>
          <p:cNvPicPr/>
          <p:nvPr/>
        </p:nvPicPr>
        <p:blipFill>
          <a:blip r:embed="rId1"/>
          <a:stretch/>
        </p:blipFill>
        <p:spPr>
          <a:xfrm>
            <a:off x="2714760" y="3714840"/>
            <a:ext cx="6215040" cy="290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G:\DCIM\101MSDCF\DSC07626.JPG"/>
          <p:cNvPicPr/>
          <p:nvPr/>
        </p:nvPicPr>
        <p:blipFill>
          <a:blip r:embed="rId2"/>
          <a:stretch/>
        </p:blipFill>
        <p:spPr>
          <a:xfrm>
            <a:off x="214200" y="1071720"/>
            <a:ext cx="6772320" cy="29289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-11880" y="428760"/>
            <a:ext cx="9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Реализация программы «Школьное моло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66640" y="-195120"/>
            <a:ext cx="8266320" cy="17190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C:\Documents and Settings\школа\Рабочий стол\столовая\P1010667.JPG"/>
          <p:cNvPicPr/>
          <p:nvPr/>
        </p:nvPicPr>
        <p:blipFill>
          <a:blip r:embed="rId2"/>
          <a:stretch/>
        </p:blipFill>
        <p:spPr>
          <a:xfrm>
            <a:off x="857160" y="1571760"/>
            <a:ext cx="757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4" descr="C:\Documents and Settings\школа\Рабочий стол\столовая\P1010557.JPG"/>
          <p:cNvPicPr/>
          <p:nvPr/>
        </p:nvPicPr>
        <p:blipFill>
          <a:blip r:embed="rId1"/>
          <a:stretch/>
        </p:blipFill>
        <p:spPr>
          <a:xfrm>
            <a:off x="2857680" y="2963880"/>
            <a:ext cx="6148080" cy="380844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920880" y="463680"/>
            <a:ext cx="7746840" cy="17920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3"/>
          <a:stretch/>
        </p:blipFill>
        <p:spPr>
          <a:xfrm>
            <a:off x="146160" y="1652760"/>
            <a:ext cx="7503840" cy="1882440"/>
          </a:xfrm>
          <a:prstGeom prst="rect">
            <a:avLst/>
          </a:prstGeom>
          <a:ln w="0">
            <a:noFill/>
          </a:ln>
        </p:spPr>
      </p:pic>
      <p:cxnSp>
        <p:nvCxnSpPr>
          <p:cNvPr id="237" name="Прямая со стрелкой 9"/>
          <p:cNvCxnSpPr/>
          <p:nvPr/>
        </p:nvCxnSpPr>
        <p:spPr>
          <a:xfrm flipH="1">
            <a:off x="3142440" y="1785960"/>
            <a:ext cx="3072600" cy="6433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8" name="Прямая со стрелкой 11"/>
          <p:cNvCxnSpPr/>
          <p:nvPr/>
        </p:nvCxnSpPr>
        <p:spPr>
          <a:xfrm flipH="1">
            <a:off x="4285440" y="1641960"/>
            <a:ext cx="1786680" cy="4294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9" name="Прямая со стрелкой 13"/>
          <p:cNvCxnSpPr/>
          <p:nvPr/>
        </p:nvCxnSpPr>
        <p:spPr>
          <a:xfrm flipH="1">
            <a:off x="2714040" y="1784880"/>
            <a:ext cx="3786840" cy="1143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512640" y="36360"/>
            <a:ext cx="8180640" cy="418788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низ 5"/>
          <p:cNvSpPr/>
          <p:nvPr/>
        </p:nvSpPr>
        <p:spPr>
          <a:xfrm>
            <a:off x="5572080" y="15717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низ 6"/>
          <p:cNvSpPr/>
          <p:nvPr/>
        </p:nvSpPr>
        <p:spPr>
          <a:xfrm>
            <a:off x="4000680" y="1571760"/>
            <a:ext cx="285480" cy="7142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низ 7"/>
          <p:cNvSpPr/>
          <p:nvPr/>
        </p:nvSpPr>
        <p:spPr>
          <a:xfrm>
            <a:off x="2714760" y="1571760"/>
            <a:ext cx="285480" cy="7142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8" descr="http://ecmz.ru/data/images/sert/plakat_vit1_resize%2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28920" y="4143240"/>
            <a:ext cx="3857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523800" y="-55440"/>
            <a:ext cx="7791480" cy="2133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H:\DCIM\101_PANA\P1010085.JPG"/>
          <p:cNvPicPr/>
          <p:nvPr/>
        </p:nvPicPr>
        <p:blipFill>
          <a:blip r:embed="rId2"/>
          <a:stretch/>
        </p:blipFill>
        <p:spPr>
          <a:xfrm>
            <a:off x="214200" y="2143080"/>
            <a:ext cx="4572000" cy="3556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H:\DCIM\101_PANA\P1010011.JPG"/>
          <p:cNvPicPr/>
          <p:nvPr/>
        </p:nvPicPr>
        <p:blipFill>
          <a:blip r:embed="rId3"/>
          <a:stretch/>
        </p:blipFill>
        <p:spPr>
          <a:xfrm>
            <a:off x="4500720" y="3429000"/>
            <a:ext cx="44352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4:49:01Z</dcterms:created>
  <dc:creator>User</dc:creator>
  <dc:description/>
  <dc:language>en-US</dc:language>
  <cp:lastModifiedBy>User</cp:lastModifiedBy>
  <dcterms:modified xsi:type="dcterms:W3CDTF">2017-03-04T21:44:41Z</dcterms:modified>
  <cp:revision>11</cp:revision>
  <dc:subject/>
  <dc:title>Формирование у учащихся начальных классов компетенции в области рационального питания по программе «Разговор о правильном питании»</dc:title>
</cp:coreProperties>
</file>