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6D9-C349-4271-9B5D-951341C2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C73-59BC-4FD4-8085-1341C81B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FE3-0963-4812-BF41-AC168243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EAC-1758-4307-9A7A-93A4DEFA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CE64-6986-4524-B84C-7C4F0041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7916-80A0-4445-B4FD-3DA78579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8ECD-0EFA-43A7-811D-BC986C9D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AAB7-25CB-4C1B-9BBF-F7D1CB3F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5B05-2BBA-47BD-B4CB-C52FFE80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B232-FA67-489E-BC17-A42B4450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F1E1-2A67-4845-B2DA-AAF4259A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F6A5-152C-4229-A082-68A82BE8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77E1-E97D-4503-A859-63FEE93B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F654-BB2F-486A-A612-7E6A3DD8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CDD4-2E52-4B58-AF0F-2C09F7E1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65D0-D8C9-4200-B625-18C61F0F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9D14-7997-4EE6-9D6F-CDEB3719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E827A-1BA1-4A46-A7F0-34318C7C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8F0A4B-BE1B-4FD9-9763-1D5247D0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1D473-D519-4CAE-9C50-666F34CE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618C0-40F6-43B1-BBFF-8BA16BBF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72A4D-0A16-46FE-9CED-D39764C5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E37-A04F-41A8-88D3-0E825B6D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F5FB3-F840-4EE1-9D23-913AD56A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124CB-62E7-4381-B8BE-DFBD039F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6F385-5B1E-4868-B2A2-9F1A4C58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2B976-5376-4215-A1BB-0A5F19B1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3E280-C1F1-4135-B928-1AC10B5A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56B20-565A-4C11-B496-E13B9BFD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FA36D-B099-4D46-9D1C-A60C35A9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B77E9-A63F-46EC-A953-215500A7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B487F-FCA0-4E3B-84AB-2B0E0A1E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56B5E-6FA1-4215-9032-F7C1CD5D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24B0-D74C-4484-A720-E21EA36C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4615C-8BC1-4078-8D7F-A112FF3E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4B00E-5DB2-4576-8938-3D37D0F9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14630-4A26-43B3-939D-8734A8F2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276A0-7D38-4003-B25B-081C4FC2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1C976-5535-443C-9522-E6BA9DCE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04B1B-7D72-40EE-A1AA-76A9AAF4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7FC0A-D20F-4EC4-B847-1C6F8EC7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ACE8D-605A-44C7-9EF7-C20B18DC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200EB-BAEC-43EE-A028-1EAE7E51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393-A563-407E-9BB4-2565381A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AB55-8B14-4E95-A3CF-174832D0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ED91-FB58-41D6-85F9-683C95B7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FD46-0862-4290-94A2-43C84066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D8AD-F9A7-47B1-8140-3CF34953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0A97-FA3D-495F-B3ED-11A7266561B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AD9A-2BEF-4250-856F-D54A8A2F6C9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A684-4DFE-49FA-B19F-51D40A3E255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4E80-4DF5-4EBE-8A8C-6E05074A9C3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ecmz.ru/data/files/plakat_vit%20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529400" cy="33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Формирование у учащихся начальных классов компетенции в области рационального питания по программе </a:t>
            </a:r>
            <a:r>
              <a:rPr b="1" lang="ru-RU" sz="4000" spc="-1" strike="noStrike">
                <a:solidFill>
                  <a:srgbClr val="ffffff"/>
                </a:solidFill>
                <a:latin typeface="Trebuchet MS"/>
              </a:rPr>
              <a:t>«Разговор о правильном питании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642760" y="3857400"/>
            <a:ext cx="631044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               </a:t>
            </a: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Выполнила: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                                          </a:t>
            </a: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Бочарова Неля Александровна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                                          </a:t>
            </a: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учитель начальных классов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                                          </a:t>
            </a: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Козьмодемьяновского филиала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                                          </a:t>
            </a: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МБОУ 2Гавриловской сош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                                          </a:t>
            </a: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393166 Тамбовской обл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                                           </a:t>
            </a: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Гавриловского района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                                           </a:t>
            </a: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с. Козьмодемьяновка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                                            </a:t>
            </a: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ул. Молодежная 7А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                                                 </a:t>
            </a:r>
            <a:r>
              <a:rPr b="0" lang="ru-RU" sz="1900" spc="-1" strike="noStrike">
                <a:solidFill>
                  <a:srgbClr val="424456"/>
                </a:solidFill>
                <a:latin typeface="Georgia"/>
              </a:rPr>
              <a:t>8-475-51-27-2-74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G:\DCIM\101MSDCF\DSC07614.JPG"/>
          <p:cNvPicPr/>
          <p:nvPr/>
        </p:nvPicPr>
        <p:blipFill>
          <a:blip r:embed="rId1"/>
          <a:stretch/>
        </p:blipFill>
        <p:spPr>
          <a:xfrm>
            <a:off x="3586320" y="3857760"/>
            <a:ext cx="5557680" cy="27860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G:\DCIM\101MSDCF\DSC07616.JPG"/>
          <p:cNvPicPr/>
          <p:nvPr/>
        </p:nvPicPr>
        <p:blipFill>
          <a:blip r:embed="rId2"/>
          <a:stretch/>
        </p:blipFill>
        <p:spPr>
          <a:xfrm>
            <a:off x="285840" y="1214280"/>
            <a:ext cx="6629400" cy="2900520"/>
          </a:xfrm>
          <a:prstGeom prst="rect">
            <a:avLst/>
          </a:prstGeom>
          <a:ln w="0">
            <a:noFill/>
          </a:ln>
        </p:spPr>
      </p:pic>
      <p:sp>
        <p:nvSpPr>
          <p:cNvPr id="250" name="TextBox 5"/>
          <p:cNvSpPr/>
          <p:nvPr/>
        </p:nvSpPr>
        <p:spPr>
          <a:xfrm>
            <a:off x="601200" y="571680"/>
            <a:ext cx="83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Экскурсия в Козьмодемьяновский Ф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G:\DCIM\101MSDCF\DSC07629.JPG"/>
          <p:cNvPicPr/>
          <p:nvPr/>
        </p:nvPicPr>
        <p:blipFill>
          <a:blip r:embed="rId1"/>
          <a:stretch/>
        </p:blipFill>
        <p:spPr>
          <a:xfrm>
            <a:off x="428760" y="1143000"/>
            <a:ext cx="6286320" cy="3143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G:\DCIM\101MSDCF\DSC07631.JPG"/>
          <p:cNvPicPr/>
          <p:nvPr/>
        </p:nvPicPr>
        <p:blipFill>
          <a:blip r:embed="rId2"/>
          <a:stretch/>
        </p:blipFill>
        <p:spPr>
          <a:xfrm>
            <a:off x="3071880" y="3643200"/>
            <a:ext cx="5857920" cy="30434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3"/>
          <p:cNvSpPr/>
          <p:nvPr/>
        </p:nvSpPr>
        <p:spPr>
          <a:xfrm>
            <a:off x="991800" y="428760"/>
            <a:ext cx="73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Экскурсия в продуктовый мага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G:\DCIM\101MSDCF\DSC07169.JPG"/>
          <p:cNvPicPr/>
          <p:nvPr/>
        </p:nvPicPr>
        <p:blipFill>
          <a:blip r:embed="rId1"/>
          <a:stretch/>
        </p:blipFill>
        <p:spPr>
          <a:xfrm>
            <a:off x="285840" y="1214280"/>
            <a:ext cx="6786360" cy="3429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G:\DCIM\101MSDCF\DSC07173.JPG"/>
          <p:cNvPicPr/>
          <p:nvPr/>
        </p:nvPicPr>
        <p:blipFill>
          <a:blip r:embed="rId2"/>
          <a:stretch/>
        </p:blipFill>
        <p:spPr>
          <a:xfrm>
            <a:off x="4143240" y="3643200"/>
            <a:ext cx="4786560" cy="29289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3"/>
          <p:cNvSpPr/>
          <p:nvPr/>
        </p:nvSpPr>
        <p:spPr>
          <a:xfrm>
            <a:off x="5040" y="428760"/>
            <a:ext cx="809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Занятие по тем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«Из чего варят кашу и как сделать кашу вкусно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G:\Images\CAM00019.jpg"/>
          <p:cNvPicPr/>
          <p:nvPr/>
        </p:nvPicPr>
        <p:blipFill>
          <a:blip r:embed="rId1"/>
          <a:stretch/>
        </p:blipFill>
        <p:spPr>
          <a:xfrm>
            <a:off x="2286000" y="2714760"/>
            <a:ext cx="6643800" cy="3929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G:\Images\CAM00017.jpg"/>
          <p:cNvPicPr/>
          <p:nvPr/>
        </p:nvPicPr>
        <p:blipFill>
          <a:blip r:embed="rId2"/>
          <a:stretch/>
        </p:blipFill>
        <p:spPr>
          <a:xfrm>
            <a:off x="357120" y="1143000"/>
            <a:ext cx="5786640" cy="4071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875160" y="571680"/>
            <a:ext cx="74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Экскурсия в Козьмодемьяновскую библиоте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G:\Images\CAM00029.jpg"/>
          <p:cNvPicPr/>
          <p:nvPr/>
        </p:nvPicPr>
        <p:blipFill>
          <a:blip r:embed="rId1"/>
          <a:stretch/>
        </p:blipFill>
        <p:spPr>
          <a:xfrm>
            <a:off x="214200" y="1143000"/>
            <a:ext cx="5929560" cy="3214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G:\Images\CAM00028.jpg"/>
          <p:cNvPicPr/>
          <p:nvPr/>
        </p:nvPicPr>
        <p:blipFill>
          <a:blip r:embed="rId2"/>
          <a:stretch/>
        </p:blipFill>
        <p:spPr>
          <a:xfrm>
            <a:off x="3143160" y="4071960"/>
            <a:ext cx="5786640" cy="2571840"/>
          </a:xfrm>
          <a:prstGeom prst="rect">
            <a:avLst/>
          </a:prstGeom>
          <a:ln w="0">
            <a:noFill/>
          </a:ln>
        </p:spPr>
      </p:pic>
      <p:sp>
        <p:nvSpPr>
          <p:cNvPr id="262" name="TextBox 3"/>
          <p:cNvSpPr/>
          <p:nvPr/>
        </p:nvSpPr>
        <p:spPr>
          <a:xfrm>
            <a:off x="1119240" y="571680"/>
            <a:ext cx="74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Урок технологии «Каждому овощу свое врем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85480" y="428400"/>
            <a:ext cx="74293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Georgia"/>
              </a:rPr>
              <a:t>Дети главное богатство-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Georgia"/>
              </a:rPr>
              <a:t>деткам нужно развиваться!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Им для роста очень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нужно правильно питаться!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                          По утрам на завтрак 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                           </a:t>
            </a: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кушать вкусную всем кашу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На обед , без исключенья , 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кушать для пищеваренья с хлебом суп !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                                                А на ужин перед сном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                                               </a:t>
            </a: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есть оладья с молоком !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И еще конечно нужно, 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улыбаться, соки пить ,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про учебу не забыть 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                           Бегать, прыгать и играть,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                            </a:t>
            </a: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книжки умные читать!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Есть морковку и капусту, 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быть здоровым , сильным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и не грустным!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4" name="Рисунок 3" descr="H:\DCIM\100_PANA\P1000234.JPG"/>
          <p:cNvPicPr/>
          <p:nvPr/>
        </p:nvPicPr>
        <p:blipFill>
          <a:blip r:embed="rId1"/>
          <a:stretch/>
        </p:blipFill>
        <p:spPr>
          <a:xfrm>
            <a:off x="5429160" y="3929040"/>
            <a:ext cx="3443400" cy="278604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4" descr="C:\Documents and Settings\школа\Рабочий стол\столовая\P1010668.JPG"/>
          <p:cNvPicPr/>
          <p:nvPr/>
        </p:nvPicPr>
        <p:blipFill>
          <a:blip r:embed="rId2"/>
          <a:stretch/>
        </p:blipFill>
        <p:spPr>
          <a:xfrm>
            <a:off x="5357880" y="214200"/>
            <a:ext cx="3500280" cy="29433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457200" y="714240"/>
            <a:ext cx="5507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Дети главное богатство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Деткам нужно развивать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Им для роста очень ну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Правильно пит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По утрам на завтр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Кушать вкусную всем каш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На обед без исключень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Кушать для пищеваренья – с хлебом суп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А на ужин перед сном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есть оладьи с молоко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И конечно нужно улыба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Соки пить , про учебу не забы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Бегать, прыгать и игр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Книжки умные чит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Есть морковку и капус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Быть здоровым, силь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И не грустны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G:\DCIM\101MSDCF\DSC07623.JPG"/>
          <p:cNvPicPr/>
          <p:nvPr/>
        </p:nvPicPr>
        <p:blipFill>
          <a:blip r:embed="rId1"/>
          <a:stretch/>
        </p:blipFill>
        <p:spPr>
          <a:xfrm>
            <a:off x="2643120" y="3500280"/>
            <a:ext cx="6072120" cy="3114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G:\DCIM\101MSDCF\DSC07621.JPG"/>
          <p:cNvPicPr/>
          <p:nvPr/>
        </p:nvPicPr>
        <p:blipFill>
          <a:blip r:embed="rId2"/>
          <a:stretch/>
        </p:blipFill>
        <p:spPr>
          <a:xfrm>
            <a:off x="357120" y="1357200"/>
            <a:ext cx="5643720" cy="3143520"/>
          </a:xfrm>
          <a:prstGeom prst="rect">
            <a:avLst/>
          </a:prstGeom>
          <a:ln w="0">
            <a:noFill/>
          </a:ln>
        </p:spPr>
      </p:pic>
      <p:sp>
        <p:nvSpPr>
          <p:cNvPr id="218" name="TextBox 3"/>
          <p:cNvSpPr/>
          <p:nvPr/>
        </p:nvSpPr>
        <p:spPr>
          <a:xfrm>
            <a:off x="868320" y="642960"/>
            <a:ext cx="707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Экскурсия в школьную столов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317520" y="414360"/>
            <a:ext cx="7991280" cy="73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714240" y="150012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Электрическая плита трехсекционна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428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2 новых холодильни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428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Микроволновая печь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428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Водонагреватель горячей воды на 30 литр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Рисунок 3" descr="C:\Documents and Settings\школа\Рабочий стол\столовая\P1010649.JPG"/>
          <p:cNvPicPr/>
          <p:nvPr/>
        </p:nvPicPr>
        <p:blipFill>
          <a:blip r:embed="rId2"/>
          <a:stretch/>
        </p:blipFill>
        <p:spPr>
          <a:xfrm>
            <a:off x="2928960" y="3214800"/>
            <a:ext cx="3500280" cy="31622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4" descr="C:\Documents and Settings\школа\Рабочий стол\столовая\P1010651.JPG"/>
          <p:cNvPicPr/>
          <p:nvPr/>
        </p:nvPicPr>
        <p:blipFill>
          <a:blip r:embed="rId3"/>
          <a:stretch/>
        </p:blipFill>
        <p:spPr>
          <a:xfrm>
            <a:off x="214200" y="3071880"/>
            <a:ext cx="2571840" cy="32860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5" descr="C:\Documents and Settings\школа\Рабочий стол\столовая\P1010652.JPG"/>
          <p:cNvPicPr/>
          <p:nvPr/>
        </p:nvPicPr>
        <p:blipFill>
          <a:blip r:embed="rId4"/>
          <a:stretch/>
        </p:blipFill>
        <p:spPr>
          <a:xfrm>
            <a:off x="6715080" y="3071880"/>
            <a:ext cx="2214720" cy="33098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6" descr="C:\Documents and Settings\школа\Рабочий стол\столовая\P1010656.JPG"/>
          <p:cNvPicPr/>
          <p:nvPr/>
        </p:nvPicPr>
        <p:blipFill>
          <a:blip r:embed="rId5"/>
          <a:stretch/>
        </p:blipFill>
        <p:spPr>
          <a:xfrm>
            <a:off x="6429240" y="428760"/>
            <a:ext cx="24195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706320" y="438120"/>
            <a:ext cx="7785360" cy="1287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5716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Основными целями и задачами проекта являются: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44280">
              <a:spcBef>
                <a:spcPts val="3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оздоровление детей села Козьмодемьяновка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44280">
              <a:spcBef>
                <a:spcPts val="3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Georgia"/>
              </a:rPr>
              <a:t>Формирование у школьников осознанного отношения к  здоровому питанию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7" name="Рисунок 3" descr="C:\Documents and Settings\школа\Рабочий стол\столовая\P1010662.JPG"/>
          <p:cNvPicPr/>
          <p:nvPr/>
        </p:nvPicPr>
        <p:blipFill>
          <a:blip r:embed="rId2"/>
          <a:stretch/>
        </p:blipFill>
        <p:spPr>
          <a:xfrm>
            <a:off x="571680" y="3286080"/>
            <a:ext cx="3732120" cy="29289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C:\Documents and Settings\школа\Рабочий стол\столовая\P1010661.JPG"/>
          <p:cNvPicPr/>
          <p:nvPr/>
        </p:nvPicPr>
        <p:blipFill>
          <a:blip r:embed="rId3"/>
          <a:stretch/>
        </p:blipFill>
        <p:spPr>
          <a:xfrm>
            <a:off x="4572000" y="3286080"/>
            <a:ext cx="40086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G:\DCIM\101MSDCF\DSC07625.JPG"/>
          <p:cNvPicPr/>
          <p:nvPr/>
        </p:nvPicPr>
        <p:blipFill>
          <a:blip r:embed="rId1"/>
          <a:stretch/>
        </p:blipFill>
        <p:spPr>
          <a:xfrm>
            <a:off x="2714760" y="3714840"/>
            <a:ext cx="6215040" cy="2900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G:\DCIM\101MSDCF\DSC07626.JPG"/>
          <p:cNvPicPr/>
          <p:nvPr/>
        </p:nvPicPr>
        <p:blipFill>
          <a:blip r:embed="rId2"/>
          <a:stretch/>
        </p:blipFill>
        <p:spPr>
          <a:xfrm>
            <a:off x="214200" y="1071720"/>
            <a:ext cx="6772320" cy="2928960"/>
          </a:xfrm>
          <a:prstGeom prst="rect">
            <a:avLst/>
          </a:prstGeom>
          <a:ln w="0">
            <a:noFill/>
          </a:ln>
        </p:spPr>
      </p:pic>
      <p:sp>
        <p:nvSpPr>
          <p:cNvPr id="231" name="TextBox 3"/>
          <p:cNvSpPr/>
          <p:nvPr/>
        </p:nvSpPr>
        <p:spPr>
          <a:xfrm>
            <a:off x="-11880" y="428760"/>
            <a:ext cx="9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Реализация программы «Школьное молок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566640" y="-195120"/>
            <a:ext cx="8266320" cy="17190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2" descr="C:\Documents and Settings\школа\Рабочий стол\столовая\P1010667.JPG"/>
          <p:cNvPicPr/>
          <p:nvPr/>
        </p:nvPicPr>
        <p:blipFill>
          <a:blip r:embed="rId2"/>
          <a:stretch/>
        </p:blipFill>
        <p:spPr>
          <a:xfrm>
            <a:off x="857160" y="1571760"/>
            <a:ext cx="75726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4" descr="C:\Documents and Settings\школа\Рабочий стол\столовая\P1010557.JPG"/>
          <p:cNvPicPr/>
          <p:nvPr/>
        </p:nvPicPr>
        <p:blipFill>
          <a:blip r:embed="rId1"/>
          <a:stretch/>
        </p:blipFill>
        <p:spPr>
          <a:xfrm>
            <a:off x="2857680" y="2963880"/>
            <a:ext cx="6148080" cy="3808440"/>
          </a:xfrm>
          <a:prstGeom prst="rect">
            <a:avLst/>
          </a:prstGeom>
          <a:ln w="0">
            <a:noFill/>
          </a:ln>
        </p:spPr>
      </p:pic>
      <p:pic>
        <p:nvPicPr>
          <p:cNvPr id="235" name="Заголовок 1" descr=""/>
          <p:cNvPicPr/>
          <p:nvPr/>
        </p:nvPicPr>
        <p:blipFill>
          <a:blip r:embed="rId2"/>
          <a:stretch/>
        </p:blipFill>
        <p:spPr>
          <a:xfrm>
            <a:off x="920880" y="463680"/>
            <a:ext cx="7746840" cy="179208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3" descr=""/>
          <p:cNvPicPr/>
          <p:nvPr/>
        </p:nvPicPr>
        <p:blipFill>
          <a:blip r:embed="rId3"/>
          <a:stretch/>
        </p:blipFill>
        <p:spPr>
          <a:xfrm>
            <a:off x="146160" y="1652760"/>
            <a:ext cx="7503840" cy="1882440"/>
          </a:xfrm>
          <a:prstGeom prst="rect">
            <a:avLst/>
          </a:prstGeom>
          <a:ln w="0">
            <a:noFill/>
          </a:ln>
        </p:spPr>
      </p:pic>
      <p:cxnSp>
        <p:nvCxnSpPr>
          <p:cNvPr id="237" name="Прямая со стрелкой 9"/>
          <p:cNvCxnSpPr/>
          <p:nvPr/>
        </p:nvCxnSpPr>
        <p:spPr>
          <a:xfrm flipH="1">
            <a:off x="3142440" y="1785960"/>
            <a:ext cx="3072600" cy="64332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238" name="Прямая со стрелкой 11"/>
          <p:cNvCxnSpPr/>
          <p:nvPr/>
        </p:nvCxnSpPr>
        <p:spPr>
          <a:xfrm flipH="1">
            <a:off x="4285440" y="1641960"/>
            <a:ext cx="1786680" cy="42948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239" name="Прямая со стрелкой 13"/>
          <p:cNvCxnSpPr/>
          <p:nvPr/>
        </p:nvCxnSpPr>
        <p:spPr>
          <a:xfrm flipH="1">
            <a:off x="2714040" y="1784880"/>
            <a:ext cx="3786840" cy="114372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512640" y="36360"/>
            <a:ext cx="8180640" cy="4187880"/>
          </a:xfrm>
          <a:prstGeom prst="rect">
            <a:avLst/>
          </a:prstGeom>
          <a:ln w="0">
            <a:noFill/>
          </a:ln>
        </p:spPr>
      </p:pic>
      <p:sp>
        <p:nvSpPr>
          <p:cNvPr id="241" name="Стрелка вниз 5"/>
          <p:cNvSpPr/>
          <p:nvPr/>
        </p:nvSpPr>
        <p:spPr>
          <a:xfrm>
            <a:off x="5572080" y="157176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трелка вниз 6"/>
          <p:cNvSpPr/>
          <p:nvPr/>
        </p:nvSpPr>
        <p:spPr>
          <a:xfrm>
            <a:off x="4000680" y="1571760"/>
            <a:ext cx="285480" cy="71424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трелка вниз 7"/>
          <p:cNvSpPr/>
          <p:nvPr/>
        </p:nvSpPr>
        <p:spPr>
          <a:xfrm>
            <a:off x="2714760" y="1571760"/>
            <a:ext cx="285480" cy="71424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Рисунок 8" descr="http://ecmz.ru/data/images/sert/plakat_vit1_resize%2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28920" y="4143240"/>
            <a:ext cx="38577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523800" y="-55440"/>
            <a:ext cx="7791480" cy="21333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3" descr="H:\DCIM\101_PANA\P1010085.JPG"/>
          <p:cNvPicPr/>
          <p:nvPr/>
        </p:nvPicPr>
        <p:blipFill>
          <a:blip r:embed="rId2"/>
          <a:stretch/>
        </p:blipFill>
        <p:spPr>
          <a:xfrm>
            <a:off x="214200" y="2143080"/>
            <a:ext cx="4572000" cy="35560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4" descr="H:\DCIM\101_PANA\P1010011.JPG"/>
          <p:cNvPicPr/>
          <p:nvPr/>
        </p:nvPicPr>
        <p:blipFill>
          <a:blip r:embed="rId3"/>
          <a:stretch/>
        </p:blipFill>
        <p:spPr>
          <a:xfrm>
            <a:off x="4500720" y="3429000"/>
            <a:ext cx="44352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8T14:49:01Z</dcterms:created>
  <dc:creator>User</dc:creator>
  <dc:description/>
  <dc:language>en-US</dc:language>
  <cp:lastModifiedBy>User</cp:lastModifiedBy>
  <dcterms:modified xsi:type="dcterms:W3CDTF">2017-03-04T21:44:41Z</dcterms:modified>
  <cp:revision>11</cp:revision>
  <dc:subject/>
  <dc:title>Формирование у учащихся начальных классов компетенции в области рационального питания по программе «Разговор о правильном питании»</dc:title>
</cp:coreProperties>
</file>