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716A-86DD-4D98-8702-B44C2122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7D79-F87E-429C-A128-2D47BC92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59DF-A5AB-4947-915B-2C44994FB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AE24-8B04-4980-962E-53A0F2CBE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1CF7-B18A-4FBA-B0FA-6B91A1917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932D-20EA-465B-B618-C3729383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9F28-C750-4ED9-80BA-1BD02797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89FA-DB49-442D-B8C9-4BFFBC13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6FD9-E2FB-4502-91D0-A0D61F68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35A5-96BF-410E-A9B5-76BE1B87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E7BE-6407-4622-902B-319FC02F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3477-EC17-437A-8B8F-BD70A8F5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7EC4-E188-41B2-8BD5-CCA9C02F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FEB7-CDB8-4CC2-A3BF-FD2EAB14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6066-2D90-41E7-AC77-923F7C0F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E7D7-1A34-40B2-8987-14D493E76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7693-1CB6-45F2-BFA6-539656F64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2F4385-44AC-44C1-908F-503DC2C95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828BFD-E088-492E-8D3B-6E434E15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8F9E60-5D37-4C61-A85F-F60F3FAA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B2B082-E20C-4965-B8DE-F4239653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E485F2-6EF6-40EA-A90F-15932D6F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B25F-B6BE-47AE-A525-69171308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EF60BE-9518-4836-ACAF-9A431220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CA096A-26A0-49DF-BE26-954DEB8D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0413C2-D22E-4ADF-81BE-A57F280B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1A5C09-7939-4E1A-A3BF-A26070C4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E61681-97A9-4F99-9031-DABEE7D0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F17434-9AFF-403B-8BE3-FC013CB05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E8386D-B9A1-4637-BEE9-2077337D1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C33A3-AE46-4DAC-8226-32BB2B780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B247E-F421-48E8-B587-8D165167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BCC93-0342-4453-9BFB-1C858210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C856-84E6-4D34-9EF2-006DA55C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9C0A9-6B12-4137-A71A-DE26AEC4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85B11-FF13-43AA-9749-3E43F357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6FC18-DC31-4339-85F3-BE06E2C8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07DB3-C76E-4736-A296-F6F6A15B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A96F1-25FD-4AB1-94C1-3BAE9BF7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AA3D6-7312-4386-8AB7-B695D447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22E45-69F3-4251-BD63-4D8B75F4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7098D-BD0E-4C73-9A5A-43B2AC1B0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F497F-E2AD-4496-9D4D-ADEEE0BCF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9171-F32D-4423-A1C9-232EDBD3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48EE-3E01-4528-9AD9-4C49657E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BFF5-9FE2-443C-85C8-2A9E5303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D7DD-7821-4CB1-A4C8-25497F3B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E938-BA39-46E7-8379-4D22549E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6865-C5BC-4711-8209-15A8B37CDCBF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1FCD-E9F6-4BB7-B45A-3E431B780C4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07CB-2985-423B-ACB3-949702EEF17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7D71-9920-4382-B6B7-07F4AE5AB8D4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hyperlink" Target="http://img-fotki.yandex.ru/get/9511/158094028.5/0_dfef4_d17da69c_XL.jpg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9511/158094028.5/0_dfef4_d17da69c_XL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56760" y="980640"/>
            <a:ext cx="845820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МАСТЕР- КЛАСС ПО ИЗГОТОВЛЕНИЮ ЛЭПБУКА И РАБОТЕ С НИМ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11280" y="4292280"/>
            <a:ext cx="827064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ПОДГОТОВИЛА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Педагог-психолог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МБДОУ д/с «Звёздочка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Берёзовского район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Тюменской области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Шевчук С.Н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5" descr="C:\Users\Никола\Desktop\animashki-zvezdy-266.gif"/>
          <p:cNvPicPr/>
          <p:nvPr/>
        </p:nvPicPr>
        <p:blipFill>
          <a:blip r:embed="rId1"/>
          <a:stretch/>
        </p:blipFill>
        <p:spPr>
          <a:xfrm>
            <a:off x="5724360" y="4292640"/>
            <a:ext cx="298800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E:\DCIM\100OLYMP\P5120145.JPG"/>
          <p:cNvPicPr/>
          <p:nvPr/>
        </p:nvPicPr>
        <p:blipFill>
          <a:blip r:embed="rId1"/>
          <a:stretch/>
        </p:blipFill>
        <p:spPr>
          <a:xfrm>
            <a:off x="468360" y="1268280"/>
            <a:ext cx="6504120" cy="48783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C:\Users\Никола\Desktop\animashki-zvezdy-266.gif"/>
          <p:cNvPicPr/>
          <p:nvPr/>
        </p:nvPicPr>
        <p:blipFill>
          <a:blip r:embed="rId2"/>
          <a:stretch/>
        </p:blipFill>
        <p:spPr>
          <a:xfrm>
            <a:off x="7147080" y="5229360"/>
            <a:ext cx="1639800" cy="13125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C:\Users\Никола\Desktop\animashki-zvezdy-266.gif"/>
          <p:cNvPicPr/>
          <p:nvPr/>
        </p:nvPicPr>
        <p:blipFill>
          <a:blip r:embed="rId3"/>
          <a:stretch/>
        </p:blipFill>
        <p:spPr>
          <a:xfrm>
            <a:off x="7740720" y="4365720"/>
            <a:ext cx="1190520" cy="9525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C:\Users\Никола\Desktop\animashki-zvezdy-266.gif"/>
          <p:cNvPicPr/>
          <p:nvPr/>
        </p:nvPicPr>
        <p:blipFill>
          <a:blip r:embed="rId4"/>
          <a:stretch/>
        </p:blipFill>
        <p:spPr>
          <a:xfrm>
            <a:off x="7236000" y="3284640"/>
            <a:ext cx="1550880" cy="12412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C:\Users\Никола\Desktop\animashki-zvezdy-266.gif"/>
          <p:cNvPicPr/>
          <p:nvPr/>
        </p:nvPicPr>
        <p:blipFill>
          <a:blip r:embed="rId5"/>
          <a:stretch/>
        </p:blipFill>
        <p:spPr>
          <a:xfrm>
            <a:off x="7953480" y="2421000"/>
            <a:ext cx="1190520" cy="9525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C:\Users\Никола\Desktop\animashki-zvezdy-266.gif"/>
          <p:cNvPicPr/>
          <p:nvPr/>
        </p:nvPicPr>
        <p:blipFill>
          <a:blip r:embed="rId6"/>
          <a:stretch/>
        </p:blipFill>
        <p:spPr>
          <a:xfrm>
            <a:off x="6948360" y="1484280"/>
            <a:ext cx="1551240" cy="12412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C:\Users\Никола\Desktop\animashki-zvezdy-266.gif"/>
          <p:cNvPicPr/>
          <p:nvPr/>
        </p:nvPicPr>
        <p:blipFill>
          <a:blip r:embed="rId7"/>
          <a:stretch/>
        </p:blipFill>
        <p:spPr>
          <a:xfrm>
            <a:off x="7740720" y="692280"/>
            <a:ext cx="119052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C:\Users\Никола\Desktop\МАСТЕР-КЛАССы И СЕМИНАРЫ\мастер класс\IMG_6094.JPG"/>
          <p:cNvPicPr/>
          <p:nvPr/>
        </p:nvPicPr>
        <p:blipFill>
          <a:blip r:embed="rId1"/>
          <a:stretch/>
        </p:blipFill>
        <p:spPr>
          <a:xfrm>
            <a:off x="971640" y="981000"/>
            <a:ext cx="6624720" cy="4969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C:\Users\Никола\Desktop\animashki-zvezdy-266.gif"/>
          <p:cNvPicPr/>
          <p:nvPr/>
        </p:nvPicPr>
        <p:blipFill>
          <a:blip r:embed="rId2"/>
          <a:stretch/>
        </p:blipFill>
        <p:spPr>
          <a:xfrm>
            <a:off x="7596360" y="5661000"/>
            <a:ext cx="1190520" cy="952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C:\Users\Никола\Desktop\animashki-zvezdy-266.gif"/>
          <p:cNvPicPr/>
          <p:nvPr/>
        </p:nvPicPr>
        <p:blipFill>
          <a:blip r:embed="rId3"/>
          <a:stretch/>
        </p:blipFill>
        <p:spPr>
          <a:xfrm>
            <a:off x="7953480" y="4869000"/>
            <a:ext cx="1190520" cy="9522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C:\Users\Никола\Desktop\animashki-zvezdy-266.gif"/>
          <p:cNvPicPr/>
          <p:nvPr/>
        </p:nvPicPr>
        <p:blipFill>
          <a:blip r:embed="rId4"/>
          <a:stretch/>
        </p:blipFill>
        <p:spPr>
          <a:xfrm>
            <a:off x="7740720" y="4005360"/>
            <a:ext cx="1190520" cy="952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C:\Users\Никола\Desktop\animashki-zvezdy-266.gif"/>
          <p:cNvPicPr/>
          <p:nvPr/>
        </p:nvPicPr>
        <p:blipFill>
          <a:blip r:embed="rId5"/>
          <a:stretch/>
        </p:blipFill>
        <p:spPr>
          <a:xfrm>
            <a:off x="7596360" y="3141720"/>
            <a:ext cx="1190520" cy="9525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" descr="C:\Users\Никола\Desktop\animashki-zvezdy-266.gif"/>
          <p:cNvPicPr/>
          <p:nvPr/>
        </p:nvPicPr>
        <p:blipFill>
          <a:blip r:embed="rId6"/>
          <a:stretch/>
        </p:blipFill>
        <p:spPr>
          <a:xfrm>
            <a:off x="7953480" y="2276640"/>
            <a:ext cx="1190520" cy="9522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" descr="C:\Users\Никола\Desktop\animashki-zvezdy-266.gif"/>
          <p:cNvPicPr/>
          <p:nvPr/>
        </p:nvPicPr>
        <p:blipFill>
          <a:blip r:embed="rId7"/>
          <a:stretch/>
        </p:blipFill>
        <p:spPr>
          <a:xfrm>
            <a:off x="7740720" y="1557360"/>
            <a:ext cx="1190520" cy="952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C:\Users\Никола\Desktop\animashki-zvezdy-266.gif"/>
          <p:cNvPicPr/>
          <p:nvPr/>
        </p:nvPicPr>
        <p:blipFill>
          <a:blip r:embed="rId8"/>
          <a:stretch/>
        </p:blipFill>
        <p:spPr>
          <a:xfrm>
            <a:off x="7667640" y="692280"/>
            <a:ext cx="115236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5616360" cy="421164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egoe Print"/>
              </a:rPr>
              <a:t>Спасибо за внимание!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8" name="Picture 3" descr="C:\Users\Никола\Desktop\animashki-zvezdy-266.gif"/>
          <p:cNvPicPr/>
          <p:nvPr/>
        </p:nvPicPr>
        <p:blipFill>
          <a:blip r:embed="rId2"/>
          <a:stretch/>
        </p:blipFill>
        <p:spPr>
          <a:xfrm>
            <a:off x="6804000" y="4797360"/>
            <a:ext cx="2124000" cy="1887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C:\Users\Никола\Desktop\animashki-zvezdy-266.gif"/>
          <p:cNvPicPr/>
          <p:nvPr/>
        </p:nvPicPr>
        <p:blipFill>
          <a:blip r:embed="rId3"/>
          <a:stretch/>
        </p:blipFill>
        <p:spPr>
          <a:xfrm>
            <a:off x="6804000" y="3645000"/>
            <a:ext cx="1620720" cy="1296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C:\Users\Никола\Desktop\animashki-zvezdy-266.gif"/>
          <p:cNvPicPr/>
          <p:nvPr/>
        </p:nvPicPr>
        <p:blipFill>
          <a:blip r:embed="rId4"/>
          <a:stretch/>
        </p:blipFill>
        <p:spPr>
          <a:xfrm>
            <a:off x="6875640" y="2781360"/>
            <a:ext cx="1190520" cy="9525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6" descr="C:\Users\Никола\Desktop\animashki-zvezdy-266.gif"/>
          <p:cNvPicPr/>
          <p:nvPr/>
        </p:nvPicPr>
        <p:blipFill>
          <a:blip r:embed="rId5"/>
          <a:stretch/>
        </p:blipFill>
        <p:spPr>
          <a:xfrm>
            <a:off x="7308720" y="1989000"/>
            <a:ext cx="1008360" cy="8067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C:\Users\Никола\Desktop\animashki-zvezdy-266.gif"/>
          <p:cNvPicPr/>
          <p:nvPr/>
        </p:nvPicPr>
        <p:blipFill>
          <a:blip r:embed="rId6"/>
          <a:stretch/>
        </p:blipFill>
        <p:spPr>
          <a:xfrm>
            <a:off x="7812000" y="1268280"/>
            <a:ext cx="792360" cy="6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2"/>
          <p:cNvSpPr/>
          <p:nvPr/>
        </p:nvSpPr>
        <p:spPr>
          <a:xfrm>
            <a:off x="428760" y="928800"/>
            <a:ext cx="8286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egoe Print"/>
              </a:rPr>
              <a:t>Что такое лэпбук?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Лэпбук (lapbook) –в дословном переводе с английского значит «наколенная книга» (lap –колени, book- книга). Это такая небольшая самодельная папка, которую ребёнок может удобно разложить у себя на коленях и за один раз просмотреть всё её содержимое. Но, несмотря на кажущую простоту, в ней содержатся все необходимые материалы по теме. 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Лэпбук – сравнительно новое средство обучения. Впервые создавать лэпбуки начали американцы. Лэпбук - это книжка-раскладушка с кармашками, дверками, окошками, вкладками и подвижными деталями, в которую помещены материалы на одну тему. Это отличный способ закрепить определенную тему со школьниками и с дошкольниками, осмыслить содержание книги, провести исследовательскую работу, в процессе которой ребенок участвует в поиске, анализе и сортировке информаци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Лэпбук  обычно выглядит как интерактивная книжка, информация в которой представлена в виде открывающихся окошек, вынимающихся и разворачивающихся листочков и прочих забавных деталей. Они, с одной стороны, призваны привлечь интерес ребенка к самой папке. А с другой стороны, это прекрасный способ подать всю имеющуюся информацию в компактной форме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8" name="Picture 2" descr="C:\Users\Никола\Desktop\animashki-zvezdy-266.gif"/>
          <p:cNvPicPr/>
          <p:nvPr/>
        </p:nvPicPr>
        <p:blipFill>
          <a:blip r:embed="rId1"/>
          <a:stretch/>
        </p:blipFill>
        <p:spPr>
          <a:xfrm>
            <a:off x="468360" y="549360"/>
            <a:ext cx="90000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0" name="Picture 5" descr="http://ds30.seversk.ru/new/74/11111IMG_20150928_140050.jpg"/>
          <p:cNvPicPr/>
          <p:nvPr/>
        </p:nvPicPr>
        <p:blipFill>
          <a:blip r:embed="rId1"/>
          <a:srcRect l="0" t="17606" r="0" b="11521"/>
          <a:stretch/>
        </p:blipFill>
        <p:spPr>
          <a:xfrm>
            <a:off x="428760" y="785880"/>
            <a:ext cx="4038480" cy="2146320"/>
          </a:xfrm>
          <a:prstGeom prst="rect">
            <a:avLst/>
          </a:prstGeom>
          <a:ln cap="sq" w="38160">
            <a:solidFill>
              <a:srgbClr val="53548a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21" name="Picture Frame 16" descr="lapbook"/>
          <p:cNvPicPr/>
          <p:nvPr/>
        </p:nvPicPr>
        <p:blipFill>
          <a:blip r:embed="rId2"/>
          <a:stretch/>
        </p:blipFill>
        <p:spPr>
          <a:xfrm>
            <a:off x="4714920" y="714240"/>
            <a:ext cx="4038480" cy="225612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6" descr="лэпбук"/>
          <p:cNvPicPr/>
          <p:nvPr/>
        </p:nvPicPr>
        <p:blipFill>
          <a:blip r:embed="rId3"/>
          <a:stretch/>
        </p:blipFill>
        <p:spPr>
          <a:xfrm>
            <a:off x="428760" y="321480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7" descr="lapbook скачать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57840" y="3143160"/>
            <a:ext cx="39290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1"/>
          <p:cNvSpPr/>
          <p:nvPr/>
        </p:nvSpPr>
        <p:spPr>
          <a:xfrm>
            <a:off x="428760" y="857160"/>
            <a:ext cx="85010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egoe Print"/>
                <a:ea typeface="Times New Roman"/>
              </a:rPr>
              <a:t>Зачем нужен лэпбук?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1.      Он помогает ребенку по своему желанию организовать информацию по изучаемой тем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лучше понять и запомнить материал (особенно если ваш ребенок визуал). Взрослым визуалам такая форма обучения тоже понравится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2.      Это отличный способ для повторения пройденного.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В любое удобное время ребенок просто открывает лэпбук и с радостью повторяет пройденное, рассматривая сделанную своими же руками книжку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3.      Ребенок научится самостоятельно собирать и организовывать информацию – хорошая подготовка к написанию рефератов и курсовых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4.      Лэпбук хорошо подойдет для занятий в группах, где одновременно обучаются дети разных возрастов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Можно выбрать задания под силу каждому (для малышей – кармашки с карточками или фигурками животных, например, а старшим детям – задания, подразумевающие умение писать и т.д.) и сделать такую коллективную книжку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5.  Создание   лэпбука является  одним  из видов совместной деятельности взрослого и детей.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А может быть еще и формой представления итогов проекта или тематической недел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5" name="Picture 2" descr="C:\Users\Никола\Desktop\animashki-zvezdy-266.gif"/>
          <p:cNvPicPr/>
          <p:nvPr/>
        </p:nvPicPr>
        <p:blipFill>
          <a:blip r:embed="rId1"/>
          <a:stretch/>
        </p:blipFill>
        <p:spPr>
          <a:xfrm>
            <a:off x="7236000" y="5732640"/>
            <a:ext cx="119052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1"/>
          <p:cNvSpPr/>
          <p:nvPr/>
        </p:nvSpPr>
        <p:spPr>
          <a:xfrm>
            <a:off x="395280" y="890640"/>
            <a:ext cx="4819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Лепбук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 отвечает требованиям ФГОС ДО к предметно-развивающей среде: информативен; полифункционален: способствует развитию творчества, воображения. Пригоден к использованию одновременно группой детей (в том числе с участием взрослого как играющего партнера); обладает дидактическими свойствами; является средством художественно-эстетического развития ребенка, приобщает его к миру искусства; вариативной (есть несколько вариантов использования каждой его части); его структура и содержание доступно детям дошкольного возраста; обеспечивает игровую, познавательную, исследовательскую и творческую активность всех воспитанников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7" name="Рисунок 2" descr="lapbook скачать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2040" y="1268280"/>
            <a:ext cx="4071960" cy="41054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Users\Никола\Desktop\animashki-zvezdy-266.gif"/>
          <p:cNvPicPr/>
          <p:nvPr/>
        </p:nvPicPr>
        <p:blipFill>
          <a:blip r:embed="rId3"/>
          <a:stretch/>
        </p:blipFill>
        <p:spPr>
          <a:xfrm>
            <a:off x="7596360" y="5661000"/>
            <a:ext cx="1190520" cy="9525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C:\Users\Никола\Desktop\animashki-zvezdy-266.gif"/>
          <p:cNvPicPr/>
          <p:nvPr/>
        </p:nvPicPr>
        <p:blipFill>
          <a:blip r:embed="rId4"/>
          <a:stretch/>
        </p:blipFill>
        <p:spPr>
          <a:xfrm>
            <a:off x="6516720" y="5661000"/>
            <a:ext cx="1190520" cy="952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C:\Users\Никола\Desktop\animashki-zvezdy-266.gif"/>
          <p:cNvPicPr/>
          <p:nvPr/>
        </p:nvPicPr>
        <p:blipFill>
          <a:blip r:embed="rId5"/>
          <a:stretch/>
        </p:blipFill>
        <p:spPr>
          <a:xfrm>
            <a:off x="5292720" y="5732640"/>
            <a:ext cx="1190520" cy="9522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C:\Users\Никола\Desktop\animashki-zvezdy-266.gif"/>
          <p:cNvPicPr/>
          <p:nvPr/>
        </p:nvPicPr>
        <p:blipFill>
          <a:blip r:embed="rId6"/>
          <a:stretch/>
        </p:blipFill>
        <p:spPr>
          <a:xfrm>
            <a:off x="4140360" y="5661000"/>
            <a:ext cx="11905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1"/>
          <p:cNvSpPr/>
          <p:nvPr/>
        </p:nvSpPr>
        <p:spPr>
          <a:xfrm>
            <a:off x="1000080" y="785880"/>
            <a:ext cx="7215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egoe Print"/>
              </a:rPr>
              <a:t>С чего начать создание лэпбука?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1. Определитесь с темой будущего лэпбука. Тема может быть любая  - вулканы, насекомые, планеты, композиторы, художники, фильмы, страны, исторические события. Можно взять за основу какое-либо литературное произведение и комплексно изучить несколько тем. Например, на основе сказки про Золушку можно изучать тыквы, мышей, Францию и французский язык, традиции королевских семей Европы, обсуждать такие качества характера как зависть, терпение или трудолюбие, предложить написать современный вариант сказки и т.д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 После того, как вы определились с темой, составьте план будущего лэпбука, т.е. какие под темы вы хотите раскрыть – это и будет содержание наших мини-книжечек. Советую начать с 5-7 пунктов (книжек), но вообще здесь нет ограничений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3. Для каждой темы выберите подходящий конверт, книжку или какую-нибудь открывающуюся коробочку  и т.д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3" name="Picture 2" descr="C:\Users\Никола\Desktop\animashki-zvezdy-266.gif"/>
          <p:cNvPicPr/>
          <p:nvPr/>
        </p:nvPicPr>
        <p:blipFill>
          <a:blip r:embed="rId1"/>
          <a:stretch/>
        </p:blipFill>
        <p:spPr>
          <a:xfrm>
            <a:off x="7524720" y="5661000"/>
            <a:ext cx="1190520" cy="952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C:\Users\Никола\Desktop\animashki-zvezdy-266.gif"/>
          <p:cNvPicPr/>
          <p:nvPr/>
        </p:nvPicPr>
        <p:blipFill>
          <a:blip r:embed="rId2"/>
          <a:stretch/>
        </p:blipFill>
        <p:spPr>
          <a:xfrm>
            <a:off x="250920" y="549360"/>
            <a:ext cx="11905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"/>
          <p:cNvSpPr/>
          <p:nvPr/>
        </p:nvSpPr>
        <p:spPr>
          <a:xfrm>
            <a:off x="1143000" y="861480"/>
            <a:ext cx="7000920" cy="47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egoe Print"/>
                <a:ea typeface="Times New Roman"/>
              </a:rPr>
              <a:t>Что нужно, чтобы сделать лэпбук?</a:t>
            </a:r>
            <a:br>
              <a:rPr sz="1100"/>
            </a:br>
            <a:br>
              <a:rPr sz="1100"/>
            </a:br>
            <a:r>
              <a:rPr b="0" lang="ru-RU" sz="1800" spc="-1" strike="noStrike">
                <a:solidFill>
                  <a:srgbClr val="222222"/>
                </a:solidFill>
                <a:latin typeface="Georgia"/>
                <a:ea typeface="Times New Roman"/>
              </a:rPr>
              <a:t>Для создания лэпбука вам понадобятся такие материалы: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222222"/>
              </a:buClr>
              <a:buFont typeface="Georgi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22"/>
                </a:solidFill>
                <a:latin typeface="Georgia"/>
                <a:ea typeface="Times New Roman"/>
              </a:rPr>
              <a:t>Обычная бумага, цветная бумага для принтера, но и просто белые листы, если их хорошо оформить и раскрасить, смотрятся очень неплохо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222222"/>
              </a:buClr>
              <a:buFont typeface="Georgi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22"/>
                </a:solidFill>
                <a:latin typeface="Georgia"/>
                <a:ea typeface="Times New Roman"/>
              </a:rPr>
              <a:t>Ножницы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222222"/>
              </a:buClr>
              <a:buFont typeface="Georgi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22"/>
                </a:solidFill>
                <a:latin typeface="Georgia"/>
                <a:ea typeface="Times New Roman"/>
              </a:rPr>
              <a:t>Клей-карандаш для бумаги, ПВА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222222"/>
              </a:buClr>
              <a:buFont typeface="Georgi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22"/>
                </a:solidFill>
                <a:latin typeface="Georgia"/>
                <a:ea typeface="Times New Roman"/>
              </a:rPr>
              <a:t>Степлер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222222"/>
              </a:buClr>
              <a:buFont typeface="Georgi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22"/>
                </a:solidFill>
                <a:latin typeface="Georgia"/>
                <a:ea typeface="Times New Roman"/>
              </a:rPr>
              <a:t>Скотч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222222"/>
              </a:buClr>
              <a:buFont typeface="Georgi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22"/>
                </a:solidFill>
                <a:latin typeface="Georgia"/>
                <a:ea typeface="Times New Roman"/>
              </a:rPr>
              <a:t>Картонная папка-основа (покупаем или можно ее сделать своими руками)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222222"/>
                </a:solidFill>
                <a:latin typeface="Georgia"/>
                <a:ea typeface="Times New Roman"/>
              </a:rPr>
              <a:t>Вырезаем детали, приклеиваем все на свои места. А после этого начинаем занятия с ребенком.</a:t>
            </a:r>
            <a:br>
              <a:rPr sz="1800"/>
            </a:br>
            <a:br>
              <a:rPr sz="1100"/>
            </a:b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6" name="Picture 2" descr="C:\Users\Никола\Desktop\animashki-zvezdy-266.gif"/>
          <p:cNvPicPr/>
          <p:nvPr/>
        </p:nvPicPr>
        <p:blipFill>
          <a:blip r:embed="rId1"/>
          <a:stretch/>
        </p:blipFill>
        <p:spPr>
          <a:xfrm>
            <a:off x="6948360" y="5084640"/>
            <a:ext cx="165600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Print"/>
              </a:rPr>
              <a:t>План-меню лэпбука  «Адаптация»:</a:t>
            </a:r>
            <a:br>
              <a:rPr sz="1800"/>
            </a:br>
            <a:r>
              <a:rPr b="0" lang="ru-RU" sz="2800" spc="-1" strike="noStrike">
                <a:solidFill>
                  <a:srgbClr val="000000"/>
                </a:solidFill>
                <a:latin typeface="Segoe Print"/>
              </a:rPr>
              <a:t>1. </a:t>
            </a:r>
            <a:r>
              <a:rPr b="0" lang="ru-RU" sz="2700" spc="-1" strike="noStrike">
                <a:solidFill>
                  <a:srgbClr val="000000"/>
                </a:solidFill>
                <a:latin typeface="Segoe Print"/>
              </a:rPr>
              <a:t>Правила поведения в период адаптации.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Segoe Print"/>
              </a:rPr>
              <a:t>2. Игры на снижение уровня тревожности.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Segoe Print"/>
              </a:rPr>
              <a:t>3. Моменты утреннего расставания.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Segoe Print"/>
              </a:rPr>
              <a:t>4.Что необходимо взять с собой в ДОУ?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Segoe Print"/>
              </a:rPr>
              <a:t>5. Режим дня в период адаптации и т.д.</a:t>
            </a:r>
            <a:br>
              <a:rPr sz="1800"/>
            </a:br>
            <a:br>
              <a:rPr sz="1800"/>
            </a:br>
            <a:endParaRPr b="0" lang="en-US" sz="27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8" name="Picture 2" descr="C:\Users\Никола\Desktop\animashki-zvezdy-266.gif"/>
          <p:cNvPicPr/>
          <p:nvPr/>
        </p:nvPicPr>
        <p:blipFill>
          <a:blip r:embed="rId1"/>
          <a:stretch/>
        </p:blipFill>
        <p:spPr>
          <a:xfrm>
            <a:off x="611280" y="4508640"/>
            <a:ext cx="1800000" cy="14414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C:\Users\Никола\Desktop\animashki-zvezdy-266.gif"/>
          <p:cNvPicPr/>
          <p:nvPr/>
        </p:nvPicPr>
        <p:blipFill>
          <a:blip r:embed="rId2"/>
          <a:stretch/>
        </p:blipFill>
        <p:spPr>
          <a:xfrm>
            <a:off x="2268360" y="4797360"/>
            <a:ext cx="1190880" cy="9525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C:\Users\Никола\Desktop\animashki-zvezdy-266.gif"/>
          <p:cNvPicPr/>
          <p:nvPr/>
        </p:nvPicPr>
        <p:blipFill>
          <a:blip r:embed="rId3"/>
          <a:stretch/>
        </p:blipFill>
        <p:spPr>
          <a:xfrm>
            <a:off x="3419640" y="4581360"/>
            <a:ext cx="1584000" cy="12668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C:\Users\Никола\Desktop\animashki-zvezdy-266.gif"/>
          <p:cNvPicPr/>
          <p:nvPr/>
        </p:nvPicPr>
        <p:blipFill>
          <a:blip r:embed="rId4"/>
          <a:stretch/>
        </p:blipFill>
        <p:spPr>
          <a:xfrm>
            <a:off x="4859280" y="4797360"/>
            <a:ext cx="1190520" cy="9525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C:\Users\Никола\Desktop\animashki-zvezdy-266.gif"/>
          <p:cNvPicPr/>
          <p:nvPr/>
        </p:nvPicPr>
        <p:blipFill>
          <a:blip r:embed="rId5"/>
          <a:stretch/>
        </p:blipFill>
        <p:spPr>
          <a:xfrm>
            <a:off x="5867280" y="4653000"/>
            <a:ext cx="1551240" cy="1241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C:\Users\Никола\Desktop\animashki-zvezdy-266.gif"/>
          <p:cNvPicPr/>
          <p:nvPr/>
        </p:nvPicPr>
        <p:blipFill>
          <a:blip r:embed="rId6"/>
          <a:stretch/>
        </p:blipFill>
        <p:spPr>
          <a:xfrm>
            <a:off x="7380360" y="4797360"/>
            <a:ext cx="11905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E:\DCIM\100OLYMP\P5120146.JPG"/>
          <p:cNvPicPr/>
          <p:nvPr/>
        </p:nvPicPr>
        <p:blipFill>
          <a:blip r:embed="rId1"/>
          <a:stretch/>
        </p:blipFill>
        <p:spPr>
          <a:xfrm>
            <a:off x="324000" y="765000"/>
            <a:ext cx="7103880" cy="5328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C:\Users\Никола\Desktop\animashki-zvezdy-266.gif"/>
          <p:cNvPicPr/>
          <p:nvPr/>
        </p:nvPicPr>
        <p:blipFill>
          <a:blip r:embed="rId2"/>
          <a:stretch/>
        </p:blipFill>
        <p:spPr>
          <a:xfrm>
            <a:off x="7558200" y="5589720"/>
            <a:ext cx="1585800" cy="1268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Users\Никола\Desktop\animashki-zvezdy-266.gif"/>
          <p:cNvPicPr/>
          <p:nvPr/>
        </p:nvPicPr>
        <p:blipFill>
          <a:blip r:embed="rId3"/>
          <a:stretch/>
        </p:blipFill>
        <p:spPr>
          <a:xfrm>
            <a:off x="7596360" y="4724280"/>
            <a:ext cx="1190520" cy="9525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C:\Users\Никола\Desktop\animashki-zvezdy-266.gif"/>
          <p:cNvPicPr/>
          <p:nvPr/>
        </p:nvPicPr>
        <p:blipFill>
          <a:blip r:embed="rId4"/>
          <a:stretch/>
        </p:blipFill>
        <p:spPr>
          <a:xfrm>
            <a:off x="7451640" y="3645000"/>
            <a:ext cx="1513080" cy="12096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C:\Users\Никола\Desktop\animashki-zvezdy-266.gif"/>
          <p:cNvPicPr/>
          <p:nvPr/>
        </p:nvPicPr>
        <p:blipFill>
          <a:blip r:embed="rId5"/>
          <a:stretch/>
        </p:blipFill>
        <p:spPr>
          <a:xfrm>
            <a:off x="7524720" y="2781360"/>
            <a:ext cx="1190520" cy="9525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C:\Users\Никола\Desktop\animashki-zvezdy-266.gif"/>
          <p:cNvPicPr/>
          <p:nvPr/>
        </p:nvPicPr>
        <p:blipFill>
          <a:blip r:embed="rId6"/>
          <a:stretch/>
        </p:blipFill>
        <p:spPr>
          <a:xfrm>
            <a:off x="7380360" y="1700280"/>
            <a:ext cx="1550880" cy="1241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C:\Users\Никола\Desktop\animashki-zvezdy-266.gif"/>
          <p:cNvPicPr/>
          <p:nvPr/>
        </p:nvPicPr>
        <p:blipFill>
          <a:blip r:embed="rId7"/>
          <a:stretch/>
        </p:blipFill>
        <p:spPr>
          <a:xfrm>
            <a:off x="7953480" y="836640"/>
            <a:ext cx="11905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8T12:11:50Z</dcterms:created>
  <dc:creator>user</dc:creator>
  <dc:description/>
  <dc:language>en-US</dc:language>
  <cp:lastModifiedBy>-</cp:lastModifiedBy>
  <dcterms:modified xsi:type="dcterms:W3CDTF">2017-03-14T13:11:05Z</dcterms:modified>
  <cp:revision>15</cp:revision>
  <dc:subject/>
  <dc:title>МАСТЕР- КЛАСС ПО ИЗГОТОВЛЕНИЮ ЛЭПБУКА И РАБОТЕ С НИМ</dc:title>
</cp:coreProperties>
</file>